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14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534-2542-4AC6-8004-9CBBED3F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CEC-ECB0-4087-B18E-643154B2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8A2-FC3D-4297-99EF-9A721623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EB2-C495-410D-9824-3CE0550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429-2C7F-4CB3-86E3-BCCDE1C3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11F-44C6-4887-B10F-2591A31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96D-8D19-4607-86E2-239B5308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1AC-93DE-4CC4-BF34-958B14D8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DA2-7571-41A1-927D-9604FEE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CF0-A856-433C-AC4F-228DD21D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F44-0628-4530-BBA2-1ACAFBF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960-6B6A-4765-8E17-C7E7B15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B6C5-8D33-4503-A4FF-D71961BC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515304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g Wood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ief Operating Officer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udent Financial Assistance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fastar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8382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sunami" descr=""/>
          <p:cNvPicPr/>
          <p:nvPr/>
        </p:nvPicPr>
        <p:blipFill>
          <a:blip r:embed="rId2"/>
          <a:stretch/>
        </p:blipFill>
        <p:spPr>
          <a:xfrm>
            <a:off x="571680" y="22860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3400" y="608760"/>
            <a:ext cx="59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Web Enabled Outsourcing - A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11760" y="15303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factors have or will lead yo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to outsou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2960" y="2052720"/>
          <a:ext cx="7088040" cy="47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2052720"/>
                    <a:ext cx="708804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558920" y="65210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PStree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8120" y="1981080"/>
            <a:ext cx="3352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590920"/>
            <a:ext cx="3352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200400"/>
            <a:ext cx="35812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3809880"/>
            <a:ext cx="43434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4419720"/>
            <a:ext cx="39621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502920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533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lective Outsourcing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1905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62940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80060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5345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1981080"/>
            <a:ext cx="1447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25909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3809880"/>
            <a:ext cx="2514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441972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5029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481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18520" y="144792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620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800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364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4920" y="205740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800" y="26668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twork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276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.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6320" y="388620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Apps D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495680"/>
            <a:ext cx="27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Sv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08960" y="510552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626436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29400" y="6264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12720" y="617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76640" y="617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37680" y="658260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 Gartner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73360" y="380880"/>
            <a:ext cx="6303960" cy="6400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666880" y="1066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934320" y="5562720"/>
            <a:ext cx="97920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572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ion and the Custo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stomization over Mas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2209680"/>
            <a:ext cx="3868920" cy="4467240"/>
            <a:chOff x="5181480" y="2209680"/>
            <a:chExt cx="3868920" cy="4467240"/>
          </a:xfrm>
        </p:grpSpPr>
        <p:sp>
          <p:nvSpPr>
            <p:cNvPr id="319" name=""/>
            <p:cNvSpPr/>
            <p:nvPr/>
          </p:nvSpPr>
          <p:spPr>
            <a:xfrm>
              <a:off x="6667560" y="22096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To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studentfemale" descr=""/>
            <p:cNvPicPr/>
            <p:nvPr/>
          </p:nvPicPr>
          <p:blipFill>
            <a:blip r:embed="rId2"/>
            <a:stretch/>
          </p:blipFill>
          <p:spPr>
            <a:xfrm>
              <a:off x="5181480" y="2743200"/>
              <a:ext cx="3219480" cy="39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05640" y="4034520"/>
              <a:ext cx="1544760" cy="2292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FA Univers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ashington, DC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 individual,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ustomiz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erienc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eryon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fferent, everyon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pecial.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studentfemaleID" descr=""/>
          <p:cNvPicPr/>
          <p:nvPr/>
        </p:nvPicPr>
        <p:blipFill>
          <a:blip r:embed="rId4"/>
          <a:stretch/>
        </p:blipFill>
        <p:spPr>
          <a:xfrm>
            <a:off x="990720" y="2666880"/>
            <a:ext cx="3232080" cy="3943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172960" y="2208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28200" y="4114080"/>
            <a:ext cx="1049400" cy="64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01010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0101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1101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deptofed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3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will be booming --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o will the need for 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60876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Income by Educational Attai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00200" y="160020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4512960" y="5409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5920" y="647604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postsecondary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1828800"/>
            <a:ext cx="769608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The World of Higher Education</a:t>
            </a:r>
            <a:br>
              <a:rPr sz="4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05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 omnipresent technology, increased investment in IT, and increasing enrollment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ean to you and 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fastar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552840" cy="454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268960" cy="534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733920"/>
            <a:ext cx="114300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562720" y="3048120"/>
            <a:ext cx="1627200" cy="1508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410080" y="4572000"/>
            <a:ext cx="1067040" cy="100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438280" y="1752480"/>
            <a:ext cx="10670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067040" cy="1006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447920" y="3048120"/>
            <a:ext cx="1066680" cy="100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886200" y="4343400"/>
            <a:ext cx="1066680" cy="10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0600" y="2666880"/>
            <a:ext cx="1066680" cy="100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828800" y="29718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4800600" y="441972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2362320" y="47322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048120" y="4572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2133720" y="51814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4572000" y="35812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1905120" y="22096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1600200" y="4191120"/>
            <a:ext cx="55404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4495680" y="2133720"/>
            <a:ext cx="554040" cy="79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14800" y="457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1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will be everywhere, used by everyone, all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21640" y="228600"/>
            <a:ext cx="965160" cy="6705720"/>
          </a:xfrm>
          <a:custGeom>
            <a:avLst/>
            <a:gdLst/>
            <a:ahLst/>
            <a:rect l="l" t="t" r="r" b="b"/>
            <a:pathLst>
              <a:path w="608" h="4128">
                <a:moveTo>
                  <a:pt x="0" y="0"/>
                </a:moveTo>
                <a:cubicBezTo>
                  <a:pt x="212" y="188"/>
                  <a:pt x="424" y="376"/>
                  <a:pt x="432" y="528"/>
                </a:cubicBezTo>
                <a:cubicBezTo>
                  <a:pt x="440" y="680"/>
                  <a:pt x="56" y="808"/>
                  <a:pt x="48" y="912"/>
                </a:cubicBezTo>
                <a:cubicBezTo>
                  <a:pt x="40" y="1016"/>
                  <a:pt x="320" y="1024"/>
                  <a:pt x="384" y="1152"/>
                </a:cubicBezTo>
                <a:cubicBezTo>
                  <a:pt x="448" y="1280"/>
                  <a:pt x="408" y="1568"/>
                  <a:pt x="432" y="1680"/>
                </a:cubicBezTo>
                <a:cubicBezTo>
                  <a:pt x="456" y="1792"/>
                  <a:pt x="560" y="1712"/>
                  <a:pt x="528" y="1824"/>
                </a:cubicBezTo>
                <a:cubicBezTo>
                  <a:pt x="496" y="1936"/>
                  <a:pt x="232" y="2160"/>
                  <a:pt x="240" y="2352"/>
                </a:cubicBezTo>
                <a:cubicBezTo>
                  <a:pt x="248" y="2544"/>
                  <a:pt x="544" y="2680"/>
                  <a:pt x="576" y="2976"/>
                </a:cubicBezTo>
                <a:cubicBezTo>
                  <a:pt x="608" y="3272"/>
                  <a:pt x="392" y="3904"/>
                  <a:pt x="432" y="41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457200"/>
            <a:ext cx="7315200" cy="1598760"/>
            <a:chOff x="914400" y="457200"/>
            <a:chExt cx="7315200" cy="1598760"/>
          </a:xfrm>
        </p:grpSpPr>
        <p:grpSp>
          <p:nvGrpSpPr>
            <p:cNvPr id="80" name=""/>
            <p:cNvGrpSpPr/>
            <p:nvPr/>
          </p:nvGrpSpPr>
          <p:grpSpPr>
            <a:xfrm>
              <a:off x="914400" y="457200"/>
              <a:ext cx="7315200" cy="1598760"/>
              <a:chOff x="914400" y="457200"/>
              <a:chExt cx="7315200" cy="1598760"/>
            </a:xfrm>
          </p:grpSpPr>
          <p:sp>
            <p:nvSpPr>
              <p:cNvPr id="81" name=""/>
              <p:cNvSpPr/>
              <p:nvPr/>
            </p:nvSpPr>
            <p:spPr>
              <a:xfrm rot="5400000">
                <a:off x="5028840" y="-838080"/>
                <a:ext cx="304560" cy="3962520"/>
              </a:xfrm>
              <a:prstGeom prst="can">
                <a:avLst>
                  <a:gd name="adj" fmla="val 2712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35440" y="990720"/>
                <a:ext cx="41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ahoma"/>
                  </a:rPr>
                  <a:t>1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desktoppc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57200"/>
                <a:ext cx="1828800" cy="15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590920" y="762120"/>
                <a:ext cx="609480" cy="7617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38880" y="990720"/>
                <a:ext cx="990720" cy="304560"/>
              </a:xfrm>
              <a:custGeom>
                <a:avLst/>
                <a:gdLst>
                  <a:gd name="textAreaLeft" fmla="*/ 154800 w 990720"/>
                  <a:gd name="textAreaRight" fmla="*/ 866880 w 9907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763640" y="83808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6680" y="2286000"/>
            <a:ext cx="7239240" cy="1708920"/>
            <a:chOff x="1066680" y="2286000"/>
            <a:chExt cx="7239240" cy="1708920"/>
          </a:xfrm>
        </p:grpSpPr>
        <p:sp>
          <p:nvSpPr>
            <p:cNvPr id="88" name=""/>
            <p:cNvSpPr/>
            <p:nvPr/>
          </p:nvSpPr>
          <p:spPr>
            <a:xfrm rot="5400000">
              <a:off x="4533480" y="952200"/>
              <a:ext cx="1218960" cy="4038840"/>
            </a:xfrm>
            <a:prstGeom prst="can">
              <a:avLst>
                <a:gd name="adj" fmla="val 7134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43000" y="281952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10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almpilot" descr=""/>
            <p:cNvPicPr/>
            <p:nvPr/>
          </p:nvPicPr>
          <p:blipFill>
            <a:blip r:embed="rId3"/>
            <a:stretch/>
          </p:blipFill>
          <p:spPr>
            <a:xfrm>
              <a:off x="1066680" y="2362320"/>
              <a:ext cx="10861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38280" y="236232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2438280" y="266652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297180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2438280" y="327672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2286000"/>
              <a:ext cx="1067040" cy="1447920"/>
            </a:xfrm>
            <a:custGeom>
              <a:avLst/>
              <a:gdLst>
                <a:gd name="textAreaLeft" fmla="*/ 166680 w 1067040"/>
                <a:gd name="textAreaRight" fmla="*/ 933840 w 106704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3240" y="36576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85800" y="4419720"/>
            <a:ext cx="7848720" cy="2438280"/>
            <a:chOff x="685800" y="4419720"/>
            <a:chExt cx="7848720" cy="2438280"/>
          </a:xfrm>
        </p:grpSpPr>
        <p:sp>
          <p:nvSpPr>
            <p:cNvPr id="98" name=""/>
            <p:cNvSpPr/>
            <p:nvPr/>
          </p:nvSpPr>
          <p:spPr>
            <a:xfrm rot="5400000">
              <a:off x="4076280" y="3543120"/>
              <a:ext cx="2133720" cy="4038840"/>
            </a:xfrm>
            <a:prstGeom prst="can">
              <a:avLst>
                <a:gd name="adj" fmla="val 1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5454720"/>
              <a:ext cx="1524240" cy="337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ega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littlepalm" descr=""/>
            <p:cNvPicPr/>
            <p:nvPr/>
          </p:nvPicPr>
          <p:blipFill>
            <a:blip r:embed="rId4"/>
            <a:stretch/>
          </p:blipFill>
          <p:spPr>
            <a:xfrm>
              <a:off x="762120" y="4724280"/>
              <a:ext cx="1085760" cy="15624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1981080" y="47242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1080" y="48769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50292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981080" y="51814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53341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81080" y="54864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56386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1080" y="57913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9436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81080" y="60958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62485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64008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4419720"/>
              <a:ext cx="1295640" cy="243828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609480 h 2438280"/>
                <a:gd name="textAreaBottom" fmla="*/ 182880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6248520"/>
              <a:ext cx="1143000" cy="337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3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229600" y="380880"/>
            <a:ext cx="1066680" cy="3812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cubicBezTo>
                  <a:pt x="108" y="96"/>
                  <a:pt x="216" y="0"/>
                  <a:pt x="288" y="0"/>
                </a:cubicBezTo>
                <a:cubicBezTo>
                  <a:pt x="360" y="0"/>
                  <a:pt x="384" y="184"/>
                  <a:pt x="43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6880" y="228600"/>
            <a:ext cx="1041120" cy="1676520"/>
          </a:xfrm>
          <a:custGeom>
            <a:avLst/>
            <a:gdLst/>
            <a:ahLst/>
            <a:rect l="l" t="t" r="r" b="b"/>
            <a:pathLst>
              <a:path w="656" h="1056">
                <a:moveTo>
                  <a:pt x="168" y="0"/>
                </a:moveTo>
                <a:cubicBezTo>
                  <a:pt x="412" y="80"/>
                  <a:pt x="656" y="160"/>
                  <a:pt x="648" y="336"/>
                </a:cubicBezTo>
                <a:cubicBezTo>
                  <a:pt x="640" y="512"/>
                  <a:pt x="0" y="1000"/>
                  <a:pt x="12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5931000"/>
            <a:ext cx="990720" cy="774720"/>
          </a:xfrm>
          <a:custGeom>
            <a:avLst/>
            <a:gdLst/>
            <a:ahLst/>
            <a:rect l="l" t="t" r="r" b="b"/>
            <a:pathLst>
              <a:path w="288" h="392">
                <a:moveTo>
                  <a:pt x="0" y="392"/>
                </a:moveTo>
                <a:cubicBezTo>
                  <a:pt x="104" y="196"/>
                  <a:pt x="208" y="0"/>
                  <a:pt x="28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019920"/>
            <a:ext cx="761760" cy="114300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136" y="148"/>
                  <a:pt x="272" y="296"/>
                  <a:pt x="288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69280" y="2146320"/>
            <a:ext cx="851040" cy="444600"/>
          </a:xfrm>
          <a:custGeom>
            <a:avLst/>
            <a:gdLst/>
            <a:ahLst/>
            <a:rect l="l" t="t" r="r" b="b"/>
            <a:pathLst>
              <a:path w="344" h="136">
                <a:moveTo>
                  <a:pt x="8" y="136"/>
                </a:moveTo>
                <a:cubicBezTo>
                  <a:pt x="4" y="136"/>
                  <a:pt x="0" y="136"/>
                  <a:pt x="56" y="136"/>
                </a:cubicBezTo>
                <a:cubicBezTo>
                  <a:pt x="112" y="136"/>
                  <a:pt x="272" y="0"/>
                  <a:pt x="344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7760" y="228600"/>
            <a:ext cx="863640" cy="1828800"/>
          </a:xfrm>
          <a:custGeom>
            <a:avLst/>
            <a:gdLst/>
            <a:ahLst/>
            <a:rect l="l" t="t" r="r" b="b"/>
            <a:pathLst>
              <a:path w="544" h="1152">
                <a:moveTo>
                  <a:pt x="24" y="1152"/>
                </a:moveTo>
                <a:cubicBezTo>
                  <a:pt x="244" y="832"/>
                  <a:pt x="464" y="512"/>
                  <a:pt x="504" y="480"/>
                </a:cubicBezTo>
                <a:cubicBezTo>
                  <a:pt x="544" y="448"/>
                  <a:pt x="320" y="1040"/>
                  <a:pt x="264" y="960"/>
                </a:cubicBezTo>
                <a:cubicBezTo>
                  <a:pt x="208" y="880"/>
                  <a:pt x="0" y="0"/>
                  <a:pt x="1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1689120"/>
            <a:ext cx="685800" cy="977760"/>
          </a:xfrm>
          <a:custGeom>
            <a:avLst/>
            <a:gdLst/>
            <a:ahLst/>
            <a:rect l="l" t="t" r="r" b="b"/>
            <a:pathLst>
              <a:path w="432" h="616">
                <a:moveTo>
                  <a:pt x="0" y="376"/>
                </a:moveTo>
                <a:cubicBezTo>
                  <a:pt x="108" y="188"/>
                  <a:pt x="216" y="0"/>
                  <a:pt x="288" y="40"/>
                </a:cubicBezTo>
                <a:cubicBezTo>
                  <a:pt x="360" y="80"/>
                  <a:pt x="328" y="464"/>
                  <a:pt x="432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2108160"/>
            <a:ext cx="609480" cy="1549440"/>
          </a:xfrm>
          <a:custGeom>
            <a:avLst/>
            <a:gdLst/>
            <a:ahLst/>
            <a:rect l="l" t="t" r="r" b="b"/>
            <a:pathLst>
              <a:path w="384" h="976">
                <a:moveTo>
                  <a:pt x="0" y="592"/>
                </a:moveTo>
                <a:cubicBezTo>
                  <a:pt x="40" y="296"/>
                  <a:pt x="80" y="0"/>
                  <a:pt x="144" y="64"/>
                </a:cubicBezTo>
                <a:cubicBezTo>
                  <a:pt x="208" y="128"/>
                  <a:pt x="264" y="936"/>
                  <a:pt x="384" y="9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3429000"/>
            <a:ext cx="749160" cy="635040"/>
          </a:xfrm>
          <a:custGeom>
            <a:avLst/>
            <a:gdLst/>
            <a:ahLst/>
            <a:rect l="l" t="t" r="r" b="b"/>
            <a:pathLst>
              <a:path w="472" h="400">
                <a:moveTo>
                  <a:pt x="0" y="96"/>
                </a:moveTo>
                <a:cubicBezTo>
                  <a:pt x="196" y="248"/>
                  <a:pt x="392" y="400"/>
                  <a:pt x="432" y="384"/>
                </a:cubicBezTo>
                <a:cubicBezTo>
                  <a:pt x="472" y="368"/>
                  <a:pt x="184" y="88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971800"/>
            <a:ext cx="469800" cy="685800"/>
          </a:xfrm>
          <a:custGeom>
            <a:avLst/>
            <a:gdLst/>
            <a:ahLst/>
            <a:rect l="l" t="t" r="r" b="b"/>
            <a:pathLst>
              <a:path w="296" h="432">
                <a:moveTo>
                  <a:pt x="96" y="288"/>
                </a:moveTo>
                <a:cubicBezTo>
                  <a:pt x="196" y="360"/>
                  <a:pt x="296" y="432"/>
                  <a:pt x="288" y="384"/>
                </a:cubicBezTo>
                <a:cubicBezTo>
                  <a:pt x="280" y="336"/>
                  <a:pt x="0" y="48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04040" y="3657600"/>
            <a:ext cx="381240" cy="800280"/>
          </a:xfrm>
          <a:custGeom>
            <a:avLst/>
            <a:gdLst/>
            <a:ahLst/>
            <a:rect l="l" t="t" r="r" b="b"/>
            <a:pathLst>
              <a:path w="240" h="456">
                <a:moveTo>
                  <a:pt x="16" y="0"/>
                </a:moveTo>
                <a:cubicBezTo>
                  <a:pt x="96" y="204"/>
                  <a:pt x="176" y="408"/>
                  <a:pt x="208" y="432"/>
                </a:cubicBezTo>
                <a:cubicBezTo>
                  <a:pt x="240" y="456"/>
                  <a:pt x="232" y="144"/>
                  <a:pt x="208" y="144"/>
                </a:cubicBezTo>
                <a:cubicBezTo>
                  <a:pt x="184" y="144"/>
                  <a:pt x="0" y="360"/>
                  <a:pt x="64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21560" y="3467160"/>
            <a:ext cx="596880" cy="2565360"/>
          </a:xfrm>
          <a:custGeom>
            <a:avLst/>
            <a:gdLst/>
            <a:ahLst/>
            <a:rect l="l" t="t" r="r" b="b"/>
            <a:pathLst>
              <a:path w="376" h="1616">
                <a:moveTo>
                  <a:pt x="8" y="792"/>
                </a:moveTo>
                <a:cubicBezTo>
                  <a:pt x="128" y="768"/>
                  <a:pt x="248" y="744"/>
                  <a:pt x="248" y="648"/>
                </a:cubicBezTo>
                <a:cubicBezTo>
                  <a:pt x="248" y="552"/>
                  <a:pt x="0" y="296"/>
                  <a:pt x="8" y="216"/>
                </a:cubicBezTo>
                <a:cubicBezTo>
                  <a:pt x="16" y="136"/>
                  <a:pt x="240" y="0"/>
                  <a:pt x="296" y="168"/>
                </a:cubicBezTo>
                <a:cubicBezTo>
                  <a:pt x="352" y="336"/>
                  <a:pt x="376" y="1128"/>
                  <a:pt x="344" y="1224"/>
                </a:cubicBezTo>
                <a:cubicBezTo>
                  <a:pt x="312" y="1320"/>
                  <a:pt x="120" y="816"/>
                  <a:pt x="104" y="744"/>
                </a:cubicBezTo>
                <a:cubicBezTo>
                  <a:pt x="88" y="672"/>
                  <a:pt x="240" y="712"/>
                  <a:pt x="248" y="792"/>
                </a:cubicBezTo>
                <a:cubicBezTo>
                  <a:pt x="256" y="872"/>
                  <a:pt x="136" y="1120"/>
                  <a:pt x="152" y="1224"/>
                </a:cubicBezTo>
                <a:cubicBezTo>
                  <a:pt x="168" y="1328"/>
                  <a:pt x="344" y="1352"/>
                  <a:pt x="344" y="1416"/>
                </a:cubicBezTo>
                <a:cubicBezTo>
                  <a:pt x="344" y="1480"/>
                  <a:pt x="192" y="1600"/>
                  <a:pt x="152" y="1608"/>
                </a:cubicBezTo>
                <a:cubicBezTo>
                  <a:pt x="112" y="1616"/>
                  <a:pt x="24" y="1536"/>
                  <a:pt x="104" y="14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990720"/>
            <a:ext cx="685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ne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cess F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6400800"/>
            <a:ext cx="693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2720" y="358128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$$$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2480" y="6400800"/>
            <a:ext cx="64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999                            2000                                        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98108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23040" y="-1702080"/>
            <a:ext cx="12958920" cy="8138160"/>
            <a:chOff x="1823040" y="-1702080"/>
            <a:chExt cx="12958920" cy="8138160"/>
          </a:xfrm>
        </p:grpSpPr>
        <p:sp>
          <p:nvSpPr>
            <p:cNvPr id="139" name=""/>
            <p:cNvSpPr/>
            <p:nvPr/>
          </p:nvSpPr>
          <p:spPr>
            <a:xfrm flipH="1" flipV="1">
              <a:off x="1828440" y="-1446480"/>
              <a:ext cx="12648240" cy="76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52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52133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133360" y="-1702080"/>
              <a:ext cx="12648240" cy="76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52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52133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4716200">
              <a:off x="7772400" y="5637960"/>
              <a:ext cx="685800" cy="6858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438800">
              <a:off x="1828440" y="1828440"/>
              <a:ext cx="309600" cy="3002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33720" y="2590920"/>
            <a:ext cx="17524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gin/Log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410080"/>
            <a:ext cx="175284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way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82880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19040" y="2741760"/>
            <a:ext cx="9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3720" y="379080"/>
            <a:ext cx="70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1999 Growth in Internet Users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Growth in Visitors to Websi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62320" y="1828800"/>
          <a:ext cx="609732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43880" y="2257560"/>
            <a:ext cx="49176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91240" y="5790600"/>
            <a:ext cx="33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18.4%             6.8%           6.2%             17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8600" y="6582600"/>
            <a:ext cx="30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 Internet Report by Media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39680" y="60876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ternet Influence on Retail S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760" y="373320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tail Sales -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1600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4320" y="1523160"/>
            <a:ext cx="164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 DID NO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fluence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86200" y="22852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 Influenc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0880" y="1143000"/>
            <a:ext cx="3581640" cy="2389320"/>
            <a:chOff x="380880" y="1143000"/>
            <a:chExt cx="3581640" cy="2389320"/>
          </a:xfrm>
        </p:grpSpPr>
        <p:graphicFrame>
          <p:nvGraphicFramePr>
            <p:cNvPr id="170" name=""/>
            <p:cNvGraphicFramePr/>
            <p:nvPr/>
          </p:nvGraphicFramePr>
          <p:xfrm>
            <a:off x="380880" y="1143000"/>
            <a:ext cx="3581640" cy="238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143000"/>
                      <a:ext cx="358164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2752560" y="297072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39640" y="198072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05320" y="1143000"/>
            <a:ext cx="3581280" cy="2389320"/>
            <a:chOff x="3505320" y="1143000"/>
            <a:chExt cx="3581280" cy="2389320"/>
          </a:xfrm>
        </p:grpSpPr>
        <p:graphicFrame>
          <p:nvGraphicFramePr>
            <p:cNvPr id="175" name=""/>
            <p:cNvGraphicFramePr/>
            <p:nvPr/>
          </p:nvGraphicFramePr>
          <p:xfrm>
            <a:off x="3505320" y="1143000"/>
            <a:ext cx="3581280" cy="238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05320" y="1143000"/>
                      <a:ext cx="358128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5920920" y="297072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5160" y="198072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0880" y="4343400"/>
            <a:ext cx="7600680" cy="2389320"/>
            <a:chOff x="380880" y="4343400"/>
            <a:chExt cx="7600680" cy="2389320"/>
          </a:xfrm>
        </p:grpSpPr>
        <p:graphicFrame>
          <p:nvGraphicFramePr>
            <p:cNvPr id="180" name=""/>
            <p:cNvGraphicFramePr/>
            <p:nvPr/>
          </p:nvGraphicFramePr>
          <p:xfrm>
            <a:off x="380880" y="4343400"/>
            <a:ext cx="3581640" cy="2389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880" y="4343400"/>
                      <a:ext cx="358164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2743200" y="505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3200" y="597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6800" y="4856760"/>
              <a:ext cx="31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200B in Pure Web 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4440" y="5740920"/>
              <a:ext cx="40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600B of Brick &amp; Mortar Retai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ales RESEARCHED ON THE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1055520"/>
          <a:ext cx="8991360" cy="577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55520"/>
                    <a:ext cx="8991360" cy="577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62120" y="533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% Web, Brick and Mortar, and Hybrid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35000" y="6613560"/>
            <a:ext cx="357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999 PricewaterhouseCoopers World Economic For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57600" y="3276720"/>
            <a:ext cx="11430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1433520" cy="1432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envelop7" descr=""/>
          <p:cNvPicPr/>
          <p:nvPr/>
        </p:nvPicPr>
        <p:blipFill>
          <a:blip r:embed="rId3"/>
          <a:stretch/>
        </p:blipFill>
        <p:spPr>
          <a:xfrm>
            <a:off x="2023920" y="6370560"/>
            <a:ext cx="381240" cy="2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73400" y="63237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50 million mail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7280" y="762120"/>
            <a:ext cx="2539440" cy="914400"/>
            <a:chOff x="737280" y="762120"/>
            <a:chExt cx="2539440" cy="914400"/>
          </a:xfrm>
        </p:grpSpPr>
        <p:pic>
          <p:nvPicPr>
            <p:cNvPr id="205" name="envelop7" descr=""/>
            <p:cNvPicPr/>
            <p:nvPr/>
          </p:nvPicPr>
          <p:blipFill>
            <a:blip r:embed="rId4"/>
            <a:stretch/>
          </p:blipFill>
          <p:spPr>
            <a:xfrm>
              <a:off x="1981080" y="12621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envelop7" descr=""/>
            <p:cNvPicPr/>
            <p:nvPr/>
          </p:nvPicPr>
          <p:blipFill>
            <a:blip r:embed="rId5"/>
            <a:stretch/>
          </p:blipFill>
          <p:spPr>
            <a:xfrm>
              <a:off x="2666880" y="12621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envelop7" descr=""/>
            <p:cNvPicPr/>
            <p:nvPr/>
          </p:nvPicPr>
          <p:blipFill>
            <a:blip r:embed="rId6"/>
            <a:stretch/>
          </p:blipFill>
          <p:spPr>
            <a:xfrm>
              <a:off x="1981080" y="7621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7280" y="82152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1996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15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37280" y="2557440"/>
            <a:ext cx="5282640" cy="947880"/>
            <a:chOff x="737280" y="2557440"/>
            <a:chExt cx="5282640" cy="947880"/>
          </a:xfrm>
        </p:grpSpPr>
        <p:pic>
          <p:nvPicPr>
            <p:cNvPr id="210" name="envelop7" descr=""/>
            <p:cNvPicPr/>
            <p:nvPr/>
          </p:nvPicPr>
          <p:blipFill>
            <a:blip r:embed="rId7"/>
            <a:stretch/>
          </p:blipFill>
          <p:spPr>
            <a:xfrm>
              <a:off x="40384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envelop7" descr=""/>
            <p:cNvPicPr/>
            <p:nvPr/>
          </p:nvPicPr>
          <p:blipFill>
            <a:blip r:embed="rId8"/>
            <a:stretch/>
          </p:blipFill>
          <p:spPr>
            <a:xfrm>
              <a:off x="47242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envelop7" descr=""/>
            <p:cNvPicPr/>
            <p:nvPr/>
          </p:nvPicPr>
          <p:blipFill>
            <a:blip r:embed="rId9"/>
            <a:stretch/>
          </p:blipFill>
          <p:spPr>
            <a:xfrm>
              <a:off x="54100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envelop7" descr=""/>
            <p:cNvPicPr/>
            <p:nvPr/>
          </p:nvPicPr>
          <p:blipFill>
            <a:blip r:embed="rId10"/>
            <a:stretch/>
          </p:blipFill>
          <p:spPr>
            <a:xfrm>
              <a:off x="19810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envelop7" descr=""/>
            <p:cNvPicPr/>
            <p:nvPr/>
          </p:nvPicPr>
          <p:blipFill>
            <a:blip r:embed="rId11"/>
            <a:stretch/>
          </p:blipFill>
          <p:spPr>
            <a:xfrm>
              <a:off x="26668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envelop7" descr=""/>
            <p:cNvPicPr/>
            <p:nvPr/>
          </p:nvPicPr>
          <p:blipFill>
            <a:blip r:embed="rId12"/>
            <a:stretch/>
          </p:blipFill>
          <p:spPr>
            <a:xfrm>
              <a:off x="33526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envelop7" descr=""/>
            <p:cNvPicPr/>
            <p:nvPr/>
          </p:nvPicPr>
          <p:blipFill>
            <a:blip r:embed="rId13"/>
            <a:stretch/>
          </p:blipFill>
          <p:spPr>
            <a:xfrm>
              <a:off x="40384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envelop7" descr=""/>
            <p:cNvPicPr/>
            <p:nvPr/>
          </p:nvPicPr>
          <p:blipFill>
            <a:blip r:embed="rId14"/>
            <a:stretch/>
          </p:blipFill>
          <p:spPr>
            <a:xfrm>
              <a:off x="47242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envelop7" descr=""/>
            <p:cNvPicPr/>
            <p:nvPr/>
          </p:nvPicPr>
          <p:blipFill>
            <a:blip r:embed="rId15"/>
            <a:stretch/>
          </p:blipFill>
          <p:spPr>
            <a:xfrm>
              <a:off x="54100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envelop7" descr=""/>
            <p:cNvPicPr/>
            <p:nvPr/>
          </p:nvPicPr>
          <p:blipFill>
            <a:blip r:embed="rId16"/>
            <a:stretch/>
          </p:blipFill>
          <p:spPr>
            <a:xfrm>
              <a:off x="19810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envelop7" descr=""/>
            <p:cNvPicPr/>
            <p:nvPr/>
          </p:nvPicPr>
          <p:blipFill>
            <a:blip r:embed="rId17"/>
            <a:stretch/>
          </p:blipFill>
          <p:spPr>
            <a:xfrm>
              <a:off x="26668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envelop7" descr=""/>
            <p:cNvPicPr/>
            <p:nvPr/>
          </p:nvPicPr>
          <p:blipFill>
            <a:blip r:embed="rId18"/>
            <a:stretch/>
          </p:blipFill>
          <p:spPr>
            <a:xfrm>
              <a:off x="33526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37280" y="263448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60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9080" y="4419720"/>
            <a:ext cx="8024040" cy="947520"/>
            <a:chOff x="739080" y="4419720"/>
            <a:chExt cx="8024040" cy="947520"/>
          </a:xfrm>
        </p:grpSpPr>
        <p:pic>
          <p:nvPicPr>
            <p:cNvPr id="224" name="envelop7" descr=""/>
            <p:cNvPicPr/>
            <p:nvPr/>
          </p:nvPicPr>
          <p:blipFill>
            <a:blip r:embed="rId19"/>
            <a:stretch/>
          </p:blipFill>
          <p:spPr>
            <a:xfrm>
              <a:off x="40384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envelop7" descr=""/>
            <p:cNvPicPr/>
            <p:nvPr/>
          </p:nvPicPr>
          <p:blipFill>
            <a:blip r:embed="rId20"/>
            <a:stretch/>
          </p:blipFill>
          <p:spPr>
            <a:xfrm>
              <a:off x="47242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envelop7" descr=""/>
            <p:cNvPicPr/>
            <p:nvPr/>
          </p:nvPicPr>
          <p:blipFill>
            <a:blip r:embed="rId21"/>
            <a:stretch/>
          </p:blipFill>
          <p:spPr>
            <a:xfrm>
              <a:off x="54100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envelop7" descr=""/>
            <p:cNvPicPr/>
            <p:nvPr/>
          </p:nvPicPr>
          <p:blipFill>
            <a:blip r:embed="rId22"/>
            <a:stretch/>
          </p:blipFill>
          <p:spPr>
            <a:xfrm>
              <a:off x="19810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envelop7" descr=""/>
            <p:cNvPicPr/>
            <p:nvPr/>
          </p:nvPicPr>
          <p:blipFill>
            <a:blip r:embed="rId23"/>
            <a:stretch/>
          </p:blipFill>
          <p:spPr>
            <a:xfrm>
              <a:off x="26668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envelop7" descr=""/>
            <p:cNvPicPr/>
            <p:nvPr/>
          </p:nvPicPr>
          <p:blipFill>
            <a:blip r:embed="rId24"/>
            <a:stretch/>
          </p:blipFill>
          <p:spPr>
            <a:xfrm>
              <a:off x="33526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envelop7" descr=""/>
            <p:cNvPicPr/>
            <p:nvPr/>
          </p:nvPicPr>
          <p:blipFill>
            <a:blip r:embed="rId25"/>
            <a:stretch/>
          </p:blipFill>
          <p:spPr>
            <a:xfrm>
              <a:off x="40384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envelop7" descr=""/>
            <p:cNvPicPr/>
            <p:nvPr/>
          </p:nvPicPr>
          <p:blipFill>
            <a:blip r:embed="rId26"/>
            <a:stretch/>
          </p:blipFill>
          <p:spPr>
            <a:xfrm>
              <a:off x="47242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envelop7" descr=""/>
            <p:cNvPicPr/>
            <p:nvPr/>
          </p:nvPicPr>
          <p:blipFill>
            <a:blip r:embed="rId27"/>
            <a:stretch/>
          </p:blipFill>
          <p:spPr>
            <a:xfrm>
              <a:off x="54100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envelop7" descr=""/>
            <p:cNvPicPr/>
            <p:nvPr/>
          </p:nvPicPr>
          <p:blipFill>
            <a:blip r:embed="rId28"/>
            <a:stretch/>
          </p:blipFill>
          <p:spPr>
            <a:xfrm>
              <a:off x="19810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envelop7" descr=""/>
            <p:cNvPicPr/>
            <p:nvPr/>
          </p:nvPicPr>
          <p:blipFill>
            <a:blip r:embed="rId29"/>
            <a:stretch/>
          </p:blipFill>
          <p:spPr>
            <a:xfrm>
              <a:off x="26668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envelop7" descr=""/>
            <p:cNvPicPr/>
            <p:nvPr/>
          </p:nvPicPr>
          <p:blipFill>
            <a:blip r:embed="rId30"/>
            <a:stretch/>
          </p:blipFill>
          <p:spPr>
            <a:xfrm>
              <a:off x="33526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envelop7" descr=""/>
            <p:cNvPicPr/>
            <p:nvPr/>
          </p:nvPicPr>
          <p:blipFill>
            <a:blip r:embed="rId31"/>
            <a:stretch/>
          </p:blipFill>
          <p:spPr>
            <a:xfrm>
              <a:off x="81532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envelop7" descr=""/>
            <p:cNvPicPr/>
            <p:nvPr/>
          </p:nvPicPr>
          <p:blipFill>
            <a:blip r:embed="rId32"/>
            <a:stretch/>
          </p:blipFill>
          <p:spPr>
            <a:xfrm>
              <a:off x="60958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envelop7" descr=""/>
            <p:cNvPicPr/>
            <p:nvPr/>
          </p:nvPicPr>
          <p:blipFill>
            <a:blip r:embed="rId33"/>
            <a:stretch/>
          </p:blipFill>
          <p:spPr>
            <a:xfrm>
              <a:off x="67816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envelop7" descr=""/>
            <p:cNvPicPr/>
            <p:nvPr/>
          </p:nvPicPr>
          <p:blipFill>
            <a:blip r:embed="rId34"/>
            <a:stretch/>
          </p:blipFill>
          <p:spPr>
            <a:xfrm>
              <a:off x="74674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envelop7" descr=""/>
            <p:cNvPicPr/>
            <p:nvPr/>
          </p:nvPicPr>
          <p:blipFill>
            <a:blip r:embed="rId35"/>
            <a:stretch/>
          </p:blipFill>
          <p:spPr>
            <a:xfrm>
              <a:off x="81532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envelop7" descr=""/>
            <p:cNvPicPr/>
            <p:nvPr/>
          </p:nvPicPr>
          <p:blipFill>
            <a:blip r:embed="rId36"/>
            <a:stretch/>
          </p:blipFill>
          <p:spPr>
            <a:xfrm>
              <a:off x="60958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envelop7" descr=""/>
            <p:cNvPicPr/>
            <p:nvPr/>
          </p:nvPicPr>
          <p:blipFill>
            <a:blip r:embed="rId37"/>
            <a:stretch/>
          </p:blipFill>
          <p:spPr>
            <a:xfrm>
              <a:off x="67816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envelop7" descr=""/>
            <p:cNvPicPr/>
            <p:nvPr/>
          </p:nvPicPr>
          <p:blipFill>
            <a:blip r:embed="rId38"/>
            <a:stretch/>
          </p:blipFill>
          <p:spPr>
            <a:xfrm>
              <a:off x="74674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39080" y="454104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1B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0" y="60876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Worldwide E-mail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gotmail" descr=""/>
          <p:cNvPicPr/>
          <p:nvPr/>
        </p:nvPicPr>
        <p:blipFill>
          <a:blip r:embed="rId39"/>
          <a:stretch/>
        </p:blipFill>
        <p:spPr>
          <a:xfrm>
            <a:off x="2743200" y="2666880"/>
            <a:ext cx="4662360" cy="17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2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of your budget will be spent on technology, but you won’t have to learn as much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219320" y="2666880"/>
            <a:ext cx="1900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</a:rPr>
              <a:t>$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3886200"/>
            <a:ext cx="5257800" cy="152388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utsourc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13:58:43Z</dcterms:created>
  <dc:creator>Rick Hink</dc:creator>
  <dc:description/>
  <dc:language>en-US</dc:language>
  <cp:lastModifiedBy>Rick Hink</cp:lastModifiedBy>
  <cp:lastPrinted>2000-07-05T17:52:53Z</cp:lastPrinted>
  <dcterms:modified xsi:type="dcterms:W3CDTF">2000-07-07T18:49:29Z</dcterms:modified>
  <cp:revision>16</cp:revision>
  <dc:subject/>
  <dc:title>No Slide Title</dc:title>
</cp:coreProperties>
</file>