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61463" cy="6875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F35-8E3F-4D5C-99D1-28BF13C5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7C5-89AF-4879-A71D-652D9CB0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4BB-CDB1-4E39-9E89-9836A9D4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2C9-A1E8-4184-8835-75D86D62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484-6DA3-4B3B-8B37-0194BDC2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F2F-BD8C-42EA-998D-73C10A3E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411-5BBB-4573-9207-9E66C87F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443-0600-4FEA-9BC3-723B4FFF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3AF-DDD9-4F50-82AE-E3AD57C2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AAE-E772-4947-8D9D-2F616189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4E0-62C0-47A9-940A-E2B8DF42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37A-F5BC-48D1-888B-2EB3606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AAFE-F345-49E8-BA79-10C8793D9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1" descr=""/>
          <p:cNvPicPr/>
          <p:nvPr/>
        </p:nvPicPr>
        <p:blipFill>
          <a:blip r:embed="rId1"/>
          <a:stretch/>
        </p:blipFill>
        <p:spPr>
          <a:xfrm>
            <a:off x="633240" y="477720"/>
            <a:ext cx="7875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de10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de11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de12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13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2" descr=""/>
          <p:cNvPicPr/>
          <p:nvPr/>
        </p:nvPicPr>
        <p:blipFill>
          <a:blip r:embed="rId1"/>
          <a:stretch/>
        </p:blipFill>
        <p:spPr>
          <a:xfrm>
            <a:off x="609480" y="496800"/>
            <a:ext cx="7925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3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de4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de5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6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de7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de8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9" descr=""/>
          <p:cNvPicPr/>
          <p:nvPr/>
        </p:nvPicPr>
        <p:blipFill>
          <a:blip r:embed="rId1"/>
          <a:stretch/>
        </p:blipFill>
        <p:spPr>
          <a:xfrm>
            <a:off x="633240" y="563400"/>
            <a:ext cx="78757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22:10:07Z</dcterms:created>
  <dc:creator>Sheree Myers</dc:creator>
  <dc:description/>
  <dc:language>en-US</dc:language>
  <cp:lastModifiedBy>ENSMYERS</cp:lastModifiedBy>
  <cp:lastPrinted>2002-07-22T19:28:13Z</cp:lastPrinted>
  <dcterms:modified xsi:type="dcterms:W3CDTF">2002-12-12T15:12:49Z</dcterms:modified>
  <cp:revision>29</cp:revision>
  <dc:subject/>
  <dc:title>FinAid</dc:title>
</cp:coreProperties>
</file>