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61463" cy="6875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115-A071-47CD-8A80-230ED05F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B23-F8E9-498B-B6D0-38DAA081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F85-5471-4B8E-AAFA-CF3F7847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EB4-D70F-4F78-8D50-46C66ED3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305-3C8E-45B8-A77E-DC361138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9E1-E28D-4079-AFB3-FC542D67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55A-16C4-4EFC-8DFC-5DE53724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DDE-FC0B-41BD-8710-20A417BB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AD6-2FAE-425E-9EDF-7B14265E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943-D7F7-4502-AB81-4394952A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47A-3F09-44EC-9D4E-E6B23D8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AAA-F5B9-42F1-B3E1-E7018AF2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077A-A2D0-48B9-AB8B-88AD9CC40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633240" y="477720"/>
            <a:ext cx="7875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de10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11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12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13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2" descr=""/>
          <p:cNvPicPr/>
          <p:nvPr/>
        </p:nvPicPr>
        <p:blipFill>
          <a:blip r:embed="rId1"/>
          <a:stretch/>
        </p:blipFill>
        <p:spPr>
          <a:xfrm>
            <a:off x="609480" y="496800"/>
            <a:ext cx="7925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3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4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5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6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7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de8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9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22:10:07Z</dcterms:created>
  <dc:creator>Sheree Myers</dc:creator>
  <dc:description/>
  <dc:language>en-US</dc:language>
  <cp:lastModifiedBy>ENSMYERS</cp:lastModifiedBy>
  <cp:lastPrinted>2002-07-22T19:28:13Z</cp:lastPrinted>
  <dcterms:modified xsi:type="dcterms:W3CDTF">2002-12-12T15:12:49Z</dcterms:modified>
  <cp:revision>29</cp:revision>
  <dc:subject/>
  <dc:title>FinAid</dc:title>
</cp:coreProperties>
</file>