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55.png" ContentType="image/png"/>
  <Override PartName="/ppt/media/image15.wmf" ContentType="image/x-wmf"/>
  <Override PartName="/ppt/media/image54.png" ContentType="image/png"/>
  <Override PartName="/ppt/media/image14.wmf" ContentType="image/x-wmf"/>
  <Override PartName="/ppt/media/image53.png" ContentType="image/png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7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47.png" ContentType="image/png"/>
  <Override PartName="/ppt/media/image35.jpeg" ContentType="image/jpeg"/>
  <Override PartName="/ppt/media/image46.png" ContentType="image/png"/>
  <Override PartName="/ppt/media/image31.wmf" ContentType="image/x-wmf"/>
  <Override PartName="/ppt/media/image6.wmf" ContentType="image/x-wmf"/>
  <Override PartName="/ppt/media/image36.png" ContentType="image/png"/>
  <Override PartName="/ppt/media/image48.png" ContentType="image/png"/>
  <Override PartName="/ppt/media/image34.jpeg" ContentType="image/jpeg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38.wmf" ContentType="image/x-wmf"/>
  <Override PartName="/ppt/media/image8.wmf" ContentType="image/x-wmf"/>
  <Override PartName="/ppt/media/image40.png" ContentType="image/png"/>
  <Override PartName="/ppt/media/image51.png" ContentType="image/png"/>
  <Override PartName="/ppt/media/image12.wmf" ContentType="image/x-wmf"/>
  <Override PartName="/ppt/media/image50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F4F9-4AC6-4CE1-AED8-A8C6EC35F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3998-5EB0-416C-AC41-8602E2C43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4D77-6B39-4BB4-A601-6D49FF54D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2EAD-81E3-40DF-B1E2-7BE0248D0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DFF0-0EF2-4923-8C2D-70689A663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983B-DB92-4FC3-A279-6433513F8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5E51-1066-440B-B143-FD5E1E583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615D-FD3C-4EF6-A1F1-BDD9FCC1B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2E66-1AE3-40DC-AF47-CF02AB0CF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FF58-D97F-4F9C-AD2C-D079BAF37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FC18-753D-4E63-9B6E-204BE753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6BEB-15C0-41BE-AC60-5628AEF33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tykwaToruns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8CC-A403-4088-B56A-912360E83EEC}" type="slidenum">
              <a:rPr b="0" lang="en-US" sz="1400" spc="-1" strike="noStrike">
                <a:solidFill>
                  <a:srgbClr val="000000"/>
                </a:solidFill>
                <a:latin typeface="AntykwaTorunsk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ntykwaTorunsk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76120" y="655308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onet"/>
              </a:rPr>
              <a:t>We Help Put America Through School</a:t>
            </a:r>
            <a:endParaRPr b="0" lang="en-US" sz="1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0.wmf"/><Relationship Id="rId4" Type="http://schemas.openxmlformats.org/officeDocument/2006/relationships/image" Target="../media/image4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1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FMS/Pell: Past, Present, and Futur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U.S. Dept of Educ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Drawdow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033640" cy="2081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2361960" cy="2217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04920" y="2133720"/>
            <a:ext cx="2361960" cy="221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Originatio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572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Funding levels in 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679680" cy="67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638680" y="3048120"/>
            <a:ext cx="6796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he Pell Grant Business Process as compared to a hotel business transaction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78040" cy="1668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280" y="1295280"/>
            <a:ext cx="144648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4876920"/>
            <a:ext cx="151128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37160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FAFSA/ISIR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Application process for a line of credit (credit card)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733920"/>
            <a:ext cx="289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Drawdown/Funding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the accounting transaction from the disbursement is sent to the credit company, payments are made and credit limits adjusted accordingly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733920"/>
            <a:ext cx="259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After arrival, based upon details of actual stay a bill/disbursement is issues, guest presents credit card and pays bill.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3716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Reservation for a room/possible grant with information for preferences, duration of stay etc.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2575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9400" y="228600"/>
            <a:ext cx="1430280" cy="23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48428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62560" y="4527720"/>
            <a:ext cx="1357560" cy="233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600200" y="4557600"/>
            <a:ext cx="1328760" cy="230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647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ubledg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-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RFM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80880"/>
            <a:ext cx="3352680" cy="1067040"/>
          </a:xfrm>
          <a:prstGeom prst="rightArrow">
            <a:avLst>
              <a:gd name="adj1" fmla="val 50000"/>
              <a:gd name="adj2" fmla="val 78551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60948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Records</a:t>
            </a:r>
            <a:r>
              <a:rPr b="1" lang="en-US" sz="1600" spc="-1" strike="noStrike">
                <a:solidFill>
                  <a:srgbClr val="000000"/>
                </a:solidFill>
                <a:latin typeface="AntykwaTorunska"/>
              </a:rPr>
              <a:t>: Orig., Disb., Spec. Disbursement, etc.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295280"/>
            <a:ext cx="3124440" cy="990720"/>
          </a:xfrm>
          <a:prstGeom prst="leftArrow">
            <a:avLst>
              <a:gd name="adj1" fmla="val 50000"/>
              <a:gd name="adj2" fmla="val 87179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538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cknowledgement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787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ccting Tran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4956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uthorizations and Payment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6386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uthorization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-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895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JIT &amp; ACA Deposi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3048120"/>
            <a:ext cx="1143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Draw-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&amp; Pm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14600"/>
            <a:ext cx="1066680" cy="1357200"/>
          </a:xfrm>
          <a:prstGeom prst="upArrow">
            <a:avLst>
              <a:gd name="adj1" fmla="val 74407"/>
              <a:gd name="adj2" fmla="val 38394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29000"/>
            <a:ext cx="1067040" cy="1357200"/>
          </a:xfrm>
          <a:prstGeom prst="upArrow">
            <a:avLst>
              <a:gd name="adj1" fmla="val 76194"/>
              <a:gd name="adj2" fmla="val 44034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066680" y="2666880"/>
            <a:ext cx="990720" cy="1981440"/>
          </a:xfrm>
          <a:prstGeom prst="upArrow">
            <a:avLst>
              <a:gd name="adj1" fmla="val 90389"/>
              <a:gd name="adj2" fmla="val 37685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895480"/>
            <a:ext cx="106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Web Draw-down Request 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7315200" y="2742840"/>
            <a:ext cx="990720" cy="1981080"/>
          </a:xfrm>
          <a:prstGeom prst="upArrow">
            <a:avLst>
              <a:gd name="adj1" fmla="val 90389"/>
              <a:gd name="adj2" fmla="val 37678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5146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The Federal Pell Grant Program System Flow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39060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RFMS Goals at Implementation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14360" y="138060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urnaround of 24-36 Hour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ystem outdated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roject EASI/Modernization Bluepri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ommon Origination/Disburse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Move Processing to the Transaction Level for Improved Accounting and program integr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76320" y="-76320"/>
          <a:ext cx="119088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-76320"/>
                    <a:ext cx="119088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Have we met our goals?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34960"/>
            <a:ext cx="327636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RFMS 1999-20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Some Successes: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Acknowledgements back in 3.5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Decrease in time taken to receive funding, but original target not reached 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et Goal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New design and technology bring system up to date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ntinued to move our business processes to follow the goals of the Modernization Blueprint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RFMS processes at transaction level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Business process that would inform the COD work being carried out now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685800"/>
            <a:ext cx="2971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RFMS 2000-2001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In Process: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Acknowledgements back in 3.5 hrs.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Streamline process to reduce time it takes schools to receive their fund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et Goal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ntinued Improvements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Improve Web Functionality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Business process that would inform the COD work being carried out now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Address the goals and objectives of the Mad Dog Team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33520"/>
            <a:ext cx="2971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Turnaround of 24-26 hour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Streamline process to reduce time it takes schools to receive their fund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odernization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Replace outdated system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arry out goals of Project EASI/Modernization Blueprint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Transaction Level Process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mmon Origination/ Disbursement (COD)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666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RFMS Performance:  How are we do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6640" y="1523520"/>
            <a:ext cx="7600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FMS Acknowledgements placed on TIVWAN within 3.5 hours of receipt of record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cords in RFMS (transaction level):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ccepted and Corrected - 87.6%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Rejected records - 12.4%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Number of institutions that  have not submitted disbursement records: 173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-76320"/>
          <a:ext cx="119052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76320"/>
                    <a:ext cx="11905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15228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tykwaTorunska"/>
              </a:rPr>
              <a:t>1999-2000 RFMS Weekly Volume Turnaround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ntykwaTorunska"/>
              </a:rPr>
              <a:t>Data as of April 21, 20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903320"/>
          <a:ext cx="8020080" cy="476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03320"/>
                    <a:ext cx="8020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28600" y="16765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tykwaTorunska"/>
              </a:rPr>
              <a:t>(Performance Objective 24-36 Hours)</a:t>
            </a:r>
            <a:endParaRPr b="0" lang="en-US" sz="1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48" name=""/>
          <p:cNvSpPr/>
          <p:nvPr/>
        </p:nvSpPr>
        <p:spPr>
          <a:xfrm>
            <a:off x="8068680" y="16178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tykwaTorunska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7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ykwaTorunska"/>
              </a:rPr>
              <a:t>What Goals do we still have outstanding?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ecrease the time it takes to receive funding for Pel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reased Auto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hanges to the Subledger Proc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-evaluation of data flow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d dog Goal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Most Commonly Seen Edits in RFMS Processing - April, 2000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3-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Reject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isbursement Reference Number not Vali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19 </a:t>
            </a:r>
            <a:r>
              <a:rPr b="1" lang="en-US" sz="32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319 - Invalid Wks. Of Inst. Time in Programs Definition of Academic Yea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9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Verification Cod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6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isbursement Amount + Total Disb. is greater than the Award Amou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04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14414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-76320"/>
            <a:ext cx="12128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Most Commonly Seen Edits in RFMS Processing - April, 2000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76320" y="-7632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-69840" y="12128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-76320" y="30416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-76320" y="4946760"/>
            <a:ext cx="1212840" cy="1987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2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Reject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uplicate Origination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2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Origination ID does not match on RFM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5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Award Amou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6 -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Disbursement Dat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11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- 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Potential Overawar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resenter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456840"/>
            <a:ext cx="7600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ony Laing - Pell Operation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Jim McMahon - Pell System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Anthony Jones - Application 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 Development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495440" cy="259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598760" cy="2697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33920" y="2438280"/>
            <a:ext cx="1600200" cy="277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391520" y="4038480"/>
            <a:ext cx="1495440" cy="259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442880" cy="243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4360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2952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etermination of Authorization Leve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213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ypes of Funding in Pell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ccess to the Funding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763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2: Funding in the Federal Pell Grant Program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What is an Initial Authorization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n initial authorizations is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level of funding available to schools for their first Pell recipients.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Will cover at least 85% of the Pell Grants to be disbursed during your first payment period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limited amount that is not intended to fund Pell for the entire award year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4680" y="-152280"/>
            <a:ext cx="1224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How is Initial Authorization Determined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e formula to determine initial authorization is based on three criteria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revious Award Year’s Disbursement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ype of Academic Calendar Used at Institu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ercentage Level Associated with Academic Calendar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1143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n Example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chool A is a semester school that disbursed $100,000 in AY 1999-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riteria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mester Sch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mester Schools receive 40%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chool A would receive an Initial Authorization of $40,000 for AY 2000-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How is Initial Authorization Determined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3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nitial Authorization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ncreased the amount of funding to Institutions for the award yea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itial Authorization for 1999/2000    5/25/99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132 Institutions for $3,099,602,337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itial Authorization for 2000/2001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107 Institutions for $3,139,737,054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uthorization Levels increased as a Y2K contingency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December, 1999 4,043 schools received an authorization increase of $2 bill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y, 2000 Administrative Cost Allowance Disburse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ummer, 2000 reduce Authorization Levels to disbursement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nitial Authorization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ccepted Disbursements Drive Authorization Levels!!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hanges in Authorization Leve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76320" y="-152280"/>
            <a:ext cx="12193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679320" cy="67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019920" y="312408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858000" y="2362320"/>
            <a:ext cx="2033640" cy="2081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809880" y="2438280"/>
            <a:ext cx="2362320" cy="2217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066680" y="22860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Originatio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724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Funding levels in 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are the types of Funding in Pell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dvanced Funding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he vast majority of Pell Institution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ilot in its Second Year with small popul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0080" y="3733920"/>
            <a:ext cx="134784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6320" y="1066680"/>
            <a:ext cx="13744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ypes of Funding in Pell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dvance Fund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Records drive Authorization Level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Date within 30 Days of processing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rawdown by program and award year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Just-In-Time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Records create a Payment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Date within 5 Days of processing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Advanced Fundin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ceives an Initial Author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 from GAP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ust meet normal regulatory requirem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Date within 30 Days of process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 by program and award yea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28412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1146240"/>
            <a:ext cx="1282680" cy="2130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128412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0" y="4803840"/>
            <a:ext cx="12826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7601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45684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1. Brief Overview of what RFMS is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FMS History, Goals and Performanc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. Overview of How Pell is Fund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Initial Authorizatio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Authorization Increase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The Electronic Statement of Accoun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Advanced Funding and Just-in-Tim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3. RFMS: Present and Futur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Changes for 2000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Mad Dog Task Forc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Common Origination/Disbursement Updat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4. A view of new functionality and tools for processing Pell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FMS on the Web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. A review of resources available to you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6. A chance to hear your questions and concer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14444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15416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541008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36576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ADVANCE FUNDING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676520"/>
            <a:ext cx="8839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Transa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Obligated Balan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ESOA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Initial Funding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50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5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5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7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100,000.00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FUNDING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752480"/>
            <a:ext cx="853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Transa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Pay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ESOA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  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7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10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Just-in-Time Fundin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761760"/>
            <a:ext cx="76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No Initial Author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Records create a Pay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Date within 5 Days of process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unds automatically deposited into school’s accou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No drawdown from GAP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gulatory relief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0" y="-76320"/>
            <a:ext cx="1214640" cy="205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312408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0" y="4952880"/>
            <a:ext cx="1214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4479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gulatory relief under Cash Management Regs published 11/29/96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3-Day-use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Excess-cash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terest bearing account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-verification of eligibil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137016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0" y="4876920"/>
            <a:ext cx="12142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1999-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ilot (18 Schools)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2000-2001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73 Schools, including all original 18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137016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0" y="4875120"/>
            <a:ext cx="1214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3: RFMS Present and Future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248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Schedul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2000 - 2001 Implementation - Summer of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quirements Gathering for 2001-2002 - Closes August 10,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0960" indent="-2541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Focus Groups - 6/28, 7/13 and 7/14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60960" indent="-2541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Express, Homegrown and Third Party Vendor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pecifications Complete - Sept. 29,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evelopment Complete - February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esting - February through March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Beta Testing - March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mplementation - April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hanges for 2000-2001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ystem is a rollover for this year - Minimal chang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e Chang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artridge and Reel Not Accepted for 2000-2001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Batch Replacement no longer a data request option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YTD can be requested for specific stude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dditional Field  to the Special Disbursement Record: Total funds previously disbursed for this Payment Period using a Regular Disbursement Recor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Batch Warning to alert users that they are not using the most current version of EDExpres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nternal" descr=""/>
          <p:cNvPicPr/>
          <p:nvPr/>
        </p:nvPicPr>
        <p:blipFill>
          <a:blip r:embed="rId2"/>
          <a:stretch/>
        </p:blipFill>
        <p:spPr>
          <a:xfrm>
            <a:off x="2057400" y="1522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241" name="img0011" descr=""/>
          <p:cNvPicPr/>
          <p:nvPr/>
        </p:nvPicPr>
        <p:blipFill>
          <a:blip r:embed="rId3"/>
          <a:stretch/>
        </p:blipFill>
        <p:spPr>
          <a:xfrm>
            <a:off x="4648320" y="609480"/>
            <a:ext cx="26794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eople4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243" name="building2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71800" y="2590920"/>
            <a:ext cx="352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RFMS MAD DO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SFA Management Council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45" name="dog4" descr=""/>
          <p:cNvPicPr/>
          <p:nvPr/>
        </p:nvPicPr>
        <p:blipFill>
          <a:blip r:embed="rId6"/>
          <a:stretch/>
        </p:blipFill>
        <p:spPr>
          <a:xfrm>
            <a:off x="1981080" y="3886200"/>
            <a:ext cx="4648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5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y Mad Do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1960" y="1371600"/>
            <a:ext cx="8263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FMS first system implemented under PBO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sponse to the concerns of our customers - you the schools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ouble work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ey coming slow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an’t get system to work and the help isn’t any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Development of a tool/mechanism to act quickly to community concerns and to analyze the success and failures of a system implementation in order to improve the proc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34120" y="4800600"/>
            <a:ext cx="2009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4892760"/>
            <a:ext cx="2362320" cy="1965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477120" y="0"/>
            <a:ext cx="2286000" cy="214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0"/>
            <a:ext cx="2286000" cy="21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429000" y="3549600"/>
            <a:ext cx="2666880" cy="201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209680"/>
            <a:ext cx="7391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1: What is the Pell Grant Process in RFMS?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a Mad Do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ross Functional Team from across channels and offices brought together to aggressively address areas of concer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90 days of information gathering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16 site visi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6 tele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 focus grou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 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itoring of CPS and RFMS CS cal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itoring of SFATECH and RFMS CS e-mai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did we hear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ssues fell into three broad categori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op-Notch Servic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Improve Customer Servic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impler Us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implify and improve processes necessary to successfully participate in the Pell Program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Better Infor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Provide information that is comprehensive and provide it in a timely mann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432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are we going to do about it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ctions fell into two categori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Quick Hits - 90 days or l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Longer term actions - more than 90 day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94840" indent="-2948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ny of the actions items are already being addressed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lusion of Mad dog issues in requirements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fluence on development sched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conciliation t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ustomer service workgroup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52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ommon Origination/Disbursement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4153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BO Goal is to simplify how a student receives their Title IV fund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OD provides for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single process across progra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single record across proga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Goal is to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make it easier for the stud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implify the process for the sch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treamline and simplify the process at the Depart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4: A view of new functionality and tools for processing Pell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53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601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d Dog identified Reconciliation as an issue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n July we will be providing a tool to all schools to help them reconcile with the depart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ixed field file sent in text message class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Easily imported into other programs for manipul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posed fields: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Origination ID (includes, SSN, Name Code, Attending Pell ID)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ransaction Number of Origin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Origination Award Amou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cheduled Award Amou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YTD Disbursed Amount in RF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ortable by any field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80840" y="-7632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2" name="logon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58960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4" name="main_men" descr=""/>
          <p:cNvPicPr/>
          <p:nvPr/>
        </p:nvPicPr>
        <p:blipFill>
          <a:blip r:embed="rId2"/>
          <a:stretch/>
        </p:blipFill>
        <p:spPr>
          <a:xfrm>
            <a:off x="1371600" y="706320"/>
            <a:ext cx="64008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6" name="batch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672080" cy="586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981080" y="609480"/>
            <a:ext cx="5181840" cy="5943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he Federal Pell Grant Pr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for 1999-2000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5,132 Schools Participating in the Pell Program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ver 3.4 Million Pell Recipi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ver $8 Billion in Grants Disbursed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1987560" cy="12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1806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-7632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9" name="ba_det_p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5819760" cy="5432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447920" y="762120"/>
            <a:ext cx="5943600" cy="5410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2" name="bat_det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56240" cy="579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05120" y="685800"/>
            <a:ext cx="5943600" cy="579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5" name="data_req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724280" cy="57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905120" y="762120"/>
            <a:ext cx="5410080" cy="579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8" name="da_re_cm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5743440" cy="5375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76520" y="838080"/>
            <a:ext cx="5943600" cy="5410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1" name="upd_faa" descr=""/>
          <p:cNvPicPr/>
          <p:nvPr/>
        </p:nvPicPr>
        <p:blipFill>
          <a:blip r:embed="rId2"/>
          <a:stretch/>
        </p:blipFill>
        <p:spPr>
          <a:xfrm>
            <a:off x="2133720" y="758880"/>
            <a:ext cx="4600440" cy="5946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33720" y="758880"/>
            <a:ext cx="4572000" cy="5943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4" name="ent_orig" descr=""/>
          <p:cNvPicPr/>
          <p:nvPr/>
        </p:nvPicPr>
        <p:blipFill>
          <a:blip r:embed="rId2"/>
          <a:stretch/>
        </p:blipFill>
        <p:spPr>
          <a:xfrm>
            <a:off x="0" y="0"/>
            <a:ext cx="3714840" cy="6643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3657600" cy="6705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7" name="ent_disb" descr=""/>
          <p:cNvPicPr/>
          <p:nvPr/>
        </p:nvPicPr>
        <p:blipFill>
          <a:blip r:embed="rId2"/>
          <a:stretch/>
        </p:blipFill>
        <p:spPr>
          <a:xfrm>
            <a:off x="2476440" y="838080"/>
            <a:ext cx="4533840" cy="5551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476440" y="838080"/>
            <a:ext cx="4191120" cy="5639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0" name="ent_sp_d" descr=""/>
          <p:cNvPicPr/>
          <p:nvPr/>
        </p:nvPicPr>
        <p:blipFill>
          <a:blip r:embed="rId2"/>
          <a:stretch/>
        </p:blipFill>
        <p:spPr>
          <a:xfrm>
            <a:off x="0" y="0"/>
            <a:ext cx="4524480" cy="6410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0"/>
            <a:ext cx="4572000" cy="6477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3" name="pop_in_p" descr=""/>
          <p:cNvPicPr/>
          <p:nvPr/>
        </p:nvPicPr>
        <p:blipFill>
          <a:blip r:embed="rId2"/>
          <a:stretch/>
        </p:blipFill>
        <p:spPr>
          <a:xfrm>
            <a:off x="1876320" y="762120"/>
            <a:ext cx="5667480" cy="5289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05120" y="762120"/>
            <a:ext cx="5638680" cy="5333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6" name="pop_info" descr=""/>
          <p:cNvPicPr/>
          <p:nvPr/>
        </p:nvPicPr>
        <p:blipFill>
          <a:blip r:embed="rId2"/>
          <a:stretch/>
        </p:blipFill>
        <p:spPr>
          <a:xfrm>
            <a:off x="1774800" y="762120"/>
            <a:ext cx="5616720" cy="5790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52480" y="762120"/>
            <a:ext cx="6019920" cy="579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he Steps of the Proces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056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AFSA/ISI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4768920"/>
            <a:ext cx="1828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9" name="ac_bal_p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5819760" cy="544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76520" y="838080"/>
            <a:ext cx="6095880" cy="548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2" name="acct_bal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450040" cy="5638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752480" y="685800"/>
            <a:ext cx="5867640" cy="5638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5" name="dis_su_p" descr=""/>
          <p:cNvPicPr/>
          <p:nvPr/>
        </p:nvPicPr>
        <p:blipFill>
          <a:blip r:embed="rId2"/>
          <a:stretch/>
        </p:blipFill>
        <p:spPr>
          <a:xfrm>
            <a:off x="1676520" y="722160"/>
            <a:ext cx="6095880" cy="5697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676520" y="762120"/>
            <a:ext cx="6172200" cy="5715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8" name="disb_sum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819760" cy="5767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752480" y="609480"/>
            <a:ext cx="6019920" cy="5867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5: Resource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42960" y="6854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Web based resources: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www.pellgrantsonline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ifap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sfadownload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gapsweb.ed.gov/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Regional Training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hird Party Servicer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August, Washington, DC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Electronic Access 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November 13-15, Dalla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November 28-30, Atlanta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December 11-13, Phoenix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Regional Conference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0680" y="259092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6: Questions and Answer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-76320" y="-76320"/>
            <a:ext cx="1219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SIR/FAFSA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676520" cy="231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1295280"/>
            <a:ext cx="1752480" cy="231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1828800" cy="2487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6320" y="4545000"/>
            <a:ext cx="1752480" cy="231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17524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Establishes those that are possible aid recipi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vides RFMS with a list of eligible applica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4292640"/>
            <a:ext cx="1828800" cy="25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16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762120"/>
            <a:ext cx="7086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rves several purpos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dentifies Possible Recipient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hecks Eligibil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ollects Information Necessary to Process the Disbursement of a Gra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llows for corrections of that infor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ts up for a speedy Disburse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4354560"/>
            <a:ext cx="1828800" cy="2503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066680"/>
            <a:ext cx="7086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hort  Record with Minimal Inform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lnSpc>
                <a:spcPct val="3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Based on Successful Origination Disbursement should flow through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lnSpc>
                <a:spcPct val="3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cessing at the student transaction level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mproves reconcili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reases program integr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0:02:24Z</dcterms:created>
  <dc:creator>James E. McMahon</dc:creator>
  <dc:description/>
  <dc:language>en-US</dc:language>
  <cp:lastModifiedBy>Brian Sentz</cp:lastModifiedBy>
  <cp:lastPrinted>2000-06-28T19:43:11Z</cp:lastPrinted>
  <dcterms:modified xsi:type="dcterms:W3CDTF">2000-06-29T13:33:32Z</dcterms:modified>
  <cp:revision>62</cp:revision>
  <dc:subject/>
  <dc:title>RFMS/Pell : Where are we now and where are we goingTitle goes here</dc:title>
</cp:coreProperties>
</file>