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55.png" ContentType="image/png"/>
  <Override PartName="/ppt/media/image15.wmf" ContentType="image/x-wmf"/>
  <Override PartName="/ppt/media/image54.png" ContentType="image/png"/>
  <Override PartName="/ppt/media/image14.wmf" ContentType="image/x-wmf"/>
  <Override PartName="/ppt/media/image53.png" ContentType="image/png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7.wmf" ContentType="image/x-wmf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47.png" ContentType="image/png"/>
  <Override PartName="/ppt/media/image35.jpeg" ContentType="image/jpeg"/>
  <Override PartName="/ppt/media/image46.png" ContentType="image/png"/>
  <Override PartName="/ppt/media/image31.wmf" ContentType="image/x-wmf"/>
  <Override PartName="/ppt/media/image6.wmf" ContentType="image/x-wmf"/>
  <Override PartName="/ppt/media/image36.png" ContentType="image/png"/>
  <Override PartName="/ppt/media/image48.png" ContentType="image/png"/>
  <Override PartName="/ppt/media/image34.jpeg" ContentType="image/jpeg"/>
  <Override PartName="/ppt/media/image37.png" ContentType="image/png"/>
  <Override PartName="/ppt/media/image49.png" ContentType="image/png"/>
  <Override PartName="/ppt/media/image41.png" ContentType="image/png"/>
  <Override PartName="/ppt/media/image9.wmf" ContentType="image/x-wmf"/>
  <Override PartName="/ppt/media/image13.wmf" ContentType="image/x-wmf"/>
  <Override PartName="/ppt/media/image52.png" ContentType="image/png"/>
  <Override PartName="/ppt/media/image38.wmf" ContentType="image/x-wmf"/>
  <Override PartName="/ppt/media/image8.wmf" ContentType="image/x-wmf"/>
  <Override PartName="/ppt/media/image40.png" ContentType="image/png"/>
  <Override PartName="/ppt/media/image51.png" ContentType="image/png"/>
  <Override PartName="/ppt/media/image12.wmf" ContentType="image/x-wmf"/>
  <Override PartName="/ppt/media/image50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FF822-1D06-4300-88E1-D17D67A87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292E-733A-41CA-89CC-97649F169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1D7F-AD63-4A73-808E-3E2D539EB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6AE3-1082-4975-A60A-FCFF6C398F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07EB-BB76-4E48-B724-02977714C5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54B4-B4B9-4945-A296-09CB94464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DB7B-8D5C-4DA6-B5EE-27A303A83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1CD8-70D5-48F0-AB36-8C6EE60DB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05F3-9D29-4EBB-ADBA-864F86737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381C-8FBB-40A8-96FA-79B3524EB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58D5-4700-41F0-92C7-547932ABB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B37D-DA3F-44A1-B18D-6D92FDBA7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35480" indent="-282960">
              <a:spcBef>
                <a:spcPts val="799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2" marL="1131480" indent="-226080">
              <a:spcBef>
                <a:spcPts val="799"/>
              </a:spcBef>
              <a:buClr>
                <a:srgbClr val="ff0066"/>
              </a:buClr>
              <a:buFont typeface="AntykwaToruns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3" marL="1584000" indent="-226080">
              <a:spcBef>
                <a:spcPts val="799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4" marL="2036520" indent="-226080">
              <a:spcBef>
                <a:spcPts val="799"/>
              </a:spcBef>
              <a:buClr>
                <a:srgbClr val="ff0066"/>
              </a:buClr>
              <a:buFont typeface="AntykwaTorunsk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tykwaTorunsk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tykwaTorunsk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520" y="6552720"/>
            <a:ext cx="838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ntykwaToruns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8A60-B969-4079-BB6B-3977C4A766CE}" type="slidenum">
              <a:rPr b="0" lang="en-US" sz="1400" spc="-1" strike="noStrike">
                <a:solidFill>
                  <a:srgbClr val="000000"/>
                </a:solidFill>
                <a:latin typeface="AntykwaTorunska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ntykwaTorunsk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3" name="sfastar" descr=""/>
          <p:cNvPicPr/>
          <p:nvPr/>
        </p:nvPicPr>
        <p:blipFill>
          <a:blip r:embed="rId3"/>
          <a:stretch/>
        </p:blipFill>
        <p:spPr>
          <a:xfrm>
            <a:off x="6858000" y="4419720"/>
            <a:ext cx="194328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5676120" y="6553080"/>
            <a:ext cx="34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onet"/>
              </a:rPr>
              <a:t>We Help Put America Through School</a:t>
            </a:r>
            <a:endParaRPr b="0" lang="en-US" sz="1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20.wmf"/><Relationship Id="rId4" Type="http://schemas.openxmlformats.org/officeDocument/2006/relationships/image" Target="../media/image4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1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7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image" Target="../media/image31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RFMS/Pell: Past, Present, and Future 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U.S. Dept of Education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Drawdown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324480" y="2209680"/>
            <a:ext cx="2033640" cy="2081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76720" y="2286000"/>
            <a:ext cx="2361960" cy="2217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04920" y="2133720"/>
            <a:ext cx="2361960" cy="2217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4572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Origination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4572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Disbursement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4572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Funding levels in GAP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66880" y="2971800"/>
            <a:ext cx="679680" cy="679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638680" y="3048120"/>
            <a:ext cx="67968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The Pell Grant Business Process as compared to a hotel business transaction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778040" cy="1668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1371600"/>
            <a:ext cx="1523880" cy="1503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52280" y="1295280"/>
            <a:ext cx="144648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4876920"/>
            <a:ext cx="1511280" cy="1523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1371600"/>
            <a:ext cx="259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ykwaTorunska"/>
              </a:rPr>
              <a:t>FAFSA/ISIR</a:t>
            </a: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 - Application process for a line of credit (credit card)  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733920"/>
            <a:ext cx="2895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ykwaTorunska"/>
              </a:rPr>
              <a:t>Drawdown/Funding</a:t>
            </a: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 - the accounting transaction from the disbursement is sent to the credit company, payments are made and credit limits adjusted accordingly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733920"/>
            <a:ext cx="2590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ykwaTorunska"/>
              </a:rPr>
              <a:t>Disbursement</a:t>
            </a: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 - After arrival, based upon details of actual stay a bill/disbursement is issues, guest presents credit card and pays bill.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1371600"/>
            <a:ext cx="259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ykwaTorunska"/>
              </a:rPr>
              <a:t>Origination</a:t>
            </a: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 - Reservation for a room/possible grant with information for preferences, duration of stay etc.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22575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3886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79400" y="228600"/>
            <a:ext cx="1430280" cy="2379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086600" y="304920"/>
            <a:ext cx="1484280" cy="2438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262560" y="4527720"/>
            <a:ext cx="1357560" cy="2330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600200" y="4557600"/>
            <a:ext cx="1328760" cy="2300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9480" y="6477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Subledger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-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RFM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380880"/>
            <a:ext cx="3352680" cy="1067040"/>
          </a:xfrm>
          <a:prstGeom prst="rightArrow">
            <a:avLst>
              <a:gd name="adj1" fmla="val 50000"/>
              <a:gd name="adj2" fmla="val 78551"/>
            </a:avLst>
          </a:prstGeom>
          <a:noFill/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609480"/>
            <a:ext cx="3124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Records</a:t>
            </a:r>
            <a:r>
              <a:rPr b="1" lang="en-US" sz="1600" spc="-1" strike="noStrike">
                <a:solidFill>
                  <a:srgbClr val="000000"/>
                </a:solidFill>
                <a:latin typeface="AntykwaTorunska"/>
              </a:rPr>
              <a:t>: Orig., Disb., Spec. Disbursement, etc.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1295280"/>
            <a:ext cx="3124440" cy="990720"/>
          </a:xfrm>
          <a:prstGeom prst="leftArrow">
            <a:avLst>
              <a:gd name="adj1" fmla="val 50000"/>
              <a:gd name="adj2" fmla="val 87179"/>
            </a:avLst>
          </a:prstGeom>
          <a:noFill/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15382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Acknowledgements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787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Accting Trans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495680"/>
            <a:ext cx="2438280" cy="1067040"/>
          </a:xfrm>
          <a:prstGeom prst="leftArrow">
            <a:avLst>
              <a:gd name="adj1" fmla="val 50000"/>
              <a:gd name="adj2" fmla="val 57127"/>
            </a:avLst>
          </a:prstGeom>
          <a:noFill/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4724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Authorizations and Payments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5638680"/>
            <a:ext cx="2438280" cy="1067040"/>
          </a:xfrm>
          <a:prstGeom prst="leftArrow">
            <a:avLst>
              <a:gd name="adj1" fmla="val 50000"/>
              <a:gd name="adj2" fmla="val 57127"/>
            </a:avLst>
          </a:prstGeom>
          <a:noFill/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Authorizations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-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28954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JIT &amp; ACA Deposit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3048120"/>
            <a:ext cx="114300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Draw-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&amp; Pmt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514600"/>
            <a:ext cx="1066680" cy="1357200"/>
          </a:xfrm>
          <a:prstGeom prst="upArrow">
            <a:avLst>
              <a:gd name="adj1" fmla="val 74407"/>
              <a:gd name="adj2" fmla="val 38394"/>
            </a:avLst>
          </a:prstGeom>
          <a:noFill/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529000"/>
            <a:ext cx="1067040" cy="1357200"/>
          </a:xfrm>
          <a:prstGeom prst="upArrow">
            <a:avLst>
              <a:gd name="adj1" fmla="val 76194"/>
              <a:gd name="adj2" fmla="val 44034"/>
            </a:avLst>
          </a:prstGeom>
          <a:noFill/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1066680" y="2666880"/>
            <a:ext cx="990720" cy="1981440"/>
          </a:xfrm>
          <a:prstGeom prst="upArrow">
            <a:avLst>
              <a:gd name="adj1" fmla="val 90389"/>
              <a:gd name="adj2" fmla="val 37685"/>
            </a:avLst>
          </a:prstGeom>
          <a:noFill/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2895480"/>
            <a:ext cx="1067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ykwaTorunska"/>
              </a:rPr>
              <a:t>Web Draw-down Request 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7315200" y="2742840"/>
            <a:ext cx="990720" cy="1981080"/>
          </a:xfrm>
          <a:prstGeom prst="upArrow">
            <a:avLst>
              <a:gd name="adj1" fmla="val 90389"/>
              <a:gd name="adj2" fmla="val 37678"/>
            </a:avLst>
          </a:prstGeom>
          <a:noFill/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251460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ykwaTorunska"/>
              </a:rPr>
              <a:t>The Federal Pell Grant Program System Flow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57160" y="390600"/>
            <a:ext cx="7601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tykwaTorunska"/>
              </a:rPr>
              <a:t>RFMS Goals at Implementation</a:t>
            </a:r>
            <a:endParaRPr b="0" lang="en-US" sz="40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14360" y="138060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Turnaround of 24-36 Hour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Modernization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698400" indent="-26856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System outdated 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98400" indent="-26856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Project EASI/Modernization Blueprint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98400" indent="-26856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Common Origination/Disbursement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-32220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Move Processing to the Transaction Level for Improved Accounting and program integrity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76320" y="-76320"/>
          <a:ext cx="1190880" cy="693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-76320"/>
                    <a:ext cx="119088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-228960"/>
            <a:ext cx="760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tykwaTorunska"/>
              </a:rPr>
              <a:t>Have we met our goals?</a:t>
            </a:r>
            <a:endParaRPr b="0" lang="en-US" sz="40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534960"/>
            <a:ext cx="327636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RFMS 1999-2000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ykwaTorunska"/>
              </a:rPr>
              <a:t>Some Successes:</a:t>
            </a: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Acknowledgements back in 3.5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Decrease in time taken to receive funding, but original target not reached 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ykwaTorunska"/>
              </a:rPr>
              <a:t>Met Goals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New design and technology bring system up to date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Continued to move our business processes to follow the goals of the Modernization Blueprint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RFMS processes at transaction level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Business process that would inform the COD work being carried out now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685800"/>
            <a:ext cx="2971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RFMS 2000-2001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ykwaTorunska"/>
              </a:rPr>
              <a:t>In Process:</a:t>
            </a: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Acknowledgements back in 3.5 hrs.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Streamline process to reduce time it takes schools to receive their funding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ykwaTorunska"/>
              </a:rPr>
              <a:t>Met Goals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Continued Improvements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Improve Web Functionality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Business process that would inform the COD work being carried out now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Address the goals and objectives of the Mad Dog Team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33520"/>
            <a:ext cx="29718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ykwaTorunska"/>
              </a:rPr>
              <a:t>Turnaround of 24-26 hours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Streamline process to reduce time it takes schools to receive their funding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ykwaTorunska"/>
              </a:rPr>
              <a:t>Modernization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Replace outdated system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Carry out goals of Project EASI/Modernization Blueprint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Transaction Level Processing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tykwaTorunska"/>
              </a:rPr>
              <a:t>- Common Origination/ Disbursement (COD)</a:t>
            </a:r>
            <a:endParaRPr b="0" lang="en-US" sz="16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66640" y="228600"/>
            <a:ext cx="76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ntykwaTorunska"/>
              </a:rPr>
              <a:t>RFMS Performance:  How are we doing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6640" y="1523520"/>
            <a:ext cx="76006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RFMS Acknowledgements placed on TIVWAN within 3.5 hours of receipt of record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39480" indent="-3394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Records in RFMS (transaction level):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Accepted and Corrected - 87.6%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Rejected records - 12.4%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39480" indent="-3394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Number of institutions that  have not submitted disbursement records: 173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-76320"/>
          <a:ext cx="1190520" cy="693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76320"/>
                    <a:ext cx="119052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71600" y="152280"/>
            <a:ext cx="6248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ntykwaTorunska"/>
              </a:rPr>
              <a:t>1999-2000 RFMS Weekly Volume Turnaround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ntykwaTorunsk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ntykwaTorunska"/>
              </a:rPr>
              <a:t>Data as of April 21, 2000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1903320"/>
          <a:ext cx="8020080" cy="476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903320"/>
                    <a:ext cx="802008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28600" y="1676520"/>
            <a:ext cx="2514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tykwaTorunska"/>
              </a:rPr>
              <a:t>(Performance Objective 24-36 Hours)</a:t>
            </a:r>
            <a:endParaRPr b="0" lang="en-US" sz="1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48" name=""/>
          <p:cNvSpPr/>
          <p:nvPr/>
        </p:nvSpPr>
        <p:spPr>
          <a:xfrm>
            <a:off x="8068680" y="16178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ntykwaTorunska"/>
              </a:rPr>
              <a:t>Hours</a:t>
            </a:r>
            <a:endParaRPr b="0" lang="en-US" sz="12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769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tykwaTorunska"/>
              </a:rPr>
              <a:t>What Goals do we still have outstanding?</a:t>
            </a:r>
            <a:endParaRPr b="0" lang="en-US" sz="40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Decrease the time it takes to receive funding for Pell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Increased Automation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Changes to the Subledger Proces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Re-evaluation of data flow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Mad dog Goal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1143000" cy="71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15228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Most Commonly Seen Edits in RFMS Processing - April, 2000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ykwaTorunska"/>
              </a:rPr>
              <a:t>Edit 403-</a:t>
            </a: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 Rejected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Disbursement Reference Number not Valid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ykwaTorunska"/>
              </a:rPr>
              <a:t>Edit 319 </a:t>
            </a:r>
            <a:r>
              <a:rPr b="1" lang="en-US" sz="3200" spc="-1" strike="noStrike">
                <a:solidFill>
                  <a:srgbClr val="000000"/>
                </a:solidFill>
                <a:latin typeface="AntykwaTorunsk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Warning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319 - Invalid Wks. Of Inst. Time in Programs Definition of Academic Year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ykwaTorunska"/>
              </a:rPr>
              <a:t>Edit 309</a:t>
            </a: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Warning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Invalid Verification Code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ykwaTorunska"/>
              </a:rPr>
              <a:t>Edit 406</a:t>
            </a: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Warning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Disbursement Amount + Total Disb. is greater than the Award Amount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4870440"/>
            <a:ext cx="1212840" cy="1987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3048120"/>
            <a:ext cx="1212840" cy="1987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0" y="1441440"/>
            <a:ext cx="1212840" cy="1987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0" y="-76320"/>
            <a:ext cx="121284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Most Commonly Seen Edits in RFMS Processing - April, 2000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-76320" y="-76320"/>
            <a:ext cx="1212840" cy="1987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-69840" y="1212840"/>
            <a:ext cx="1212840" cy="1987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-76320" y="3041640"/>
            <a:ext cx="1212840" cy="1987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-76320" y="4946760"/>
            <a:ext cx="1212840" cy="1987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7652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ykwaTorunska"/>
              </a:rPr>
              <a:t>Edit 302 - </a:t>
            </a: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Rejected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Duplicate Origination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ykwaTorunska"/>
              </a:rPr>
              <a:t>Edit 402 - </a:t>
            </a: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Origination ID does not match on RFM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ykwaTorunska"/>
              </a:rPr>
              <a:t>Edit 305 - </a:t>
            </a: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Warning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Invalid Award Amount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ykwaTorunska"/>
              </a:rPr>
              <a:t>Edit 306 -</a:t>
            </a: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 Warning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Invalid Disbursement Date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ykwaTorunska"/>
              </a:rPr>
              <a:t>Edit 411</a:t>
            </a: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 - Warning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Potential Overaward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2240" y="228600"/>
            <a:ext cx="76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resenters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456840"/>
            <a:ext cx="76006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-308520">
              <a:spcBef>
                <a:spcPts val="9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Tony Laing - Pell Operations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-308520">
              <a:spcBef>
                <a:spcPts val="9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Jim McMahon - Pell Systems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-308520">
              <a:spcBef>
                <a:spcPts val="9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Anthony Jones - Application </a:t>
            </a: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 Development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495440" cy="2590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7315200" y="1143000"/>
            <a:ext cx="1598760" cy="2697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733920" y="2438280"/>
            <a:ext cx="1600200" cy="2776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7391520" y="4038480"/>
            <a:ext cx="1495440" cy="2590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228600" y="4038480"/>
            <a:ext cx="1442880" cy="2438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943600" y="1523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129528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Determination of Authorization Level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213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Types of Funding in Pell?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5334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Access to the Funding?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763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Objective 2: Funding in the Federal Pell Grant Program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9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What is an Initial Authorization</a:t>
            </a: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520" y="914040"/>
            <a:ext cx="7238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An initial authorizations is: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A level of funding available to schools for their first Pell recipients.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Will cover at least 85% of the Pell Grants to be disbursed during your first payment period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A limited amount that is not intended to fund Pell for the entire award year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-4680" y="-152280"/>
            <a:ext cx="1224000" cy="71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60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How is Initial Authorization Determined?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The formula to determine initial authorization is based on three criteria: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Previous Award Year’s Disbursement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Type of Academic Calendar Used at Institution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Percentage Level Associated with Academic Calendar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114300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3716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An Example: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9040" indent="-3290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chool A is a semester school that disbursed $100,000 in AY 1999-2000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9040" indent="-3290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Criteria: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13160" indent="-2743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13160" indent="-2743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Semester School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13160" indent="-2743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Semester Schools receive 40%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29040" indent="-3290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chool A would receive an Initial Authorization of $40,000 for AY 2000-2001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How is Initial Authorization Determined?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1143000" cy="73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Initial Authorization Fac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162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Increased the amount of funding to Institutions for the award year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Initial Authorization for 1999/2000    5/25/99 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5132 Institutions for $3,099,602,337.00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Initial Authorization for 2000/2001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5107 Institutions for $3,139,737,054.00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1143000" cy="71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3716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Authorization Levels increased as a Y2K contingency 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December, 1999 4,043 schools received an authorization increase of $2 billion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May, 2000 Administrative Cost Allowance Disbursement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ummer, 2000 reduce Authorization Levels to disbursement level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Initial Authorization Fac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1143000" cy="71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Accepted Disbursements Drive Authorization Levels!!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Changes in Authorization Leve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-76320" y="-152280"/>
            <a:ext cx="1219320" cy="7086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276720" y="2971800"/>
            <a:ext cx="679320" cy="6793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6019920" y="3124080"/>
            <a:ext cx="679320" cy="679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6858000" y="2362320"/>
            <a:ext cx="2033640" cy="2081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3809880" y="2438280"/>
            <a:ext cx="2362320" cy="2217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1066680" y="2286000"/>
            <a:ext cx="2362320" cy="2217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21932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Origination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4724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Disbursement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47242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Funding levels in GAP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What are the types of Funding in Pell?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Advanced Funding 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The vast majority of Pell Institution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Just-In-Time 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Pilot in its Second Year with small population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00080" y="3733920"/>
            <a:ext cx="1347840" cy="2286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76320" y="1066680"/>
            <a:ext cx="1374480" cy="22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Types of Funding in Pell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Advance Funding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668520" indent="-257040">
              <a:spcBef>
                <a:spcPts val="675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tykwaTorunska"/>
              </a:rPr>
              <a:t>Disbursement Records drive Authorization Level</a:t>
            </a:r>
            <a:endParaRPr b="0" lang="en-US" sz="2700" spc="-1" strike="noStrike">
              <a:solidFill>
                <a:srgbClr val="000000"/>
              </a:solidFill>
              <a:latin typeface="AntykwaTorunska"/>
            </a:endParaRPr>
          </a:p>
          <a:p>
            <a:pPr lvl="1" marL="668520" indent="-257040">
              <a:spcBef>
                <a:spcPts val="675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tykwaTorunska"/>
              </a:rPr>
              <a:t>Disbursement Date within 30 Days of processing</a:t>
            </a:r>
            <a:endParaRPr b="0" lang="en-US" sz="2700" spc="-1" strike="noStrike">
              <a:solidFill>
                <a:srgbClr val="000000"/>
              </a:solidFill>
              <a:latin typeface="AntykwaTorunska"/>
            </a:endParaRPr>
          </a:p>
          <a:p>
            <a:pPr lvl="1" marL="668520" indent="-257040">
              <a:spcBef>
                <a:spcPts val="675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tykwaTorunska"/>
              </a:rPr>
              <a:t>Drawdown by program and award year</a:t>
            </a:r>
            <a:endParaRPr b="0" lang="en-US" sz="27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08520" indent="-30852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Just-In-Time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668520" indent="-257040">
              <a:spcBef>
                <a:spcPts val="675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tykwaTorunska"/>
              </a:rPr>
              <a:t>Disbursement Records create a Payment</a:t>
            </a:r>
            <a:endParaRPr b="0" lang="en-US" sz="2700" spc="-1" strike="noStrike">
              <a:solidFill>
                <a:srgbClr val="000000"/>
              </a:solidFill>
              <a:latin typeface="AntykwaTorunska"/>
            </a:endParaRPr>
          </a:p>
          <a:p>
            <a:pPr lvl="1" marL="668520" indent="-257040">
              <a:spcBef>
                <a:spcPts val="675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tykwaTorunska"/>
              </a:rPr>
              <a:t>Disbursement Date within 5 Days of processing</a:t>
            </a:r>
            <a:endParaRPr b="0" lang="en-US" sz="27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What is Advanced Funding?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47920" y="11430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Receives an Initial Authorization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Drawdown from GAP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Must meet normal regulatory requirement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Disbursement Date within 30 Days of processing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Drawdown by program and award year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-76320"/>
            <a:ext cx="1284120" cy="2133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1146240"/>
            <a:ext cx="1282680" cy="21304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0" y="2743200"/>
            <a:ext cx="1284120" cy="2133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0" y="4803840"/>
            <a:ext cx="12826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-152280"/>
            <a:ext cx="7601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Objectives</a:t>
            </a: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45684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1. Brief Overview of what RFMS is?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RFMS History, Goals and Performance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2. Overview of How Pell is Funded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Initial Authorization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Authorization Increases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The Electronic Statement of Account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Advanced Funding and Just-in-Time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3. RFMS: Present and Future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Changes for 2000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Mad Dog Task Force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Common Origination/Disbursement Update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4. A view of new functionality and tools for processing Pell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ntykwaTorunska"/>
              </a:rPr>
              <a:t>RFMS on the Web</a:t>
            </a:r>
            <a:endParaRPr b="0" lang="en-US" sz="1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5. A review of resources available to you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6. A chance to hear your questions and concern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-76320"/>
            <a:ext cx="114444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1154160" cy="1981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5410080"/>
            <a:ext cx="116352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3657600"/>
            <a:ext cx="1143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600200" y="22860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ADVANCE FUNDING 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676520"/>
            <a:ext cx="8839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tykwaTorunska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Transac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Obligated Balanc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ESOA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Initial Funding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           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     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     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Yes 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50,000.00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  50,000.00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Disbursement Accepted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     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     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25,000.00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  50,000.00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Disbursement Accepted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   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     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Yes 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75,000.00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100,000.00 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14400" y="1522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JUST-IN-TIME FUNDING 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752480"/>
            <a:ext cx="8534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Transac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Paymen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tykwaTorunska"/>
              </a:rPr>
              <a:t>ESOA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Disbursement Accepted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Yes    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25,000.00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25,000.00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Disbursement Accepted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75,000.00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ntykwaTorunska"/>
              </a:rPr>
              <a:t>100,000.00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What is Just-in-Time Funding?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00120" y="761760"/>
            <a:ext cx="7601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No Initial Authorization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674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67480" indent="-2674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Disbursement Records create a Payment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674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67480" indent="-2674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Disbursement Date within 5 Days of processing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674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67480" indent="-2674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Funds automatically deposited into school’s account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674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67480" indent="-2674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No drawdown from GAP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67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67480" indent="-2674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Regulatory relief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680" y="-76320"/>
            <a:ext cx="1214640" cy="2059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1214280" cy="2059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0" y="3124080"/>
            <a:ext cx="1214280" cy="2059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0" y="4952880"/>
            <a:ext cx="121428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4479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Regulatory relief under Cash Management Regs published 11/29/96</a:t>
            </a: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623880" indent="-23976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3-Day-use rule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238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23880" indent="-23976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Excess-cash rule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238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23880" indent="-23976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Interest bearing account rule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238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23880" indent="-23976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Re-verification of eligibility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Just-In-Time 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-76320"/>
            <a:ext cx="1214280" cy="2059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1370160"/>
            <a:ext cx="1214280" cy="2058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0" y="3048120"/>
            <a:ext cx="1214280" cy="20588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0" y="4876920"/>
            <a:ext cx="121428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1999-2000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Pilot (18 Schools)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2000-2001 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73 Schools, including all original 18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Just-In-Time 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1214280" cy="2058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0" y="1370160"/>
            <a:ext cx="1214280" cy="2058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0" y="3048120"/>
            <a:ext cx="1214280" cy="2058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0" y="4875120"/>
            <a:ext cx="121428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Objective 3: RFMS Present and Future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523880" y="2057400"/>
            <a:ext cx="62485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Schedul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2000 - 2001 Implementation - Summer of 2000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05280" indent="-3052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Requirements Gathering for 2001-2002 - Closes August 10, 2000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660960" indent="-25416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Focus Groups - 6/28, 7/13 and 7/14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60960" indent="-25416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Express, Homegrown and Third Party Vendor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05280" indent="-3052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pecifications Complete - Sept. 29, 2000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05280" indent="-3052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Development Complete - February, 2001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05280" indent="-3052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Testing - February through March, 2001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05280" indent="-3052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Beta Testing - March, 2001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05280" indent="-3052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Implementation - April, 2001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Changes for 2000-2001</a:t>
            </a: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ystem is a rollover for this year - Minimal change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The Change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Cartridge and Reel Not Accepted for 2000-2001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Batch Replacement no longer a data request option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YTD can be requested for specific student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Additional Field  to the Special Disbursement Record: Total funds previously disbursed for this Payment Period using a Regular Disbursement Record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Batch Warning to alert users that they are not using the most current version of EDExpres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internal" descr=""/>
          <p:cNvPicPr/>
          <p:nvPr/>
        </p:nvPicPr>
        <p:blipFill>
          <a:blip r:embed="rId2"/>
          <a:stretch/>
        </p:blipFill>
        <p:spPr>
          <a:xfrm>
            <a:off x="2057400" y="152280"/>
            <a:ext cx="2666880" cy="2210040"/>
          </a:xfrm>
          <a:prstGeom prst="rect">
            <a:avLst/>
          </a:prstGeom>
          <a:ln w="0">
            <a:noFill/>
          </a:ln>
        </p:spPr>
      </p:pic>
      <p:pic>
        <p:nvPicPr>
          <p:cNvPr id="241" name="img0011" descr=""/>
          <p:cNvPicPr/>
          <p:nvPr/>
        </p:nvPicPr>
        <p:blipFill>
          <a:blip r:embed="rId3"/>
          <a:stretch/>
        </p:blipFill>
        <p:spPr>
          <a:xfrm>
            <a:off x="4648320" y="609480"/>
            <a:ext cx="2679480" cy="1812960"/>
          </a:xfrm>
          <a:prstGeom prst="rect">
            <a:avLst/>
          </a:prstGeom>
          <a:ln w="0">
            <a:noFill/>
          </a:ln>
        </p:spPr>
      </p:pic>
      <p:pic>
        <p:nvPicPr>
          <p:cNvPr id="242" name="people4" descr=""/>
          <p:cNvPicPr/>
          <p:nvPr/>
        </p:nvPicPr>
        <p:blipFill>
          <a:blip r:embed="rId4"/>
          <a:stretch/>
        </p:blipFill>
        <p:spPr>
          <a:xfrm>
            <a:off x="2362320" y="480060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243" name="building2" descr=""/>
          <p:cNvPicPr/>
          <p:nvPr/>
        </p:nvPicPr>
        <p:blipFill>
          <a:blip r:embed="rId5"/>
          <a:stretch/>
        </p:blipFill>
        <p:spPr>
          <a:xfrm>
            <a:off x="4572000" y="4572000"/>
            <a:ext cx="2743200" cy="19051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971800" y="2590920"/>
            <a:ext cx="352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ntykwaTorunska"/>
              </a:rPr>
              <a:t>RFMS MAD DOG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ntykwaTorunska"/>
              </a:rPr>
              <a:t>Final Report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ntykwaTorunska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ntykwaTorunska"/>
              </a:rPr>
              <a:t>SFA Management Council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45" name="dog4" descr=""/>
          <p:cNvPicPr/>
          <p:nvPr/>
        </p:nvPicPr>
        <p:blipFill>
          <a:blip r:embed="rId6"/>
          <a:stretch/>
        </p:blipFill>
        <p:spPr>
          <a:xfrm>
            <a:off x="1981080" y="3886200"/>
            <a:ext cx="46483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5240" y="228600"/>
            <a:ext cx="7600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Why Mad Dog?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1960" y="1371600"/>
            <a:ext cx="82630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RFMS first system implemented under PBO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Response to the concerns of our customers - you the schools</a:t>
            </a: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Double work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Money coming slower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Can’t get system to work and the help isn’t any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Development of a tool/mechanism to act quickly to community concerns and to analyze the success and failures of a system implementation in order to improve the proces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228600"/>
          <a:ext cx="289548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28954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134120" y="4800600"/>
            <a:ext cx="200988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4892760"/>
            <a:ext cx="2362320" cy="1965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477120" y="0"/>
            <a:ext cx="2286000" cy="2146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52280" y="0"/>
            <a:ext cx="2286000" cy="2146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429000" y="3549600"/>
            <a:ext cx="2666880" cy="2013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90720" y="2209680"/>
            <a:ext cx="7391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Objective 1: What is the Pell Grant Process in RFMS?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What is a Mad Dog?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Cross Functional Team from across channels and offices brought together to aggressively address areas of concern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90 days of information gathering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16 site visit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6 teleconference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2 focus group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2 conference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monitoring of CPS and RFMS CS call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Monitoring of SFATECH and RFMS CS e-mail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0" y="228600"/>
          <a:ext cx="289548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28954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00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What did we hear?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Issues fell into three broad categorie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05600" indent="-2714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Top-Notch Service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2" marL="1085760" indent="-217080">
              <a:spcBef>
                <a:spcPts val="601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Improve Customer Service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0560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05600" indent="-2714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Simpler Use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2" marL="1085760" indent="-217080">
              <a:spcBef>
                <a:spcPts val="601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Simplify and improve processes necessary to successfully participate in the Pell Program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7056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05600" indent="-27144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Better Information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2" marL="1085760" indent="-217080">
              <a:spcBef>
                <a:spcPts val="601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Provide information that is comprehensive and provide it in a timely manner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228600"/>
          <a:ext cx="289548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28954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4320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What are we going to do about it?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Actions fell into two categorie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639000" indent="-2455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Quick Hits - 90 days or les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39000" indent="-2455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Longer term actions - more than 90 day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294840" indent="-2948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Many of the actions items are already being addressed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639000" indent="-2455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inclusion of Mad dog issues in requirements 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39000" indent="-2455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influence on development schedule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39000" indent="-2455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reconciliation tool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39000" indent="-2455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customer service workgroup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0" y="228600"/>
          <a:ext cx="2895480" cy="11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28954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52240" y="228600"/>
            <a:ext cx="7600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Common Origination/Disbursement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4153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PBO Goal is to simplify how a student receives their Title IV fund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32640" indent="-3326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COD provides for: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a single process across program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a single record across progam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32640" indent="-33264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Goal is to: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make it easier for the student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simplify the process for the school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streamline and simplify the process at the Department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Objective 4: A view of new functionality and tools for processing Pell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2538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-152280"/>
            <a:ext cx="760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Reconciliation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837720"/>
            <a:ext cx="7601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Mad Dog identified Reconciliation as an issue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53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In July we will be providing a tool to all schools to help them reconcile with the department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53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Fixed field file sent in text message class 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53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Easily imported into other programs for manipulation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Proposed fields: 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727920" indent="-2800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Origination ID (includes, SSN, Name Code, Attending Pell ID)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27920" indent="-2800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27920" indent="-2800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Transaction Number of Origination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27920" indent="-2800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Origination Award Amount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27920" indent="-2800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Scheduled Award Amount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727920" indent="-2800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YTD Disbursed Amount in RFM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35880" indent="-3358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ortable by any field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Reconciliation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80840" y="-76320"/>
            <a:ext cx="7600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72" name="logon" descr=""/>
          <p:cNvPicPr/>
          <p:nvPr/>
        </p:nvPicPr>
        <p:blipFill>
          <a:blip r:embed="rId2"/>
          <a:stretch/>
        </p:blipFill>
        <p:spPr>
          <a:xfrm>
            <a:off x="1600200" y="762120"/>
            <a:ext cx="589608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601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74" name="main_men" descr=""/>
          <p:cNvPicPr/>
          <p:nvPr/>
        </p:nvPicPr>
        <p:blipFill>
          <a:blip r:embed="rId2"/>
          <a:stretch/>
        </p:blipFill>
        <p:spPr>
          <a:xfrm>
            <a:off x="1371600" y="706320"/>
            <a:ext cx="640080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76" name="batch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672080" cy="5867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981080" y="609480"/>
            <a:ext cx="5181840" cy="5943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The Federal Pell Grant Progr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for 1999-2000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5,132 Schools Participating in the Pell Program 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Over 3.4 Million Pell Recipient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Over $8 Billion in Grants Disbursed 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1741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2438280"/>
            <a:ext cx="1987560" cy="126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4724280"/>
            <a:ext cx="180648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-76320"/>
            <a:ext cx="7601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79" name="ba_det_p" descr=""/>
          <p:cNvPicPr/>
          <p:nvPr/>
        </p:nvPicPr>
        <p:blipFill>
          <a:blip r:embed="rId2"/>
          <a:stretch/>
        </p:blipFill>
        <p:spPr>
          <a:xfrm>
            <a:off x="1447920" y="762120"/>
            <a:ext cx="5819760" cy="54324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447920" y="762120"/>
            <a:ext cx="5943600" cy="5410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82" name="bat_det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5556240" cy="57913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905120" y="685800"/>
            <a:ext cx="5943600" cy="5791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85" name="data_req" descr=""/>
          <p:cNvPicPr/>
          <p:nvPr/>
        </p:nvPicPr>
        <p:blipFill>
          <a:blip r:embed="rId2"/>
          <a:stretch/>
        </p:blipFill>
        <p:spPr>
          <a:xfrm>
            <a:off x="1905120" y="762120"/>
            <a:ext cx="4724280" cy="57909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905120" y="762120"/>
            <a:ext cx="5410080" cy="57909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88" name="da_re_cm" descr=""/>
          <p:cNvPicPr/>
          <p:nvPr/>
        </p:nvPicPr>
        <p:blipFill>
          <a:blip r:embed="rId2"/>
          <a:stretch/>
        </p:blipFill>
        <p:spPr>
          <a:xfrm>
            <a:off x="1676520" y="838080"/>
            <a:ext cx="5743440" cy="5375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676520" y="838080"/>
            <a:ext cx="5943600" cy="5410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91" name="upd_faa" descr=""/>
          <p:cNvPicPr/>
          <p:nvPr/>
        </p:nvPicPr>
        <p:blipFill>
          <a:blip r:embed="rId2"/>
          <a:stretch/>
        </p:blipFill>
        <p:spPr>
          <a:xfrm>
            <a:off x="2133720" y="758880"/>
            <a:ext cx="4600440" cy="59468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133720" y="758880"/>
            <a:ext cx="4572000" cy="5943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19720" y="1519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94" name="ent_orig" descr=""/>
          <p:cNvPicPr/>
          <p:nvPr/>
        </p:nvPicPr>
        <p:blipFill>
          <a:blip r:embed="rId2"/>
          <a:stretch/>
        </p:blipFill>
        <p:spPr>
          <a:xfrm>
            <a:off x="0" y="0"/>
            <a:ext cx="3714840" cy="6643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0" y="0"/>
            <a:ext cx="3657600" cy="6705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297" name="ent_disb" descr=""/>
          <p:cNvPicPr/>
          <p:nvPr/>
        </p:nvPicPr>
        <p:blipFill>
          <a:blip r:embed="rId2"/>
          <a:stretch/>
        </p:blipFill>
        <p:spPr>
          <a:xfrm>
            <a:off x="2476440" y="838080"/>
            <a:ext cx="4533840" cy="55515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476440" y="838080"/>
            <a:ext cx="4191120" cy="5639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19720" y="151920"/>
            <a:ext cx="487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300" name="ent_sp_d" descr=""/>
          <p:cNvPicPr/>
          <p:nvPr/>
        </p:nvPicPr>
        <p:blipFill>
          <a:blip r:embed="rId2"/>
          <a:stretch/>
        </p:blipFill>
        <p:spPr>
          <a:xfrm>
            <a:off x="0" y="0"/>
            <a:ext cx="4524480" cy="64101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0"/>
            <a:ext cx="4572000" cy="64771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303" name="pop_in_p" descr=""/>
          <p:cNvPicPr/>
          <p:nvPr/>
        </p:nvPicPr>
        <p:blipFill>
          <a:blip r:embed="rId2"/>
          <a:stretch/>
        </p:blipFill>
        <p:spPr>
          <a:xfrm>
            <a:off x="1876320" y="762120"/>
            <a:ext cx="5667480" cy="52894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905120" y="762120"/>
            <a:ext cx="5638680" cy="5333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306" name="pop_info" descr=""/>
          <p:cNvPicPr/>
          <p:nvPr/>
        </p:nvPicPr>
        <p:blipFill>
          <a:blip r:embed="rId2"/>
          <a:stretch/>
        </p:blipFill>
        <p:spPr>
          <a:xfrm>
            <a:off x="1774800" y="762120"/>
            <a:ext cx="5616720" cy="5790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752480" y="762120"/>
            <a:ext cx="6019920" cy="57909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The Steps of the Process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90560" y="15998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FAFSA/ISIR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Origination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Disbursement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Drawdown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2089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1600200"/>
            <a:ext cx="1828800" cy="208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1828800" cy="20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0" y="4768920"/>
            <a:ext cx="1828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309" name="ac_bal_p" descr=""/>
          <p:cNvPicPr/>
          <p:nvPr/>
        </p:nvPicPr>
        <p:blipFill>
          <a:blip r:embed="rId2"/>
          <a:stretch/>
        </p:blipFill>
        <p:spPr>
          <a:xfrm>
            <a:off x="1676520" y="838080"/>
            <a:ext cx="5819760" cy="5446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676520" y="838080"/>
            <a:ext cx="6095880" cy="5486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312" name="acct_bal" descr=""/>
          <p:cNvPicPr/>
          <p:nvPr/>
        </p:nvPicPr>
        <p:blipFill>
          <a:blip r:embed="rId2"/>
          <a:stretch/>
        </p:blipFill>
        <p:spPr>
          <a:xfrm>
            <a:off x="1752480" y="685800"/>
            <a:ext cx="5450040" cy="5638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752480" y="685800"/>
            <a:ext cx="5867640" cy="5638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315" name="dis_su_p" descr=""/>
          <p:cNvPicPr/>
          <p:nvPr/>
        </p:nvPicPr>
        <p:blipFill>
          <a:blip r:embed="rId2"/>
          <a:stretch/>
        </p:blipFill>
        <p:spPr>
          <a:xfrm>
            <a:off x="1676520" y="722160"/>
            <a:ext cx="6095880" cy="5697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676520" y="762120"/>
            <a:ext cx="6172200" cy="57150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Pell Grant on the Web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318" name="disb_sum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5819760" cy="57675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752480" y="609480"/>
            <a:ext cx="6019920" cy="5867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601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Objective 5: Resources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42960" y="6854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Web based resources: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572040" indent="-219960">
              <a:spcBef>
                <a:spcPts val="499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http://www.pellgrantsonline.ed.gov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 lvl="1" marL="572040" indent="-219960">
              <a:spcBef>
                <a:spcPts val="499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http://ifap.ed.gov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 lvl="1" marL="572040" indent="-219960">
              <a:spcBef>
                <a:spcPts val="499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http://sfadownload.ed.gov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 lvl="1" marL="572040" indent="-21996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http://gapsweb.ed.gov/</a:t>
            </a: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263880" indent="-2638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Training: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572040" indent="-219960">
              <a:spcBef>
                <a:spcPts val="499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Regional Training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 marL="263880" indent="-263880">
              <a:spcBef>
                <a:spcPts val="601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Conference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1" marL="572040" indent="-21996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Third Party Servicer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2" marL="879840" indent="-175680">
              <a:spcBef>
                <a:spcPts val="499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August, Washington, DC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 lvl="1" marL="572040" indent="-219960">
              <a:spcBef>
                <a:spcPts val="601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ykwaTorunska"/>
              </a:rPr>
              <a:t>Electronic Access Conferences</a:t>
            </a: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lvl="2" marL="879840" indent="-175680">
              <a:spcBef>
                <a:spcPts val="499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November 13-15, Dallas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 lvl="2" marL="879840" indent="-175680">
              <a:spcBef>
                <a:spcPts val="499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November 28-30, Atlanta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 lvl="2" marL="879840" indent="-175680">
              <a:spcBef>
                <a:spcPts val="499"/>
              </a:spcBef>
              <a:buClr>
                <a:srgbClr val="ff0066"/>
              </a:buClr>
              <a:buFont typeface="AntykwaTorunsk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December 11-13, Phoenix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 lvl="1" marL="572040" indent="-219960">
              <a:spcBef>
                <a:spcPts val="499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ykwaTorunska"/>
              </a:rPr>
              <a:t>Regional Conferences</a:t>
            </a:r>
            <a:endParaRPr b="0" lang="en-US" sz="2000" spc="-1" strike="noStrike">
              <a:solidFill>
                <a:srgbClr val="000000"/>
              </a:solidFill>
              <a:latin typeface="AntykwaTorunska"/>
            </a:endParaRPr>
          </a:p>
          <a:p>
            <a:pPr lvl="2" marL="879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tykwaTorunska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0680" y="2590920"/>
            <a:ext cx="760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Objective 6: Questions and Answers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-76320" y="-76320"/>
            <a:ext cx="12193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ykwaTorunska"/>
              </a:rPr>
              <a:t>ISIR/FAFSA</a:t>
            </a:r>
            <a:endParaRPr b="0" lang="en-US" sz="4400" spc="-1" strike="noStrike">
              <a:solidFill>
                <a:srgbClr val="000000"/>
              </a:solidFill>
              <a:latin typeface="AntykwaTorunsk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1676520" cy="2313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6320" y="1295280"/>
            <a:ext cx="1752480" cy="231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2666880"/>
            <a:ext cx="1828800" cy="2487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76320" y="4545000"/>
            <a:ext cx="1752480" cy="2313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5120" y="175248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Establishes those that are possible aid recipient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Provides RFMS with a list of eligible applicant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2565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1219320"/>
            <a:ext cx="1828800" cy="2565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2971800"/>
            <a:ext cx="1828800" cy="2565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0" y="4292640"/>
            <a:ext cx="1828800" cy="2565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716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Origination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762120"/>
            <a:ext cx="7086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erves several purposes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601560" indent="-2314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Identifies Possible Recipients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01560" indent="-231480">
              <a:lnSpc>
                <a:spcPct val="40000"/>
              </a:lnSpc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01560" indent="-2314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Checks Eligibility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01560" indent="-231480">
              <a:lnSpc>
                <a:spcPct val="40000"/>
              </a:lnSpc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01560" indent="-2314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Collects Information Necessary to Process the Disbursement of a Grant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01560" indent="-231480">
              <a:lnSpc>
                <a:spcPct val="40000"/>
              </a:lnSpc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01560" indent="-2314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Allows for corrections of that information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01560" indent="-231480">
              <a:lnSpc>
                <a:spcPct val="40000"/>
              </a:lnSpc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01560" indent="-2314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Sets up for a speedy Disbursement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01560" indent="-23148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277560" indent="-2775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277560" indent="-2775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2630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1828800" cy="2630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0" y="2895480"/>
            <a:ext cx="1828800" cy="2630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0" y="4354560"/>
            <a:ext cx="1828800" cy="2503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ykwaTorunska"/>
              </a:rPr>
              <a:t>Disbursement</a:t>
            </a:r>
            <a:endParaRPr b="0" lang="en-US" sz="3600" spc="-1" strike="noStrike">
              <a:solidFill>
                <a:srgbClr val="000000"/>
              </a:solidFill>
              <a:latin typeface="AntykwaTorunska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1066680"/>
            <a:ext cx="7086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Short  Record with Minimal Information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2120" indent="-312120">
              <a:lnSpc>
                <a:spcPct val="3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2120" indent="-31212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Based on Successful Origination Disbursement should flow through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2120" indent="-312120">
              <a:lnSpc>
                <a:spcPct val="30000"/>
              </a:lnSpc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2120" indent="-31212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ykwaTorunska"/>
              </a:rPr>
              <a:t>Processing at the student transaction level:</a:t>
            </a: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lvl="1" marL="676080" indent="-2599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improves reconciliation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76080" indent="-2599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ykwaTorunska"/>
              </a:rPr>
              <a:t>increases program integrity</a:t>
            </a: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lvl="1" marL="676080" indent="-259920">
              <a:spcBef>
                <a:spcPts val="700"/>
              </a:spcBef>
              <a:buClr>
                <a:srgbClr val="ff0066"/>
              </a:buClr>
              <a:buFont typeface="AntykwaTorun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tykwaTorunska"/>
            </a:endParaRPr>
          </a:p>
          <a:p>
            <a:pPr marL="312120" indent="-31212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  <a:p>
            <a:pPr marL="312120" indent="-31212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tykwaToruns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20:02:24Z</dcterms:created>
  <dc:creator>James E. McMahon</dc:creator>
  <dc:description/>
  <dc:language>en-US</dc:language>
  <cp:lastModifiedBy>Brian Sentz</cp:lastModifiedBy>
  <cp:lastPrinted>2000-06-28T19:43:11Z</cp:lastPrinted>
  <dcterms:modified xsi:type="dcterms:W3CDTF">2000-06-29T13:33:32Z</dcterms:modified>
  <cp:revision>62</cp:revision>
  <dc:subject/>
  <dc:title>RFMS/Pell : Where are we now and where are we goingTitle goes here</dc:title>
</cp:coreProperties>
</file>