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B1EA-B9BB-4538-97DF-31F609DEE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5159-1579-4BB2-B3B2-83714F2F6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7598-F5ED-4362-8056-243211F57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D7CB-2CC8-425F-A2BF-A06003D2F9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DE52-44D8-47DC-9593-291B06172A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C233-CE59-40D8-8253-B6436883E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5F77-B074-423B-AC4D-C205E4338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FC3C-006C-422C-AE9A-88AC226D1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0C7A-DE45-4339-BC05-F60559059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D7B5-79FE-46C9-9AAA-321C000F8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EAFF-8479-4EE5-A5BE-8BFC783AF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7470-058E-46B4-ACEE-A7A0DCCC1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520" y="6552720"/>
            <a:ext cx="838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768D-68E6-4E4F-BF37-12D5C36229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sfastar" descr=""/>
          <p:cNvPicPr/>
          <p:nvPr/>
        </p:nvPicPr>
        <p:blipFill>
          <a:blip r:embed="rId3"/>
          <a:stretch/>
        </p:blipFill>
        <p:spPr>
          <a:xfrm>
            <a:off x="6858000" y="4419720"/>
            <a:ext cx="194328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5676120" y="6553080"/>
            <a:ext cx="34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onet"/>
              </a:rPr>
              <a:t>We Help Put America Throu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sing NSLDS:  Opportunities and Responsibiliti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572000"/>
            <a:ext cx="55627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ynn Alex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hn Kol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iste Jor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 Hol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1EBE-D126-4ED5-8238-07A0F67F10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SLDS Mid-Year Transf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How are results communicated? (Alert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LDS communicates results directly only to the school to which the applicant is transfer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sults from another school ar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being consider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T batch data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T batch print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IR-like data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ional judgement style ISI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ail notic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4110-6607-42C1-A49C-8BF9D00509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nancial Aid His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OCUS Group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et with the community to define the mid-year transfer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ession held July 9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ite your 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 up sheet available up fro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17BB-B307-488F-B5AB-CFD57C47F5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ncial aid history and mid-year trans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ault Managemen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IR/SAR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italized interest calc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olidation loans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s for 2001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 and discu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07A3-4772-488C-B47A-5389334C2C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fault Manage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e the use of the eLRD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(print) 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extract) 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aymen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page on NSLDSF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(print) 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extract) 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E141-5BDE-4660-8944-97BC41813A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ncial aid history and mid-year trans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ault Managemen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R/SAR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italized interest calc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loans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for 2001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 and discu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5F45-5CAF-41BD-A46A-CD70590485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SIR/S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apitalized Intere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d in Outstanding Principal Bal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LDS excludes capitalized interest in aggreg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s capitalized interest is paid before princi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the lesser of OPB, amount disbursed or net loan amount in aggreg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LDS does calculation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4842-7E66-4B2B-A7CA-FB9C09B0DC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SIR/S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apitalized Interest Exam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n #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an amt:  $5,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t Disb:   $2,5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B:          $3,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Disbursed is the smallest amount.  Thus, it is used to compute the aggregate amount. $500 is assumed to be capitalized interes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5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n #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n amt:  $3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t Disb:  $3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B:         $2,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2,200 is included in aggregates as it is the smallest amo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1C7B-6916-4383-A780-218AE768A0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SIR/S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solidation Loan Issu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loans have specific loan types [CL (FFEL); D5 and D6 (Direct Loans)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loans reported with PC status and zero OP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 of Loan Status on underlying loans and Consolidation Loan Date should be cl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underlying loans may be reported with PF - working with data providers to improve data accur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loans may include Perkins (CL or D6) and Health Professions loans (CL or D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F5DE-AB26-4AD8-8A1C-32199D3E50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SIR/S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oan Aggregat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sidized 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F (subsidized), D1, or D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subsidized 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F (non-subsidized), SU, SL, D2, D5, or R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ed 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F (subsidized and non-subsidized), SU, SL, D1, D2, D5, D6, or R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FEL Consolidation - 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503A-8D10-40F8-A49B-F288BF9524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SIR/S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solidation Loan Aggregat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oa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5 - Consolidation Unsubsidized (included in Unsubsidized and Combined aggrega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6 - Consolidation Subsidized (included in Subsidized and Combined aggrega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FE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 - Consolidation Loan (sub and unsub) (included in FFEL Consolidation aggregate onl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ct lender to obtain sub/unsub breakdown of underlying lo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1A45-9151-4174-B54B-EFC8AAFD16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aid history and mid-year trans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ault Managemen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R/SAR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italized interest calc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loans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for 2001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s and discu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8AD0-D282-4F96-9369-93372F69C0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SIR/S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hanges for 2001-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increased unsub loans indicator due to PLUS denial or Health Professions loan (Direct Loans on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MPN indicator (Direct Loans on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1493-79C1-41B9-BAF6-38CA93A6B4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ncial aid history and mid-year trans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ault Managemen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IR/SAR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italized interest calc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olidation loans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s for 2001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s and discu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9DAD-D629-4F08-88E2-E6A707EF77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SLDS Customer Servi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-800-999-821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 between the hours of 8:00 a.m. and 8:00 p.m. ET any weekday other than Federal holiday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, e-mail:  nsldscoe@raytheon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846B-019E-4A01-9272-7772F9333E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aid history and mid-year trans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ault Managemen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IR/SAR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italized interest calc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olidation loans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s for 2001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 and discu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766E-228E-4FEA-BD8D-B938F6A91D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nancial Aid Hi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Former Polic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use NSLDS except for mid-year trans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respond to requests for F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ist colleagues by responding to inqui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whether to award aid using authority of GEN-96-1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BE95-9E9A-433A-A777-B7C3AE5FFB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nancial Aid Hi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terim Polic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July 1,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use NSLDS for all applicants including mid-year trans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NSLDS 30 days prior to enrollmen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PB, or if none reported, use 1/2 of loan am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respond to requests for F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st colleagues by responding to inqui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972E-0DD4-457E-B1D5-7ACDE216A8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nancial Aid Hi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osed Policy: Inform, Select &amp; Aler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ned for July 1, 20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NSLDS for all applic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NSLDS mid-year transfer process to alert school of changes affecting the student’s elig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s not required to respond to requests for F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st colleagues by responding to inqui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6998-0E1D-43B7-A8DA-C8A4C50BF7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SLDS Mid-Year Transfers Process Objectiv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 school workload to meet regulatory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 informs NSLDS of students to be monito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LDS monitors data received and alerts new school (i.e., push data out) of relevant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ults only to new sch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convenient input and output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3C69-7837-45CB-96F6-EAE38D7CEC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SLDS Mid-Year Transfers Who is monitored? (Inform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 provides NSLDS with list of applica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nt identif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being consider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data file to NSL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er and update list on NSLDSFAP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-add capability on NSLDSFAP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SSC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9DD3-C342-48AC-9DA7-73CED9F438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SLDS Mid-Year Transfers What will NSLDS do? (Select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process to determine if there is new data affecting applicants elig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data means a new loan or Pell Grant was added or changed for attendance at another sch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ludes data for attendance at school to which the applicant is transfer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in default status or overpayments would continue as done currently so that all schools are no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7520-B0DE-4BB1-A78B-8C2C8577F1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20:19:31Z</dcterms:created>
  <dc:creator>Sue Belger</dc:creator>
  <dc:description/>
  <dc:language>en-US</dc:language>
  <cp:lastModifiedBy>Raytheon Systems</cp:lastModifiedBy>
  <cp:lastPrinted>2000-06-29T12:55:06Z</cp:lastPrinted>
  <dcterms:modified xsi:type="dcterms:W3CDTF">2000-07-11T02:21:34Z</dcterms:modified>
  <cp:revision>32</cp:revision>
  <dc:subject/>
  <dc:title>No Slide Title</dc:title>
</cp:coreProperties>
</file>