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7EFB-E890-4F4B-9416-D6F5F4E38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1AA5-CBAC-4DB3-8706-FB07C8B4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FA85-87F4-44A6-B5E7-1AC6E30BF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83A9-C4D1-411B-854B-674913B58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B4AB-0A49-4258-B592-05E8CD45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BA0D-CC33-4AB4-ABD3-21232383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62EC-C37F-4856-994F-2CB9AB2E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AA97-22FF-4188-ABAD-04A84EFD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63BE-B2BE-405B-ADA5-3E6EB16F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DB9D-0908-4859-9C72-FF87E1C2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5F86-EEA0-4121-9EA3-C8B95E06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2A7A-DCDE-4D50-BC80-3EF15534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AF8C-DC98-427C-B893-D844C77A4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419720" y="3505320"/>
          <a:ext cx="4419360" cy="313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505320"/>
                    <a:ext cx="4419360" cy="31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09480" y="457200"/>
            <a:ext cx="5257800" cy="3429000"/>
          </a:xfrm>
          <a:prstGeom prst="rect">
            <a:avLst/>
          </a:prstGeom>
          <a:solidFill>
            <a:srgbClr val="dfea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114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.S. Department of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47242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livering Student Financial Aid in Non traditional Pr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219320"/>
            <a:ext cx="8229600" cy="57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blems with Campus Computer System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parate computer systems for “on campus” an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inuing education depart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uter systems structured around stand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rm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uter systems are not flexible - and are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sy to customize to accommodate new forma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uter systems are organized to meet sch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 student nee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Traditional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905120"/>
            <a:ext cx="79250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rm or Non-Ter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rm or Non-Te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22096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1447920"/>
            <a:ext cx="8001000" cy="37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 questions to help you determine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classes start and stop on the same da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the coursework taken concurrently 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quentiall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es the coursework overlap from 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ditionally defined term into anoth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rm or Non-Te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2096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371600"/>
            <a:ext cx="815328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erm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term is segment of an academic calendar.   In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rm-based program an academic calendar i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vided into at least 2 segment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term is a discrete period of time during whi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courses are scheduled to begin and 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series of mini courses or courses offer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quentially can be combined into a te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rm or Non-Te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2096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601992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752480"/>
            <a:ext cx="8229600" cy="47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tandard Term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standard term is a quarter, trimester, 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me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ess is always measured in semester 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rter credit ho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rm or Non-Te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371600"/>
            <a:ext cx="822960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tandard Term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mester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d Trimester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proximately 15 weeks l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ll-time is at least 12 semester-credit ho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ademic calendar is 3 terms - fall, spring an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ten summ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ess is measured in semester-credit ho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rm or Non-Te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371600"/>
            <a:ext cx="822960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tandard Term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Quarter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proximately 10 -12 weeks l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ll-time is at least 12 quarter-credit ho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ademic calendar is 3 quarters in fall, winter and spring and often a summer quar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ess is measured in quarter-credit ho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rm or Non-Te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1295280"/>
            <a:ext cx="8076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n-Standard Term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le all coursework is expected to begin and end within a discrete period of time, that period of time may not be a semester, trimester, or quar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rms  may be of unequal length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rm or Non-Te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295280"/>
            <a:ext cx="81788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n-Standard Term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rms that are the length of a quarter but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ess is measured in semester-credit hours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terms are the length of a semester but 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ess is measured in quarter-credit ho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rm or Non-Te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22096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371600"/>
            <a:ext cx="8153280" cy="52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n-Term Characteristic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rses may not all begin and end within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crete period of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rses may overlap from one term to an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ock hours are always treated as non-ter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ams for disbursement purpose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18288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447920"/>
            <a:ext cx="815328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oots of Student Aid Program in the 60’s -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d requirements were structured arou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ditional concep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st aid was tracked on 3x5 cards or may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punc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ws and regulations that governed the Title IV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ams were very minimal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rm or Non-Te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22096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371600"/>
            <a:ext cx="8153280" cy="53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n-Term Characteristic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ams that contain self-paced or independ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udy courses that can span past a te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ams that consist of courses that are off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quentially - when a group of these courses 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 have to begin and end within a te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990720" y="457200"/>
            <a:ext cx="7232400" cy="67932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rm or Non-Te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67644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113364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1447920"/>
            <a:ext cx="853416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ell Grant Formu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Standard term, credit hour, fall through sp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rms contain at least 30 weeks of instructional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Standard term, credit hour, fall through sp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rms contain less than 30 weeks of instructio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Non-standard term credit hou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Non-term, credit hour and clock hou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Correspondence progra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rm or Non-Te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2096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ssues for Standard, Non-Standard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n-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 of a 30 Week Academic Year - how many days per week of instructional time is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yment Peri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termining Enrollment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rtifying and Disbursing Loa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ch Pell Formula to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is Progress Measu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Traditional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1905120"/>
            <a:ext cx="79250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ndard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965160"/>
            <a:ext cx="7315200" cy="44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371600"/>
            <a:ext cx="8229600" cy="62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cademic yea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 weeks of  instructional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ek =   7 consecutive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week of instructional time is a week in which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st one day of regularly scheduled instructio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inations, or preparation for examin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ccurs.   Instructional time does not inclu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iods of orientation, counseling, vacatio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 other activity not related to cla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paration or examin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1143000"/>
            <a:ext cx="8229600" cy="25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ayment Peri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ayment period is the quarter, trimester, 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mester as appli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990720" y="457200"/>
            <a:ext cx="7232400" cy="67932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1447920"/>
            <a:ext cx="7315200" cy="44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1600200"/>
            <a:ext cx="7315200" cy="44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762120"/>
            <a:ext cx="8077320" cy="69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rmining Enrollment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 b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idered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student must take at le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ll-time -                       12 credits hours per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ree-quarter time -      9 credit hours per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lf-time -                       6 credit hours per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ss than half-time -      Less than half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load of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imum full-tim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qui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14400" y="380880"/>
            <a:ext cx="7232760" cy="76212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685800"/>
            <a:ext cx="8229600" cy="70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rmining Enrollment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ep in mind -  If a student doesn’t begin attendance  in all of his or her classes and this results in a change in the student’s enrollment status then the Pell Grant award must be recalculat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ell Form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ll formul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used if the academic calend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ains at least 30 weeks of instructional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ll formul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used if the academic calend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ains less than 30 weeks of instructional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447920"/>
            <a:ext cx="7315200" cy="44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1371600"/>
            <a:ext cx="8229600" cy="41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ertifying  and Disbursing Loa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inimum period of time a loan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rtified is a te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loan period is more than one payment perio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chool shall deliver loan proceeds at least o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each payment period;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1447920"/>
            <a:ext cx="7315200" cy="44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371600"/>
            <a:ext cx="822960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less the school has a cohort or weighted defa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te of less than 10 percent for each of the thre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st recent fiscal years for which data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vailable,  if a loan period is one payment perio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chool shall make at least two deliveries of lo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eds during that payment period.  The schoo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y not make the second delivery until th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endar midpoint between the first and la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heduled days of class of the loan period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18288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295280"/>
            <a:ext cx="8229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most all schools were traditional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d on standard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y sort of non-traditional programs w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used in the continuing education or exte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vices departments and most of tho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ams were not offered for cred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1371600"/>
            <a:ext cx="8229600" cy="29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asuring Progres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ess is measured by the number of cred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urs or clock hours attemp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1371600"/>
            <a:ext cx="8229600" cy="81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semester-credi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 term the student is enrolled in 12 credits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- 3 credit courses that run the duration of the full term 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- 3 credit courses that each run 5 weeks and begin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 during the 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term the student is enrolled in 15 credits 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- 3 credit courses that run the duration of the full term 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- 3 credit courses that each run 5 weeks an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in and end during the 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990720" y="457200"/>
            <a:ext cx="7232400" cy="53352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1600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1828800"/>
            <a:ext cx="33526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29200" y="1822320"/>
            <a:ext cx="33526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051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 Wee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67280" y="20574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 Wee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295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1295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8424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1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340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28960" y="1066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cred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48280" y="1066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cred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3262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3262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48520" y="3262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423200" y="3262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84720" y="3262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09680" y="3262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147760" y="3414600"/>
            <a:ext cx="1295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5 Week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48000" y="3414600"/>
            <a:ext cx="1295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5 Week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62600" y="3414600"/>
            <a:ext cx="1295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5 Week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94520" y="3414600"/>
            <a:ext cx="1295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5 Week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62720" y="3414600"/>
            <a:ext cx="1295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5 Week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419960" y="3110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71840" y="3110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09680" y="3110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00400" y="3110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3110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81080" y="3110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48520" y="3110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238880" y="3110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19920" y="3110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029200" y="3110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81480" y="3110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410680" y="3110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28760" y="280512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 Cred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52680" y="280512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 Cred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29200" y="281952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 Cred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48520" y="281952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 Cred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91520" y="2805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 Cred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39625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feaf5"/>
                </a:solidFill>
                <a:latin typeface="Times New Roman"/>
              </a:rPr>
              <a:t>                          </a:t>
            </a:r>
            <a:r>
              <a:rPr b="0" i="1" lang="en-US" sz="2400" spc="-1" strike="noStrike">
                <a:solidFill>
                  <a:srgbClr val="007e5d"/>
                </a:solidFill>
                <a:latin typeface="Times New Roman"/>
              </a:rPr>
              <a:t>term 1                                     term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1371600"/>
            <a:ext cx="304920" cy="2362320"/>
          </a:xfrm>
          <a:custGeom>
            <a:avLst/>
            <a:gdLst>
              <a:gd name="textAreaLeft" fmla="*/ 89640 w 304920"/>
              <a:gd name="textAreaRight" fmla="*/ 305280 w 304920"/>
              <a:gd name="textAreaTop" fmla="*/ 98280 h 2362320"/>
              <a:gd name="textAreaBottom" fmla="*/ 226404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05920" y="1295280"/>
            <a:ext cx="304560" cy="2590920"/>
          </a:xfrm>
          <a:custGeom>
            <a:avLst/>
            <a:gdLst>
              <a:gd name="textAreaLeft" fmla="*/ 0 w 304560"/>
              <a:gd name="textAreaRight" fmla="*/ 213840 w 304560"/>
              <a:gd name="textAreaTop" fmla="*/ 107640 h 2590920"/>
              <a:gd name="textAreaBottom" fmla="*/ 248328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267080" y="1371600"/>
            <a:ext cx="381240" cy="2514600"/>
          </a:xfrm>
          <a:custGeom>
            <a:avLst/>
            <a:gdLst>
              <a:gd name="textAreaLeft" fmla="*/ 0 w 381240"/>
              <a:gd name="textAreaRight" fmla="*/ 267480 w 381240"/>
              <a:gd name="textAreaTop" fmla="*/ 104760 h 2514600"/>
              <a:gd name="textAreaBottom" fmla="*/ 240984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48320" y="1295280"/>
            <a:ext cx="304560" cy="2590920"/>
          </a:xfrm>
          <a:custGeom>
            <a:avLst/>
            <a:gdLst>
              <a:gd name="textAreaLeft" fmla="*/ 89640 w 304560"/>
              <a:gd name="textAreaRight" fmla="*/ 304920 w 304560"/>
              <a:gd name="textAreaTop" fmla="*/ 107640 h 2590920"/>
              <a:gd name="textAreaBottom" fmla="*/ 24832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4489560"/>
            <a:ext cx="8686800" cy="24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ll and Loan disbursements at beginning of each 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Keep in mi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that in the first term this student is enrolled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 credits and thus a full-time student.  If the stud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es not  begin all of the courses for this term, he o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e will no longer be considered full-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Traditional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1905120"/>
            <a:ext cx="79250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n-Standard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5778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14400" y="12733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1044720"/>
            <a:ext cx="8229600" cy="59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cademic yea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 weeks of  instructional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ek=   7 consecutive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week of instructional time is a week in which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st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2 hour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regularly scheduled instruc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inations, or preparation for examin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ccurs.   Instructional time does not inclu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iods of orientation, counseling, vacation, or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ther activity not related to class preparation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in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15778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12733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14400" y="14479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160020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43000" y="20574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1752480"/>
            <a:ext cx="73152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13906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1085760"/>
            <a:ext cx="73152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704880"/>
            <a:ext cx="8229600" cy="61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ayment Peri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non-standard terms the payment period is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n-standard te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ertifying and Disbursing Lo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inimum period of time a loan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rtified is a te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ll Formu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ll formula 3 is used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38080" y="15778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12733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4479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1676520"/>
            <a:ext cx="8229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less the school has a cohort or weighted defa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te of less than 10 percent for each of the thre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st recent fiscal years for which data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vailable,  if a loan period is one payment perio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chool shall make at least two deliveries of lo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eds during that payment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14400" y="12733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0" y="49528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38080" y="157176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14400" y="126684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14400" y="1343160"/>
            <a:ext cx="7772400" cy="55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loan period is more than one payment period,  the school may not deliver a second disbursement  until the latter of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alendar midpoint between the fir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last scheduled days of the loan period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ate that the student has comple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lf of the academic coursework i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loan 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15778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14400" y="12733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1676520"/>
            <a:ext cx="8229600" cy="28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asuring Progres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ess is measured by the number of cred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urs or clock hours successfully attemp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38080" y="11206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2733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657600" y="472428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175248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1219320"/>
            <a:ext cx="7620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nrollment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8600" y="1905120"/>
            <a:ext cx="845820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p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ll-time (round up to the next whole numb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2438280"/>
            <a:ext cx="30463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dit hour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cadem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2819520"/>
            <a:ext cx="609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2438280"/>
            <a:ext cx="3908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eks of instructional tim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the  term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5334120"/>
            <a:ext cx="28954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dit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ken by stud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6200" y="5334120"/>
            <a:ext cx="68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lbertus Extra Bold"/>
              </a:rPr>
              <a:t>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5334120"/>
            <a:ext cx="41148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dit hour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full-time status for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rm (as determined abo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24280" y="3200400"/>
            <a:ext cx="39085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eks of instructional time    in program’s definition of      academic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4648320"/>
            <a:ext cx="8686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termining enrollment status for the term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18288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752480"/>
            <a:ext cx="822960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1992 HEA Fraud and Abuse Amendmen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n-traditional education including dist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du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am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crediting agency recog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4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38080" y="15778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14400" y="12733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152388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685800"/>
            <a:ext cx="8229600" cy="60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ertificate Progra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 weeks   -  6 cred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 weeks  -  9 cred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9 weeks   -  9 credits  (3 -3 credit courses to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aken sequenti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 weeks  -  9 credi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 weeks   -  3 cred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0 week program/ 36 credit h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457200"/>
            <a:ext cx="723276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1295280"/>
            <a:ext cx="81532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0" y="4343400"/>
            <a:ext cx="838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1143000"/>
            <a:ext cx="8305560" cy="64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lculating Enrollment Status for each Payment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this example we have organized this into 5 ter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 week term  - 6 credit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 week term -  9 cred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 week term -  9 cred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 week term -  9 cred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week term -  3 cred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loan is certified for 37 weeks long with 33 semester credit hou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remainder of the program is  3 weeks long containing 3 semester credit ho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38080" y="15778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14400" y="12733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914400" y="1600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0880" y="2057400"/>
            <a:ext cx="8458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52480" y="2133720"/>
            <a:ext cx="180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81480" y="2057400"/>
            <a:ext cx="180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429000" y="2057400"/>
            <a:ext cx="144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43400" y="2057400"/>
            <a:ext cx="144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1752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320" y="4373640"/>
            <a:ext cx="91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rt d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379520" y="4373640"/>
            <a:ext cx="83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ek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48120" y="4373640"/>
            <a:ext cx="83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ek 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584680" y="4373640"/>
            <a:ext cx="9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ek 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391520" y="4373640"/>
            <a:ext cx="87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ek 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05320" y="2895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8080" y="2895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286000" y="2895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 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19920" y="2057400"/>
            <a:ext cx="144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848720" y="2057400"/>
            <a:ext cx="144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433760" y="2895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276880" y="2895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553080" y="2895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 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001000" y="2895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057400" y="1752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14800" y="1752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324480" y="17524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6197600">
            <a:off x="4644720" y="840960"/>
            <a:ext cx="158760" cy="2590920"/>
          </a:xfrm>
          <a:custGeom>
            <a:avLst/>
            <a:gdLst>
              <a:gd name="textAreaLeft" fmla="*/ 0 w 158760"/>
              <a:gd name="textAreaRight" fmla="*/ 57240 w 1587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343400" y="411480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09880" y="47242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nd Loan Disburs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5486400"/>
            <a:ext cx="914400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academic year for this program is defined as 24 semester credits and 30 weeks of instructional time. Loan is certified for 37 weeks containing 33 semester hours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ll disbursements each non-standard term.  Second loan disbursement cannot be made until week 21 when half the time &amp; work have been complet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38080" y="15778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14400" y="12733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47920" y="17524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1143000"/>
            <a:ext cx="815328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alculating Enrollment Status for each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Payment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038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  x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4419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829880" y="4351320"/>
            <a:ext cx="4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86000" y="4191120"/>
            <a:ext cx="8380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" y="228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mber of credit hours in the academic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276720" y="2286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eks of instructional time in the payment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276720" y="302436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eks of instructional time in the academic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9092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352680" y="304812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76720" y="4191120"/>
            <a:ext cx="5562360" cy="11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und up to 7 semester credits requi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full-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5105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  x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38080" y="541008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29520" y="5189400"/>
            <a:ext cx="4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62320" y="52243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 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28600" y="58672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  x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6248520"/>
            <a:ext cx="12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906200" y="5894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362320" y="5943600"/>
            <a:ext cx="76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2 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48120" y="6070680"/>
            <a:ext cx="579096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und up to 8 semester credit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full-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8080" y="15778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914400" y="12733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7920" y="17524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830240" y="25225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86000" y="2362320"/>
            <a:ext cx="838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04920" y="19303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  x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143000" y="223524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134440" y="2014560"/>
            <a:ext cx="4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666880" y="2049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 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33520" y="269244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  x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09480" y="3073320"/>
            <a:ext cx="12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211120" y="2719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666880" y="276876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4 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52680" y="2895480"/>
            <a:ext cx="57913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und up to 3 semester credit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full-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914400" y="12733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0880" y="990720"/>
            <a:ext cx="8382240" cy="63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 - Pell Calc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nual  X   Weeks of instructional time     =    Payment for the     Award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the payment period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payment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eks of instructional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academic ye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s defined by the scho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,81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X  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=     $750.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3,7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X  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=     $1,2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38080" y="15778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14400" y="12733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4920" y="990720"/>
            <a:ext cx="8458200" cy="54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3,750   X   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=     $1,1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3,7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X  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=     $1,1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3,750   X   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=     $3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1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Traditional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38080" y="15778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914400" y="12733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480" y="1905120"/>
            <a:ext cx="79250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n-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7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-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57200" y="1295280"/>
            <a:ext cx="8229600" cy="57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cademic yea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 weeks of  instructional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ek=   7 consecutive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a non-term program using cred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urs, a week of instructional time is a week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ch at least 12 hours of regularly schedul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truction, examinations, or preparation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inations occur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-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" y="1295280"/>
            <a:ext cx="8229600" cy="57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cademic yea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a clock-hour program a week of instructio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is any week in which at least one day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gularly scheduled instruction, examinations,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paration for examinations occ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Instructional time does not include period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ientation, counseling, vacation, or other activ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 related to class preparation 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ination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8288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18288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219320"/>
            <a:ext cx="8229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merging Patterns of Non-Traditional Educatio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verlapping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rses that begin in one term and end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other te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lf-paced learning.  These courses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equently offered via corresponden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net, or independent stu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-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8080" y="169056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" y="138600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" y="1157400"/>
            <a:ext cx="8229600" cy="56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ayment Periods for Non-Term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 When the student is enrolled in a program tha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 academic year or less in length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irst payment perio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Period of time in which the student successfully completes the first half of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cond payment perio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 Period of time in which the student successfully completes the second half of the progra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-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38080" y="158112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" y="1276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047600"/>
            <a:ext cx="822960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 When the student is enrolled in a program that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re than one academic year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 the first academic year and any subsequent full academic year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irst payment perio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Period of time in which the student successfully completes the first half of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rsework for the academic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cond payment perio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Period of time in which the student successfully completes the second half of the coursework for the academic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-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" y="1447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7200" y="1219320"/>
            <a:ext cx="8229600" cy="51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 the remainder of a program that is more than one-half an academic year but less than a complete academic year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irst payment perio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Period of time in which the student successfully completes the first half of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aining course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cond payment perio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Period of time in which the student successfully completes the second half of the remaining course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1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-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57200" y="1447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33520" y="1981080"/>
            <a:ext cx="822960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 the remainder of a program that is not more than half an academic year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ayment period is the remainder of that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-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" y="1066680"/>
            <a:ext cx="8915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lculation of Enrollment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Enrollment is always considered to be full-time for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ell calculations.  For the loan and campus-based programs the student’s actual enrollment status would be used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ertifying and Disbursing Lo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For a clock-hour program or a credit-hour program that does not use terms, the minimum period for which a loan may be certified is the lesser of -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he academic year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he length of the program , or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he remaining portion of the student’s progra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2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-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" y="121932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less the school has a cohort or weighted defa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te of less than 10 percent for each of the thre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st recent fiscal years for which data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vailable, a school is required to deliver loan proceeds in more than one installment if the students loan period is  more than 4 month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-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" y="121932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chool may not deliver a second loan disbursement until the latter of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alendar midpoint between the first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st scheduled days of the loan period;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ate that the student has completed half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the academic coursework or clock hours 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loan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2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-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" y="121932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ell Formu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ll formul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suring Progres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ess is measured by the number of credit hou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 clock hours successfully comple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7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9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-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57200" y="1238400"/>
            <a:ext cx="7391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n-term Bachelor’s Degree Completion Program - Self Paced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57200" y="2133720"/>
            <a:ext cx="845820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1  - Student completes 12 semester credits in 15  weeks of a 40-week academic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ek 1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ek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idpoint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ek 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I_____________________________I________I_________________________________________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burs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Disburse   Disburse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½ of Pell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½ of    ½ of lo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Loa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Pell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3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-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57200" y="1523880"/>
            <a:ext cx="8229600" cy="50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2 –  Same programs but student does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lete 12 semester credits until week 2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ek 1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Mid-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ek 22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ek 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I_______________________________________I______I_________________________________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burs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Disburse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½ of Pell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½ of P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Loa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nd lo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8288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18288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18288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295280"/>
            <a:ext cx="8229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merging Patterns of Non-Traditional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rt term and sequential course enroll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rses are now often offered in modu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usually 1 - 8 weeks in length.)  Programs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igned such that these modules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Marlett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ose an entire program; 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Marlett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 offered in conjunction w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ther full-term length cour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8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Traditional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9480" y="1905120"/>
            <a:ext cx="79250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udent Elig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2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udent Elig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1143000"/>
            <a:ext cx="8153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be eligible for Title IV aid a student must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rolled or accepted for enrollment in 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igible program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student is considered to be meeting th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ndard if whe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ccepted for enrollme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is required to take a specified number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rses and maintain a certain grade poi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verage in order to continue that enrollmen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6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udent Elig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9480" y="1641600"/>
            <a:ext cx="7925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student is not considered to be meeting th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ndard if when originally beginning to tak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rsework his or he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ventual enrollme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d on some subsequent activity (i.e. te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ores  and/or transcripts being received, etc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le awards can be based on documen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jected plans, they may need to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calculated when the student’s enrollmen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alized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0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udent Elig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57200" y="1371600"/>
            <a:ext cx="7924680" cy="70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Federal Pell Grant awards, if a student do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 begin attendance in all of his or her cla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this results in a change of enrollment statu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Federal Pell Grant award must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calcul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FFEL and Direct Loans, each tim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bursement is received, school must confir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at the student is eligible (including at lea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lf-time enrollmen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4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Traditional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09480" y="1905120"/>
            <a:ext cx="79250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scellaneous Loan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8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scellaneous Loan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09480" y="1905120"/>
            <a:ext cx="79250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33520" y="1600200"/>
            <a:ext cx="815328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ype of Academic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cheduled Academic Yea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Term based cred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ur programs may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orrower-based Academic Yea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Clock-hour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n-term credit-hour programs must us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rm-based programs may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3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5" name=""/>
          <p:cNvSpPr/>
          <p:nvPr/>
        </p:nvSpPr>
        <p:spPr>
          <a:xfrm>
            <a:off x="609480" y="1905120"/>
            <a:ext cx="79250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09480" y="1905120"/>
            <a:ext cx="79250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520" y="1600200"/>
            <a:ext cx="8001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requency of Annual Loan Limi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general, once a student has reached the annual loan limit, he or she cannot receive another loan until he or she begins a new academic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143000" y="768240"/>
            <a:ext cx="7232760" cy="52092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scellaneous Loan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9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"/>
          <p:cNvSpPr/>
          <p:nvPr/>
        </p:nvSpPr>
        <p:spPr>
          <a:xfrm>
            <a:off x="609480" y="1905120"/>
            <a:ext cx="79250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57200" y="1981080"/>
            <a:ext cx="81532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an Pr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le loans for graduate students are not prorated, if the academic year contains less than 30 weeks of instructional time, a student is not eligible to receive another loan until the student has completed  30 weeks of instructional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143000" y="768240"/>
            <a:ext cx="7232760" cy="52092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scellaneous Loan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4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Traditional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9480" y="1905120"/>
            <a:ext cx="79250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drawal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8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drawal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429000" y="2521080"/>
            <a:ext cx="30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09480" y="1905120"/>
            <a:ext cx="79250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80880" y="1152360"/>
            <a:ext cx="84582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recipient of Title IV aid withdraws during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yment period (or a period of enrollment),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hool must calculate the amount of Title IV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d the student earned.  Unearned Title IV fun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st be returned to the Title IV progra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mini-sessions combined in a term, the return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tle IV funds must be applied whe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udent does not complete any course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18288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600200"/>
            <a:ext cx="8229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merging Patterns of Non-Traditional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ple start 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provide students with maximum flex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rses are often scheduled to begin 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equently as once a month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is particularly prevalent in course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ams offered via distance education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rses offered at temporary lo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4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drawal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1905120"/>
            <a:ext cx="79250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57200" y="1752480"/>
            <a:ext cx="8229600" cy="50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mini-sessions are not combined into a term,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turn of Title IV formula must be applied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tudent withdraws from or drops out of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asses in the individual se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student who is taking courses sequentiall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letes a course and does not enroll i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bsequent course, he or she is considered to ha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dra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9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Traditional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57200" y="2057400"/>
            <a:ext cx="8229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n-Traditional Education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Traditional Education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57200" y="1676520"/>
            <a:ext cx="822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istance Education Demonstration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ear trend toward distance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inued concern about possibilities for frau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ab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quires strict monit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ministrative capability criter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Traditional Education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57200" y="1523880"/>
            <a:ext cx="822960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atutory Purposes of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st quality and v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rease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lp deter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Marlett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st effective means of delive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tance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Marlett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tutory and regulatory change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Marlett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propriate level of student as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Traditional Education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57200" y="1752480"/>
            <a:ext cx="822960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me Ideas Participants are Test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plus 2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rse sh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reasing capacity to meet student need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w methods of enrollment tra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cluding living expenses from the calcu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cost of attend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ple disbursements - just in time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hods of default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Traditional Education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1600200"/>
            <a:ext cx="8229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ssons We Are Learn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apting student aid requirements to d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exts is extremely diffic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tutory and regulatory provisions pres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stacles to administering aid to dist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ducation stud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stems designs present obstacles to new mode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providing 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1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Traditional Education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57200" y="1523880"/>
            <a:ext cx="8229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Lessons We are Learn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y of these programs allow students significant flexibility in terms of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they begin their work and how lo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kes them to complete a given unit of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many units of work they might wish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dertake in a given period of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they wish to take vacations or brea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Traditional Education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33520" y="1523880"/>
            <a:ext cx="80769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Lessons We are Learn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is no common understanding of the meaning of the terms we use to distinguish among various kinds of education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tance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dependent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chnologically delivered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rrespo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lurred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Traditional Edu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9480" y="2209680"/>
            <a:ext cx="795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Traditional Edu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" y="1828800"/>
            <a:ext cx="8229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yl Leibovi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.S. Department of Education, SF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02) 708-9900       Cheryl.Leibovitz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rney McCulloug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.S. Department of Education, 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02) 502-7639       Carney.McCullough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1676520"/>
            <a:ext cx="822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merging Patterns of Non-Traditional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ams offered via a combinatio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 campus and distance education cour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se programs are particularly preval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2 plus 2 programs and programs offer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ointly by state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ekend degree progra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295280"/>
            <a:ext cx="8229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merging Patterns of Non-Traditional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w possibilities for home/host schoo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rollments (consortium and contr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rangements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se new possibilities are particular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t in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Marlett" charset="2"/>
              <a:buChar char="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plus 2 programs;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Marlett" charset="2"/>
              <a:buChar char="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iversity centers;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Marlett" charset="2"/>
              <a:buChar char="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tance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7:28:10Z</dcterms:created>
  <dc:creator>David L. Futrell</dc:creator>
  <dc:description/>
  <dc:language>en-US</dc:language>
  <cp:lastModifiedBy>EPCLEIBOVITZ</cp:lastModifiedBy>
  <dcterms:modified xsi:type="dcterms:W3CDTF">2001-07-16T13:55:02Z</dcterms:modified>
  <cp:revision>49</cp:revision>
  <dc:subject/>
  <dc:title>Sense &amp; Centsibility: Raising Student Awareness of Financial Values and Principles</dc:title>
</cp:coreProperties>
</file>