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302-3EC2-4CA6-A5F6-38FA0551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7F7-4577-4176-A4D8-8B5BC7E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659-5CF8-4297-8C55-454ABBF4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470-4785-4D75-9BDE-E68C2E2A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03E-1B16-4D80-9150-E215AA2C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2AB-07E5-4934-8DDA-591421D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DED-88A6-4082-BA27-37CC564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65E-EACC-478D-B487-2D7A38F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10D-FF3E-4FA6-9AA5-2DECA98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7E-9AA5-406C-A569-C9C45BF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02D-E6C6-46D7-89D3-1B8AE73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AF8-0B09-4C4C-A590-9098EB9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99C-5675-47A6-8409-FF8B3FE2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19720" y="3505320"/>
          <a:ext cx="441936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05320"/>
                    <a:ext cx="4419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9480" y="457200"/>
            <a:ext cx="5257800" cy="3429000"/>
          </a:xfrm>
          <a:prstGeom prst="rect">
            <a:avLst/>
          </a:prstGeom>
          <a:solidFill>
            <a:srgbClr val="dfea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114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4724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ivering Student Financial Aid in Non traditional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29600" cy="57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s with Campus Computer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e computer systems for “on campus” an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ing education depar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structured around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are not flexible - and 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customize to accommodate new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are organized to meet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student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800100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questions to help you determin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classes start and stop on the same d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coursework taken concurrently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coursework overlap from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ly defined term into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371600"/>
            <a:ext cx="81532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erm is segment of an academic calendar.  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-based program an academic calendar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ed into at least 2 segmen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erm is a discrete period of time during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courses are scheduled to begin and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eries of mini courses or courses off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 can be combined into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19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2296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ndard term is a quarter, trimester,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always measured in semester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er 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8229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meste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Trimester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ximately 15 week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is at least 12 semes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ademic calendar is 3 terms - fall, spring an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ten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semes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371600"/>
            <a:ext cx="82296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arter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ximately 10 -12 week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is at least 12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ademic calendar is 3 quarters in fall, winter and spring and often a summer qua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29528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all coursework is expected to begin and end within a discrete period of time, that period of time may not be a semester, trimester, or qua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 may be of unequal length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95280"/>
            <a:ext cx="817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that are the length of a quarter but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semester-credit hours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rms are the length of a semester but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71600"/>
            <a:ext cx="8153280" cy="52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may not all begin and end withi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rete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may overlap from one term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ck hours are always treated as non-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for disbursement purpos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1532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ots of Student Aid Program in the 60’s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requirements were structured ar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 conce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aid was tracked on 3x5 cards or may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pun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 and regulations that governed the Title 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were very minima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1532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Characteristic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that contain self-paced or 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courses that can span past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that consist of courses that are o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 - when a group of these course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have to begin and end within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90720" y="457200"/>
            <a:ext cx="7232400" cy="6793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764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1336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447920"/>
            <a:ext cx="853416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Grant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tandard term, credit hour, fall through 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contain at least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tandard term, credit hour, fall through 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contain less than 30 weeks of instru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Non-standard term credit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Non-term, credit hour and clock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orrespondenc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sues for Standard, Non-Standar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 of a 30 Week Academic Year - how many days per week of instructional time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Enrollm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ying and Disbursing Lo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Pell Formula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is Progress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65160"/>
            <a:ext cx="73152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822960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 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eek of instructional time is a week in which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one day of regularly scheduled instr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, or preparation for exam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rs.   Instructional time does not incl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of orientation, counseling, vac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other activity not related to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ation or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82296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ayment period is the quarter, trimester,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ester as appli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90720" y="457200"/>
            <a:ext cx="7232400" cy="6793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60020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762120"/>
            <a:ext cx="8077320" cy="69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b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idere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tudent must take at l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-                       12 credits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quarter time -      9 credit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-time -                       6 credit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than half-time -      Less than hal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load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um full-ti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380880"/>
            <a:ext cx="7232760" cy="7621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85800"/>
            <a:ext cx="8229600" cy="70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-  If a student doesn’t begin attendance  in all of his or her classes and this results in a change in the student’s enrollment status then the Pell Grant award must be recalcul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if the academic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at least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if the academic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less than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22960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 and Disbursing Lo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mum period of time a loan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ied is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loan period is more than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deliver loan proceeds at least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ach payment period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371600"/>
            <a:ext cx="8229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 if a loan period is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make at least two deliveries of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eds during that payment period.  The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not make the second delivery until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endar midpoint between the first and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d days of class of the loan perio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952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most all schools were traditiona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standard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sort of non-traditional programs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d in the continuing education or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s departments and most of th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were not offered for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371600"/>
            <a:ext cx="822960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 or clock hours attem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371600"/>
            <a:ext cx="8229600" cy="81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semester-credi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term the student is enrolled in 12 credit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run the duration of the full term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each run 5 weeks and begi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during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term the student is enrolled in 15 credits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run the duration of the full term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- 3 credit courses that each run 5 weeks 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 and end during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90720" y="457200"/>
            <a:ext cx="7232400" cy="5335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82880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82232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42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2896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828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23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4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776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9452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6272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1996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7184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14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10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2876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28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962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eaf5"/>
                </a:solidFill>
                <a:latin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7e5d"/>
                </a:solidFill>
                <a:latin typeface="Times New Roman"/>
              </a:rPr>
              <a:t>term 1                                     te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371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1295280"/>
            <a:ext cx="304560" cy="2590920"/>
          </a:xfrm>
          <a:custGeom>
            <a:avLst/>
            <a:gdLst>
              <a:gd name="textAreaLeft" fmla="*/ 0 w 304560"/>
              <a:gd name="textAreaRight" fmla="*/ 21384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371600"/>
            <a:ext cx="381240" cy="2514600"/>
          </a:xfrm>
          <a:custGeom>
            <a:avLst/>
            <a:gdLst>
              <a:gd name="textAreaLeft" fmla="*/ 0 w 381240"/>
              <a:gd name="textAreaRight" fmla="*/ 267480 w 38124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295280"/>
            <a:ext cx="304560" cy="2590920"/>
          </a:xfrm>
          <a:custGeom>
            <a:avLst/>
            <a:gdLst>
              <a:gd name="textAreaLeft" fmla="*/ 89640 w 304560"/>
              <a:gd name="textAreaRight" fmla="*/ 30492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489560"/>
            <a:ext cx="86868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l and Loan disbursements at beginning of each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ep in m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at in the first term this student is enroll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redits and thus a full-time student.  If the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 begin all of the courses for this term, he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will no longer be considered full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044720"/>
            <a:ext cx="82296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eek of instructional time is a week in which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regularly scheduled instruc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, or preparation for exam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rs.   Instructional time does not incl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of orientation, counseling, vacation, 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activity not related to class preparatio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6002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39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08576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704880"/>
            <a:ext cx="8229600" cy="61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on-standard terms the payment period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standard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and Disbursing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mum period of time a loan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ied is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3 is us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7652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 if a loan period is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make at least two deliveries of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eds during that payment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4952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5717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6684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343160"/>
            <a:ext cx="777240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loan period is more than one payment period,  the school may not deliver a second disbursement  until the latter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lendar midpoint between the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last scheduled days of the loan perio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te that the student has comple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 of the academic coursework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676520"/>
            <a:ext cx="82296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 or clock hours successfully attem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12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472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7524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2193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905120"/>
            <a:ext cx="84582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(round up to the next whole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438280"/>
            <a:ext cx="3046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ade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819520"/>
            <a:ext cx="60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2438280"/>
            <a:ext cx="3908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the  ter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334120"/>
            <a:ext cx="2895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n by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5334120"/>
            <a:ext cx="68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lbertus Extra Bold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5334120"/>
            <a:ext cx="4114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 statu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 (as determined ab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3200400"/>
            <a:ext cx="3908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   in program’s definition of     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8686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enrollment status for the ter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52480"/>
            <a:ext cx="8229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92 HEA Fraud and Abuse Amend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raditional education including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rediting agency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5238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85800"/>
            <a:ext cx="82296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rtificate Progra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 weeks   -  6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 weeks 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 weeks   -  9 credits  (3 -3 credit course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ken sequenti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 weeks  -  9 credi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 weeks   -  3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 week program/ 36 credit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57200"/>
            <a:ext cx="723276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8153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34340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83055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Enrollment Status for each Paymen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is example we have organized this into 5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week term  - 6 credit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week term -  9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week term -  9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week term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eek term -  3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is certified for 37 weeks long with 33 semester credit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mainder of the program is  3 weeks long containing 3 semester 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057400"/>
            <a:ext cx="8458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213372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205740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320" y="437364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 d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9520" y="4373640"/>
            <a:ext cx="8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437364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84680" y="4373640"/>
            <a:ext cx="9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4373640"/>
            <a:ext cx="87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487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3376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688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01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197600">
            <a:off x="4644720" y="840960"/>
            <a:ext cx="158760" cy="2590920"/>
          </a:xfrm>
          <a:custGeom>
            <a:avLst/>
            <a:gdLst>
              <a:gd name="textAreaLeft" fmla="*/ 0 w 158760"/>
              <a:gd name="textAreaRight" fmla="*/ 57240 w 1587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41148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4724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nd Loan Dis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86400"/>
            <a:ext cx="91440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cademic year for this program is defined as 24 semester credits and 30 weeks of instructional time. Loan is certified for 37 weeks containing 33 semester hours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ll disbursements each non-standard term.  Second loan disbursement cannot be made until week 21 when half the time &amp; work have been comple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143000"/>
            <a:ext cx="81532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lculating Enrollment Status for eac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ymen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9880" y="4351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0" y="4191120"/>
            <a:ext cx="838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credit hours in th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2286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in the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3024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in th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3048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191120"/>
            <a:ext cx="5562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7 semester credits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5410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9520" y="51894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224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624852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6200" y="589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5943600"/>
            <a:ext cx="7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2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6070680"/>
            <a:ext cx="57909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8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30240" y="252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236232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930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22352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4440" y="201456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204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26924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30733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11120" y="2719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276876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89548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3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990720"/>
            <a:ext cx="838224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- Pell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 X   Weeks of instructional time     =    Payment for the     Award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the payment period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 defined by the sch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8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750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990720"/>
            <a:ext cx="84582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   X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   X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2296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non-term program using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, a week of instructional time is a wee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at least 12 hours of regularly schedu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, examinations, or prepar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 occu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295280"/>
            <a:ext cx="822960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clock-hour program a week of instru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any week in which at least one da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rly scheduled instruction, examinations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ation for examinations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structional time does not include period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entation, counseling, vacation, or other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related to class preparation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2193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lappi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that begin in one term and e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paced learning.  These course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ly offered via correspond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, or independent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6905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38600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1157400"/>
            <a:ext cx="82296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s for Non-Term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When the student is enrolled in a program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academic year or less in length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Period of time in which the student successfully completes the second half of the pr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1581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276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047600"/>
            <a:ext cx="82296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When the student is enrolled in a program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one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first academic year and any subsequent full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work for the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second half of the coursework for the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219320"/>
            <a:ext cx="82296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remainder of a program that is more than one-half an academic year but less than a complete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ing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second half of the remaining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1981080"/>
            <a:ext cx="8229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remainder of a program that is not more than half an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ayment period is the remainder of tha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1066680"/>
            <a:ext cx="8915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culation of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nrollment is always considered to be full-time f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ll calculations.  For the loan and campus-based programs the student’s actual enrollment status would be use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and Disbursing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or a clock-hour program or a credit-hour program that does not use terms, the minimum period for which a loan may be certified is the lesser of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academic year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ength of the program , 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remaining portion of the student’s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a school is required to deliver loan proceeds in more than one installment if the students loan period is  more than 4 mon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may not deliver a second loan disbursement until the latter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lendar midpoint between the firs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 scheduled days of the loan period;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te that the student has completed hal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academic coursework or clock ho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 ho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clock hours successfully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123840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Bachelor’s Degree Completion Program - Self Pace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133720"/>
            <a:ext cx="84582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  - Student completes 12 semester credits in 15  weeks of a 40-week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idpoint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_____________________________I________I________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Disburse   Disburs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½ of Pel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½ of    ½ of lo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Lo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Pell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52388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2 –  Same programs but student doe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12 semester credits until week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Mid-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22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_______________________________________I______I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Disburs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½ of Pel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Lo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952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term and sequential course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re now often offered in mod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usually 1 - 8 weeks in length.)  Program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such that these modul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se an entire program;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offered 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full-term length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1430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ligible for Title IV aid a student mus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rolled or accepted for enrollment in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gible progra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 is considered to be meeting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if w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epted for enroll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required to take a specified numb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nd maintain a certain grade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in order to continue that enroll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1641600"/>
            <a:ext cx="792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 is not considered to be meeting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if when originally beginning to t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work his or he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ntual enroll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some subsequent activity (i.e.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 and/or transcripts being received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awards can be based on docum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ed plans, they may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culated when the student’s enrollmen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iz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371600"/>
            <a:ext cx="7924680" cy="70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ederal Pell Grant awards, if a student do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begin attendance in all of his or her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results in a change of enrollment stat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Pell Grant award mus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FEL and Direct Loans, each tim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bursement is received, school must confi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the student is eligible (including at le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-time enroll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1600200"/>
            <a:ext cx="8153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e of Academic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heduled 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Term based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 programs may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orrower-based 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Clock-hour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erm credit-hour programs must u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-based programs may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6002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of Annual Loan Lim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eneral, once a student has reached the annual loan limit, he or she cannot receive another loan until he or she begins a new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768240"/>
            <a:ext cx="7232760" cy="5209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198108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an Pr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loans for graduate students are not prorated, if the academic year contains less than 30 weeks of instructional time, a student is not eligible to receive another loan until the student has completed 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3000" y="768240"/>
            <a:ext cx="7232760" cy="5209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25210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15236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recipient of Title IV aid withdraws during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ment period (or a period of enrollment)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ool must calculate the amount of Title 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the student earned.  Unearned Title IV fu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be returned to the Title IV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ini-sessions combined in a term, the retur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tle IV funds must be applied whe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does not complete any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tart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vide students with maximum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re often scheduled to begi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ly as once a mon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particularly prevalent in cours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offered via distance edu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offered at tempora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752480"/>
            <a:ext cx="82296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ini-sessions are not combined into a term,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of Title IV formula must be applied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udent withdraws from or drops out of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es in the individual s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student who is taking courses sequential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s a course and does not enroll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equent course, he or she is considered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dra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05740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tance Education Demonstration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trend toward 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d concern about possibilities for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 strict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ive capability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523880"/>
            <a:ext cx="82296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utory Purposes of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quality and v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effective means of deli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tory and regulatory chang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priate level of student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17524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Ideas Participants are Tes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lus 2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capacity to meet student nee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methods of enrollment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ding living expenses from the cal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cost of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disbursements - just in tim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s of defaul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1600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s We Are Lear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ng student aid requirements to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xts is extremel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tory and regulatory provisions pres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tacles to administering aid to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s designs present obstacles to new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providing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1523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Lessons We are Lear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of these programs allow students significant flexibility in terms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begin their work and how lo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s them to complete a given unit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units of work they might wish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take in a given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wish to take vacations or brea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152388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Lessons We are Lear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common understanding of the meaning of the terms we use to distinguish among various kinds of educatio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ically delivere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rred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2209680"/>
            <a:ext cx="79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82880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yl Leibov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Department of Education, SF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02) 708-9900       Cheryl.Leibovitz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y McCull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Department of Education, 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02) 502-7639       Carney.McCullough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offered via a combin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campus and distance education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programs are particularly pre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 plus 2 programs and programs off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ly by sta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end degre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2952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possibilities for home/host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rollments (consortium an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ngement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new possibilities are particular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t in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lus 2 programs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center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7:28:10Z</dcterms:created>
  <dc:creator>David L. Futrell</dc:creator>
  <dc:description/>
  <dc:language>en-US</dc:language>
  <cp:lastModifiedBy>EPCLEIBOVITZ</cp:lastModifiedBy>
  <dcterms:modified xsi:type="dcterms:W3CDTF">2001-07-16T13:55:02Z</dcterms:modified>
  <cp:revision>49</cp:revision>
  <dc:subject/>
  <dc:title>Sense &amp; Centsibility: Raising Student Awareness of Financial Values and Principles</dc:title>
</cp:coreProperties>
</file>