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9412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92320" y="0"/>
            <a:ext cx="299556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3560" y="68436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751960"/>
            <a:ext cx="299412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92320" y="8751960"/>
            <a:ext cx="299556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7A20007-6002-4456-A5F0-47E13FEF3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92320" y="8751960"/>
            <a:ext cx="299556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BF30AD2-6C5F-4D5B-BC12-CFA208355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751960"/>
            <a:ext cx="299412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9412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92320" y="0"/>
            <a:ext cx="299556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06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s made to keep up with advances in technology and serve most us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Prior to 1995-96, ED offered a stand-alone DOS version of Pell Payment software that was not part of the EDExpres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1996-97, ED offered a stand alone Windows version of Pell Payment softw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1999-2000, we offered a Pell Payment Module as part of the EDExpress software sui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FSA Express added to expand student electronic ac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PC products added for FAA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an using Web technology in 1997 with FOT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jor security issues successfully addres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interview format, user friendly scree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ed ROTW and began to deal with issue of electronic signatu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ed COTW and PIN process which expanded use of electronic signatu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itional Web functions to be ad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session is a brief overview of how the delivery system has developed and expanded over the y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per-based only until 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inputs were pa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outputs were paper including rosters to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etic tapes added as first non-paper means of communicating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DE process introduced in 1978-79, including calculation of estimated EF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icial calculation done at application processing system and centralized database ke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ized Processing System implemented in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ology of database matches added to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Express first piloted in 198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ly successful for electronic transmission of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reased turnaround time significan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ology of functions added to produ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2FA6-CFCD-4671-81D5-C44503428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C85B-5A16-40AA-A2C6-8FF414680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4813-C803-494B-B9E9-DEFB94108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4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0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4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0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BA62-FA61-4493-AC39-672E070B9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130E-664E-48A7-9D15-C5FC0836E2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DF75-7F05-4F26-A518-FA9440386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8028-7CC4-40D0-9305-ABF72C9BA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111D-A56F-480A-AE84-77CFE986C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AAE4-BF0B-4D3D-BA21-51B9BF07C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370A-C077-4264-9564-9C2D4E930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B846-C22F-4947-9E11-2B3ABF3F6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09E6-E870-47F1-8603-417350EB4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5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sfastar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9432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557680" y="655308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We Help Put America Through Schoo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.S. Department of Education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2819520"/>
            <a:ext cx="716256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posals for the Application Processing System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ASFAA Con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ashington, D.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July 9 - 12, 2000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DExpres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ion to 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ll Payment Module (Window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ion to 32-b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8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2000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5382-75AF-4615-B3FF-BA46EC2F59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PC Softwar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FSA Exp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SSC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FIS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AP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of Title IV Funds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ewal Application Prin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97CB-89BC-438A-9CE2-942C878C85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Web Application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FSA on th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ewal FAFSA on the We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Signatures 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(EA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ions on the We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Signatures 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and Parents (P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nish FOT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D49A-3A1D-4CC7-B24E-4DF7C82F23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Web Application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 Web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query of application informa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processing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rint capa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E-Mail No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4BE5-F7A6-44D0-B9C6-B98C322012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Web Application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A Web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 Requests for Renewal Applications 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TD 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ry of applica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compute for cor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1714-E990-40A8-BF4E-E577292898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Financial Aid Delivery System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Historical Overview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EF69-48BC-44CB-8AA6-C7B5C0011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Paper-Based Delivery System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-based system until 19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rec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A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t 3 Payment Vouch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osters to Institu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netic tapes to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975 pilot with SUNY and CUN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977 available to additional institu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682B-726E-47C4-9B88-EFD31AD75C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Paper-Based Delivery System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Data Entry (M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cies contracted in 1978-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ntralized processing and pri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ized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1122-771D-45B8-86F6-3047968BEF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Paper-Based Delivery System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Processing System (C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19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ized processing; followed by centralized pri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ial eligibility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database matching for eligibility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E85A-74C5-410B-9D39-560BB9241E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ligibility Database Matching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8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lective Service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8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lective Service Registr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mmigration and Natural 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zation Service (INS)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uaranteed Student Loa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atabase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SLDS Match (replaces GSL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ocial Security Number M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03D8-6BD3-46FB-9ABB-36809C6BE6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ligibility Database Matching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6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SA Citizenship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SA Date of Death M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SLDS Postscree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VA Database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SA Prisoner Mat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 Secondary Confirm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D29B-7487-49D1-A793-A6EB777D15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DExpres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8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Express Pil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ESARs (ISI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Cor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Payment D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E3B4-5E91-4C63-8CB7-E9BCBD687D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DExpres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0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Renewal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aging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Loan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C566-CFE0-452B-88ED-F8CFC0D80A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0:19:31Z</dcterms:created>
  <dc:creator>Sue Belger</dc:creator>
  <dc:description/>
  <dc:language>en-US</dc:language>
  <cp:lastModifiedBy>Marilyn LeBlanc</cp:lastModifiedBy>
  <cp:lastPrinted>2000-07-07T12:20:11Z</cp:lastPrinted>
  <dcterms:modified xsi:type="dcterms:W3CDTF">2000-07-07T20:47:03Z</dcterms:modified>
  <cp:revision>27</cp:revision>
  <dc:subject/>
  <dc:title>No Slide Title</dc:title>
</cp:coreProperties>
</file>