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92320" y="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3560" y="684360"/>
            <a:ext cx="456732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5196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92320" y="875196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550B7E9-7788-4BBE-8C3A-7988A178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92320" y="875196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0364513-B919-4170-99BF-3DF9F10C9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75196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9412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92320" y="0"/>
            <a:ext cx="299556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2960" y="4370400"/>
            <a:ext cx="50306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s made to keep up with advances in technology and serve most us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Prior to 1995-96, ED offered a stand-alone DOS version of Pell Payment software that was not part of the EDExpres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1996-97, ED offered a stand alone Windows version of Pell Payment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1999-2000, we offered a Pell Payment Module as part of the EDExpress software sui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FSA Express added to expand student electronic ac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PC products added for FAA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an using Web technology in 1997 with FOT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jor security issues successfully addres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interview format, user friendly scre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ROTW and began to deal with issue of electronic signat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COTW and PIN process which expanded use of electronic signatu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itional Web functions to be ad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session is a brief overview of how the delivery system has developed and expanded over the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per-based only until 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inputs were pa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outputs were paper including rosters to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etic tapes added as first non-paper means of communicating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DE process introduced in 1978-79, including calculation of estimated EF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icial calculation done at application processing system and centralized database ke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ized Processing System implemented in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ology of database matches added to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Express first piloted in 198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ly successful for electronic transmission of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ased turnaround time significan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23920" y="68436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200" y="4338720"/>
            <a:ext cx="5016600" cy="4186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ology of functions added to produ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ABB1-935A-4F8C-8AD9-3526A5445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A58-025D-4769-8763-D8E003321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C347-4D10-4724-B0D2-49974F0C0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4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4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30B9-8242-448D-96D9-36B181373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F0FF-9E6C-4EE3-89AD-7996A5372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8CBA-C3F9-4ECD-9092-55B20A1A3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FFBF-384B-45ED-A916-CAABAD321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9954-22CC-4362-A63D-448CA6FD2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A78F-724B-458A-B48B-515927CE2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F703-4D1F-4133-AB6E-504B196A2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26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7241-2828-4B66-8C68-B2D78372D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DDD3-5FB9-4251-ADEC-17708308D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5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sfastar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9432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557680" y="655308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We Help Put America Through Schoo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.S. Department of Education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281952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posals for the Application Processing System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ASFAA Co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shington, D.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uly 9 - 12, 2000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to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ll Payment Module (Window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ion to 32-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8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2000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90F8-C285-456C-930D-835E398990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C Softwar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FSA Exp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SC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FIS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AP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of Title IV Funds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ewal Application Pri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B015-3554-4F0D-B5E5-D12C77D225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FSA on th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newal FAFSA on the We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ignatures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(EA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ions on the We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Signatures 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nd Parents (P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nish FOT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5EC9-8687-4E86-8477-4FBA9C269B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Web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query of application informa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rocessing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rint cap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E-Mail No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AE79-316A-4242-A791-1873F3D802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Web Application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A Web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 Requests for Renewal Applications 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TD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 of applica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compute for cor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9632-F4D6-4C03-9C76-A7DD435CE5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Financial Aid Delivery System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Historical Overview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B26-3D97-4869-9A73-432DD0D444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-based system until 19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rec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A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t 3 Payment Vouch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osters to Institu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tapes to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975 pilot with SUNY and CUN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977 available to additional institu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DF83-1C06-4FFB-A212-0EDA86B78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Data Entry (M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cies contracted in 1978-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ntralized processing and pri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zed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0418-7502-4398-97CB-5E320E6BB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Paper-Based Delivery System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Processing System (C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ized processing; followed by centralized pri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ial eligibility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database matching for eligibility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F389-9FF2-4706-A877-60D4DEA59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ligibility Database Matching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lective Servic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elective Service Regist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mmigration and Natural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zation Service (INS)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uaranteed Student Loa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atabas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SLDS Match (replaces GSL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ocial Security Number M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923F-F805-4FEF-AD48-2158015809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ligibility Database Matching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Timeline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6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Citizenship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Date of Death Mat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SLDS Postscree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VA Database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SA Prisoner Mat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INS Secondary Confirm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D6D2-6BDA-4961-B49A-2796578E6A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Express Pil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ESARs (ISI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Cor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Payment 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ACAF-7BE6-4548-B495-9741CF826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Use of Electronic Technology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EDExpress</a:t>
            </a:r>
            <a:endParaRPr b="0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0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Renewal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aging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Loan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9815-F97C-4F43-81AB-036C65048C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0:19:31Z</dcterms:created>
  <dc:creator>Sue Belger</dc:creator>
  <dc:description/>
  <dc:language>en-US</dc:language>
  <cp:lastModifiedBy>Marilyn LeBlanc</cp:lastModifiedBy>
  <cp:lastPrinted>2000-07-07T12:20:11Z</cp:lastPrinted>
  <dcterms:modified xsi:type="dcterms:W3CDTF">2000-07-07T20:47:03Z</dcterms:modified>
  <cp:revision>27</cp:revision>
  <dc:subject/>
  <dc:title>No Slide Title</dc:title>
</cp:coreProperties>
</file>