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430FC-44DC-45F8-8A6C-6BD771E25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268AA-394E-4760-BB21-AE4DE634F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50A8-D2A0-4079-B0DA-AD9262F74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8694-337C-4921-9F31-7163EC3053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15366-8E4F-4BE7-A8B1-214C2CD4E9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98534-42A7-4554-B6C0-76F232C63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BDE1-E2CD-48F9-959B-142EA8496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5A3F-99C9-4D01-B249-D008C4C25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2D5A-7537-4C34-BC93-E7CAC7FF4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474E-F2A5-4B7C-867C-033FA2CCB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A121-893E-4CE4-8031-F2B15D0DD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5E8C3-BB41-49DC-8BDB-EEA87EF39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520" y="6552720"/>
            <a:ext cx="838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7FF4-62F7-49C2-BDE9-41EA583E12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sfastar" descr=""/>
          <p:cNvPicPr/>
          <p:nvPr/>
        </p:nvPicPr>
        <p:blipFill>
          <a:blip r:embed="rId3"/>
          <a:stretch/>
        </p:blipFill>
        <p:spPr>
          <a:xfrm>
            <a:off x="6858000" y="4419720"/>
            <a:ext cx="194328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5676120" y="6553080"/>
            <a:ext cx="34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onet"/>
              </a:rPr>
              <a:t>We Help Put America Throu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stitutional Eligibility - What To Do Between Recertific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8A5EE-32E2-4203-8915-3BDEAD2EC3E1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eatures of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P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estions are Prepopu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Che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us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 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A758-66A9-4C98-A47D-AC92EAD4CF73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676520" y="5105520"/>
            <a:ext cx="213336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194840" y="3558600"/>
            <a:ext cx="2082960" cy="106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5715000"/>
            <a:ext cx="2286000" cy="45720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578240" y="5970240"/>
            <a:ext cx="4615920" cy="19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3200400"/>
            <a:ext cx="3200400" cy="6094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37080" y="320040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Team Cont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747000" y="5323320"/>
            <a:ext cx="1095840" cy="17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95C23-3F70-4ACC-A1AC-1508FFD1AE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86200" y="2514600"/>
            <a:ext cx="2666880" cy="7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4343400"/>
            <a:ext cx="2590920" cy="7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295280" y="2895120"/>
            <a:ext cx="25909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4572000"/>
            <a:ext cx="24382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914400"/>
            <a:ext cx="304776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100656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editation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Auth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1066680"/>
            <a:ext cx="297180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5715000"/>
            <a:ext cx="2895480" cy="7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itle IV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5943600"/>
            <a:ext cx="304812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ACE5-0DC9-40C4-8608-879FA11D2B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81080" y="4267080"/>
            <a:ext cx="190512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371600" y="457164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371600"/>
            <a:ext cx="2590920" cy="7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447920" y="1676160"/>
            <a:ext cx="3352680" cy="75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3124080"/>
            <a:ext cx="2590920" cy="7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65760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F2A0-145F-4AF5-A99E-D96B6F5B50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133720" y="2057400"/>
            <a:ext cx="3200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 blan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143000" y="2666880"/>
            <a:ext cx="106668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4343400"/>
            <a:ext cx="29718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4191120"/>
            <a:ext cx="380988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1B0C-2C3E-4081-A88D-E2A6B5A375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6400800" y="2438280"/>
            <a:ext cx="243828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3581280"/>
            <a:ext cx="251460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2438280"/>
            <a:ext cx="22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-dig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ID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37749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-digit Taxp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tion 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3809880"/>
            <a:ext cx="198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95680" y="3123720"/>
            <a:ext cx="198144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FEEAD-D4E8-4239-B410-84649E1E02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You must always select a purpose.  Select update, then click on the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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V="1">
            <a:off x="4800600" y="6019920"/>
            <a:ext cx="2895480" cy="38088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9899-0CE6-4912-8AD9-2BAF6C977119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hoose the purpose from the choices in the pickli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562720" y="2819520"/>
            <a:ext cx="2590560" cy="76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572000" y="3505320"/>
            <a:ext cx="1371600" cy="83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55A78-B207-4C00-A679-F368D1061771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hoose the appropriate ac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1080" y="4320000"/>
            <a:ext cx="5200200" cy="1037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5029200"/>
            <a:ext cx="1981440" cy="6094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5105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loo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3886200"/>
            <a:ext cx="2209680" cy="91440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40440" y="3962520"/>
            <a:ext cx="19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e th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keep 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886200"/>
            <a:ext cx="556236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3124080"/>
            <a:ext cx="2895480" cy="45720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’s 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28600" y="3352320"/>
            <a:ext cx="480060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E44C-D778-4DBB-BE9A-7232B80BC157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ect the section you wa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to go to nex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95880" y="4191120"/>
            <a:ext cx="205740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5029200"/>
            <a:ext cx="2590560" cy="91440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3048120"/>
            <a:ext cx="1523880" cy="45720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71520" y="29973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34120" y="4216320"/>
            <a:ext cx="188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8640" y="5054760"/>
            <a:ext cx="22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se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28600" y="4495320"/>
            <a:ext cx="594360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828800" y="5486400"/>
            <a:ext cx="1828800" cy="76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25146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8861-B969-411D-BFCF-7D47232DCA36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stitutional Eligibility Applic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rt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in Ownership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Elig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instat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da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A70C-6E29-4E1A-8037-5F67E1906C5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067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 txBox="1"/>
            <p:nvPr/>
          </p:nvSpPr>
          <p:spPr>
            <a:xfrm>
              <a:off x="0" y="0"/>
              <a:ext cx="906768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743200" y="5105520"/>
            <a:ext cx="1905120" cy="5331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38240" y="5095800"/>
            <a:ext cx="16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3505320"/>
            <a:ext cx="2514600" cy="45720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33480" y="350532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/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676520" y="3733920"/>
            <a:ext cx="259056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076B-A1D3-4B42-83E0-2BDD296398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nter information about the new location her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03FE-451D-4BCE-81CD-5CC804A53E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DC37-FBCB-4495-B1A1-651AF66747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F2F01-040F-4E6D-A60C-9A38BC5D20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114800" y="2362320"/>
            <a:ext cx="3429000" cy="1143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added i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delet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04560" y="3124080"/>
            <a:ext cx="380988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6FA2-7902-403A-A703-1C5CBFA722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743200" y="4800600"/>
            <a:ext cx="3276720" cy="91440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474012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the signature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5181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499E-6DD9-48FE-AB10-C6EA1FD74F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581280" y="3886200"/>
            <a:ext cx="4496040" cy="121932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02040" y="4029120"/>
            <a:ext cx="378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, if president sig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 and print p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80880" y="4724280"/>
            <a:ext cx="3505320" cy="990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9D58-58B6-418E-ACA0-639DC8D093B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666880" y="4343400"/>
            <a:ext cx="3048120" cy="8380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37000" y="4473720"/>
            <a:ext cx="31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Section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981080" y="487656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1CFE-E659-4EB4-A05A-392D0A39422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ction M tells you what documents to mai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4648320"/>
            <a:ext cx="9144000" cy="1218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Next, click on the Application submission page hot lin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837F-D260-4065-B865-606454C12D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90720" y="4038480"/>
            <a:ext cx="7391160" cy="685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If ok, click on the Submit Application but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3429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1219320"/>
            <a:ext cx="6019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It will tell you if data is still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343400" y="182880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042C-AF4D-4819-BA8D-9999478B092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certific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mit a materially complete full application at least 90 days in advance of the expiration of your Program Participation Agreement (PP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F768C-1143-4C70-8F91-8641B67193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ives you a receipt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ddress to mail supporting doc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2971800"/>
            <a:ext cx="1523880" cy="6094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676520" y="3352680"/>
            <a:ext cx="7617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4952880"/>
            <a:ext cx="2667240" cy="114300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ic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5105520"/>
            <a:ext cx="1905120" cy="304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971800" y="5486400"/>
            <a:ext cx="17524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9CDC-4D8D-4D69-B2A5-DFC5A7064C5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57200" y="4267080"/>
            <a:ext cx="82296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Gives you the status of your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798B-DDBC-4B6B-A8C4-D699203411A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dd a new progr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(nondegree/vocational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Section A - Question 1 (Purpo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“Nondegree Program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Section E - Question 2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er New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Section L - President’s sign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747A2-782C-459D-83FD-7FDF01E3A2B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867280" y="1371600"/>
            <a:ext cx="2590920" cy="7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degre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330440" y="2014560"/>
            <a:ext cx="1625400" cy="4047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C228-9286-4971-A123-A658283ECA2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419720" y="4572000"/>
            <a:ext cx="144756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828440" y="4876920"/>
            <a:ext cx="259092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AB37-A9BD-442D-8681-C2624334DE9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648320" y="4343400"/>
            <a:ext cx="2590560" cy="7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895480"/>
            <a:ext cx="2590560" cy="7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ol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905120" y="3352680"/>
            <a:ext cx="13716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962160" y="4724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B317-5615-4932-9671-ECD49F798FC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181480" y="2743200"/>
            <a:ext cx="3276720" cy="99072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60280" y="2819520"/>
            <a:ext cx="249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here to get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CIP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2514600"/>
            <a:ext cx="190512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2550-63CB-431F-8B9E-257D0E86913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095880" y="3581280"/>
            <a:ext cx="2362320" cy="106704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08120" y="3581280"/>
            <a:ext cx="23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let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2438280"/>
            <a:ext cx="4114800" cy="1524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4C49-7D5D-4D7A-B46C-C37EE12CAEF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553080" y="2819520"/>
            <a:ext cx="1905120" cy="19047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2943360"/>
            <a:ext cx="16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P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62120" y="3657600"/>
            <a:ext cx="579096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945E-6B03-4208-B074-E9329A747D1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94B1-AC58-4F8F-BDA6-EA8E99263C4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hange in Ownership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ownership or structure that results in a change of contro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notify the Department with 10 days of the date of the chang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chool wishes to apply for a continuation of its current PPA, we must receive a materially complete application with 10 business days of the chan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751E-2CF3-442A-802F-3304D93D90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C548-8D3A-469C-98CA-8086453CFE9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dd a new program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Section M - Tells you what supporting documents to se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Application Submission Page - Tells you if there is any data mi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Submit Application - transmits the application &amp; gives you a rece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 the Supporting Doc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07AE-1791-4721-BCFC-0FE1F303003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crease Level of Offer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Section A - Question 1 (Purpo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“Increase Level of Offering -               Educational Program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Section E - Question 2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the appropriat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pplicable, complete Question 2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Section L - President’s sign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2255-07AA-457E-A89F-41CFB7CEB04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486400" y="5715000"/>
            <a:ext cx="3200400" cy="99072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91960" y="5807160"/>
            <a:ext cx="269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Program Off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6172200"/>
            <a:ext cx="685800" cy="76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64F4-BE56-4BE0-AA61-089A3FB39D0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657600" y="4800600"/>
            <a:ext cx="838080" cy="3808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16800" y="4714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752480" y="5028840"/>
            <a:ext cx="1905120" cy="152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FC0E-1787-474F-A71B-CB8946077E1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562720" y="4572000"/>
            <a:ext cx="2666880" cy="8380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83200" y="4638600"/>
            <a:ext cx="17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4495680"/>
            <a:ext cx="25146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A199-F427-4806-A68B-F1B1E62E076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EC4BF-3ACA-452A-BD77-27FBFDA4575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crease Level of Offering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Section M - Tells you what supporting documents to se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Application Submission Page - Tells you if there is any data mi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Submit Application - transmits the application &amp; gives you a rece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 Supporting Doc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48B17-C6A5-448A-9431-3EE62722287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hange of Addr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Section A - Question 1 (Purpo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“Address Chang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Section F - Question 29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or main campus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r Question 3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or additional lo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er New Add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Section L - President’s sign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45BB-6574-4EFC-90E2-7868E8D60D3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019920" y="5943600"/>
            <a:ext cx="2666880" cy="76212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69040" y="606096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6095880"/>
            <a:ext cx="1219320" cy="15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DFBF8-C977-4799-B3AE-8819535A16B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pdate, What’s an Update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Lo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Program (outside the scope)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Level of Off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rt Term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to Participate in an Additiona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tle IV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4E46-05A4-4D1C-ADD5-5CC7E42F22FB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352680" y="4800600"/>
            <a:ext cx="762120" cy="3808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45280" y="4738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752480" y="5028840"/>
            <a:ext cx="1524240" cy="152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F33B-0661-4ABD-956E-211CC672347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9969-02D0-4AC9-8FE2-121F55BB09A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410080" y="3200400"/>
            <a:ext cx="2286000" cy="99072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82600" y="324468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267080" y="3657600"/>
            <a:ext cx="1067040" cy="76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A332-627D-412A-8A89-EAF9EDD105C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EFD54-E57E-4EF6-96E6-1CA6C1397BE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efore you get to L, it asks if you want to change the address for the offici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0157-E19E-4B71-8254-DCE24C28DD7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hange of Address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L, go to Section M - Tells you what supporting documents to se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Application Submission Page - Tells you if there is any data mi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Submit Application - transmits the application &amp; gives you a rece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 the Supporting Doc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2B99-A6FE-4996-9DDA-2711F549CF9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hange Officials/Direct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Section A - Question 1 (Purpo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“Officials/Directors of Institutio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next page, Section A, page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er the new official, don’t forget to     check the box “new perso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Section L - President’s sign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2B9E-912E-472B-8A09-37D7314C50B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562720" y="5867280"/>
            <a:ext cx="3124080" cy="76212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12280" y="5867280"/>
            <a:ext cx="254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ials/Dire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24280" y="617220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7780-4DC5-420C-A871-6AEDAFDCEFD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657600" y="4495680"/>
            <a:ext cx="2971800" cy="60984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7200" y="4521240"/>
            <a:ext cx="22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s to A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28600" y="4724280"/>
            <a:ext cx="3429000" cy="15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F084-A48C-4DC7-988A-2251FE1E803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029200" y="2971800"/>
            <a:ext cx="22860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2057400"/>
            <a:ext cx="4800600" cy="990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A0ED-BE0B-4510-A5C2-B25029D5733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re Updates - Report these within 10 day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ress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Chan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Offi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Board of Dire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Phone Numb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1537-E4A9-4408-BDFF-AB784BCC60D6}" type="slidenum">
              <a:t>6</a:t>
            </a:fld>
          </a:p>
        </p:txBody>
      </p: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F0B9-0BC6-489D-8F82-EE4DA7930D9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EAC7-DFEE-48DD-89A1-CC9B8663667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hange of Officials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Section M - Tells you what supporting documents to se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Application Submission Page - Tells you if there is any data mi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Submit Application - transmits the application &amp; gives you a rece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 Supporting Doc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EC6E-4B9D-4DDE-A7A5-C825EA0797B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ut ...What About Comment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wish to provide additional information about the application or data you entered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o to Section 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estion 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77D7-8358-435E-BD44-8C17DB138F1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676520" y="1295280"/>
            <a:ext cx="4647960" cy="2438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71480" y="1467000"/>
            <a:ext cx="3160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is area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d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E621-0AD6-4735-B12E-75D5D600763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pplication Statu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_____ application you started has NOT been submitted to ED.  You must use the Submit Application page to do 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____ application was submitted on ____.  Awaiting initial submission of supporting document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B711-0038-44E9-8C14-A8D4E9094276}" type="slidenum">
              <a:t>65</a:t>
            </a:fld>
          </a:p>
        </p:txBody>
      </p:sp>
    </p:spTree>
  </p:cSld>
  <p:transition>
    <p:zoom dir="ou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pplication Statu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_____ application was submitted on ____.  Supplemental documentation has been requested by IPOS on ____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waiting revie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iew in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FE93-A437-4A0A-9193-F1F5DDC058FA}" type="slidenum">
              <a:t>66</a:t>
            </a:fld>
          </a:p>
        </p:txBody>
      </p:sp>
    </p:spTree>
  </p:cSld>
  <p:transition>
    <p:zoom dir="ou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pplication Statu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date access was turned on for school on _____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was last resubmitted on ____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 preparation in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64E0-E55E-4E31-97A5-197925428575}" type="slidenum">
              <a:t>67</a:t>
            </a:fld>
          </a:p>
        </p:txBody>
      </p:sp>
    </p:spTree>
  </p:cSld>
  <p:transition>
    <p:zoom dir="ou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o Do I Contact if I Have Questions?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Management Team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name and password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enter additional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nformation you need to 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BB1C-7A64-4CC5-8CF5-919A86B84223}" type="slidenum">
              <a:t>68</a:t>
            </a:fld>
          </a:p>
        </p:txBody>
      </p:sp>
    </p:spTree>
  </p:cSld>
  <p:transition>
    <p:zoom dir="ou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o Do I Contact if I Have Questions?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PS Operations Off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acle problems or strange web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ble to access the web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202) 401-3257, 260-4801, or 401-325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D6C0-930A-43E0-8062-5F341541F308}" type="slidenum">
              <a:t>69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re Updates - Report these within 10 day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Accreditor -tell us when you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in the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in State Author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Educational Measur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Party Servic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894C-FAE4-415A-925D-606448C8F131}" type="slidenum">
              <a:t>7</a:t>
            </a:fld>
          </a:p>
        </p:txBody>
      </p:sp>
    </p:spTree>
  </p:cSld>
  <p:transition>
    <p:zoom dir="ou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o Do I Contact if I Have Questions?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 Receipt and Control 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stions about the receipt of your supporting doc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202) 205-1936/7/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D9E3B-F544-4D34-9453-7409DCAB9A77}" type="slidenum">
              <a:t>70</a:t>
            </a:fld>
          </a:p>
        </p:txBody>
      </p:sp>
    </p:spTree>
  </p:cSld>
  <p:transition>
    <p:zoom dir="ou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Management Team Cont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net:  IPOS@ed.g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oston team - (617) 223-933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necticut, Maine, Massachusetts, New Hampshire, Rhode Island, and Vermo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 York team - (212) 264-402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 Jersey, New York, Puerto Rico, and the Virgin Island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hiladelphia team - (215) 656-644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ware, the District of Columbia, Maryland, Pennsylvania, Virginia, and West Virgin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lanta team - (404) 562-63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bama, Florida, Georgia, Mississippi, North Carolina, and South Caroli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icago team - (312) 886-876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linois, Minnesota, Ohio, and Wisconsi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3594-6C73-42A2-8E71-8CA496F407B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17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Management Team Contacts (continu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llas team - (214) 880-304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kansas, Louisiana, New Mexico, Oklahoma, and Tex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ansas City team - (816) 880-405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owa, Kansas, Kentucky, Missouri, Nebraska, and Tennesse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ver team - (303) 844-367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orado, Michigan, Montana, North Dakota, South Dakota, Utah, and Wyom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n Francisco team - (415) 556-429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izona, California, Hawaii, Nevada, American Samoa, Guam, Federated States of Micronesia, Palau, Marshall Islands, and Northern Marian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attle team - (206) 287-177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ska, Idaho, Indiana, Oregon, and Washing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eign School team - (202) 708-882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EE1D-A915-4CD9-9766-D28699A8BE9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osed Regul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mporary Locations do not have to be reported if meet certain requirements, inclu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s will be opened less than 12 mon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than six locations have been opened since last recer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restricted from this excep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5168-E604-440A-9CD8-2FC6F8CC754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osed Regul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mporary Locations Exemption continu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utstanding Title IV li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cquire assets of previously eligible 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subject to loss of eligibility under 34 CFR 668.1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2849-4E57-4601-88AD-E7755DBF190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osed Regul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ertification Training Requirements mod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be completed within first 12 months of PPA peri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quest waiver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titute a different official to attend the train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d different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having to attend the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CA42-40F5-44F6-9876-C8E7C635815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osed Regul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 Institutions report licensed and accredited locations at time of recertification, if the location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the same state as main 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AF50-4737-46AC-8AD4-095726707F0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osed Regul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longer need to update for change of Board members/officials until next recertification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all types of schools must report change of general partner, chief executive officer or chief financial officer of the instit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E422E-7602-4FCD-B47A-6CFD03EB5F1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800600" y="-58129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800360" y="2838600"/>
            <a:ext cx="5543280" cy="1180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3E7C-C319-42BD-B412-EFC3A83EBA15}" type="slidenum">
              <a:t>78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ere Do You Find the Application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pplication for Approval to Participate in Federal Student Financial Aid Programs can be found a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www.eligcert.ed.gov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190C-B9CC-49B5-82F1-25E226B258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at Do You Need to Get Started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Brow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-digit OPEI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-digit Taxpayer Identification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F37B-6FA8-4DD8-B152-4CAE23E03B31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16:56:08Z</dcterms:created>
  <dc:creator>epppatterson</dc:creator>
  <dc:description/>
  <dc:language>en-US</dc:language>
  <cp:lastModifiedBy>.</cp:lastModifiedBy>
  <cp:lastPrinted>2000-07-07T14:53:30Z</cp:lastPrinted>
  <dcterms:modified xsi:type="dcterms:W3CDTF">2000-07-07T14:57:19Z</dcterms:modified>
  <cp:revision>12</cp:revision>
  <dc:subject/>
  <dc:title>Institutional Eligibility - What To Do Between Recertification</dc:title>
</cp:coreProperties>
</file>