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3A2C-5852-4146-B329-B8941199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933-10F0-4B99-9D08-C39638D4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E4B-C8E1-44BE-98F7-763F9BA5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269-1068-4416-87BE-283F52FA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354-F136-4412-895B-B67A7528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016-113A-4093-834E-61C75054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589-7276-48B7-A237-EFB71E41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386-F8E5-4DE2-AEBA-8790BB72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716-5414-469B-979E-7FDE6ED0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22F-DEA1-4F60-BB8D-F7FAE059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EBF-1C81-4D57-9E5A-DEF98B1D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825-C9D9-4E24-AA60-E2F22CE0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0F0-0A0D-42DA-B74C-A12807EA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5E5-3914-4597-BCB5-6EADAE331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6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Regulatory and Policy Upd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mela Mor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ffice of Postsecondary Edu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- Budget Reconciliatio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Service Jobs 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ll-time job in government or emergenc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litary servi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safe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353-C529-49AE-ADC9-84B750928D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asonable costs of meals, refreshments, and receptions for meeting, training, or conferences if open to all attende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ll-free numbers for FFEL info and school loan data transmi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913-3122-443A-8963-6F3838C7854C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d origination fees (statutorily authorize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d interest rates (statutorily authorize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9AF-0869-4070-8736-0E593B24444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 of Federal Default fees (not statutorily prohibite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rrower benefits under repayment incentive and certain loan forgiveness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tems of nominal val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2A1-6D74-4F21-BA4D-2835B92B957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Program Prohibited Inducements – GAs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682.401(e) same as lenders, except GAs permitted to pay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travel and lodging expenses related to school employee service on GA advisory or governing board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877-1FDE-4BD3-BE9C-33CE103B821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Program Prohibited Inducements – GAs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reasonable costs of meals and refreshments for GA-sponsored training, workshops, and forums permitted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970-B2E6-48A3-AF74-21A379C2C4B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28600" y="5409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5335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gotiated Rulemaking</a:t>
            </a:r>
            <a:br>
              <a:rPr sz="4000"/>
            </a:b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2007-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9-10 and subsequent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Register notice Fall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ional hearings in Fall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gotiating committees TB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A53-162B-4CCA-8A26-3E2F541C995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28600" y="5409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egotiated Rulemaking</a:t>
            </a:r>
            <a:br>
              <a:rPr sz="4000"/>
            </a:b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2007-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ittees expected to meet January – March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PRMS in June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l regulations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vember 1,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20B-370E-4549-BF61-7BA89998CB3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28800" y="838080"/>
            <a:ext cx="5388120" cy="5220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833200"/>
            <a:ext cx="7010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Other Regulations and Forms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084-D9AA-44BE-B883-FD696BDE3E8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7010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vised Final Regulations   9/28/07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rt of HEA Extension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.L. 109-29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Discharge for 9/11 spouses and par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im Final Regulations – December 28, 200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E9D-8207-4508-94E2-43400D0B39A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7010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vised Final Regulations   9/28/07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sed Final Regulations –  September 28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ouse of eligible public serva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rent of eligible victi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s portion of Consolidation Lo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987-1485-4D23-B7E8-FB4C0078466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education (including early childhood education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aw enforc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interest law services (including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secution or public defense or legal advocacy in low-income communities at a non-profit organization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96D-1417-44AF-B061-5F96FD0678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517320"/>
            <a:ext cx="82296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Forms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0330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MILITARY DEFER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(HERA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Form Posted to IFAP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une 11, 2007-GEN-07-0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s CCRAA revi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9/11 DISCHARGE APPL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Form Posted to IFAP      November 9, 2007–GEN-07-08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F0E-2BF4-4285-A63B-EC4F009EE06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517320"/>
            <a:ext cx="82296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Forms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6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Consolidation Loan Application and Promissory No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Form Posted to IFAP 3/12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s CCRAA addend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S MP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Form approved by OMB a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be posted to IFAP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CRAA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B8C-C8A7-4A4F-BDE0-2453EC5465F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517320"/>
            <a:ext cx="82296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Forms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6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Stafford MP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s CCRAA addend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Loan Forgiveness – undergoing ED review prior to entering Paperwork Act clearance proces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08E-F56F-4C47-AD98-6746C1F7211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hone:(202) 502-773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ail: Pamela.Moran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x: (202) 502-787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7B7-CD3B-4B16-A666-117DB50BA85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–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child ca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service for the elderly and disabl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-based library science and other school-based servic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4A0-5B07-46C6-BCD8-FA7500A6FB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–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rvice at a 501(c)(3) organ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ll-time faculty at a Tribal college and in other high-needs areas determined by 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589-35F0-4144-A4AD-BF5F44A98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es new Income-Based repayment plan for FFEL and DL borrowers (other than parent PLUS)-effective July 1, 200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es partial financial hardship defermen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24D-1AC3-4EB9-BF12-AAE240CBDA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rtial financial hardship = annual repayments exceed 15% of AGI minus 150% of poverty line based on family size based on standard 10-year repa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paid amounts forgiven after 25 ye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C82-E7D0-429A-B4CA-3659F3BAF9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economic hardship covers borrowers with income not exceeding 150% of  poverty line applicable to the borrower’s family size –effective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bt-to-income standard retain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2D9-D7FB-4C7F-9172-1433BDB0A5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6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ubsidize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dergra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fford Loan Interest Rates in FFEL and Direct Loan Program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% for loans first disbursed 7/1/2008-6/30/200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.6% for loans first disbursed 7/1/2009 – 6/30/20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45D-507B-469B-ACF3-82D1255898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6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ubsidized undergra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Stafford Loan Interest Rates in FFEL and Direct Loan Program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.5% for loans first disbursed 7/1/2010 – 6/30/201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.4% for loans first disbursed 7/1/2011 – 6/30/20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73E-0A9E-455A-B99D-2FC23F0493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RA Military Service Deferment Amended- Effective 10/1/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minates 3-Year Limit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tends deferment for 180-days after demobil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vers all title IV loans, not just loans disbursed on/after 7/1/2001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E26-4ABB-42F9-B9C1-290F5A2C69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61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gotiated Rulemaking- Loans Regu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ther Regu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P For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064-16BF-4EC7-8A08-A923E4E491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 Military Deferment for 13 months after service for-effective 10/1/2007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ational Guard, Reserve, and Retired Military Personnel Called to Active Du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rolled or enrolled within 6 months of activ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118-0125-4BE9-9FAA-5FFFD2DE29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rent PLUS Auction Authoriz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Parent PLUS Loans for new borrowers beginning July 1, 200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4B5-209B-484B-8E2C-EF27ED48B2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te-based auction every 2 ye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igination rights limited to 2 lowest bid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E84-5776-47D2-8D89-BE03E610E6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1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ds based on lender special allowance rate (SAP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inning lender must make PL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s available to each parent of a dependent attending school in the St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F2D-4BA1-4220-9DCA-D514433909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1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retary selects parent PLUS lender-of-last-resort (LLR) for each state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C9A-B53B-4FDD-B253-B29E419810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tion in loan holder special allowance rate (SAP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fective for loans first disbursed on or after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E2A-053B-4214-AA25-E8C799A973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fferent reductions for “for profit”  and “not-for-profit” loan hol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 profit”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Stafford and Consolid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0.55%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 PLUS (incl. Grad PLU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0.85%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C00-A432-4B8D-B88B-B2E736D409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t-for-profit”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Stafford and Consolid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0.40%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PLUS (incl.Grad PLU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0.70%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224-5F0B-417C-9E6F-8C6952AC85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be acting as “not-for-profit” on date of enactment unless waived by St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t-for-Profit” defined a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a State, or a political subdivision, authority, agency, or instrumentality of St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7DE-55AD-4E95-813D-8C83E09E11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  Entity described under section 150(d) of IRS Co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Entity described under section 501 (c)(3) of IRS Co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F22-92C6-4790-BC94-C8ADE6B01C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16080"/>
            <a:ext cx="670572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6000" spc="-1" strike="noStrike">
                <a:solidFill>
                  <a:srgbClr val="cc5407"/>
                </a:solidFill>
                <a:latin typeface="Verdana"/>
              </a:rPr>
              <a:t>Legislation</a:t>
            </a:r>
            <a:endParaRPr b="1" lang="en-US" sz="6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5410080"/>
            <a:ext cx="15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6CF-B45F-4347-8825-384DBB7A8F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Eligible lender trustee acting on behalf of State, other State-related entity, or 150(d)(2) or 501(c)(3) ent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962-851B-405A-B39F-6965256EF1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lleg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nder Default Insurance Reduc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s first disbursed on/after October 1, 2012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d from 97% to 95%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FE1-7CF2-495B-BA37-F6309858B2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ceptional Performer Status Eliminat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fective for lenders/lender servicers on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52E-7005-4A41-A6EF-CE6CACAD49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s GA account maintenance fee from 0.10% to 0.06%- payments received on/after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40B-8820-427B-A2DE-5DEE707C83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s GA default collection retention to 16% - payments received on/after Octo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F71-7C28-419F-B6A1-6211C7F75D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51120" y="852480"/>
            <a:ext cx="5387760" cy="5219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84872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5407"/>
                </a:solidFill>
                <a:latin typeface="Verdana"/>
              </a:rPr>
              <a:t>2006-2007</a:t>
            </a:r>
            <a:br>
              <a:rPr sz="6000"/>
            </a:br>
            <a:r>
              <a:rPr b="1" lang="en-US" sz="6000" spc="-1" strike="noStrike">
                <a:solidFill>
                  <a:srgbClr val="cc5407"/>
                </a:solidFill>
                <a:latin typeface="Verdana"/>
              </a:rPr>
              <a:t>Negotiated Rulemaking</a:t>
            </a:r>
            <a:endParaRPr b="1" lang="en-US" sz="6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1080" y="5072040"/>
            <a:ext cx="4809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341-6CE8-4D38-8D74-0B7D11F70F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2286000"/>
            <a:ext cx="8534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7196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our Negotiating Teams –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s – NPRM 8/7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G/National Smart – NPRM 8/7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eneral Provisions NPRM 8/8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reditation – No Regu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3F8-9DA3-47A4-84B0-4A8D43DCF7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4100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OANS NPRM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 Consensus” on NPR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PRM reflected what ED heard and deliberations of Secretary’s Loan Task For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3C4-E81D-4507-8DC2-823769CE7D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62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gulations Calend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PRM:  June 12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adline for Comment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gust 13, 2007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41 Comments Receiv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692-2FA3-4F5C-BB5F-04C3571864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62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gulations Calend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l rules:  no later than November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fective date:  July 1, 2008 with possible early voluntary implemen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BC6-087E-42F7-A54E-BA95023EED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6320"/>
            <a:ext cx="8637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authorization of the Higher Education Ac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8120"/>
            <a:ext cx="8153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Higher Education Extension Act of 2007 (S.2258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tends the Higher Education Act through March 31, 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nate Reauthorization Bill-S.164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use Reauthorization Bill-H.R. 413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D78-444D-4886-91F8-EB58AB86A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s Issues -Al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ification of the Deferment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 &amp; Complete Copy of Death Certific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tal and Permanent Dis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5080" y="137124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SLDS Repor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rtification of Electronic Sign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tention on MP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F30-44F1-4CB7-9381-7B76F11523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oans Issues – FFEL/D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ximum Loan Perio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ad/Prof PLUS Loan Counsel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6BF-A7C1-4CD7-AAAA-B6F32E431CA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oans Issues – FFE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hibited Induc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of Preferred Len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Loan 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requency of Capitaliz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gible Lender Trustees (ELT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061-ADEF-4F5B-BE91-19E32C24350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s Issues - Perki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ndatory Assignment of Defaulted Loan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asonable Collection Costs Defini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ild and Family Services Cance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19280" y="1142640"/>
            <a:ext cx="3924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0AF-2CA3-4465-9DE5-3103AEB7D2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§682.210 and 685.204 allows deferment based on information from another loan holder or from NSLDS if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w” borrower with first loan disbursed on or after July 1, 199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itten or verbal deferment request receiv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70B-BF1F-433E-A82D-E5F990122D7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or Direct Loan deferment already granted for same reason and same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holder has no conflicting information on borrower’s eligibilit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57C-8CF1-4563-8F76-71DA522749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tice to borrower requi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and Direct Loan deferment may be granted only for Economic Hardship based on Perkins Loan defer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9F6-948F-4F7B-B636-4DE062BCF3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§682.210 and 685.204 amended to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low military service or armed forces deferment based 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request of borrower or borrower’s representativ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documentation establishing borrower eligibilit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9BB-776D-43C8-92F2-4A7EDCA616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implified Deferment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notice to the borrower and borrower’s representative, if applicable, that the deferment has been grant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40E-FC10-4B30-AF3E-69379969FCB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705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Times New Roman"/>
              </a:rPr>
              <a:t>Accurate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Times New Roman"/>
              </a:rPr>
              <a:t>and Complete Copy of a Death Certifica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§682.402 for death discharges amended to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Courier New"/>
              </a:rPr>
              <a:t>allow use of an accurate and complete photocopy of a borrower’s death certific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49C-D9FC-4546-A4FF-05FFD8EA3F1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ther Legisl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776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ROES Act – Reauthorized and made permanent –September 30, 2007 (P.L. 110-9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llege Cost Reduction and Access Act of 2007 – September 27, 2007 (P.L. 110-84)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3A2-9197-4F7F-8D06-02F7C47FCF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Times New Roman"/>
              </a:rPr>
              <a:t>Accurate and Complete Copy of a Death Certifica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Courier New"/>
              </a:rPr>
              <a:t>NOTE:“exceptional circumstances” discharge by chief executive officer based on “other reliable information” unchang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8C6-314C-4121-93B7-AA2E3CEB800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010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nd Permanent Disability Dischar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governing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PD discharges restructured in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402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gibility requirements and the discharge process clarifi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B41-D524-4B4C-9B84-087CAF03D77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57040"/>
            <a:ext cx="8001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tal and Permanent Disability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Dischar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 TPD appl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bmission within 90 days of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e certified by physici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fine borrower’s TPD date as physician’s certification da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FCB-3177-4524-9F52-57DE5EDE395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57040"/>
            <a:ext cx="8001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(TPD) Dischar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 NOT disqualify the borrower for final discharge based on Title IV loans or earned income before the TPD da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5B8-C375-4A47-9776-6FEC8BC7D8D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(TPD) Dischar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DO disqualify the borrower for final discharge based on Title IV loans from TPD date until date of Secretary’s initial TPD determination and during the conditional discharge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A61-AB47-493B-824F-B233A940428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(TPD) Dischar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ke the Conditional Discharge Period a 3-year prospective period from TPD da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3A2-CC9C-43AD-BBE3-DD1CFA8A2B4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91800"/>
            <a:ext cx="8001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(TPD) Discharge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Allow minimal earned income during conditional discharge period (no Title IV loan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Require notice to borrower that no payments on loan are due during the discharge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9D4-316D-4AFC-AD1C-FEE9454AA96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otal and Permanent Disability (TPD) Dischar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 only return of loan payments mad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the TPD date (date of physician certification of disability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FB2-CA21-4CA4-B62A-784F9AB1FF5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Reporting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§682.208, 682.401 and 682.414 amended to require enrollment and loan status reporting  (or any other Title IV-related data required by the Secretary) by Secretary’s established deadli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DE6-5796-4622-B357-2144B0804BC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Reporting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adlines to be published in Federal Register Notice or DCL forma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6A0-59E4-4822-8DDB-F052DA5F57E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64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forgiveness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blic service employe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n-defaulted Direct Loan borrowers onl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lance of principal and interest forgiven after 120 payments made after 10/1/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B4C-713E-44A9-9F0C-2B5BAA106D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Reporting Requir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 guaranty agency enrollment and loan status reporting deadline to loan holders reduced from 60 to 35 day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C9C-54C4-453E-BE5B-D6C5AFB4EE2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§682.409 and 682.414 amended to require loan holders to maintain certification of creation and maintenance of E-MPN process, including borrower authentication and signature proces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B18-B333-4CF3-8B2C-4079114B80D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loan holders to retain an original electronically signed MPN for at least 3 years after all MPN’s loans are satisfi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1C8-DC7A-47FD-AE6A-1785C47B3B0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on Secretary’s request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holder must provide the certification and cooperate in all activities to enforce an assigned loan, including testimony in a legal procee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916-F3D7-4007-87BE-757E5EFB354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certification includ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Description of borrower’s steps   in executing the signed MP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py of each screen the borrower saw when signing the MPN electronicall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B11-3934-4D4D-8895-C2B8AFD5DC2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FFEL Loan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certification includ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scription of field edits and other security measures used to ensure data integrity through the loan origination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7DF-DBC2-402D-B581-7DF46F98152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FFEL Loan MPN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certification includ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scription of storage process/systems for signed MPNs to ensure document integrity (no alteration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CC3-7DA4-40E9-B15C-B5E8FC318ED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FFEL Loan MPNs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d certification include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cumentation supporting the lender’s authentication  electronic signature pro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l other evidence required by the Secret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EE5-E265-490B-91DF-B3BC9CB7713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ertification of Electronic Signatures on Assigned FFEL Loan MP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cuments to resolve factual disputes on assigned loans required within 10 business days of ED’s reque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ull and complete access to electronic records required until all MPN-derived loans  satisfi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4B5-F7B1-448D-960C-0AC70B8C4A6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534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cord Retention Requirements on</a:t>
            </a:r>
            <a:br>
              <a:rPr sz="32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MPNs Assigned to the Department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409 amended to require a  Guaranty Agency to submit lender disbursement records on assigned loans to 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FB7-D006-4D53-A5DD-AD783361A2C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64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FEL-only borrowers authorized to seek DL Consolidation for this purpose –effective July 1, 200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d reconsolidation of existing FFEL Consolidation Lo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6F9-E12E-43B8-9D4F-AF17290ED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312840"/>
            <a:ext cx="90345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Maximum Loan Period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82.603 and 682.604 amended to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liminate 12-month loan period maximum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e flexibility in non-term and nonstandard term program loan 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e flexibility in rescheduling “stop out and return” disbursements within 180-day perio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037-7184-46C1-83C3-26E8981C323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oan Counseling for Grad/Prof PLUS Borrower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1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682.603 requires, before certifying PLUS, comparative info to eligible Stafford non-applican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S/Stafford interest rates, interest accrual periods, and grace perio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portunity for Stafford Loan must be given before receipt of PLUS Lo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BAE-5109-4660-BBB2-2186A226544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oan Counseling for Grad/Prof PLUS Borrow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itial counseling required for all PLUS borrow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it counseling required for Stafford/PLUS combination borrower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113-C0EB-4AE6-AC3B-D2D3BD06C2C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Use of Eligible Lender Trustees (ELTs) by FFEL School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Lender definition in §682.200 amended to prohibit new ELT  relationships with schools on/after September 30, 200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rial"/>
              </a:rPr>
              <a:t>§682.602:HERA FFEL school lender limits applied to school ELT arrangements 1/1/2007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02E-0830-4213-B7DE-2BAAF181E21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43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requency of Interest Capitalization in FFEL Program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682.202 amended to limit frequency of capitalization on Federal Consolidation Loans during  in-school deferment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nders may only capitalize unpaid interest at expiration of deferment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807-A42A-4164-B996-163CAB8A6F7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Identity Theft Discharg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86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RA  provided for a FFEL and Direct Loan discharge if borrower’s loan eligibility was falsely certified due to the crime of identity thef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plementing Interim and Revised Final Regulations published in 2006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5AE-773A-434D-8FDD-CBAA1C891B4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Identity Theft Discharg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26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402 defines “crime” for  discharge as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udicial determination by local, State, or Federal court that “crime” of identity theft has occurred and  names perpetra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individual did not receive or benefit from loan proc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014-E063-4286-AFEF-1BB59715EA3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Identity Theft Discharg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 change to existing discharge eligibility requir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pon receipt of valid identity theft report/notice alleging ID theft, lender may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spend credit bureau reporting on a loan for 120 day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ant a 120-day administrative forbearanc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975-732B-4F05-B63E-427D98F7D0B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hool FFEL Loan Certification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186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603 (f) reorganized and amend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FFEL school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Refuse/Delay certific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sed on choice of lender 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Assign lender to first-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rrower in award packa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 through other metho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543-6A24-4CDA-829E-D76360B16AC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hool FFEL Loan Certification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186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gage in a pattern or practice of discrimination to deny FFEL ac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fuse to certify or certify a reduced amount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cept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 a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case-by-case, documented basis with reason provided to borrower in wri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00F-0257-4074-9CDA-556AFFD8B3B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repay under any combination of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income-based repa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income-contingent repa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10-year standard repa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any DL repayment based on 10-year repayment amou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51C-C527-496D-8B41-BA5EC25BE9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ackground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’s Op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llowed But Never Regula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volu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fault preven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plification E-transmiss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eti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liferation of borrower benef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6B4-EF7E-4C7B-A636-667737709AE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 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 requir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st must contain at least 3 unaffiliated len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affiliated” mean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 common control or ownershi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o common directors, trustees, or general partn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A8F-D51B-4B4F-BA0F-85C1A09B3F7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212 requires a school to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close method/criteria for lender inclusion on the li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rovide comparative information on borrower benefits offered by listed lender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Department to provide model format for school u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D15-6694-49B9-A5F9-017E62A277F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661680"/>
            <a:ext cx="8839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 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Include prominent statement advising borrowers that use of the school’s preferred lender not requi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Update at least annuall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F25-4412-46EB-A115-32B9574DB66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565200"/>
            <a:ext cx="8839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</a:t>
            </a: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62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212, a school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MUST NO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Include lenders that were solicited and provided school or school- employee benefits, but may include lenders solicited for best borrower benefi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985-8FE6-4929-829B-C4CCDB48F57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565200"/>
            <a:ext cx="8839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School Preferred Lender List in FFELP </a:t>
            </a: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§682.212, a school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MUST NO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Assign lender to first-time borrowe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ause any unnecessary delays in certification for borrowers not using one of the school’s preferred lender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540-D856-4066-B781-6DCEFB96226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Program Lender and GA Prohibited Induceme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Background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Enacted as part of 1986 Amendments to HE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998 Amendments to HEA allowed lenders and GAs to provide assistance to schools comparable to what Secretary provides to Direct Loan scho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24A-BAD4-4D0E-A3BE-D356864B50D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FEL Program Lender and GA Prohibited Inducemen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ffects lender eligibility and participation and GA particip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ior regulations primarily reflect statutory provi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220-8F2B-4E14-A4F0-EA96FCE870F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Lender and GA Prohibited Induc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s codify current interpretive and clarifying guidance on prohibited inducements and retain Prohibited and Permissible Activities format of 1989 DCL guidance (89-L-189, February 1989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AF1-662D-4BA3-B976-720C5404E1F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Lender and GA Prohibited Induce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ulation introduce use of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- “rebuttable presumption” in formal enforcement 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ands use of Federal Trade Commission’s (FTC) “Holder Rule” to loans for all scho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5E9-3A9E-44F6-9A38-860E0C87178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433080"/>
            <a:ext cx="8805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llege Cost Reduction and Access Act of 2007 - Budget Reconcili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be employed in public service during 120-payment perio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ust be employed in public service job at time of forgivenes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0C2-09FB-48D3-8DA1-97FCED769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definition in §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82.200 forbids an eligible lender, directly or through an agent from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- Offering directly or indirectly, points, premiums, payments or other inducements to a school or any party to secure FFEL applications or loan volu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169-66B7-473D-8AA0-BC3DA677EEB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Such a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ayments to prospective borrowers, including prizes and additional financial ai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6AF-BCA7-4EE2-B14E-77E8460C2BD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ayments or other benefits to a school, school-affiliated organization, or other individual for loan apps, volume of loans, or placement on a preferred lender li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ayment and service on lender advisory bo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9E5-3CAB-428B-8EEB-04F2B040BF3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79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s or other benefits to student lender reps on campus or other solicitors to secure loan applications from prospective borrow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A03-2F68-48F4-80F6-428D5824059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79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 of referral fees, or processing fees not required to comply with federal or state law, to another lender or other par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777-ECBE-4ED5-A0FE-143261EC229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9200" y="1523880"/>
            <a:ext cx="879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 of conference or training registration, transportation, and lodging costs for school or school-affiliated organization employe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yment of entertainment expenses related to lender-sponsored activities for the sa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F44-B13E-4C57-9FC5-4CED75B8FB5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879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taking philanthropic activities in exchange for FFEL applications, volume, or placement on a school’s  preferred lender li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9F9-3BC9-4ED4-B201-B09BAC27F23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79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ing staffing services to a school, except a foreign school, other than on a short-term, non-recurring emergency basis, including compensated and third-party contractual servic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DC9-7062-4A0A-8BC0-054ED0BF7AF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§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82.200 provides that an eligible lender may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provide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sistance to schools comparable to that provided DL schools by the Secret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5C8-A0D0-405A-8082-30C05222A30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FEL Program Prohibited Inducements - Lend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pport for or participation in student aid/financial literacy outreach with schools and guaranty agencies, except in-person initial and exit counsel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E24-BCCC-441F-A070-45F6F5B24D1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30:15Z</dcterms:modified>
  <cp:revision>222</cp:revision>
  <dc:subject/>
  <dc:title>PowerPoint Presentation</dc:title>
</cp:coreProperties>
</file>