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F2A8-B8A7-454D-B384-B486C33B3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610B-82D2-4F57-B43F-1FE81CCBA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317D-A1AF-44D1-9F4E-AE41A88B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1E9A-A6D6-48D8-B527-6877919B1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1C4C-D774-45C2-B740-F6F7DBDAD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76AD-C436-46E0-B7FA-26BA6DD0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6245-BB7E-43FD-A484-8FFD4502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3438-6E4B-414E-B2F9-279D98CC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EB6D-B93F-455F-A0FA-A20B6928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C6D8-0C0B-48E4-878A-F9CAA68B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D71F-F9CB-456C-B494-E2CB61A0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347D-605D-490D-B7C2-F83685A7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9C7E-9D87-4555-BCBA-00B7A91B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18E7-60F2-44DE-A42B-B422E162B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#63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FEL Regulatory and Policy Upd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amela Mora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ffice of Postsecondary Educ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of 2007- Budget Reconciliation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blic Service Jobs 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ull-time job in government or emergenc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litary servi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blic safe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AD45-9B26-4DFB-9CB2-8728552EAA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FEL Program Prohibited Inducements - Lender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asonable costs of meals, refreshments, and receptions for meeting, training, or conferences if open to all attende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oll-free numbers for FFEL info and school loan data transmiss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215E-C29B-4D84-A5FF-A68768D68041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FEL Program Prohibited Inducements - Lender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duced origination fees (statutorily authorized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duced interest rates (statutorily authorized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7D15-D23C-499E-9FA2-9FF026C9E665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FEL Program Prohibited Inducements - Lender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ayment of Federal Default fees (not statutorily prohibited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orrower benefits under repayment incentive and certain loan forgiveness progra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tems of nominal valu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1B96-54B8-4772-8AC4-5C8AB1064773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FFEL Program Prohibited Inducements – GAs</a:t>
            </a:r>
            <a:br>
              <a:rPr sz="3200"/>
            </a:b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§682.401(e) same as lenders, except GAs permitted to pay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- travel and lodging expenses related to school employee service on GA advisory or governing board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B15B-72B8-4EF0-815D-A2B34022B82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FFEL Program Prohibited Inducements – GAs</a:t>
            </a:r>
            <a:br>
              <a:rPr sz="3200"/>
            </a:b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- reasonable costs of meals and refreshments for GA-sponsored training, workshops, and forums permitted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65E4-3C16-4BF5-9233-4E7853E0DF9F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28600" y="5409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53352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Negotiated Rulemaking</a:t>
            </a:r>
            <a:br>
              <a:rPr sz="4000"/>
            </a:br>
            <a:r>
              <a:rPr b="0" lang="en-US" sz="3600" spc="-1" strike="noStrike">
                <a:solidFill>
                  <a:srgbClr val="cc5407"/>
                </a:solidFill>
                <a:latin typeface="Verdana"/>
              </a:rPr>
              <a:t>2007-20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009-10 and subsequent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ederal Register notice Fall 200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gional hearings in Fall 200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gotiating committees TB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81B4-0CF8-4ACA-ACB3-E7DFD1D25A85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28600" y="5409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609480"/>
            <a:ext cx="8686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Negotiated Rulemaking</a:t>
            </a:r>
            <a:br>
              <a:rPr sz="4000"/>
            </a:br>
            <a:r>
              <a:rPr b="0" lang="en-US" sz="3600" spc="-1" strike="noStrike">
                <a:solidFill>
                  <a:srgbClr val="cc5407"/>
                </a:solidFill>
                <a:latin typeface="Verdana"/>
              </a:rPr>
              <a:t>2007-20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ittees expected to meet January – March 20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PRMS in June 20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nal regulations b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ovember 1, 20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543D-08DE-4092-B0F7-A036ABFFCFA1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28800" y="838080"/>
            <a:ext cx="5388120" cy="52200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360" y="2833200"/>
            <a:ext cx="70102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5407"/>
                </a:solidFill>
                <a:latin typeface="Verdana"/>
              </a:rPr>
              <a:t>Other Regulations and Forms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36B0-D931-46E0-ACA4-26935DADA346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70102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Revised Final Regulations   9/28/07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art of HEA Extension –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.L. 109-29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oan Discharge for 9/11 spouses and paren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im Final Regulations – December 28, 200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62DE-9CD9-4F55-AFC3-7053D160AC08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70102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Revised Final Regulations   9/28/07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vised Final Regulations –  September 28, 200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pouse of eligible public serva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arent of eligible victi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s portion of Consolidation Loa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08AA-9443-49CC-8F83-E62738C1CAAC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642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blic education (including early childhood education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aw enforc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blic interest law services (including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secution or public defense or legal advocacy in low-income communities at a non-profit organization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FB71-04DD-414D-88A0-2842FBB420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517320"/>
            <a:ext cx="82296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5407"/>
                </a:solidFill>
                <a:latin typeface="Verdana"/>
              </a:rPr>
              <a:t>Forms</a:t>
            </a:r>
            <a:br>
              <a:rPr sz="3600"/>
            </a:b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0330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MILITARY DEFER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(HERA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Form Posted to IFAP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une 11, 2007-GEN-07-04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Requires CCRAA revis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9/11 DISCHARGE APPLIC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Form Posted to IFAP      November 9, 2007–GEN-07-08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B7B6-B3AC-4E9A-AC3A-33B8D9D14B36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517320"/>
            <a:ext cx="82296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5407"/>
                </a:solidFill>
                <a:latin typeface="Verdana"/>
              </a:rPr>
              <a:t>Forms</a:t>
            </a:r>
            <a:br>
              <a:rPr sz="3600"/>
            </a:b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6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ederal Consolidation Loan Application and Promissory Not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609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Form Posted to IFAP 3/12/0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609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Requires CCRAA addend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609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S MPN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Form approved by OMB an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o be posted to IFAP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ith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CRAA chang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6091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91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91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D641-F87F-46D4-A3F9-E7CC5EA7B98D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517320"/>
            <a:ext cx="82296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5407"/>
                </a:solidFill>
                <a:latin typeface="Verdana"/>
              </a:rPr>
              <a:t>Forms</a:t>
            </a:r>
            <a:br>
              <a:rPr sz="3600"/>
            </a:b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6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ederal Stafford MP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Requires CCRAA addend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acher Loan Forgiveness – undergoing ED review prior to entering Paperwork Act clearance proces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992F-7649-496E-9EEA-893DFAAFA88D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e appreciate your feedback and comments. We can be reached at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hone:(202) 502-773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mail: Pamela.Moran@ed.gov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ax: (202) 502-787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323E-6D2F-4293-A5F3-CAC6CA970C87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–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blic child car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blic service for the elderly and disabl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chool-based library science and other school-based service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1939-B19D-4D9B-A2B2-63446A806A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–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rvice at a 501(c)(3) organiz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ull-time faculty at a Tribal college and in other high-needs areas determined by 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997F-7AED-4249-A7A6-45D723D00B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reates new Income-Based repayment plan for FFEL and DL borrowers (other than parent PLUS)-effective July 1, 2009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reates partial financial hardship deferment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8D1D-5994-4362-9EF4-FD8C8EE81E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artial financial hardship = annual repayments exceed 15% of AGI minus 150% of poverty line based on family size based on standard 10-year repay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npaid amounts forgiven after 25 yea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A3AD-DB08-45DD-B1BE-23789EB069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w economic hardship covers borrowers with income not exceeding 150% of  poverty line applicable to the borrower’s family size –effective October 1, 200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bt-to-income standard retain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C093-7A09-4F84-BEED-BFA62C0BA0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566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duces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ubsidized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undergrad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Stafford Loan Interest Rates in FFEL and Direct Loan Programs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6% for loans first disbursed 7/1/2008-6/30/2009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5.6% for loans first disbursed 7/1/2009 – 6/30/2010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6559-E1C8-443D-88F9-124CF43FBD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566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duces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ubsidized undergrad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Stafford Loan Interest Rates in FFEL and Direct Loan Programs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4.5% for loans first disbursed 7/1/2010 – 6/30/201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3.4% for loans first disbursed 7/1/2011 – 6/30/201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CFF5-3F31-41F9-8CE2-B257E62834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ERA Military Service Deferment Amended- Effective 10/1/200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liminates 3-Year Limit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tends deferment for 180-days after demobiliz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vers all title IV loans, not just loans disbursed on/after 7/1/2001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8C9F-332E-4632-B34C-FB0516AE0A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genda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61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gis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gotiated Rulemaking- Loans Regula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ther Regula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FELP For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7B16-39AD-4A03-BE92-97D185EFC5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w Military Deferment for 13 months after service for-effective 10/1/2007: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ational Guard, Reserve, and Retired Military Personnel Called to Active Du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nrolled or enrolled within 6 months of activ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6635-619C-42C2-A040-912CAF07B7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10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arent PLUS Auction Authoriz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FEL Parent PLUS Loans for new borrowers beginning July 1, 2009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5412-AFF0-4876-A576-B72E0E82DD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110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ate-based auction every 2 yea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rigination rights limited to 2 lowest bidd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211F-176E-4CB2-A681-72B677F93B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11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ids based on lender special allowance rate (SAP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inning lender must make PL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oans available to each parent of a dependent attending school in the St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02BA-1AFF-475F-97EA-642E578BAC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11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retary selects parent PLUS lender-of-last-resort (LLR) for each state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32DB-134F-4570-B4E0-54C4C1E6020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College Cost Reduction and Access Act of 2007 - Budget Reconciliation</a:t>
            </a:r>
            <a:endParaRPr b="1" lang="en-US" sz="28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duction in loan holder special allowance rate (SAP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ffective for loans first disbursed on or after October 1, 200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65DE-3718-4198-8E30-C36C9AF9384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College Cost Reduction and Access Act of 2007 - Budget Reconciliation</a:t>
            </a:r>
            <a:endParaRPr b="1" lang="en-US" sz="28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fferent reductions for “for profit”  and “not-for-profit” loan hold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r profit”: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- Stafford and Consolid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0.55% Redu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-  PLUS (incl. Grad PLUS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0.85% redu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738B-F71E-4DA1-B976-E3DEE3B5A13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College</a:t>
            </a: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ot-for-profit”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- Stafford and Consolid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0.40% redu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- PLUS (incl.Grad PLUS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0.70% redu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B729-E4EB-4D6A-A7B3-FAD20DACA63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College</a:t>
            </a: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ust be acting as “not-for-profit” on date of enactment unless waived by St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ot-for-Profit” defined as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- a State, or a political subdivision, authority, agency, or instrumentality of St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8019-5FFD-455A-9E23-ED701CC909C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College</a:t>
            </a: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-   Entity described under section 150(d) of IRS Co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- Entity described under section 501 (c)(3) of IRS Co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F23D-4DF2-4840-BBBE-61BEDDC5D6B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51120" y="852480"/>
            <a:ext cx="5387760" cy="5219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016080"/>
            <a:ext cx="670572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5407"/>
                </a:solidFill>
                <a:latin typeface="Verdana"/>
              </a:rPr>
              <a:t> </a:t>
            </a:r>
            <a:r>
              <a:rPr b="1" lang="en-US" sz="6000" spc="-1" strike="noStrike">
                <a:solidFill>
                  <a:srgbClr val="cc5407"/>
                </a:solidFill>
                <a:latin typeface="Verdana"/>
              </a:rPr>
              <a:t>Legislation</a:t>
            </a:r>
            <a:endParaRPr b="1" lang="en-US" sz="6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5410080"/>
            <a:ext cx="152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81F1-8DE9-422A-BAE5-01745EE846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College</a:t>
            </a: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- Eligible lender trustee acting on behalf of State, other State-related entity, or 150(d)(2) or 501(c)(3) ent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9BCF-79E7-42C0-BC8D-93EA4934182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College</a:t>
            </a: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nder Default Insurance Reduc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oans first disbursed on/after October 1, 2012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duced from 97% to 95%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9CE2-039E-4CB3-A43F-91148B25EF6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ceptional Performer Status Eliminate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ffective for lenders/lender servicers on October 1, 200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9118-7CB1-46F4-91A7-8587083F333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duces GA account maintenance fee from 0.10% to 0.06%- payments received on/after October 1, 200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9FF5-6EF5-4937-8CF5-3E4BDCA21C0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duces GA default collection retention to 16% - payments received on/after October 1, 200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B2FD-BEA4-4546-BAFB-619ACF7471C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51120" y="852480"/>
            <a:ext cx="5387760" cy="5219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84872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5407"/>
                </a:solidFill>
                <a:latin typeface="Verdana"/>
              </a:rPr>
              <a:t>2006-2007</a:t>
            </a:r>
            <a:br>
              <a:rPr sz="6000"/>
            </a:br>
            <a:r>
              <a:rPr b="1" lang="en-US" sz="6000" spc="-1" strike="noStrike">
                <a:solidFill>
                  <a:srgbClr val="cc5407"/>
                </a:solidFill>
                <a:latin typeface="Verdana"/>
              </a:rPr>
              <a:t>Negotiated Rulemaking</a:t>
            </a:r>
            <a:endParaRPr b="1" lang="en-US" sz="6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1080" y="5072040"/>
            <a:ext cx="48096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0544-2B9B-4FA3-BC1B-A13290DBFD5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09480" y="2286000"/>
            <a:ext cx="85345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71960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our Negotiating Teams –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oans – NPRM 8/7/0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G/National Smart – NPRM 8/7/0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eneral Provisions NPRM 8/8/0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creditation – No Regula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1836-F051-40B6-A6F0-EC56D99E6ED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441000"/>
            <a:ext cx="80010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LOANS NPRM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o Consensus” on NPR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PRM reflected what ED heard and deliberations of Secretary’s Loan Task For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5C60-BBB6-472F-AD3F-EBD09996E21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62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gulations Calendar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PRM:  June 12, 200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adline for Comments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ugust 13, 2007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41 Comments Receiv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1FC3-D180-4349-8253-65846C52F6D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62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gulations Calendar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nal rules:  no later than November 1, 200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ffective date:  July 1, 2008 with possible early voluntary implemen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176E-B84E-4893-92A4-30B8556EAAC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6320"/>
            <a:ext cx="86374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authorization of the Higher Education Ac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8120"/>
            <a:ext cx="81532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Higher Education Extension Act of 2007 (S.2258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tends the Higher Education Act through March 31, 2008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nate Reauthorization Bill-S.164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ouse Reauthorization Bill-H.R. 413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6ACE-EB95-48D5-9648-07990BF043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Loans Issues -All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400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mplification of the Deferment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 &amp; Complete Copy of Death Certific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tal and Permanent Disa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15080" y="1371240"/>
            <a:ext cx="400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SLDS Repor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rtification of Electronic Signa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tention on MP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185E-3CF6-4781-A406-538F39C3580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Loans Issues – FFEL/DL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aximum Loan Perio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dentity Thef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rad/Prof PLUS Loan Counsel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5122-2C11-4254-AA58-96010456103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Loans Issues – FFEL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hibited Inducemen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of Preferred Lend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FEL Loan Certific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requency of Capitaliz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ligible Lender Trustees (ELTs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67D7-D973-4496-86DB-072E28FCFA8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Loans Issues - Perki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andatory Assignment of Defaulted Loan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asonable Collection Costs Definition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ild and Family Services Cance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219280" y="1142640"/>
            <a:ext cx="3924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4D4B-98C6-4BEB-AC7E-ED5C7EE6088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implified Deferment Proces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§§682.210 and 685.204 allows deferment based on information from another loan holder or from NSLDS if: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w” borrower with first loan disbursed on or after July 1, 199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ritten or verbal deferment request receiv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D3A2-FA7C-4B5C-ABD3-C6DD149FE7C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implified Deferment Proces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FEL or Direct Loan deferment already granted for same reason and same perio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oan holder has no conflicting information on borrower’s eligibility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2AA3-4C80-4167-897B-A3BC0913ADD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implified Deferment Proces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otice to borrower requir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FEL and Direct Loan deferment may be granted only for Economic Hardship based on Perkins Loan defer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1B27-463C-4316-A821-B5A26906081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implified Deferment Proces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§§682.210 and 685.204 amended to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llow military service or armed forces deferment based 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request of borrower or borrower’s representativ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documentation establishing borrower eligibility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5048-0C2A-4824-917A-6593B0E74D3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implified Deferment Proces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d notice to the borrower and borrower’s representative, if applicable, that the deferment has been grante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48C0-D3A6-41A0-A02B-A160BA4FD44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6705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  <a:ea typeface="Times New Roman"/>
              </a:rPr>
              <a:t>Accurate</a:t>
            </a:r>
            <a:r>
              <a:rPr b="1" lang="en-US" sz="3200" spc="-1" strike="noStrike">
                <a:solidFill>
                  <a:srgbClr val="cc5407"/>
                </a:solidFill>
                <a:latin typeface="Verdana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  <a:ea typeface="Times New Roman"/>
              </a:rPr>
              <a:t>and Complete Copy of a Death Certificat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§682.402 for death discharges amended to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Courier New"/>
              </a:rPr>
              <a:t>allow use of an accurate and complete photocopy of a borrower’s death certific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F2F7-FAC2-4BA7-B329-68963AC2D5E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637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Other Legisl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7760"/>
            <a:ext cx="822960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EROES Act – Reauthorized and made permanent –September 30, 2007 (P.L. 110-93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llege Cost Reduction and Access Act of 2007 – September 27, 2007 (P.L. 110-84)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47B8-30D1-4600-8C8F-A45B3101AB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6858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  <a:ea typeface="Times New Roman"/>
              </a:rPr>
              <a:t>Accurate and Complete Copy of a Death Certificat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Courier New"/>
              </a:rPr>
              <a:t>NOTE:“exceptional circumstances” discharge by chief executive officer based on “other reliable information” unchang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80D1-2347-48D2-9778-F89E0AE34FC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0106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otal and Permanent Disability Discharg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gulations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governing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PD discharges restructured in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§682.402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ligibility requirements and the discharge process clarifi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9A92-0DE8-43E5-A351-173FCD87C3B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57040"/>
            <a:ext cx="80010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otal and Permanent Disability 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 Discharg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gulations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Require TPD applic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ubmission within 90 days of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ate certified by physicia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fine borrower’s TPD date as physician’s certification dat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35E0-D7F9-4BEB-B206-C6509D5F9FD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257040"/>
            <a:ext cx="80010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Total and Permanent Disability </a:t>
            </a: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(TPD) Discharge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O NOT disqualify the borrower for final discharge based on Title IV loans or earned income before the TPD dat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EF27-A0A8-4DE0-A01D-A22065ADA5F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Total and Permanent Disability (TPD) Discharge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DO disqualify the borrower for final discharge based on Title IV loans from TPD date until date of Secretary’s initial TPD determination and during the conditional discharge perio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3BDD-C9E8-4BF7-BEC9-809AE818F5B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Total and Permanent Disability (TPD) Discharge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ake the Conditional Discharge Period a 3-year prospective period from TPD dat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EAB6-3BE3-4D89-BE3D-CF09FA9F00C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91800"/>
            <a:ext cx="8001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Total and Permanent Disability (TPD) Discharge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gulations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Allow minimal earned income during conditional discharge period (no Title IV loans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Require notice to borrower that no payments on loan are due during the discharge proce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F2C1-659E-4D26-870C-FE45D404732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001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Total and Permanent Disability (TPD) Discharge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 only return of loan payments mad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the TPD date (date of physician certification of disability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E4DF-4D32-4370-8F58-F5DA02E4F2C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SLDS Reporting Requiremen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§§682.208, 682.401 and 682.414 amended to require enrollment and loan status reporting  (or any other Title IV-related data required by the Secretary) by Secretary’s established deadlin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81B8-2566-4346-BD72-30C6AEEF60F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SLDS Reporting Requiremen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adlines to be published in Federal Register Notice or DCL format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E621-3D5D-45B9-B11B-4997573D602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642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oan forgiveness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blic service employe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on-defaulted Direct Loan borrowers only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alance of principal and interest forgiven after 120 payments made after 10/1/200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DE5E-0C81-4B8B-BE66-535504A6DC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SLDS Reporting Requiremen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FEL guaranty agency enrollment and loan status reporting deadline to loan holders reduced from 60 to 35 day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2B23-D0C8-44B4-B704-87928DA0503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ertification of Electronic Signatures on Assigned MP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§§682.409 and 682.414 amended to require loan holders to maintain certification of creation and maintenance of E-MPN process, including borrower authentication and signature proces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BF43-AEA4-471E-A6C6-002C5CEC032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ertification of Electronic Signatures on Assigned MP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loan holders to retain an original electronically signed MPN for at least 3 years after all MPN’s loans are satisfie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0698-8DDF-4518-84B9-6B1F2D55D54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ertification of Electronic Signatures on Assigned MP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pon Secretary’s request: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oan holder must provide the certification and cooperate in all activities to enforce an assigned loan, including testimony in a legal proceed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495F-237A-4B40-BFAE-5B6E50D2695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ertification of Electronic Signatures on Assigned MP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d certification includes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Description of borrower’s steps   in executing the signed MP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py of each screen the borrower saw when signing the MPN electronicall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B2FD-ABA6-4972-9DA5-43DB18FB15B4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ertification of Electronic Signatures on Assigned FFEL Loan MP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d certification includes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scription of field edits and other security measures used to ensure data integrity through the loan origination proce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43D3-6BE9-43A0-A4E5-A722453AC95B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ertification of Electronic Signatures on Assigned FFEL Loan MPNs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d certification includes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scription of storage process/systems for signed MPNs to ensure document integrity (no alterations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96AB-A457-4FBD-8AB3-3FCFAD02DDDB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ertification of Electronic Signatures on Assigned FFEL Loan MPNs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d certification includes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ocumentation supporting the lender’s authentication  electronic signature proce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ll other evidence required by the Secretar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2862-560C-4B5B-959A-060BF9D97F6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ertification of Electronic Signatures on Assigned FFEL Loan MP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ocuments to resolve factual disputes on assigned loans required within 10 business days of ED’s reques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ull and complete access to electronic records required until all MPN-derived loans  satisfi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3E77-9B96-4112-B7FA-61ED890B133C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240" y="198000"/>
            <a:ext cx="853452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Record Retention Requirements on</a:t>
            </a:r>
            <a:br>
              <a:rPr sz="3200"/>
            </a:b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FFEL MPNs Assigned to the Department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§682.409 amended to require a  Guaranty Agency to submit lender disbursement records on assigned loans to 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0463-2945-4464-BAD2-DC251EF9593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642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FEL-only borrowers authorized to seek DL Consolidation for this purpose –effective July 1, 2008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80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80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d reconsolidation of existing FFEL Consolidation Loa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80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80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2DEE-BCE6-48BA-B7B9-DE0B0945ED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312840"/>
            <a:ext cx="90345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Maximum Loan Period 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§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682.603 and 682.604 amended to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liminate 12-month loan period maximum 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vide flexibility in non-term and nonstandard term program loan certific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vide flexibility in rescheduling “stop out and return” disbursements within 180-day period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4E8C-78B1-4F1D-AA86-898CF80CC17A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Loan Counseling for Grad/Prof PLUS Borrower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18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§682.603 requires, before certifying PLUS, comparative info to eligible Stafford non-applicant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S/Stafford interest rates, interest accrual periods, and grace perio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pportunity for Stafford Loan must be given before receipt of PLUS Loa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2FD2-C6F4-466C-B29D-1DB860182BDC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Loan Counseling for Grad/Prof PLUS Borrower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itial counseling required for all PLUS borrow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it counseling required for Stafford/PLUS combination borrower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326B-0D28-41CD-8961-1459A993026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661680"/>
            <a:ext cx="8839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Use of Eligible Lender Trustees (ELTs) by FFEL School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rial"/>
              </a:rPr>
              <a:t>Lender definition in §682.200 amended to prohibit new ELT  relationships with schools on/after September 30, 2006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rial"/>
              </a:rPr>
              <a:t>§682.602:HERA FFEL school lender limits applied to school ELT arrangements 1/1/2007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7EEC-DE18-4B53-BB85-5E6145783060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43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Frequency of Interest Capitalization in FFEL Program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§682.202 amended to limit frequency of capitalization on Federal Consolidation Loans during  in-school deferment perio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nders may only capitalize unpaid interest at expiration of deferment perio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ADA1-1678-45C9-863E-58DC0EC77EB2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280" y="661680"/>
            <a:ext cx="8839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Identity Theft Discharge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86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HERA  provided for a FFEL and Direct Loan discharge if borrower’s loan eligibility was falsely certified due to the crime of identity thef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mplementing Interim and Revised Final Regulations published in 2006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E15C-C638-4AED-93FA-C492FD26499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661680"/>
            <a:ext cx="8839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Identity Theft Discharge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263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§682.402 defines “crime” for  discharge as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udicial determination by local, State, or Federal court that “crime” of identity theft has occurred and  names perpetrato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 individual did not receive or benefit from loan proc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9752-0E07-41C4-88DA-C5E7DC68B66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Identity Theft Discharge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o change to existing discharge eligibility requiremen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pon receipt of valid identity theft report/notice alleging ID theft, lender may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uspend credit bureau reporting on a loan for 120 day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rant a 120-day administrative forbearanc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9CCC-C534-477A-B448-EB7E43B4191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chool FFEL Loan Certification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186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§682.603 (f) reorganized and amende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FFEL schools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May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Refuse/Delay certification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ased on choice of lender o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Assign lender to first-tim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orrower in award packag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r through other metho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2DC6-5D75-44B1-9C4E-4C6C914FDC8B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chool FFEL Loan Certification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186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ngage in a pattern or practice of discrimination to deny FFEL acce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fuse to certify or certify a reduced amount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xcept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n a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 case-by-case, documented basis with reason provided to borrower in writ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5C4F-34FA-498B-9833-26393901175B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ust repay under any combination of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income-based repay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income-contingent repay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10-year standard repay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any DL repayment based on 10-year repayment amou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7874-E214-4016-B95D-B4C9A75F32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839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School Preferred Lender List in FFELP 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Background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chool’s Op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llowed But Never Regula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volu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fault preven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plification E-transmission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peti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liferation of borrower benefi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A052-3724-4807-9B66-85B60F8D7C3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839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School Preferred Lender List in FFELP </a:t>
            </a:r>
            <a:br>
              <a:rPr sz="3200"/>
            </a:b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gulations requir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ist must contain at least 3 unaffiliated lend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naffiliated” means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o common control or ownershi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o common directors, trustees, or general partn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A9DC-A781-4A7B-8BA6-545C6CD99D0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661680"/>
            <a:ext cx="8839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School Preferred Lender List in FFELP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§682.212 requires a school to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sclose method/criteria for lender inclusion on the lis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Provide comparative information on borrower benefits offered by listed lender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Department to provide model format for school us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028E-E3C6-4687-BE65-872EAA5BCC74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280" y="661680"/>
            <a:ext cx="8839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School Preferred Lender List in FFELP 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Include prominent statement advising borrowers that use of the school’s preferred lender not requir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Update at least annuall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8E9D-81FA-48FF-88AE-51829BB9F28B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280" y="565200"/>
            <a:ext cx="8839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School Preferred Lender List in FFELP</a:t>
            </a:r>
            <a:r>
              <a:rPr b="1" lang="en-US" sz="44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62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nder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§682.212, a school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MUST NOT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Include lenders that were solicited and provided school or school- employee benefits, but may include lenders solicited for best borrower benefi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896E-D001-429C-A7AF-2C445FCBE23E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280" y="565200"/>
            <a:ext cx="8839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School Preferred Lender List in FFELP </a:t>
            </a:r>
            <a:r>
              <a:rPr b="1" lang="en-US" sz="44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110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nder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§682.212, a school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MUST NOT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Assign lender to first-time borrower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Cause any unnecessary delays in certification for borrowers not using one of the school’s preferred lender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10B3-7991-4FBB-BFD6-FEFEA6BB12F4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FFEL Program Lender and GA Prohibited Inducement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Background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Enacted as part of 1986 Amendments to HE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1998 Amendments to HEA allowed lenders and GAs to provide assistance to schools comparable to what Secretary provides to Direct Loan scho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ADC2-9960-4837-873E-1B07456B4525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FFEL Program Lender and GA Prohibited Inducement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ffects lender eligibility and participation and GA participation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ior regulations primarily reflect statutory provis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3B10-4C70-46D5-B88C-E37F6D34714F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FEL Program Lender and GA Prohibited Inducemen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gulations codify current interpretive and clarifying guidance on prohibited inducements and retain Prohibited and Permissible Activities format of 1989 DCL guidance (89-L-189, February 1989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83DA-AB96-4F26-A0A6-02C157EA6FDF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FEL Program Lender and GA Prohibited Inducemen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gulation introduce use of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- “rebuttable presumption” in formal enforcement ac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pands use of Federal Trade Commission’s (FTC) “Holder Rule” to loans for all scho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0624-6F0A-4575-8DA6-706E214F5740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ust be employed in public service during 120-payment perio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ust be employed in public service job at time of forgivenes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AAB5-95D7-4F45-A015-2276309649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FEL Program Prohibited Inducements -Lender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839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nder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 definition in §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682.200 forbids an eligible lender, directly or through an agent from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- Offering directly or indirectly, points, premiums, payments or other inducements to a school or any party to secure FFEL applications or loan volum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DAEA-5E59-4B4A-9D9A-D45AAA2F4393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FEL Program Prohibited Inducements -Lender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839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Such as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Payments to prospective borrowers, including prizes and additional financial ai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4818-052A-4643-B948-4813D9759270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FEL Program Prohibited Inducements - Lender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Payments or other benefits to a school, school-affiliated organization, or other individual for loan apps, volume of loans, or placement on a preferred lender lis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Payment and service on lender advisory bo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A936-6FD4-457A-9708-28B4379F2272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FEL Program Prohibited Inducements - Lender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794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ayments or other benefits to student lender reps on campus or other solicitors to secure loan applications from prospective borrow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9E14-050C-4A89-A60E-F9BBC60998E2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FEL Program Prohibited Inducements - Lender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794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ayment of referral fees, or processing fees not required to comply with federal or state law, to another lender or other par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6F99-AC8F-40CF-BE07-083C3E07315F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FEL Program Prohibited Inducements - Lender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49200" y="1523880"/>
            <a:ext cx="8794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ayment of conference or training registration, transportation, and lodging costs for school or school-affiliated organization employe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ayment of entertainment expenses related to lender-sponsored activities for the sam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B0E7-2352-479A-8133-0D3620BC3E12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FEL Program Prohibited Inducements - Lender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49200" y="1600200"/>
            <a:ext cx="8794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ndertaking philanthropic activities in exchange for FFEL applications, volume, or placement on a school’s  preferred lender lis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4938-11D6-40C0-9B87-DE16B4DA6EC9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FEL Program Prohibited Inducements - Lender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794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viding staffing services to a school, except a foreign school, other than on a short-term, non-recurring emergency basis, including compensated and third-party contractual service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8658-073F-4713-B71E-5256ADA018D5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FEL Program Prohibited Inducements - Lender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§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682.200 provides that an eligible lender may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NL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provide: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ssistance to schools comparable to that provided DL schools by the Secretar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7878-C265-4A03-94CE-EE7A9318B40E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FEL Program Prohibited Inducements - Lender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upport for or participation in student aid/financial literacy outreach with schools and guaranty agencies, except in-person initial and exit counsel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3FB3-2F64-48D5-A55F-6E6F28BCBDB8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yvette.payne</cp:lastModifiedBy>
  <dcterms:modified xsi:type="dcterms:W3CDTF">2007-12-05T18:30:15Z</dcterms:modified>
  <cp:revision>222</cp:revision>
  <dc:subject/>
  <dc:title>PowerPoint Presentation</dc:title>
</cp:coreProperties>
</file>