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9A89-1EA5-41DA-8280-3A5CB0C9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E74A-32C6-4E0C-B526-0168D032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946-923C-46DE-920F-B82ABC13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6941-0A6F-49A4-9801-85F98A6E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269-A707-4C0C-8E33-69055A9F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A3E6-7B9A-47A5-B369-87672A76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2DDE-50C0-4997-9888-46EFE16B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9A2A-F6A2-4DC5-9B5E-57FEF1FE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8682-1177-407F-897D-F4075A08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AB7D-5714-421C-A7F4-0CB479F5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5C4-8C0A-426B-866B-569E1CB0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F3F7-0451-48F9-A5C8-57299FEB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drop2007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0582-A17C-4425-B8C9-B21B4AFDFCB5}" type="slidenum">
              <a:rPr b="1" lang="en-US" sz="2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61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’s going on with the Federal Fun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atrina Turn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arbara Johns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nagement Plan (Con’t.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commendations for assistance and reporting progress status to the Depart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udited Financial Statement for the last 2 yea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6358-294A-4647-911A-130624FFB1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nagement Plan (Con’t.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bmitt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pprov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it Strateg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A8D7-2920-49A6-BF6A-18CC4016F0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mpacts to Federal Fun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count Maintenance Fee (AMF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uthority to Transfer funds was rescinded July 1, 200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8112-09E8-4FDC-9C9C-D6AC4C229D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mpacts to Federal Fun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fault Aversion Fee (DAF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mitted to Transfer DAF from Federal fund to Operating fund per lender’s request for default aversion on the lo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ECA1-11A5-4A1C-B3B3-1FA34C68A2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mpacts to Federal Fun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deral Default F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llection of 1% for loans guaranteed on/after July 1, 200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deposit of fee into GA Federal f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 may collect from borrower or pay from non-Federal 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ABCC-CD8A-4A9D-8922-88808A998E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mpacts to Federal Fun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serve Recal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nal installments of the $250 million Federal reserve recall as required by Section 422(i) of the HEA, (as amended) and held by GA’s were received as of Sept 1, 20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3A4-7E83-448F-BAA8-7035F7ECBA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mpacts to Federal Fun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der/Over reporting of Rehabilitated Loa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cess payments in the Federal fund due to incorrect method of calculating the reinsurance complement for rehabilitated loa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2AB6-F547-4065-9AC9-2D5ED1998E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mpacts to Federal Fun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orrect reporting identified during program review or self reported by G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A must request the Department’s approval prior to transferring funds from the Federal fund to the Operating fun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3AEF-95CE-449B-9A38-B3712E9D4D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mpacts to Federal Fun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Request the Fund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Required Document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s that should have been deposited/reported vs. Amounts tha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deposited/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that the funds were actually deposited into the Federal Fund  (Examples may include deposit receipts)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mbursement rate the GA used to calculated the incorrect amou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0CD2-8FC8-40C8-91E0-520D966715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conciliation of Annual   GAFR Data to Guaranty Agency’s Financial Statements</a:t>
            </a: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320004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s for GA Financial Stat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nual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6 months after audit period e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/Analy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6264-8A5F-409D-B451-335D893A67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gend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Federal F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deral Fund Reporting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s of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acts to the Federal F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nciliation of Annual GAFR Data to Guaranty Agency’s Financial Stat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15E0-720B-4D98-A386-CAC80AB3B9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appreciate your feedback and comments. We can be reached a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atrina Turn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rbara John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2.377.331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2.377.332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ail address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atrina.Turner@ed.gov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J.Johnson@ed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x: 202.275.09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3AF5-B748-4936-972F-F243A34082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is the Federal Fun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ederal fund reflects all assets held by the guaranty agency and is the property of the United Stat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A’s are required to maintain fiduciary responsibi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D1A1-F674-4F2A-9895-672CBC1405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ederal Fund Reporting   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quirement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nual Repo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 is reported as of September 30 on an accrual basis and is due by Dec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47CD-4C8D-4332-957E-F355456811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Uses of Dat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guarantor’s financial activities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deral &amp; Operating Fund Bala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nimum Reserve Rat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je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’s financial statements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asonability to NSLDS data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nimum Reserve Ratio; 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gger 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5661-8BBA-46F6-BC9A-16CA5D859E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nagement Pla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aranty Agencies are required to submit a management plan when the Secretary determines that the administrative or financial condition of the agency is in jeopardy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ica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nimum Reserve Rati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lining Federal F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ional 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9A5E-DD6D-44B8-B7F9-C98C93DBCF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nagement Plan (Con’t.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 is included in a Management Pl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usiness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cy descrip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usiness mod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1FE0-D6F8-4DFB-96A5-E28B4DA873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nagement Plan (Con’t.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etitors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nique characteristics and factors leading to financial instabili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54B2-F7C2-411E-AD23-BE6ECABD4D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nagement Plan (Con’t.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siness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cific actions taken or proposed to re-establish financial st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rget Da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ance Meas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ncial projections for Federal Fund and Operating Fund (3 to 5 yr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40CC-46ED-4471-AD15-F708142633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29:37Z</dcterms:modified>
  <cp:revision>227</cp:revision>
  <dc:subject/>
  <dc:title>PowerPoint Presentation</dc:title>
</cp:coreProperties>
</file>