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76C-1702-4CAA-BF63-E9CD06DB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C5A-5637-4FAC-B401-CD87D263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10A-8F57-4A54-AF09-8E7F91AF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00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5520" y="137124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00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5520" y="3639960"/>
            <a:ext cx="262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D33-7B36-4406-8F97-ED2BFE3B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894-8DF6-4B20-995C-8C7CEA8E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E94-B979-4508-AFA2-19306F0C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EEB-5879-4544-913E-A0CE5B09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D36-F00E-45CF-8CCB-08899F10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88394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52C-6E04-4D51-8E06-7C8573C1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5FC-83C3-47A3-A2DC-2537DE55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0280" y="363996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FDB-9FAA-432B-98CB-8182F8C2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371240"/>
            <a:ext cx="3978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639960"/>
            <a:ext cx="8153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1FD-C069-49C3-B1FE-C93150D2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drop2007" descr="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CFB7-F631-4BC0-B5AC-E06F9680FE1F}" type="slidenum">
              <a:rPr b="1" lang="en-US" sz="2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#61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’s going on with the Federal Fu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trina Turn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arbara John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agement Plan (Con’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commendations for assistance and reporting progress status to the Depar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udited Financial Statement for the last 2 yea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FBE-7197-4D9D-8CF0-4874A228EF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agement Plan (Con’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bmitt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pprov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it Strateg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430-2847-4558-93A3-8C3C1CEAE0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acts to Federal Fun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ount Maintenance Fee (AMF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uthority to Transfer funds was rescinded July 1, 200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8F52-4D78-4F8B-896E-08145320B6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acts to Federal Fun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fault Aversion Fee (DAF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mitted to Transfer DAF from Federal fund to Operating fund per lender’s request for default aversion on the lo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4352-35AC-4CAC-B9E4-5E48D15A2E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acts to Federal Fun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Default F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llection of 1% for loans guaranteed on/after July 1, 200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deposit of fee into GA Federal f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 may collect from borrower or pay from non-Federal 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997-40D8-4000-9722-9FEDF5A2A3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acts to Federal Fun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serve Recal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nal installments of the $250 million Federal reserve recall as required by Section 422(i) of the HEA, (as amended) and held by GA’s were received as of Sept 1, 200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C40-1FE3-48E3-B7F5-61B3B785F2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acts to Federal Fun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/Over reporting of Rehabilitated Loa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cess payments in the Federal fund due to incorrect method of calculating the reinsurance complement for rehabilitated loa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17C9-879E-4B5F-B6A7-500942F650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acts to Federal Fun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orrect reporting identified during program review or self reported by G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A must request the Department’s approval prior to transferring funds from the Federal fund to the Operating fu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292-960F-440A-9562-0AC092F86D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mpacts to Federal Fund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Request the Fund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Required Document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s that should have been deposited/reported vs. Amounts tha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deposited/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that the funds were actually deposited into the Federal Fund  (Examples may include deposit receipts)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mbursement rate the GA used to calculated the incorrect am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92C-DB31-4244-8C38-A81C87585A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conciliation of Annual   GAFR Data to Guaranty Agency’s Financial Statements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320004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s for GA Financial Stat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ual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6 months after audit period e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/Analy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8AC-1FD6-4D36-B16B-AFDF33C5A4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Federal F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Fund Reporting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s of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acts to the Federal F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nciliation of Annual GAFR Data to Guaranty Agency’s Financial Stat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FB3-27D8-4170-BF8F-4473863FA5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appreciate your feedback and comments. We can be reached a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trina Turn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rbara John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2.377.33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2.377.332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ail address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trina.Turner@ed.go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J.Johnson@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x: 202.275.09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872-2A04-44D6-87B9-59180BAA89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is the Federal Fun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deral fund reflects all assets held by the guaranty agency and is the property of the United Stat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A’s are required to maintain fiduciary responsibi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DB3-7398-47DE-B57D-1400DCC01D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ederal Fund Reporting   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quirement</a:t>
            </a: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nual Re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 is reported as of September 30 on an accrual basis and is due by Dec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FB9-DBBA-446D-A71E-DEAE8290A7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Uses of Dat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guarantor’s financial activities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deral &amp; Operating Fund Bala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um Reserve Rat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je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’s financial statements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asonability to NSLDS data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um Reserve Ratio; 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gger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9BD-2017-4D16-ACCE-F286C6438C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agement Pla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aranty Agencies are required to submit a management plan when the Secretary determines that the administrative or financial condition of the agency is in jeopardy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um Reserve Rati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lining Federal F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ional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16B-1ECC-4914-99B9-4385A34CFC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agement Plan (Con’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included in a Management Pl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usiness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cy descrip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usiness mod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548-7BAA-4E4B-BBCF-C1054D153F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agement Plan (Con’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etitors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ique characteristics and factors leading to financial instabil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F28-DAE3-484C-BD7A-68AFFD3239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Management Plan (Con’t.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siness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c actions taken or proposed to re-establish financial st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rget D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ance Mea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ncial projections for Federal Fund and Operating Fund (3 to 5 yr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085-703C-467B-981C-20BC992259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yvette.payne</cp:lastModifiedBy>
  <dcterms:modified xsi:type="dcterms:W3CDTF">2007-12-05T18:29:37Z</dcterms:modified>
  <cp:revision>227</cp:revision>
  <dc:subject/>
  <dc:title>PowerPoint Presentation</dc:title>
</cp:coreProperties>
</file>