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53E-7F2B-43F2-8976-E4BC4AB0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754-F054-406C-921D-D717DFDA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88D-F24B-42D4-95EF-433C503F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614-22E7-4EC5-9FA0-98387D0C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7B0-C674-4627-B31F-C0A711CE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4B9-7BA7-44D7-BF24-C1A75FD8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719-0CC1-4257-8EE4-77E6616E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4BE-5FC6-4D89-ADF5-37057E2D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1C3-1CFA-4E1E-BF80-327C2679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843-9810-4DF3-B059-CF1C2C7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679-FBB7-441C-B30A-2D4875C2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885-35A5-45A9-899D-E8EC3AB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96E8-6331-4A9E-AAEA-D3E904FE3BD3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erry.Wallace@ed.gov" TargetMode="External"/><Relationship Id="rId2" Type="http://schemas.openxmlformats.org/officeDocument/2006/relationships/hyperlink" Target="mailto:Ben.Chiu@ed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60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ancial Institution Scorecard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erry Walla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en Chi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A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centage of Change in Default Portfol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rtfolio Character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ate of Reinsur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count Maintenance Compari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tal Collections on Defaulted Loans Current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E30-7B08-4EEC-87CD-00930F8B11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A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story of Total Collections on Defaulted Lo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rket Sha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 in Loan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it Pass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FEL Colle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rect Collection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CEE-280F-479C-BDCD-59F5AC8FAB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A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habilitation Colle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AA3-8435-4B19-8BFA-F0B984B65A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GA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serve Leve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nimum Reserve Leve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sh Liquid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8B9-4B71-495E-BB8D-74F576DED7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GA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ims and Cohort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cent Change in Default Portfol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rtfolio Character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EB1-81B4-4AC3-9C27-1685136C3E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GA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rect Collection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istory of Total Collections on Defaulted Lo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480-E52B-4343-9FAE-A7505BE664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Arial"/>
              </a:rPr>
              <a:t>Sample Lender Scoreca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4BF-A47D-40E5-85F4-E2D641F6C1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ender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ortfolio Character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Default Claim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hange in Default Claim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Delinquency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hange in Delinquency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Origination Fee Vari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Interest Adjust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7EB-7F7C-4F55-9209-BB43DF92FC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ender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ohort Default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hange in Loan Stat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urcha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Sa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Capitalized Interes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Voi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Program Review 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708-4A54-44ED-93A1-6DAD3A98E7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ender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ED 799 Late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0E0-8A2D-445A-B254-04196DC918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inancial Institution Scorecard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are scorecard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orecard training tool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cess for refining scorec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ing scorecards to measure perform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387-CC92-4192-A75D-E09B85589F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Lender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rtfolio Characteristi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urcha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E56-F849-475C-8860-269E48F343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Lender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fault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fault Claim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 in Default Claim R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917-558E-4909-83B7-4A43A4BC3E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Key Lender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just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rigination Fee Vari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est Adjust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 799 Lat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6EA-75A9-47FB-8AE5-B356F872B7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Jerry Wallace (214) 661-951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Ben Chiu (415) 486-562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Jerry.Wallace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Ben.Chiu@ed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B29-AFDD-4D9B-AC06-3573D16672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Arial"/>
              </a:rPr>
              <a:t>What are Scorecards?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sk Management too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rogram Integ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rogram Compli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to GA and lender via FPD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fp.ed.gov/PORTALSWebApp/fp/dmart.js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95E-4561-4715-B2F3-711C2CBA6B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ata Mart Training Tool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nline Training Availa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ttp://www.fp.ed.gov/fp/attachments/fms_data_nslds/intro.ht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14B-DAD3-49CF-81DC-6EF49B97D7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cess for Refining Scorecar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1 – FPDM released for internal u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2 – GA access to FPD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3 - Lender Scorecard Develop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4 – GA Scorecard Develop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7 – Lender access to FPD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A65-17FA-4C73-9956-78FBF5C1A1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cess for Refining Scorecar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wer Users Gro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-weekly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PDMHelp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4A2-55EB-4CC5-8279-9155DA6124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asuring Performance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ing Scorecards to Measure Performanc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861-4C78-4C49-ADC5-CAA1D79596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Arial"/>
              </a:rPr>
              <a:t>Sample GA Scoreca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382760"/>
            <a:ext cx="8686800" cy="448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7E7-D53E-4DCB-957D-1A24C161AE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A Performance Indicato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 in Federal F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nimum Reserve Rat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sh Liquid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 in Operating F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jected Minimum Reserv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hort Default Rate (Data based on two fiscal years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355-9D86-4390-BCA1-57CD64AF68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9:16Z</dcterms:modified>
  <cp:revision>238</cp:revision>
  <dc:subject/>
  <dc:title>PowerPoint Presentation</dc:title>
</cp:coreProperties>
</file>