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509-FBD8-40CD-AE27-20ED7F5C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072-E576-4AB4-94FC-1B0E8B00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474-2CC5-4700-8ABD-1B0691EE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A08-CADF-46C7-BD71-A10CF0D2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AE7-C475-4988-9C0F-A7EC05DC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35C-F5A6-4983-AD87-6340D648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66D1-24F3-4E90-8FFF-1F08B18D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F25-4894-4BB5-A906-D4E935F5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FD8-1921-455B-A0ED-D87ED253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006-77CC-4150-BCE5-153A463A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99A-C089-4FA0-A385-D5DAF90C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D27-4E81-4DB8-8C7F-3516EBC3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7892-6196-49CD-B0E1-A7AB11DBFF22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erry.Wallace@ed.gov" TargetMode="External"/><Relationship Id="rId2" Type="http://schemas.openxmlformats.org/officeDocument/2006/relationships/hyperlink" Target="mailto:Ben.Chiu@ed.go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60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ancial Institution Scorecard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erry Walla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en Chi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A Performance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rcentage of Change in Default Portfol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rtfolio Characteristic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ate of Reinsur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ccount Maintenance Comparis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tal Collections on Defaulted Loans Current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1D1-40C0-46BC-94D2-FED89214DB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A Performance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istory of Total Collections on Defaulted Loa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rket Sha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nge in Loan Stat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it Pass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FEL Colle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rect Collection Activ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9F6-8DED-4D68-8DC1-998DE3D694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A Performance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habilitation Colle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77D-446C-4E6F-8E80-34627B5BA9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Key GA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serve Leve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inimum Reserve Leve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sh Liquid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449-0904-4A9A-8752-5AFC4BE832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Key GA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ims and Cohort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rcent Change in Default Portfol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rtfolio Characteristic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F19-476C-4515-A03B-AFDAE993FE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Key GA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lle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rect Collection Activ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istory of Total Collections on Defaulted Loa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BBD-BF4C-4985-8E64-1D6F3C3651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Arial"/>
                <a:ea typeface="Arial"/>
              </a:rPr>
              <a:t>Sample Lender Scorecar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4582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6FB-C370-4620-8B76-20075CFFF4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ender Performance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Portfolio Characteristic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Default Claim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Change in Default Claim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Delinquency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Change in Delinquency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Origination Fee Vari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Interest Adjust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569A-0E1E-450C-A7D7-522DD9F2CE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ender Performance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Cohort Default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Change in Loan Stat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Purcha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Sa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Capitalized Interes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Voi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Program Review Resul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D541-CBD9-4C51-B566-EE39B9070C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ender Performance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ED 799 Late       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D36-6BCA-4167-A870-7E6DAD9D8A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nancial Institution Scorecard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are scorecard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orecard training tool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cess for refining scorec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ing scorecards to measure perform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ECD-F14A-41FD-A41D-76787E83B7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Key Lender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rtfolio Characteristic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urcha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a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290-A1E7-4A53-85AB-94E191351E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Key Lender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fault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fault Claim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nge in Default Claim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853-88BD-433E-9B43-1C9A6B0A8E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Key Lender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djust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rigination Fee Vari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est Adjust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 799 Lat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36C-9AB1-438E-8071-50B691DF07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one: Jerry Wallace (214) 661-951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one: Ben Chiu (415) 486-562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Jerry.Wallace@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Ben.Chiu@ed.go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8A65-C5FA-45D5-A519-0B89C9D068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Arial"/>
                <a:ea typeface="Arial"/>
              </a:rPr>
              <a:t>What are Scorecards?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sk Management too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Program Integ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Program Compli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to GA and lender via FPD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fp.ed.gov/PORTALSWebApp/fp/dmart.js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97C-4141-4ED4-A6C2-597DB3A0D8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ata Mart Training Tool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nline Training Availab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ttp://www.fp.ed.gov/fp/attachments/fms_data_nslds/intro.ht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09CE-A893-4294-A25B-8BC6742304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ocess for Refining Scorecar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1 – FPDM released for internal us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2 – GA access to FPD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3 - Lender Scorecard Develop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4 – GA Scorecard Develop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7 – Lender access to FPD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E74-17DA-43FF-B95A-1EC0C4DE55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ocess for Refining Scorecar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wer Users Gro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-weekly meet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PDMHelp@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1883-DD44-4AFA-9AA6-76BCAA8317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easuring Performance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ing Scorecards to Measure Performanc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C0D3-DDF5-4BD1-8CB7-115F80728A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Arial"/>
                <a:ea typeface="Arial"/>
              </a:rPr>
              <a:t>Sample GA Scorecar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382760"/>
            <a:ext cx="8686800" cy="448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2C0-B8B3-4809-B7AB-82EA524A28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A Performance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nge in Federal Fu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inimum Reserve Rat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sh Liquid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nge in Operating Fu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jected Minimum Reserv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hort Default Rate (Data based on two fiscal year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A1A-EDE4-4786-A2DF-F895A83C18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9:16Z</dcterms:modified>
  <cp:revision>238</cp:revision>
  <dc:subject/>
  <dc:title>PowerPoint Presentation</dc:title>
</cp:coreProperties>
</file>