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E35-00D8-4C84-B1E1-BC24A77B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BBD-C4BC-4BC7-B008-4B07F26A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241-0BE6-476C-9120-3C773512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00B-772F-4466-B989-2899A58C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F75-4BAD-4182-A8C4-FA9E79B7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F6F-5B9B-4E35-A20B-9A26BF8F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24F-494E-4F31-9E7D-92A44FC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763-4056-4AAF-AC7E-AAE3584F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7A5-E703-4883-AC82-BC0C1CD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F7F-DAE8-4490-8545-F5C0FB52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F72-A299-457C-BA34-B974252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F02-82F4-4690-8EE0-B2F29038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DD6B-7324-4157-A056-21ABBD23BC31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Inducement@ED.gov" TargetMode="External"/><Relationship Id="rId2" Type="http://schemas.openxmlformats.org/officeDocument/2006/relationships/hyperlink" Target="mailto:LVC.Referral@ed.gov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erecedes.Zajicek@ed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56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erging Oversight Iss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ecedes Zajice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erry Wal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Times New Roman"/>
              </a:rPr>
              <a:t>§ 682 203   Responsible parties…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gation of functio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chool, lender, or guaranty agency may contract or otherwise delegate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contracting or other delegation of functions does not relieve the school, lender, or guaranty agency of its duty to comply with the requirements of the Act and this par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124-6D54-4493-89E1-77FF787C83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Times New Roman"/>
              </a:rPr>
              <a:t>§ 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682.416 </a:t>
            </a:r>
            <a:r>
              <a:rPr b="1" lang="en-US" sz="4000" spc="-1" strike="noStrike">
                <a:solidFill>
                  <a:srgbClr val="cc5407"/>
                </a:solidFill>
                <a:latin typeface="Arial Unicode MS"/>
                <a:ea typeface="Times New Roman"/>
              </a:rPr>
              <a:t>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82.416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quirements for third-party servic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s for administrative capabil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ine the servicer's compliance with the Act and applicable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F3F-DB37-4AD4-832A-3CC97D0B3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Times New Roman"/>
              </a:rPr>
              <a:t>§ 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682.416 </a:t>
            </a:r>
            <a:r>
              <a:rPr b="1" lang="en-US" sz="4000" spc="-1" strike="noStrike">
                <a:solidFill>
                  <a:srgbClr val="cc5407"/>
                </a:solidFill>
                <a:latin typeface="Arial Unicode MS"/>
                <a:ea typeface="Times New Roman"/>
              </a:rPr>
              <a:t>Requirements </a:t>
            </a:r>
            <a:r>
              <a:rPr b="1" lang="en-US" sz="3200" spc="-1" strike="noStrike">
                <a:solidFill>
                  <a:srgbClr val="cc5407"/>
                </a:solidFill>
                <a:latin typeface="Arial Unicode MS"/>
                <a:ea typeface="Times New Roman"/>
              </a:rPr>
              <a:t>(Con’t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s of financial responsibilit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ine the servicer's financial management of its FFEL program activ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A4F-A3C5-4A67-B1E4-61E2914927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9.5% Audit 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partment Guid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CL: FP 07-01, 1/23/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ble requirements of the HEA and regulations that control loans acquired with tax exemp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CL: FP-07-06, 4/27/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Requirements for 9.5 Percent Minimum Special Allowance Paymen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539-9C14-4A2F-84E4-88AF4A2321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ersonally Identifiable Information</a:t>
            </a: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 (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II)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partment Guid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CL: GEN-07-05, 9/7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participants are not subject to Federal FO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lt with legal counsel to ensure compliance with FER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SLDS Ac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085-3460-4793-A86C-999FE7D226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uaranty</a:t>
            </a: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 Agency Stability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cy Reserve leve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s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risk sharing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 GA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 activities and system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5BA-6C5A-431D-8BF2-1B2C683CBE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 and Com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F2E-9303-4F26-8F9F-884EA468A3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mail/Websit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Inducement@ED.gov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 o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lephone: 646-428-3813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Verification Certific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LVC.Referral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RPA: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Verdana"/>
              </a:rPr>
              <a:t>http://www.ed.gov/policy/gen/guid/fpco/index.htm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B3E-6004-4AEA-9479-77D08E451D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act inform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recedes Zajicek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312-730-15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Merecedes.Zajicek@ed.gov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erry Walla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214-661-951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Jerry.Wallace@ed.go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44E-AA84-4DA7-A580-BF57771083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sight Objective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mote program complianc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 improper pay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sure program integr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299-2B24-4AC5-AF1C-D5F5F01871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merging Oversight Issues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nder Induc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Loan Verification Certific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Loan Consolid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GA and Collection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9.5% Audi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ersonally Identifiable Information (PI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Guaranty Agency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0AD-C2A0-439D-8333-33A8A416BF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ender Induc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guidan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r Colleague, FP-07-04, 3/30/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rrower’s right to choose l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Announcement, 9/14/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ter from the Secretary August 9, 2007 regarding proposed regul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L:  95-L-178 March 1995, school lenders to observe prohibitions and lim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L:  89-L-129 February 1989, guidance on prohibited and permissibl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982-E5C6-4C56-9910-F059860A2F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Arial"/>
              </a:rPr>
              <a:t>Loan Verification Certifica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Guid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CL: FP-07-07/Gen-07-03, 5/22/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ing LVC’s Timel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ates consolidating all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s capitalized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ens likelihood of interest rate chang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2AA-5A5A-4ED5-B920-528780C05D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Arial"/>
              </a:rPr>
              <a:t>Loan Verification Certificate con’t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LVC reviewed by Lenders could disclo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rors in setting up loa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s made to ineligible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s made by or loans sold to ineligible l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FBD-B7CE-45DF-9C68-7511B8118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 Consolidation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keting of Consolidation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sight by ELT to ensure that activities of the beneficiary are in compliance with FFEL program rules and regulation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85C-4761-44AB-BE0D-7BD5484280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Times New Roman"/>
              </a:rPr>
              <a:t>. § 682 203   Responsible parties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§ 682.203   Responsible parties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b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ustee responsibili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 lender that holds a loan in its capacity as a trustee assumes responsibility for complying with all statutory and regulatory requirements imposed on any other holders of a lo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B1C-EB9F-4649-8F6A-58D9BBC811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Arial"/>
              </a:rPr>
              <a:t>GA and Collection Agenci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lict of inter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Pre-claim &amp; post default collection agency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ion Agency Contra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comply with ED rules and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 must maintain sufficient oversight to protect integrity of student loan program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169-AC5D-4F12-9FA5-6FE90DFFAA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7:39Z</dcterms:modified>
  <cp:revision>251</cp:revision>
  <dc:subject/>
  <dc:title>PowerPoint Presentation</dc:title>
</cp:coreProperties>
</file>