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6AB-573D-4CE0-86F8-50B44492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308-E289-4927-9A15-0B570A3E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1DA-0824-42B7-B8B3-09272C1A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287-1592-4B96-8C57-2A117E1F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77F-1704-4E6B-9AFB-4334FEE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54E-A703-4A9C-B6B1-5F669F9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034-1C9C-456B-A1A8-D4DB64DD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B4-1010-4AEC-9DEF-863F09B7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399-1590-4847-A4C6-83A44D5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8AE-B88C-450C-A2E4-69334BD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44C-8CDA-464D-BBE6-CBD9DCC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51B-E185-436F-BB06-9F9B18F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38E-5397-4E70-9CD7-EE92EDCC39E9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Inducement@ED.gov" TargetMode="External"/><Relationship Id="rId2" Type="http://schemas.openxmlformats.org/officeDocument/2006/relationships/hyperlink" Target="mailto:LVC.Referral@ed.go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erecedes.Zajicek@ed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56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erging Oversight Iss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ecedes Zajice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682 203   Responsible parties…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gation of functio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chool, lender, or guaranty agency may contract or otherwise delegat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ntracting or other delegation of functions does not relieve the school, lender, or guaranty agency of its duty to comply with the requirements of the Act and this par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F89-81EE-4E87-8625-77C73E400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682.416 </a:t>
            </a:r>
            <a:r>
              <a:rPr b="1" lang="en-US" sz="40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682.416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quirements for third-party servic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 for administrative capabil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ine the servicer's compliance with the Act and applicable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9E-9D88-4AE2-9D8A-14F20904C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§ 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682.416 </a:t>
            </a:r>
            <a:r>
              <a:rPr b="1" lang="en-US" sz="40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Requirements </a:t>
            </a:r>
            <a:r>
              <a:rPr b="1" lang="en-US" sz="3200" spc="-1" strike="noStrike">
                <a:solidFill>
                  <a:srgbClr val="cc5407"/>
                </a:solidFill>
                <a:latin typeface="Arial Unicode MS"/>
                <a:ea typeface="Times New Roman"/>
              </a:rPr>
              <a:t>(Con’t)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Standards of financial responsibil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ine the servicer's financial management of its FFEL program activ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DC0-1680-4640-A07F-342448F17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9.5% Audit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CL: FP 07-01, 1/23/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ble requirements of the HEA and regulations that control loans acquired with tax exemp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CL: FP-07-06, 4/27/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quirements for 9.5 Percent Minimum Special Allowance Paymen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706-D707-4D0B-9851-F436CB115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ersonally Identifiable Information</a:t>
            </a:r>
            <a:r>
              <a:rPr b="0" lang="en-US" sz="3600" spc="-1" strike="noStrike">
                <a:solidFill>
                  <a:srgbClr val="cc5407"/>
                </a:solidFill>
                <a:latin typeface="Verdana"/>
              </a:rPr>
              <a:t> (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II)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CL: GEN-07-05, 9/7/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tle IV participants are not subject to Federal FO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lt with legal counsel to ensure compliance with FER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SLDS A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A7D-A263-42A2-9AA5-B94252AF6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uaranty</a:t>
            </a:r>
            <a:r>
              <a:rPr b="1" lang="en-US" sz="4400" spc="-1" strike="noStrike">
                <a:solidFill>
                  <a:srgbClr val="cc5407"/>
                </a:solidFill>
                <a:latin typeface="Verdana"/>
              </a:rPr>
              <a:t> Agency Stability</a:t>
            </a:r>
            <a:endParaRPr b="1" lang="en-US" sz="4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cy Reserve leve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ors: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risk sharing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GA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 activities and system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35B-14AF-40A2-BDC9-51A62DCCA2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 and Com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 appreciate your feedbac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BD9-D85F-49FF-9007-D9420AC7EF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mail/Websit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Inducement@ED.gov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 or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lephone: 646-428-3813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an Verification Certific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VC.Referral@ed.gov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RPA: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Verdana"/>
              </a:rPr>
              <a:t>http://www.ed.gov/policy/gen/guid/fpco/index.htm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BD5-9CAA-41CF-B440-619351650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act inform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recedes Zajicek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312-730-15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erecedes.Zajicek@ed.gov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erry Wall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one: 214-661-951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: Jerry.Wallace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3A2-5690-4310-B76F-B5EA2DC5F0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versight Objective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mote program compli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duce improper pay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sure program integr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841-8772-4809-8762-0C22CDD2B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merging Oversight Issues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nder Indu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oan Verification Certif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Loan Consolid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A and Collection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9.5% Audi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Personally Identifiable Information (P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Guaranty Agency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77C-7387-4288-A076-3875A86AD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ender Induc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guidan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r Colleague, FP-07-04, 3/30/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rrower’s right to choose l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nnouncement, 9/14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ter from the Secretary August 9, 2007 regarding proposed regul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L:  95-L-178 March 1995, school lenders to observe prohibitions and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L:  89-L-129 February 1989, guidance on prohibited and permissibl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18B-1B40-4E46-8590-6E0997EEFB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Verification Certific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partment Guid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CL: FP-07-07/Gen-07-03, 5/22/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ing LVC’s Timel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ates consolidating all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s capitalized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ens likelihood of interest rate chan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777-440A-4A58-A540-40792F984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Loan Verification Certificate con’t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LVC reviewed by Lenders could disclo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rors in setting up loa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 made to ineligible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 made by or loans sold to ineligible len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F5B-9AC0-472A-B0CD-6DDF27624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Loan Consolidations 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keting of Consolidation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sight by ELT to ensure that activities of the beneficiary are in compliance with FFEL program rules and regulatio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CBC-2D9E-4D8A-8C17-CBCC49EBE3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Arial"/>
                <a:ea typeface="Times New Roman"/>
              </a:rPr>
              <a:t>. § 682 203   Responsible parties…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§ 682.203   Responsible parties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b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stee responsibil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lender that holds a loan in its capacity as a trustee assumes responsibility for complying with all statutory and regulatory requirements imposed on any other holders of a lo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BF2-5839-4D78-AF50-F1C5D132B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Arial"/>
              </a:rPr>
              <a:t>GA and Collection Agenci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lict of inter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Pre-claim &amp; post default collection agency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ion Agency Contra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omply with ED rules and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 must maintain sufficient oversight to protect integrity of student loan program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1AA-4C6B-4C8F-BE90-9F2B9FE0D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7:39Z</dcterms:modified>
  <cp:revision>251</cp:revision>
  <dc:subject/>
  <dc:title>PowerPoint Presentation</dc:title>
</cp:coreProperties>
</file>