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6D47-286A-4809-98B9-D877D5C0C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BF07-D530-4DDF-A642-6E2A0F9E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F3B9-EDF1-4342-B33C-1B2C32E8E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900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55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900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55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DF4C-955C-45B0-BDC9-51257E963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D512-DDD1-4CF5-A701-E145178E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F8E1-A335-4C94-BBE5-1DB1F7EE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5A0D-2B45-40D6-AAA3-B218416E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F389-2B75-4082-AF6A-51E346E3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88394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BFE6-74D1-4995-AB1E-CB9DCCC6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A513-E22E-4681-B4C5-7A2B237E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3B8F-CF16-4B52-A763-6C9B70CF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9459-FE8B-4757-A857-4BFCFF88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DE79-A8C6-40DC-A353-95BB2C1B400A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#55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kip Trace Tools and Techniqu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avid S. Hammond, J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oth guaranty agencies and schools are eligible to participate in the Federal Student Aid Skip Trace program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C290-A0BD-4B7A-B25F-68AFC8958A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Location, Location, Loc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kip trace Participation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uaranty Agency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choo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afeguard Repor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age Repor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AIG Gatewa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6706-5442-44CA-BD3A-47F968133A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Location, Location, Loc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4228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nal Recovery Specia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ternal Recove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19720" y="1828800"/>
            <a:ext cx="388620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3164-9B90-43A6-8E63-5C65432640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e appreciate your feedback and comments. We can be reached at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:202-377-312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ail:David.Hammond@ed.g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x:202-377-314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E998-60C2-4C20-9C29-332428D722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yvette.payne</cp:lastModifiedBy>
  <dcterms:modified xsi:type="dcterms:W3CDTF">2007-12-05T18:27:21Z</dcterms:modified>
  <cp:revision>212</cp:revision>
  <dc:subject/>
  <dc:title>PowerPoint Presentation</dc:title>
</cp:coreProperties>
</file>