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CA4-DD83-4E1E-BDDD-4FEDDF17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E5B-6017-4F18-912D-4B6E733E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D8A-C269-470B-8B74-FB8BC95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482-5827-4429-9AF0-F4771FFD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F2A-B4F4-4541-9F74-B2702FB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55F-C373-45CA-A0AD-FF0B078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5BF-D443-4050-9EA1-91A4D3A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A1F-0F62-4DAD-A433-894EF7F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90E-4F0F-49A5-86EF-10B2597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E92-D33E-4232-B89D-B0956DF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403-7236-41FE-9793-06FF41A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090-C21A-499A-A45A-1AB092F3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E7F-4B11-47A4-90A1-906BBE329B1A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5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ip Trace Tools and Techn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vid S. Hammond, J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h guaranty agencies and schools are eligible to participate in the Federal Student Aid Skip Trace program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8C-5519-4317-9864-73C4F7B59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cation, Location, 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ip trace Particip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uaranty Agenc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feguard Repo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age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Gatewa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972-64AD-4178-81F5-4BAC09A69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cation, Location, Lo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Recovery Specia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Recove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38862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2F3-A840-436A-B09F-3814FDC97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202-377-31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David.Hammond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202-377-314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683-7DE5-42F7-907E-5DF965D18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7:21Z</dcterms:modified>
  <cp:revision>212</cp:revision>
  <dc:subject/>
  <dc:title>PowerPoint Presentation</dc:title>
</cp:coreProperties>
</file>