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382C7-046A-468F-8866-267B50015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30D25-4C54-4B24-9973-DE72363F1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BF658-8ED7-493B-A055-A4550FC55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C9236-8534-4FA4-B24C-EF7D97693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95D35-CA45-49E3-86BE-16DA4B3F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570C9-BBD5-4BBF-B795-132B35DD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49CF-7535-4FA5-9BB3-EC68D8B19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9BCD-4E53-4ACF-8184-B86A9EAC6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03D9B-5364-41AB-82E2-2A88BDB98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48DD-BFC7-4016-BC6F-B4EFB4598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2B70-DE1F-4F80-9523-8D9BE308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91C7-7106-448D-A8C8-BEDA6CBD2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3D28-77A9-4C82-A2C9-0FA7A03F5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3</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295280" y="21337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olidation Loan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ela Mora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Office of Postsecondary Educati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ela Eliadi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Student Ai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ngle eligible loan can be consolidated in FFEL or Direct Loa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in-school status loans ineligible (excluding in-school deferment status loan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85412B8-CF2F-488D-809E-6BB9A90DDB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1000"/>
          </a:bodyPr>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12120" indent="-31212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no early conversion to repayment on in-school loans  </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grace or repayment status required (repayment includes deferment and forbearance)</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AE6AFC0-B7D7-438C-B8F4-6BD555248F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049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5" name="PlaceHolder 2"/>
          <p:cNvSpPr>
            <a:spLocks noGrp="1"/>
          </p:cNvSpPr>
          <p:nvPr>
            <p:ph/>
          </p:nvPr>
        </p:nvSpPr>
        <p:spPr>
          <a:xfrm>
            <a:off x="609120" y="1218960"/>
            <a:ext cx="8153640" cy="4343400"/>
          </a:xfrm>
          <a:prstGeom prst="rect">
            <a:avLst/>
          </a:prstGeom>
          <a:noFill/>
          <a:ln w="0">
            <a:noFill/>
          </a:ln>
        </p:spPr>
        <p:txBody>
          <a:bodyPr lIns="90000" rIns="90000" tIns="46800" bIns="46800" anchor="t">
            <a:normAutofit fontScale="78000"/>
          </a:bodyPr>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267480" indent="-267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defaulted loans eligible if</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atisfactory arrangements</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ade or agree to repay under</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ncome-sensitive or ICR</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judgment and AWG loans</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neligible</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F17985C-D115-4AE0-B847-C649C5788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5000"/>
          </a:bodyPr>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Existing Consolidation Loan  eligible only with additional eligible loan except for delinquent/defaulted FFEL borrower seeking ICR in Direct Loans </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96498FA-3A8A-4BF6-A93B-3F50F637A8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VC Request and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34 CFR 682.206(f)(1)(I)</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34 CFR 682.209(j)</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D9602D3-481E-4AB6-9EDE-3EBAB11840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1" name="PlaceHolder 2"/>
          <p:cNvSpPr>
            <a:spLocks noGrp="1"/>
          </p:cNvSpPr>
          <p:nvPr>
            <p:ph/>
          </p:nvPr>
        </p:nvSpPr>
        <p:spPr>
          <a:xfrm>
            <a:off x="304920" y="1294920"/>
            <a:ext cx="8153280" cy="4343400"/>
          </a:xfrm>
          <a:prstGeom prst="rect">
            <a:avLst/>
          </a:prstGeom>
          <a:noFill/>
          <a:ln w="0">
            <a:noFill/>
          </a:ln>
        </p:spPr>
        <p:txBody>
          <a:bodyPr lIns="90000" rIns="90000" tIns="46800" bIns="46800" anchor="t">
            <a:normAutofit fontScale="96000"/>
          </a:bodyPr>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VC Completion- </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34 CFR 682.209(j)</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a:t>
            </a:r>
            <a:r>
              <a:rPr b="0" lang="en-US" sz="2800" spc="-1" strike="noStrike">
                <a:solidFill>
                  <a:srgbClr val="000000"/>
                </a:solidFill>
                <a:latin typeface="Verdana"/>
              </a:rPr>
              <a:t>Within 10 business days after receiving a written request for certification from a lender under §682.206(f), a holder shall either provide the requesting lender the certification or, if it is unable to certify to the matters described in that paragraph, provide the requesting lender …with a written explanation of the reason for the inability to provide the certification “ </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6F2C48F-9994-4372-8A1A-E00E21B32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within 10 business days means for completion and mailing or e-transmiss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16FA04F-F4D5-41DA-9EBE-82C0C11602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9000"/>
          </a:bodyPr>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39480" indent="-339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pplies to lender or </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its servicer</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ceipt by consolidating</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ender may be outside 10</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usiness day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976607A-82F3-4CF6-9D89-8D55459203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unterproposal by loan holder within 10 business days permissible but must be concluded within that period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38A1681-F7FF-4BD5-BBC5-C34F7C5AE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direct notice t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solidating lender canceling</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ending application requir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at period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BD912C2-4F4C-4955-9C2A-C06EE0A91E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4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gisl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ar Colleague Letter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Eligibility</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Noncomple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icy Q’s &amp; A’s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EFDA0C5-78EF-4543-A3C6-13D3D3E485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direct notification to consolidating lender canceling may be oral or written with no acknowledgment necessar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80F4326-5002-4023-9F14-EEC28BA64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non-completion by hold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ritten explanation from</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holder requir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C3F0D9A-0A70-41C6-9D5D-6F9A29422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78000"/>
          </a:bodyPr>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267480" indent="-267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non-completion by holder</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ame 10-business day period</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pplies</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f technical malfunction, </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mpletion automatic when </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resolved</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DB4D127-EAD8-46F2-AE7B-61EDCD2336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8000"/>
          </a:bodyPr>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completion</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holder never held the</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or no longer holds the</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sold, default claim filed,</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or assigned to ED)        </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B9B90F9-C740-47CB-956B-7D16E01146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9" name="PlaceHolder 2"/>
          <p:cNvSpPr>
            <a:spLocks noGrp="1"/>
          </p:cNvSpPr>
          <p:nvPr>
            <p:ph/>
          </p:nvPr>
        </p:nvSpPr>
        <p:spPr>
          <a:xfrm>
            <a:off x="685800" y="1219320"/>
            <a:ext cx="8229600" cy="449568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not fully disbursed</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D4CCBB4-24B3-4FA1-A12A-C522045E6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1" name="PlaceHolder 2"/>
          <p:cNvSpPr>
            <a:spLocks noGrp="1"/>
          </p:cNvSpPr>
          <p:nvPr>
            <p:ph/>
          </p:nvPr>
        </p:nvSpPr>
        <p:spPr>
          <a:xfrm>
            <a:off x="685800" y="1219320"/>
            <a:ext cx="8229600" cy="4495680"/>
          </a:xfrm>
          <a:prstGeom prst="rect">
            <a:avLst/>
          </a:prstGeom>
          <a:noFill/>
          <a:ln w="0">
            <a:noFill/>
          </a:ln>
        </p:spPr>
        <p:txBody>
          <a:bodyPr lIns="90000" rIns="90000" tIns="46800" bIns="46800" anchor="t">
            <a:normAutofit fontScale="91000"/>
          </a:bodyPr>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06-20, Update on Consolidation Loan Issues</a:t>
            </a:r>
            <a:endParaRPr b="0" lang="en-US" sz="3200" spc="-1" strike="noStrike">
              <a:solidFill>
                <a:srgbClr val="000000"/>
              </a:solidFill>
              <a:latin typeface="Verdana"/>
            </a:endParaRPr>
          </a:p>
          <a:p>
            <a:pPr marL="312120" indent="-3121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ptable reasons for LVC non-completion</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borrower/loan in ineligible status</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o grace or repayment, or</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bject to judgment or AWG)</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Consolidation Loan-only LVC</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ompletion required </a:t>
            </a:r>
            <a:r>
              <a:rPr b="1" lang="en-US" sz="3200" spc="-1" strike="noStrike">
                <a:solidFill>
                  <a:srgbClr val="000000"/>
                </a:solidFill>
                <a:latin typeface="Verdana"/>
              </a:rPr>
              <a:t>(modified)</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AEE6A8-32A5-4A8F-8E9A-9DE13A9A60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ore guidance on 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more acceptable reasons for non-completion of LVC</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dded reporting requireme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E3D915F-D986-4321-989D-51EEABDBE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Consolidation Loan-only borrower appears to have no other eligibl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9784FF0-076B-4B1C-BB1D-3A5009DF4A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VC completion for another consolidating lender within last 90 days, suggesting another outstanding appl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B209610-25DC-4569-8D30-D59D7BBE8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name and lender ID of consolidating lender not included under item #19 on LVC or included elsewhere on LVC</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F8C48BD-B812-4B1D-9273-873D8479C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5000"/>
          </a:bodyPr>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r Education Reconciliation Act of 2005 (Pub. L. 109-171, February 8, 2006)-HERA</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in-school and early conversion Consolidation Loans eliminated</a:t>
            </a:r>
            <a:endParaRPr b="0" lang="en-US" sz="3600" spc="-1" strike="noStrike">
              <a:solidFill>
                <a:srgbClr val="000000"/>
              </a:solidFill>
              <a:latin typeface="Verdana"/>
            </a:endParaRPr>
          </a:p>
          <a:p>
            <a:pPr marL="3258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258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6</a:t>
            </a:r>
            <a:endParaRPr b="0" lang="en-US" sz="2400" spc="-1" strike="noStrike">
              <a:solidFill>
                <a:srgbClr val="000000"/>
              </a:solidFill>
              <a:latin typeface="Verdana"/>
            </a:endParaRPr>
          </a:p>
          <a:p>
            <a:pPr marL="3258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506F893-8B1C-4759-8284-699CCFD674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10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first two conditions suggest borrower ineligibilit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ast condition may suggest lack of completed, signed application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B3CE092-00C9-4A52-8EB0-E6CCB9E92A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ritten explanation must be provided to requesting lender within 10 business day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A1DEAAA-065A-47A2-9593-72DF4E2D2B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dditional Reporting Requirement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oan holder must notify ED of LVC non-completion for two new  categories of borrower ineligibility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C524B5E-935D-49A8-A346-168461A034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 within 10 business days required with additional information supporting borrower eligibilit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E0629EA-09F5-461A-9D3F-DA93171A90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information includ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written statement from borrower to loan holder stating that previous consolidation application has been cancell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B1F3821-5C07-46E6-94D0-C83E35B66C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information includ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documentation from consolidating lender showing one or more additional eligible loans of the borrow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2F3A5E7-8E8A-4E42-A478-D897DD75AA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ED monitors activities of loan holders and requesting consolidating lenders for possible follow-up</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A846BAF-05D9-42EE-9DC3-4A56EC76D3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may not be submitted to loan holder without properly completed and signed Consolidation Application-legal basis for non-holder to request private borrower inform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2AF06AB-2871-4F41-89FB-0B88D688D3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roperly completed and signed Consolidation application is one completed when borrower is in an eligible status-no advance completion and dating or post-dat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41E248D-B728-4A6E-BB3E-9B1FCB345E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1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What can documentation of additional eligible loans include?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9A458C8-8AE5-421D-833B-F073568137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4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4000"/>
          </a:bodyPr>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RA 2005 (Pub. L. 109-171)</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joint married Consolidation Loans eliminated</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FFEL borrower access to Direct Loan limited </a:t>
            </a:r>
            <a:r>
              <a:rPr b="1" lang="en-US" sz="3600" spc="-1" strike="noStrike">
                <a:solidFill>
                  <a:srgbClr val="000000"/>
                </a:solidFill>
                <a:latin typeface="Verdana"/>
              </a:rPr>
              <a:t>(superseded</a:t>
            </a:r>
            <a:r>
              <a:rPr b="0" lang="en-US" sz="3600" spc="-1" strike="noStrike">
                <a:solidFill>
                  <a:srgbClr val="000000"/>
                </a:solidFill>
                <a:latin typeface="Verdana"/>
              </a:rPr>
              <a:t>)</a:t>
            </a:r>
            <a:endParaRPr b="0" lang="en-US" sz="3600" spc="-1" strike="noStrike">
              <a:solidFill>
                <a:srgbClr val="000000"/>
              </a:solidFill>
              <a:latin typeface="Verdana"/>
            </a:endParaRPr>
          </a:p>
          <a:p>
            <a:pPr marL="3222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222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6</a:t>
            </a:r>
            <a:endParaRPr b="0" lang="en-US" sz="2400" spc="-1" strike="noStrike">
              <a:solidFill>
                <a:srgbClr val="000000"/>
              </a:solidFill>
              <a:latin typeface="Verdana"/>
            </a:endParaRPr>
          </a:p>
          <a:p>
            <a:pPr marL="3222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B6D684B-B2E5-4189-BD3B-1001C6414A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Examples include a copy of the borrower’s Consolidation application listing additional loans, </a:t>
            </a:r>
            <a:r>
              <a:rPr b="1" lang="en-US" sz="3200" spc="-1" strike="noStrike">
                <a:solidFill>
                  <a:srgbClr val="000000"/>
                </a:solidFill>
                <a:latin typeface="Verdana"/>
              </a:rPr>
              <a:t>secure</a:t>
            </a:r>
            <a:r>
              <a:rPr b="0" lang="en-US" sz="3200" spc="-1" strike="noStrike">
                <a:solidFill>
                  <a:srgbClr val="000000"/>
                </a:solidFill>
                <a:latin typeface="Verdana"/>
              </a:rPr>
              <a:t> copy of completed LVC from another holder or borrower’s NSLDS record, and disbursement and billing records on other eligible loans not held by the loan hold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F3A351D-D282-42C9-946B-4AAF0099B1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Can a loan holder deny LVC completion for the Direct Loan Program if item #19 is not completed with lender I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354BC83-6FE8-42E5-B9EA-D7828467C7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The Direct Loan Program is not a lender in the FFEL program and has no FFEL lender ID.  Requirement applies only to FFEL lend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76CFAFC-AEDE-4B7B-9590-A5DB4F01E0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Is it sufficient for a requesting FFEL lender to include a statement such as “all the borrower’s loans” or to list all possible eligible loan types on the LVC?</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28D1EEF-5B5A-4B93-A98B-3837EB3D7A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No. LVC request for payoff should correspond to the borrower’s listing of loans in section D.1 of application. Borrower may have ineligible loans or may not wish to consolidate all eligible loans. Authority to receive  borrower’s private information limited to borrower’s eligible listed loans in D.1.</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AF422E-EE0F-4956-9217-A6EBBF5B4A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If completion of the LVC with a “all the borrower’s loans” or a listing of all loan types is insufficient LVC completion, does it mean a lender must list all the borrower’s loans on the LVC?</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115F382-9BFF-47BD-ADB9-517E9547E2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No, if all borrower’s loans listed on app are eligible and borrower wants to consolidate all those loans, no separate break out is necessary. Requesting lender should provide account numbers and loan codes corresponding to D.1. app listing per instructions as accurately as possible.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C689BF-D288-4A08-88F2-672FF92968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Loan Holder should complete per LVC form instructions – requires completion and correction of borrower’s personal information and of account number and loan code information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406B15B-6E9B-47F7-A3B6-74D9126CEC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Does the guidance on sufficient completion of the LVC apply to Direct Loan program LVC request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CE18B23-9B68-40CA-882F-6D2470B522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No. FFEL loan holders must continue to complete all Direct Loan Consolidation program LVC requests. The Secretary is authorized to access all title IV loan borrower data. LVCs are issued by DL based on a complete Consolidation application. DL ensures only eligible loans that the borrower wishes to consolidate are consolidated.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BB962CD-0611-4555-867F-E87640DB32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RA 2005 (Pub. L. 109-171)</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consolidation of FFEL</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solidation Loan </a:t>
            </a:r>
            <a:r>
              <a:rPr b="1" lang="en-US" sz="3600" spc="-1" strike="noStrike">
                <a:solidFill>
                  <a:srgbClr val="000000"/>
                </a:solidFill>
                <a:latin typeface="Verdana"/>
              </a:rPr>
              <a:t>only</a:t>
            </a:r>
            <a:r>
              <a:rPr b="0" lang="en-US" sz="3600" spc="-1" strike="noStrike">
                <a:solidFill>
                  <a:srgbClr val="000000"/>
                </a:solidFill>
                <a:latin typeface="Verdana"/>
              </a:rPr>
              <a:t> into Direct Loan limited to severely delinquent and defaulted borrow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6</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968AE73-350F-4680-83AA-4320282714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Is there a deadline for the loan holder to send ED its report on non-completed LVCs under the two additional borrower eligibility categori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2A8CAA7-CE6E-4384-ADA3-04EEB7D3C5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There is no deadline specified in the DCL, but ED expects submission on an ongoing basis as denials are sent to the requesting lend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6BB11E2-61EB-43F7-BCA3-FFD4DFC2FF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Is a borrower required to request cancellation of a pending application in writing if the borrower has two pending applications, or if the borrower wishes to take advantage of a loan holder’s counteroff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AA0C178-3B26-4EBE-ACAE-668532A43C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The DCL specified that the request could be written or oral. </a:t>
            </a:r>
            <a:r>
              <a:rPr b="1" lang="en-US" sz="3200" spc="-1" strike="noStrike">
                <a:solidFill>
                  <a:srgbClr val="000000"/>
                </a:solidFill>
                <a:latin typeface="Verdana"/>
              </a:rPr>
              <a:t>However,</a:t>
            </a:r>
            <a:r>
              <a:rPr b="0" lang="en-US" sz="3200" spc="-1" strike="noStrike">
                <a:solidFill>
                  <a:srgbClr val="000000"/>
                </a:solidFill>
                <a:latin typeface="Verdana"/>
              </a:rPr>
              <a:t> a written (e-mail) request would provide the additional documentation necessary to demonstrate borrower eligibility to the loan holder.  No record of receipt or acknowledgement from receiving lender requir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482B47-05E8-4E42-9B83-EB84B50EA8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 Can a lender impose a “3-day cooling off period” in allowing cancellation of a pending Consolidation appl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745F3FF-2484-4EB3-B469-EEA6D94342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Section 104 of Federal Truth and Lending Act provides for 3-day cooling-off period, but exempts title IV federal student loans under HEA. Exception also appears in section 433(c) of HEA.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0D24D4E-BB02-4788-9866-39284128C5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FFEL consolidation cancellation can take place until consolidating lender disburses funds as borrower’s obligation is tied in HEA to timing and amounts of disburseme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26263C5-6DBA-4DB0-BAAD-F015446910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 Is the residual balance of an already consolidated loan that has not yet been paid off an eligible loan for consolid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CE44996-EF85-4A1B-863D-06051B92B9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An underpaid, residual amount of a loan included in a  pre-existing consolidation is not a separate eligible loan for consolidation. The loan holder and consolidator are expected to resolve the underpayme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D041C05-B32D-4501-8627-72DE3CCF31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 Can a lender market forbearance as a borrower benefit on a FFEL Loa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AB8903F-F3E6-4D22-B95C-66B7CF9D42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5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4000"/>
          </a:bodyPr>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ergency Supplemental Appropriations Act, 2006 (Pub. L. 109-234, June 15, 2006)</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ngle holder rule” for FFEL consolidation repealed</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imit on FFEL borrower access to Direct Loan repealed</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22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ne 15, 2006</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2E24F86-E1C6-4C91-BE71-0E744DF68E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forbearance is available to borrowers willing but unable to repay a loan for a period of time. A borrower-specific benefit cannot be offered across-the-board. No authority to waive payments otherwise du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E68008A-6FDF-4C51-9F2F-20BB1E8282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If a borrower applies for consolidation while in the grace period, but returns to school before conclusion of consolidation loan processing, is the borrower still eligibl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E11A5FC-C665-49DB-B480-59842D8BAF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Yes, ED’s historic position on a borrower in grace that returns to in-school status before the consolidation is concluded is that the borrower retains eligibility if in eligible grace status on application dat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385605A-8971-4A91-B67E-F069C3E8D4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Can a joint spousal Consolidation Loan be included with another eligible loan in a subsequent consolidation of one of the borrow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8FF5722-5C15-4852-954C-37AA659344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Both borrowers are jointly liable for the loan for the life of the loan. Neither of those individuals can undertake a new FFEL obligation that resolves the debt of the oth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DDC2EE6-5686-4E7F-9055-B54CA7C7EB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7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Can a borrower undertake two simultaneous consolidation loans that consolidate different groups of eligibl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130CF39-0B1F-47CF-9363-BC11E53CA7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A borrower may not have more than one application outstanding under the HEA. A borrower is not required to include all eligible loans and may process a later consolidation loan of other eligibl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0E501D8-E8AD-4ED4-A7DA-79122FD99B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5"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202) 502-773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Pamela.Moran@ed.gov</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202) 502-7873</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43F88E3-EF89-4BA0-B4BE-B3DAC93696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202) 377-355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Pam.Eliadis@ed.gov</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202) 275-0913</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A48018-E368-4081-8904-BE244C874926}"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55" name="PlaceHolder 2"/>
          <p:cNvSpPr>
            <a:spLocks noGrp="1"/>
          </p:cNvSpPr>
          <p:nvPr>
            <p:ph/>
          </p:nvPr>
        </p:nvSpPr>
        <p:spPr>
          <a:xfrm>
            <a:off x="380520" y="137124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ge Cost Reduction and Access Act (Pub. L. 110-84, September 27, 2007)</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dded FFEL-only borrower consolidation and FFEL Consolidation Loan-only reconsolidation in Direct Loan for public service loan forgivenes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8</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E7CD1A1-D9AB-4449-ADEE-14F5F1D15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01, March 10, 2006</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ummary of HERA chang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11, June 23, 2006</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ngle holder rule” repeal</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D90E435-DA3B-46C7-8ED4-54E6DC067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December 21, 2006</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Update on Consolidation Loan eligibility and guidance on LVC comple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More guidance on LVC comple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E7062D3-08E5-4EE4-855D-842EACC70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6:26Z</dcterms:modified>
  <cp:revision>225</cp:revision>
  <dc:subject/>
  <dc:title>PowerPoint Presentation</dc:title>
</cp:coreProperties>
</file>