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4.png" ContentType="image/png"/>
  <Override PartName="/ppt/media/image21.png" ContentType="image/png"/>
  <Override PartName="/ppt/media/image17.wmf" ContentType="image/x-wmf"/>
  <Override PartName="/ppt/media/image16.png" ContentType="image/png"/>
  <Override PartName="/ppt/media/image14.png" ContentType="image/png"/>
  <Override PartName="/ppt/media/image22.jpeg" ContentType="image/jpeg"/>
  <Override PartName="/ppt/media/image39.png" ContentType="image/png"/>
  <Override PartName="/ppt/media/image1.jpeg" ContentType="image/jpeg"/>
  <Override PartName="/ppt/media/image10.png" ContentType="image/png"/>
  <Override PartName="/ppt/media/image25.png" ContentType="image/png"/>
  <Override PartName="/ppt/media/image19.jpeg" ContentType="image/jpeg"/>
  <Override PartName="/ppt/media/image30.jpeg" ContentType="image/jpeg"/>
  <Override PartName="/ppt/media/image35.wmf" ContentType="image/x-wmf"/>
  <Override PartName="/ppt/media/image15.png" ContentType="image/png"/>
  <Override PartName="/ppt/media/image6.jpeg" ContentType="image/jpeg"/>
  <Override PartName="/ppt/media/image18.png" ContentType="image/png"/>
  <Override PartName="/ppt/media/image34.jpeg" ContentType="image/jpeg"/>
  <Override PartName="/ppt/media/image38.wmf" ContentType="image/x-wmf"/>
  <Override PartName="/ppt/media/image31.jpeg" ContentType="image/jpeg"/>
  <Override PartName="/ppt/media/image2.png" ContentType="image/png"/>
  <Override PartName="/ppt/media/image32.jpeg" ContentType="image/jpeg"/>
  <Override PartName="/ppt/media/image5.jpeg" ContentType="image/jpeg"/>
  <Override PartName="/ppt/media/image20.png" ContentType="image/png"/>
  <Override PartName="/ppt/media/image36.jpeg" ContentType="image/jpeg"/>
  <Override PartName="/ppt/media/image33.png" ContentType="image/png"/>
  <Override PartName="/ppt/media/image40.gif" ContentType="image/gif"/>
  <Override PartName="/ppt/media/image4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7.jpeg" ContentType="image/jpeg"/>
  <Override PartName="/ppt/media/image28.png" ContentType="image/png"/>
  <Override PartName="/ppt/media/image29.jpeg" ContentType="image/jpeg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9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BD605-EAE4-4C16-B497-F46DDFDCD2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CAE67-B7BE-4AC1-A7F5-D2083071D7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E891E-D690-4C75-8677-DF64F242FA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093C5-F1D9-4834-AEC1-3BBC8FA352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C1A33-7253-4570-9F6E-19BD64BA2C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041BD-97AA-40EE-A93A-DD3EDEA087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93A94-E523-425B-AD0E-07367FE42C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34ACE-6A73-4FC8-BD41-5E4E84980D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3E462-7E89-464A-97BA-4E24B753E1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01F1E-4376-4B4F-B176-70DFE55AE8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AC77-4415-4931-A909-B05014783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2120" y="363996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A33D-FE6D-4539-A73B-0B39F89E1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4028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8CAF-FB1A-4E27-9BCB-B5A50E5A3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1900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7552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212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1900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7552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4429-A046-4078-A611-AAF4439F6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5714-6528-4369-84BC-33779EE2D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AADE-D272-45D8-A060-D7E759D20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CBC6-35C4-4AB6-954B-68ADB3123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FEBA-FE98-4ABF-81C3-AC30CEBBC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280" y="533520"/>
            <a:ext cx="88394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6AF6-BC57-4D2F-B556-0644B74FA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2456-0F86-41BC-B02B-105F31C7E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4028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1CD7-DA96-4B04-84DC-D4EB5EEF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E492-9A13-4CBD-AEAE-E3F4BF31E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63360"/>
            <a:ext cx="9144000" cy="6984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17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53FA0-D9F9-4DA4-B3BA-B9FDCF8CD6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9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transformationed.com/" TargetMode="External"/><Relationship Id="rId2" Type="http://schemas.openxmlformats.org/officeDocument/2006/relationships/hyperlink" Target="http://www.transformationed.com/podcast" TargetMode="External"/><Relationship Id="rId3" Type="http://schemas.openxmlformats.org/officeDocument/2006/relationships/hyperlink" Target="http://www.teacherspodcast.org/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://www.transformationed.com/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www.fordham.edu/" TargetMode="External"/><Relationship Id="rId8" Type="http://schemas.openxmlformats.org/officeDocument/2006/relationships/image" Target="../media/image4.pn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9.png"/><Relationship Id="rId3" Type="http://schemas.openxmlformats.org/officeDocument/2006/relationships/image" Target="../media/image40.gif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784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ession # 50</a:t>
            </a:r>
            <a:r>
              <a:rPr b="1" lang="en-US" sz="4400" spc="-1" strike="noStrike">
                <a:solidFill>
                  <a:srgbClr val="cc5407"/>
                </a:solidFill>
                <a:latin typeface="Verdana"/>
              </a:rPr>
              <a:t> </a:t>
            </a:r>
            <a:endParaRPr b="1" lang="en-US" sz="44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560" y="1676520"/>
            <a:ext cx="87627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reating a Student Audience with New Media: SFA via Podcast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r. Kathleen P. Kin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rdham Universit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ransformation Education LLC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"/>
          <p:cNvSpPr/>
          <p:nvPr/>
        </p:nvSpPr>
        <p:spPr>
          <a:xfrm>
            <a:off x="7010280" y="2666880"/>
            <a:ext cx="1905120" cy="1067040"/>
          </a:xfrm>
          <a:prstGeom prst="cloudCallout">
            <a:avLst>
              <a:gd name="adj1" fmla="val -7000"/>
              <a:gd name="adj2" fmla="val 9002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5407"/>
                </a:solidFill>
                <a:latin typeface="Arial"/>
              </a:rPr>
              <a:t>Podcast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53341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07, King. All rights reserved. www.teacherspodcast.or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1920" y="533520"/>
            <a:ext cx="2133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Basic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819520" y="585720"/>
            <a:ext cx="5790960" cy="43671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752480" y="4889520"/>
            <a:ext cx="7086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diagram is reproduced with permission of authors from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odcasting for Teacher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2007) by Dr. Kathleen P. King and Mark Gura. Charlotte, NC: Information Age Publishing.  www.infoagepub.co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80880" y="3995640"/>
            <a:ext cx="1173240" cy="171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0CF0-BC34-4C7B-ABC5-D8C6586F082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1562040" cy="15620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334120" y="4648320"/>
            <a:ext cx="1752480" cy="16286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Recording Option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5791320" y="1689120"/>
            <a:ext cx="2743200" cy="21970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7391520" y="3657600"/>
            <a:ext cx="1606320" cy="17524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1424160" y="3429000"/>
            <a:ext cx="1137960" cy="24382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7543800" y="547560"/>
            <a:ext cx="757080" cy="14335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666880" y="1371600"/>
            <a:ext cx="2819520" cy="28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66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66"/>
                </a:solidFill>
                <a:latin typeface="Arial"/>
              </a:rPr>
              <a:t>$10 m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66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66"/>
                </a:solidFill>
                <a:latin typeface="Arial"/>
              </a:rPr>
              <a:t>$30 m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66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66"/>
                </a:solidFill>
                <a:latin typeface="Arial"/>
              </a:rPr>
              <a:t>$50  m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66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40 inexp MP3 player digital recor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20  ( HQ digital record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724280" y="1143000"/>
            <a:ext cx="2819520" cy="380880"/>
          </a:xfrm>
          <a:prstGeom prst="line">
            <a:avLst/>
          </a:prstGeom>
          <a:ln w="381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648320" y="2057400"/>
            <a:ext cx="2819160" cy="1905120"/>
          </a:xfrm>
          <a:prstGeom prst="line">
            <a:avLst/>
          </a:prstGeom>
          <a:ln w="381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2438280"/>
            <a:ext cx="1371600" cy="2210040"/>
          </a:xfrm>
          <a:prstGeom prst="line">
            <a:avLst/>
          </a:prstGeom>
          <a:ln w="381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2438280" y="3962520"/>
            <a:ext cx="1067040" cy="60948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1371240" y="1904760"/>
            <a:ext cx="1676520" cy="99036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CDCE-6A5E-48DB-B14A-E3265E2542A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549360"/>
            <a:ext cx="2209680" cy="12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Part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14400" y="1924200"/>
            <a:ext cx="3352680" cy="29304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04920" y="4952880"/>
            <a:ext cx="7086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diagram is reproduced with permission of authors from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odcasting for Teacher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2007) by Dr. Kathleen P. King and Mark Gura. Charlotte, NC: Information Age Publishing.  www.infoagepub.co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696080" y="3962520"/>
            <a:ext cx="1173240" cy="1719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3809880" y="914400"/>
            <a:ext cx="4876920" cy="1827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2A3D-760D-4189-8F61-546205AD4A4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918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Intermediat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05120" y="1103400"/>
            <a:ext cx="6270480" cy="36972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600200" y="4965840"/>
            <a:ext cx="6934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diagram is reproduced with permission of authors from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odcasting for Teacher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2007) by Dr. Kathleen P. King and Mark Gura. Charlotte, NC: Information Age Publishing.  www.infoagepub.co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04920" y="4038480"/>
            <a:ext cx="1172880" cy="171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E43B-C012-4690-83A2-14087B249E5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160" y="549000"/>
            <a:ext cx="84582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Approaching the SFA Content Need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2209320"/>
            <a:ext cx="83883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a9"/>
                </a:solidFill>
                <a:latin typeface="Verdana"/>
              </a:rPr>
              <a:t>Suggested Topics for Podcast Episod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) Aid Application Deadli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) Financial Aid Basic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) Grants and Loa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) Basic Financial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5) Basics of being a good borrow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2030-85A5-4F2C-8639-2C65758FD9B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1920" y="533520"/>
            <a:ext cx="89917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Getting on the Pod! (AIR)</a:t>
            </a:r>
            <a:br>
              <a:rPr sz="4000"/>
            </a:b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reation and Production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our Podcast name – brand 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 on content and mess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your intro and exit scrip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podsafe (copyright free music) or campus so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ve bullet points or script for “body” for each episo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mat ide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962520" y="4724280"/>
            <a:ext cx="1066680" cy="10670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181480" y="4821120"/>
            <a:ext cx="1752840" cy="13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F990-81BF-4855-A647-66D26B0E722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Presentation &amp;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63244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kely not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 just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shed- unless you want to project NBC/NPR image.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uge choices based on campus culture and student respon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553080" y="2209680"/>
            <a:ext cx="1614600" cy="24386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7010280" y="4419720"/>
            <a:ext cx="1905120" cy="1269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7696080" y="1219320"/>
            <a:ext cx="118908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B31E-136B-4BA1-AE6E-5C982A8315D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5407"/>
                </a:solidFill>
                <a:latin typeface="Verdana"/>
              </a:rPr>
              <a:t>Options- </a:t>
            </a:r>
            <a:br>
              <a:rPr sz="3600"/>
            </a:br>
            <a:r>
              <a:rPr b="0" lang="en-US" sz="3600" spc="-1" strike="noStrike">
                <a:solidFill>
                  <a:srgbClr val="cc5407"/>
                </a:solidFill>
                <a:latin typeface="Verdana"/>
              </a:rPr>
              <a:t>The </a:t>
            </a:r>
            <a:r>
              <a:rPr b="1" i="1" lang="en-US" sz="4400" spc="-1" strike="noStrike">
                <a:solidFill>
                  <a:srgbClr val="cc5407"/>
                </a:solidFill>
                <a:latin typeface="Verdana"/>
              </a:rPr>
              <a:t>New Media </a:t>
            </a:r>
            <a:r>
              <a:rPr b="0" lang="en-US" sz="3600" spc="-1" strike="noStrike">
                <a:solidFill>
                  <a:srgbClr val="cc5407"/>
                </a:solidFill>
                <a:latin typeface="Verdana"/>
              </a:rPr>
              <a:t>Message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77360" y="2233440"/>
            <a:ext cx="73710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 Creative and Persona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 workers as co-hosts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 interview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FA officer interview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fe talk show? Blog Talk Radi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al segments- Tip of the week! Snafu to avoid! Mascot participatio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858000" y="3911760"/>
            <a:ext cx="1981080" cy="4316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315200" y="950760"/>
            <a:ext cx="1216080" cy="18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C255-F27E-4C66-AFEB-939452B7FE1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920" y="685800"/>
            <a:ext cx="5715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A Cycle of Continuing Evolution and Renewal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172200" y="838080"/>
            <a:ext cx="2346480" cy="48006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828440" y="1828800"/>
            <a:ext cx="4267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From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Your Voice &gt; Audience &gt;   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Focu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75E9-9FCD-4CCD-87F3-81B491F8479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53341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And Your Message Becomes More Engaging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2666880"/>
            <a:ext cx="746784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ding your voice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ppens through and helps to grow your audience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he process you may discover new or additional segments to add to your format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ltimately it all works in refining your focus &gt;&gt; An engaging mess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72200" y="1066680"/>
            <a:ext cx="1306440" cy="18288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7467480" y="304920"/>
            <a:ext cx="1143000" cy="1752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0BEE-D4C0-4CA3-B597-7A9C91FE99A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556272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5407"/>
                </a:solidFill>
                <a:latin typeface="Verdana"/>
              </a:rPr>
              <a:t>Professor &amp; Education Tech Developer</a:t>
            </a:r>
            <a:endParaRPr b="1" lang="en-US" sz="28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7289640" cy="38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r Kathleen P. King (Kathy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dham University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or, Educator, Researcher, Distance Learning Specialist, Adult Learning Specialist, Podcas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ransformation Education LL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Verdana"/>
                <a:hlinkClick r:id="rId1"/>
              </a:rPr>
              <a:t>www.transformationed.com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ransformation Education Li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Verdana"/>
                <a:hlinkClick r:id="rId2"/>
              </a:rPr>
              <a:t>www.transformationed.com/podcast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Teachers’ Podca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Verdana"/>
                <a:hlinkClick r:id="rId3"/>
              </a:rPr>
              <a:t>www.teacherspodcast.org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800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086600" y="495288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086600" y="3657600"/>
            <a:ext cx="1981080" cy="503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Fordham University  The Jesuit University of New York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715000" y="606600"/>
            <a:ext cx="3200400" cy="8413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9"/>
          <a:stretch/>
        </p:blipFill>
        <p:spPr>
          <a:xfrm>
            <a:off x="8096400" y="4457880"/>
            <a:ext cx="666720" cy="133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FE22-E7AF-4C01-BCED-433C815685C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90920" y="685800"/>
            <a:ext cx="3657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Discussion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063520" y="2819160"/>
            <a:ext cx="708012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Verdana"/>
              </a:rPr>
              <a:t>Q  &amp;  A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562720" y="2514600"/>
            <a:ext cx="2057400" cy="2055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1001-536A-4482-AFCD-B33CEA3E8505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Resource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5572080" cy="37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dcasting resou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NAPKAST (PC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FCAST (MAC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DACITY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-221400"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LL OSes- just record and edi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-221400"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audacity.sourceforge.net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LOG TALK RADIO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-221400"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ve talk sho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ww.teacherspodcast.ORG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r. Kathy K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-221400"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pking@fordham.edu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791320" y="4114800"/>
            <a:ext cx="2923920" cy="6382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ProfCast Logo"/>
          <p:cNvPicPr/>
          <p:nvPr/>
        </p:nvPicPr>
        <p:blipFill>
          <a:blip r:embed="rId2"/>
          <a:stretch/>
        </p:blipFill>
        <p:spPr>
          <a:xfrm>
            <a:off x="6095880" y="2201760"/>
            <a:ext cx="2286000" cy="846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6248520" y="1066680"/>
            <a:ext cx="1828800" cy="8794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Audacity: Free Sound Editor and Recording Software"/>
          <p:cNvPicPr/>
          <p:nvPr/>
        </p:nvPicPr>
        <p:blipFill>
          <a:blip r:embed="rId4"/>
          <a:stretch/>
        </p:blipFill>
        <p:spPr>
          <a:xfrm>
            <a:off x="6124680" y="3124080"/>
            <a:ext cx="2409840" cy="9525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0" y="53341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07, King. All rights reserved. www.teacherspodcast.or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BF1F-51A7-4EAA-85C2-E4DD916BF28D}" type="slidenum">
              <a:t>21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72392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Information-on-Demand</a:t>
            </a:r>
            <a:br>
              <a:rPr sz="3600"/>
            </a:b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Learning-on-Demand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610320" y="1371600"/>
            <a:ext cx="2133720" cy="28414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28600" y="3886200"/>
            <a:ext cx="2743200" cy="1827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1676520" y="3048120"/>
            <a:ext cx="2712960" cy="1807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Podcasts"/>
          <p:cNvPicPr/>
          <p:nvPr/>
        </p:nvPicPr>
        <p:blipFill>
          <a:blip r:embed="rId4"/>
          <a:stretch/>
        </p:blipFill>
        <p:spPr>
          <a:xfrm>
            <a:off x="457200" y="1752480"/>
            <a:ext cx="2514600" cy="1746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4572000" y="3259080"/>
            <a:ext cx="3124080" cy="245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3FC1-C4E3-4C66-959E-885116185F1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Access and Use Free </a:t>
            </a:r>
            <a:br>
              <a:rPr sz="3600"/>
            </a:b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Digital Media Resource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50292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imeshif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laceshif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formation-on-dema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arning-on-dema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781680" y="3809880"/>
            <a:ext cx="2210040" cy="1335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>
            <a:lum bright="-10000"/>
          </a:blip>
          <a:stretch/>
        </p:blipFill>
        <p:spPr>
          <a:xfrm>
            <a:off x="6629400" y="990720"/>
            <a:ext cx="2209680" cy="22096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152280" y="4473720"/>
            <a:ext cx="6886800" cy="13935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5105520" y="3352680"/>
            <a:ext cx="2025360" cy="251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E8F3-5A03-49E2-B30C-B53E8771E69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85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Oklahoma Sooners Podcasting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38080" y="1133640"/>
            <a:ext cx="6019920" cy="47336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 rot="5400000">
            <a:off x="6057720" y="3162240"/>
            <a:ext cx="4343400" cy="761760"/>
          </a:xfrm>
          <a:prstGeom prst="rect">
            <a:avLst/>
          </a:prstGeom>
        </p:spPr>
        <p:txBody>
          <a:bodyPr wrap="none" lIns="90000" rIns="90000" tIns="46800" bIns="46800" anchor="ctr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Why Not SFA ?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736D-0BFB-438B-89EF-167273B10EC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704520"/>
            <a:ext cx="883944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5407"/>
                </a:solidFill>
                <a:latin typeface="Verdana"/>
              </a:rPr>
              <a:t>Access and Use Free Digital Media Resources</a:t>
            </a:r>
            <a:endParaRPr b="1" lang="en-US" sz="28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505320" y="990720"/>
            <a:ext cx="5486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unes- free podcast “catcher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arch for topics – pick--th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e other episod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… Google search podcast + top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62120" y="2438280"/>
            <a:ext cx="6095880" cy="3429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523880" y="3886200"/>
            <a:ext cx="635040" cy="685800"/>
          </a:xfrm>
          <a:custGeom>
            <a:avLst/>
            <a:gdLst/>
            <a:ahLst/>
            <a:rect l="l" t="t" r="r" b="b"/>
            <a:pathLst>
              <a:path w="312" h="336">
                <a:moveTo>
                  <a:pt x="160" y="128"/>
                </a:moveTo>
                <a:cubicBezTo>
                  <a:pt x="96" y="64"/>
                  <a:pt x="32" y="0"/>
                  <a:pt x="16" y="32"/>
                </a:cubicBezTo>
                <a:cubicBezTo>
                  <a:pt x="0" y="64"/>
                  <a:pt x="16" y="304"/>
                  <a:pt x="64" y="320"/>
                </a:cubicBezTo>
                <a:cubicBezTo>
                  <a:pt x="112" y="336"/>
                  <a:pt x="296" y="168"/>
                  <a:pt x="304" y="128"/>
                </a:cubicBezTo>
                <a:cubicBezTo>
                  <a:pt x="312" y="88"/>
                  <a:pt x="144" y="80"/>
                  <a:pt x="112" y="80"/>
                </a:cubicBezTo>
                <a:cubicBezTo>
                  <a:pt x="80" y="80"/>
                  <a:pt x="112" y="120"/>
                  <a:pt x="112" y="128"/>
                </a:cubicBezTo>
              </a:path>
            </a:pathLst>
          </a:custGeom>
          <a:noFill/>
          <a:ln w="76320">
            <a:solidFill>
              <a:srgbClr val="66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21085200">
            <a:off x="2514240" y="3352680"/>
            <a:ext cx="5470560" cy="533520"/>
          </a:xfrm>
          <a:prstGeom prst="leftArrow">
            <a:avLst>
              <a:gd name="adj1" fmla="val 50000"/>
              <a:gd name="adj2" fmla="val 256343"/>
            </a:avLst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9432-CE0A-4CB1-AD56-E8C26D35826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99036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113"/>
              </a:spcBef>
              <a:spcAft>
                <a:spcPts val="113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ay on compu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113"/>
              </a:spcBef>
              <a:spcAft>
                <a:spcPts val="113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ee subscription to receive next episod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113"/>
              </a:spcBef>
              <a:spcAft>
                <a:spcPts val="113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bile- take it with yo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lnSpc>
                <a:spcPct val="80000"/>
              </a:lnSpc>
              <a:spcBef>
                <a:spcPts val="113"/>
              </a:spcBef>
              <a:spcAft>
                <a:spcPts val="113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able to syn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lnSpc>
                <a:spcPct val="80000"/>
              </a:lnSpc>
              <a:spcBef>
                <a:spcPts val="113"/>
              </a:spcBef>
              <a:spcAft>
                <a:spcPts val="113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p3 player – iPod -- Cell phon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04920" y="1919160"/>
            <a:ext cx="6781680" cy="38149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143000" y="4572000"/>
            <a:ext cx="717480" cy="372960"/>
          </a:xfrm>
          <a:custGeom>
            <a:avLst/>
            <a:gdLst/>
            <a:ahLst/>
            <a:rect l="l" t="t" r="r" b="b"/>
            <a:pathLst>
              <a:path w="452" h="235">
                <a:moveTo>
                  <a:pt x="33" y="146"/>
                </a:moveTo>
                <a:cubicBezTo>
                  <a:pt x="0" y="40"/>
                  <a:pt x="132" y="22"/>
                  <a:pt x="206" y="5"/>
                </a:cubicBezTo>
                <a:cubicBezTo>
                  <a:pt x="253" y="8"/>
                  <a:pt x="303" y="0"/>
                  <a:pt x="347" y="18"/>
                </a:cubicBezTo>
                <a:cubicBezTo>
                  <a:pt x="452" y="62"/>
                  <a:pt x="328" y="31"/>
                  <a:pt x="417" y="50"/>
                </a:cubicBezTo>
                <a:cubicBezTo>
                  <a:pt x="424" y="73"/>
                  <a:pt x="420" y="111"/>
                  <a:pt x="411" y="133"/>
                </a:cubicBezTo>
                <a:cubicBezTo>
                  <a:pt x="405" y="147"/>
                  <a:pt x="394" y="158"/>
                  <a:pt x="385" y="171"/>
                </a:cubicBezTo>
                <a:cubicBezTo>
                  <a:pt x="381" y="178"/>
                  <a:pt x="372" y="191"/>
                  <a:pt x="372" y="191"/>
                </a:cubicBezTo>
                <a:cubicBezTo>
                  <a:pt x="364" y="217"/>
                  <a:pt x="350" y="221"/>
                  <a:pt x="327" y="235"/>
                </a:cubicBezTo>
                <a:cubicBezTo>
                  <a:pt x="242" y="227"/>
                  <a:pt x="165" y="214"/>
                  <a:pt x="78" y="210"/>
                </a:cubicBezTo>
                <a:cubicBezTo>
                  <a:pt x="30" y="177"/>
                  <a:pt x="27" y="161"/>
                  <a:pt x="27" y="101"/>
                </a:cubicBezTo>
              </a:path>
            </a:pathLst>
          </a:custGeom>
          <a:noFill/>
          <a:ln w="7632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20865600">
            <a:off x="2057040" y="3657240"/>
            <a:ext cx="5105520" cy="533520"/>
          </a:xfrm>
          <a:prstGeom prst="leftArrow">
            <a:avLst>
              <a:gd name="adj1" fmla="val 50000"/>
              <a:gd name="adj2" fmla="val 239238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3D1C-8A56-40B0-8EB0-3719135C674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Message in </a:t>
            </a:r>
            <a:r>
              <a:rPr b="1" i="1" lang="en-US" sz="4000" spc="-1" strike="noStrike">
                <a:solidFill>
                  <a:srgbClr val="cc5407"/>
                </a:solidFill>
                <a:latin typeface="Verdana"/>
              </a:rPr>
              <a:t>their 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Media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8007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New Med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Creating an Audie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Options, 2/7, port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"/>
          <p:cNvSpPr/>
          <p:nvPr/>
        </p:nvSpPr>
        <p:spPr>
          <a:xfrm>
            <a:off x="6477120" y="2819520"/>
            <a:ext cx="1904760" cy="1066680"/>
          </a:xfrm>
          <a:prstGeom prst="cloudCallout">
            <a:avLst>
              <a:gd name="adj1" fmla="val -48666"/>
              <a:gd name="adj2" fmla="val 21131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dcast DEMO I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3733920"/>
            <a:ext cx="1904760" cy="1066680"/>
          </a:xfrm>
          <a:prstGeom prst="cloudCallout">
            <a:avLst>
              <a:gd name="adj1" fmla="val 30333"/>
              <a:gd name="adj2" fmla="val 131694"/>
            </a:avLst>
          </a:prstGeom>
          <a:solidFill>
            <a:srgbClr val="007aa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dcast DEMO 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95280" y="3429000"/>
            <a:ext cx="1905120" cy="1066680"/>
          </a:xfrm>
          <a:prstGeom prst="cloudCallout">
            <a:avLst>
              <a:gd name="adj1" fmla="val 86500"/>
              <a:gd name="adj2" fmla="val 189138"/>
            </a:avLst>
          </a:prstGeom>
          <a:solidFill>
            <a:srgbClr val="cc54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dcast DEMO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FF13-F2BF-4920-AE3A-78139AF98E5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7621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hange Happen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560" y="2209320"/>
            <a:ext cx="83055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a9"/>
                </a:solidFill>
                <a:latin typeface="Verdana"/>
              </a:rPr>
              <a:t>Plan to evolve and grow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ith that in mind I consider 3 simple models for podcasting configurations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Beginning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termediate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dvance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086600" y="609480"/>
            <a:ext cx="1751040" cy="17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C7D1-1285-4C34-B63D-FE0EA58DA86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18:31:25Z</dcterms:created>
  <dc:creator>andrew.jones</dc:creator>
  <dc:description/>
  <dc:language>en-US</dc:language>
  <cp:lastModifiedBy>yvette.payne</cp:lastModifiedBy>
  <dcterms:modified xsi:type="dcterms:W3CDTF">2007-12-05T18:25:48Z</dcterms:modified>
  <cp:revision>209</cp:revision>
  <dc:subject/>
  <dc:title>PowerPoint Presentation</dc:title>
</cp:coreProperties>
</file>