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1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5.png" ContentType="image/png"/>
  <Override PartName="/ppt/media/image19.jpeg" ContentType="image/jpeg"/>
  <Override PartName="/ppt/media/image30.jpeg" ContentType="image/jpeg"/>
  <Override PartName="/ppt/media/image35.wmf" ContentType="image/x-wmf"/>
  <Override PartName="/ppt/media/image15.png" ContentType="image/png"/>
  <Override PartName="/ppt/media/image6.jpeg" ContentType="image/jpeg"/>
  <Override PartName="/ppt/media/image18.png" ContentType="image/png"/>
  <Override PartName="/ppt/media/image34.jpeg" ContentType="image/jpeg"/>
  <Override PartName="/ppt/media/image38.wmf" ContentType="image/x-wmf"/>
  <Override PartName="/ppt/media/image31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0.png" ContentType="image/png"/>
  <Override PartName="/ppt/media/image36.jpeg" ContentType="image/jpeg"/>
  <Override PartName="/ppt/media/image33.png" ContentType="image/png"/>
  <Override PartName="/ppt/media/image40.gif" ContentType="image/gif"/>
  <Override PartName="/ppt/media/image4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CD37-008F-41C6-9357-0A069E76C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C4C9-8C3E-4BB3-8CD0-EDEEDA5EF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236E-1F91-40B0-8CF9-9DD703CA2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DC7F-D551-4739-84AD-6950EE261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876E-53D9-4DA5-B924-F0FCE08CB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234E-5C69-4B36-8EAD-66ED2A476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6AC2-60EB-4A06-B916-A2B6657F4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E7E3-A6F9-44F4-B36C-E7CF9CB7D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D72C-D896-49DB-AC60-FB215EB74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FD3D-7D2D-42AF-8403-F9C1DAD1C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03C-D817-4A1B-91D6-30FEEAB6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0F2-6FC6-40D9-A217-22DDEB52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3FF-C0C2-463D-8F0C-AA7906CB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83B-672A-43E5-B934-BC3C03AD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072-2E23-41D5-A9E5-0E0441AC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436-E656-4271-B7DE-99E3D7C3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75C-BB38-4994-BEA0-F8E8A9A3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469-B709-44F2-AE50-28BDF62C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AF7-7284-471F-BEBB-470DBF34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CB2-9B6F-4CA6-A81B-AA0C0F22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031-8A1A-457B-8B5B-747D5C6F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C5B-2336-4C20-9481-D8385798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BAFA-0FE0-4A2E-A6BE-C26106B42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9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ransformationed.com/" TargetMode="External"/><Relationship Id="rId2" Type="http://schemas.openxmlformats.org/officeDocument/2006/relationships/hyperlink" Target="http://www.transformationed.com/podcast" TargetMode="External"/><Relationship Id="rId3" Type="http://schemas.openxmlformats.org/officeDocument/2006/relationships/hyperlink" Target="http://www.teacherspodcast.org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transformationed.com/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fordham.edu/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png"/><Relationship Id="rId3" Type="http://schemas.openxmlformats.org/officeDocument/2006/relationships/image" Target="../media/image40.gif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 50</a:t>
            </a: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762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eating a Student Audience with New Media: SFA via Podcast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r. Kathleen P. K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rdham Univers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formation Education LL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666880"/>
            <a:ext cx="1905120" cy="1067040"/>
          </a:xfrm>
          <a:prstGeom prst="cloudCallout">
            <a:avLst>
              <a:gd name="adj1" fmla="val -7000"/>
              <a:gd name="adj2" fmla="val 9002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407"/>
                </a:solidFill>
                <a:latin typeface="Arial"/>
              </a:rPr>
              <a:t>Podcast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5334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07, King. All rights reserved. www.teacherspodcast.or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2133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Basic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19520" y="585720"/>
            <a:ext cx="5790960" cy="4367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52480" y="488952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iagram is reproduced with permission of authors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dcasting for Teach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2007) by Dr. Kathleen P. King and Mark Gura. Charlotte, NC: Information Age Publishing.  www.infoagepub.c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880" y="3995640"/>
            <a:ext cx="1173240" cy="17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4AD-4508-4573-BFD0-42589BE48F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1562040" cy="1562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4120" y="4648320"/>
            <a:ext cx="1752480" cy="1628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cording Op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791320" y="1689120"/>
            <a:ext cx="2743200" cy="219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391520" y="3657600"/>
            <a:ext cx="1606320" cy="1752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424160" y="3429000"/>
            <a:ext cx="113796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543800" y="547560"/>
            <a:ext cx="757080" cy="143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666880" y="1371600"/>
            <a:ext cx="281952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$10 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$30 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$50  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40 inexp MP3 player digital rec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20  ( HQ digital recor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724280" y="1143000"/>
            <a:ext cx="2819520" cy="38088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2057400"/>
            <a:ext cx="2819160" cy="190512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438280"/>
            <a:ext cx="1371600" cy="221004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438280" y="3962520"/>
            <a:ext cx="1067040" cy="6094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371240" y="1904760"/>
            <a:ext cx="1676520" cy="990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AB2-1DAE-46C5-BF71-9843B34615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549360"/>
            <a:ext cx="220968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r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1924200"/>
            <a:ext cx="3352680" cy="2930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495288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iagram is reproduced with permission of authors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dcasting for Teach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2007) by Dr. Kathleen P. King and Mark Gura. Charlotte, NC: Information Age Publishing.  www.infoagepub.c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696080" y="3962520"/>
            <a:ext cx="1173240" cy="1719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809880" y="914400"/>
            <a:ext cx="4876920" cy="182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C5B-8BF7-4181-824F-22A4800530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ntermediat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5120" y="1103400"/>
            <a:ext cx="6270480" cy="3697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00200" y="4965840"/>
            <a:ext cx="693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iagram is reproduced with permission of authors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dcasting for Teach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2007) by Dr. Kathleen P. King and Mark Gura. Charlotte, NC: Information Age Publishing.  www.infoagepub.c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1172880" cy="17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1C0-45D6-4FFC-BBD9-18EF210F4E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549000"/>
            <a:ext cx="8458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pproaching the SFA Content Nee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388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a9"/>
                </a:solidFill>
                <a:latin typeface="Verdana"/>
              </a:rPr>
              <a:t>Suggested Topics for Podcast Episo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) Aid Application Dead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) Financial Aid Bas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) Grants and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) Basic Financial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) Basics of being a good borr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434-F1AF-489B-AA96-D14ADA08D1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91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tting on the Pod! (AIR)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ation and Produc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r Podcast name – brand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content and mess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your intro and exit scri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podsafe (copyright free music) or campus s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bullet points or script for “body” for each epis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at id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4821120"/>
            <a:ext cx="1752840" cy="13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CF5-CC2A-4BC6-A43B-669DD3D969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esentation &amp;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6324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kely not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just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shed- unless you want to project NBC/NPR image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uge choices based on campus culture and student respo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553080" y="2209680"/>
            <a:ext cx="1614600" cy="2438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010280" y="441972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696080" y="1219320"/>
            <a:ext cx="11890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86F-79EA-4CCA-9AA2-0CE0D1C589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Options- </a:t>
            </a:r>
            <a:br>
              <a:rPr sz="3600"/>
            </a:b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The </a:t>
            </a:r>
            <a:r>
              <a:rPr b="1" i="1" lang="en-US" sz="4400" spc="-1" strike="noStrike">
                <a:solidFill>
                  <a:srgbClr val="cc5407"/>
                </a:solidFill>
                <a:latin typeface="Verdana"/>
              </a:rPr>
              <a:t>New Media </a:t>
            </a: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Messa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77360" y="2233440"/>
            <a:ext cx="73710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Creative and Person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workers as co-hosts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ntervie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FA officer intervie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fe talk show? Blog Talk Rad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segments- Tip of the week! Snafu to avoid! Mascot participa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0" y="3911760"/>
            <a:ext cx="1981080" cy="431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15200" y="950760"/>
            <a:ext cx="1216080" cy="18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377-F9BC-42EF-BA28-EF7ABB1FA2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8580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 Cycle of Continuing Evolution and Renewal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72200" y="838080"/>
            <a:ext cx="2346480" cy="4800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2844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rom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Your Voice &gt; Audience &gt;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ocu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BD9-01F8-4681-9025-95B4A104E9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334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nd Your Message Becomes More Engag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4678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ing your voic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ppens through and helps to grow your audienc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process you may discover new or additional segments to add to your format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ltimately it all works in refining your focus &gt;&gt; An engaging mess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72200" y="1066680"/>
            <a:ext cx="1306440" cy="1828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467480" y="304920"/>
            <a:ext cx="114300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E90-E512-4390-AC2F-E7D6D66C3C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5627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Professor &amp; Education Tech Developer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28964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 Kathleen P. King (Kath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dham Univers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or, Educator, Researcher, Distance Learning Specialist, Adult Learning Specialist, Podca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formation Education L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transformationed.com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formation Education L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www.transformationed.com/podcas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Teachers’ Podca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www.teacherspodcast.org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086600" y="4952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3657600"/>
            <a:ext cx="1981080" cy="503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ordham University  The Jesuit University of New Yor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606600"/>
            <a:ext cx="3200400" cy="841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8096400" y="4457880"/>
            <a:ext cx="666720" cy="13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AD9-437A-4875-9459-310EAFA917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90920" y="685800"/>
            <a:ext cx="3657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scuss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63520" y="2819160"/>
            <a:ext cx="70801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Q  &amp;  A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2057400" cy="20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6A7-6B5E-4E54-82DF-182CC3826E7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our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557208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dcasting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NAPKAST (P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CAST (MA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DAC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LL OSes- just record and edi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audacity.sourceforge.net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G TALK RADI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ve talk sh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teacherspodcast.OR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. Kathy K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pking@fordham.edu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923920" cy="638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ProfCast Logo"/>
          <p:cNvPicPr/>
          <p:nvPr/>
        </p:nvPicPr>
        <p:blipFill>
          <a:blip r:embed="rId2"/>
          <a:stretch/>
        </p:blipFill>
        <p:spPr>
          <a:xfrm>
            <a:off x="6095880" y="2201760"/>
            <a:ext cx="2286000" cy="84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248520" y="1066680"/>
            <a:ext cx="1828800" cy="879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Audacity: Free Sound Editor and Recording Software"/>
          <p:cNvPicPr/>
          <p:nvPr/>
        </p:nvPicPr>
        <p:blipFill>
          <a:blip r:embed="rId4"/>
          <a:stretch/>
        </p:blipFill>
        <p:spPr>
          <a:xfrm>
            <a:off x="6124680" y="3124080"/>
            <a:ext cx="2409840" cy="952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5334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07, King. All rights reserved. www.teacherspodcast.or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C3D-EAC7-43F9-9C5C-5500723E098E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formation-on-Demand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earning-on-Deman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10320" y="1371600"/>
            <a:ext cx="2133720" cy="2841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743200" cy="182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676520" y="3048120"/>
            <a:ext cx="2712960" cy="1807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Podcasts"/>
          <p:cNvPicPr/>
          <p:nvPr/>
        </p:nvPicPr>
        <p:blipFill>
          <a:blip r:embed="rId4"/>
          <a:stretch/>
        </p:blipFill>
        <p:spPr>
          <a:xfrm>
            <a:off x="457200" y="1752480"/>
            <a:ext cx="2514600" cy="1746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572000" y="3259080"/>
            <a:ext cx="3124080" cy="245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437-F071-4548-AE31-F76DD0C8D3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ccess and Use Free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igital Media Resour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5029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shif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ceshif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-on-dem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rning-on-dem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81680" y="3809880"/>
            <a:ext cx="2210040" cy="1335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6629400" y="990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52280" y="4473720"/>
            <a:ext cx="6886800" cy="1393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105520" y="3352680"/>
            <a:ext cx="202536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FA7-8A71-40A1-A1B2-1580C795F8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Oklahoma Sooners Podcasting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1133640"/>
            <a:ext cx="6019920" cy="4733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 rot="5400000">
            <a:off x="6057720" y="3162240"/>
            <a:ext cx="4343400" cy="76176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Why Not SFA ?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4DC-BAAE-4904-837A-064840FA61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704520"/>
            <a:ext cx="88394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Access and Use Free Digital Media Resources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05320" y="9907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unes- free podcast “catche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rch for topics – pick--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other epis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… Google search podcast + top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6095880" cy="3429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3880" y="3886200"/>
            <a:ext cx="635040" cy="68580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160" y="128"/>
                </a:moveTo>
                <a:cubicBezTo>
                  <a:pt x="96" y="64"/>
                  <a:pt x="32" y="0"/>
                  <a:pt x="16" y="32"/>
                </a:cubicBezTo>
                <a:cubicBezTo>
                  <a:pt x="0" y="64"/>
                  <a:pt x="16" y="304"/>
                  <a:pt x="64" y="320"/>
                </a:cubicBezTo>
                <a:cubicBezTo>
                  <a:pt x="112" y="336"/>
                  <a:pt x="296" y="168"/>
                  <a:pt x="304" y="128"/>
                </a:cubicBezTo>
                <a:cubicBezTo>
                  <a:pt x="312" y="88"/>
                  <a:pt x="144" y="80"/>
                  <a:pt x="112" y="80"/>
                </a:cubicBezTo>
                <a:cubicBezTo>
                  <a:pt x="80" y="80"/>
                  <a:pt x="112" y="120"/>
                  <a:pt x="112" y="128"/>
                </a:cubicBezTo>
              </a:path>
            </a:pathLst>
          </a:custGeom>
          <a:noFill/>
          <a:ln w="7632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21085200">
            <a:off x="2514240" y="3352680"/>
            <a:ext cx="5470560" cy="533520"/>
          </a:xfrm>
          <a:prstGeom prst="leftArrow">
            <a:avLst>
              <a:gd name="adj1" fmla="val 50000"/>
              <a:gd name="adj2" fmla="val 256343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C1D-D58B-4763-A01A-A62ADDAD8E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9036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y on compu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e subscription to receive next episo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bile- take it with yo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ble to syn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p3 player – iPod -- Cell ph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920" y="1919160"/>
            <a:ext cx="6781680" cy="3814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4572000"/>
            <a:ext cx="717480" cy="372960"/>
          </a:xfrm>
          <a:custGeom>
            <a:avLst/>
            <a:gdLst/>
            <a:ahLst/>
            <a:rect l="l" t="t" r="r" b="b"/>
            <a:pathLst>
              <a:path w="452" h="235">
                <a:moveTo>
                  <a:pt x="33" y="146"/>
                </a:moveTo>
                <a:cubicBezTo>
                  <a:pt x="0" y="40"/>
                  <a:pt x="132" y="22"/>
                  <a:pt x="206" y="5"/>
                </a:cubicBezTo>
                <a:cubicBezTo>
                  <a:pt x="253" y="8"/>
                  <a:pt x="303" y="0"/>
                  <a:pt x="347" y="18"/>
                </a:cubicBezTo>
                <a:cubicBezTo>
                  <a:pt x="452" y="62"/>
                  <a:pt x="328" y="31"/>
                  <a:pt x="417" y="50"/>
                </a:cubicBezTo>
                <a:cubicBezTo>
                  <a:pt x="424" y="73"/>
                  <a:pt x="420" y="111"/>
                  <a:pt x="411" y="133"/>
                </a:cubicBezTo>
                <a:cubicBezTo>
                  <a:pt x="405" y="147"/>
                  <a:pt x="394" y="158"/>
                  <a:pt x="385" y="171"/>
                </a:cubicBezTo>
                <a:cubicBezTo>
                  <a:pt x="381" y="178"/>
                  <a:pt x="372" y="191"/>
                  <a:pt x="372" y="191"/>
                </a:cubicBezTo>
                <a:cubicBezTo>
                  <a:pt x="364" y="217"/>
                  <a:pt x="350" y="221"/>
                  <a:pt x="327" y="235"/>
                </a:cubicBezTo>
                <a:cubicBezTo>
                  <a:pt x="242" y="227"/>
                  <a:pt x="165" y="214"/>
                  <a:pt x="78" y="210"/>
                </a:cubicBezTo>
                <a:cubicBezTo>
                  <a:pt x="30" y="177"/>
                  <a:pt x="27" y="161"/>
                  <a:pt x="27" y="101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20865600">
            <a:off x="2057040" y="3657240"/>
            <a:ext cx="5105520" cy="533520"/>
          </a:xfrm>
          <a:prstGeom prst="leftArrow">
            <a:avLst>
              <a:gd name="adj1" fmla="val 50000"/>
              <a:gd name="adj2" fmla="val 23923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D1F-E4C2-4893-ACF2-18662C4588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essage in </a:t>
            </a:r>
            <a:r>
              <a:rPr b="1" i="1" lang="en-US" sz="4000" spc="-1" strike="noStrike">
                <a:solidFill>
                  <a:srgbClr val="cc5407"/>
                </a:solidFill>
                <a:latin typeface="Verdana"/>
              </a:rPr>
              <a:t>their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edi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New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Creating an Audi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Options, 2/7, por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2819520"/>
            <a:ext cx="1904760" cy="1066680"/>
          </a:xfrm>
          <a:prstGeom prst="cloudCallout">
            <a:avLst>
              <a:gd name="adj1" fmla="val -48666"/>
              <a:gd name="adj2" fmla="val 21131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dcast DEMO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3733920"/>
            <a:ext cx="1904760" cy="1066680"/>
          </a:xfrm>
          <a:prstGeom prst="cloudCallout">
            <a:avLst>
              <a:gd name="adj1" fmla="val 30333"/>
              <a:gd name="adj2" fmla="val 131694"/>
            </a:avLst>
          </a:prstGeom>
          <a:solidFill>
            <a:srgbClr val="007a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dcast DEMO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3429000"/>
            <a:ext cx="1905120" cy="1066680"/>
          </a:xfrm>
          <a:prstGeom prst="cloudCallout">
            <a:avLst>
              <a:gd name="adj1" fmla="val 86500"/>
              <a:gd name="adj2" fmla="val 189138"/>
            </a:avLst>
          </a:prstGeom>
          <a:solidFill>
            <a:srgbClr val="cc54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dcast DEM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B04-3FCF-41BB-AEBB-1CC18EDE35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hange Happe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305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a9"/>
                </a:solidFill>
                <a:latin typeface="Verdana"/>
              </a:rPr>
              <a:t>Plan to evolve and gr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th that in mind I consider 3 simple models for podcasting configuration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eginning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termediate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dvanc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75104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589-86AE-4FF7-B0CB-FCF4880246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5:48Z</dcterms:modified>
  <cp:revision>209</cp:revision>
  <dc:subject/>
  <dc:title>PowerPoint Presentation</dc:title>
</cp:coreProperties>
</file>