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8C10-B273-482C-8796-4EF7335A4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9ABB-09F0-4510-9947-D46A0D8A1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094B-691C-4F6A-8676-D35DB9FBF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C10D-2F3E-4E96-B0DA-9BF50C3D0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E069-5BFC-407F-97B2-AB1360742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3397-EA67-4D19-88DA-1350CC425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CF57-F37F-408F-92F3-39A4BBDC8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2BA1-1CE6-4412-97CA-7439AE132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094E-62C9-44A8-8C4D-009340E40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C5CA-840F-4E47-9615-9D381DCB7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C498-5C5E-4C8B-B3E9-42A8A9B7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F93B-B8C7-47D0-949E-BD79C0926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B7E-D479-483D-B109-22961000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Open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input from all intereste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developed by an objective body who is NOT itself a stakeholder (the standards body doesn’t benefit directly from the services which use the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available and accessible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6F8F-5DF3-49EC-B77C-53303B791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interoperability between implem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ludes a participation cost or fee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require participants to use proprietary software/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Open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E4A5-FC83-475D-99CC-DF402397A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Players &amp; Stakehold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, industry-independen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ASIS, W3C, 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 groups -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econdary Electronic Standards Counci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E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ACRAO’s Postsecondary Education Electronic Data Exchange (SPEEDE) Committee for EDI Academic Transcripts and Test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CHELP’s Electronic Standards Committee (ESC) for Comm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825A-C49C-4B87-9524-5341B5943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5648400"/>
            <a:ext cx="82296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rvices and Technical Standards (XML, Authentication, Data Transport, Data encryption, Interoperability protoc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27672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Aid Industry Technical and Business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13372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keholder Implementations (CommonLine, COD, Meteor, NSLDS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3400" y="137088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andards are built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po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4080" y="3774960"/>
            <a:ext cx="401400" cy="720720"/>
          </a:xfrm>
          <a:prstGeom prst="upArrow">
            <a:avLst>
              <a:gd name="adj1" fmla="val 50000"/>
              <a:gd name="adj2" fmla="val 4488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89360" y="2666880"/>
            <a:ext cx="401760" cy="609840"/>
          </a:xfrm>
          <a:prstGeom prst="upArrow">
            <a:avLst>
              <a:gd name="adj1" fmla="val 50000"/>
              <a:gd name="adj2" fmla="val 3794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1400" y="2666880"/>
            <a:ext cx="441000" cy="609840"/>
          </a:xfrm>
          <a:prstGeom prst="downArrow">
            <a:avLst>
              <a:gd name="adj1" fmla="val 50000"/>
              <a:gd name="adj2" fmla="val 3457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59440" y="3816360"/>
            <a:ext cx="441360" cy="679320"/>
          </a:xfrm>
          <a:prstGeom prst="downArrow">
            <a:avLst>
              <a:gd name="adj1" fmla="val 50000"/>
              <a:gd name="adj2" fmla="val 3847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54720" y="4952880"/>
            <a:ext cx="441360" cy="685800"/>
          </a:xfrm>
          <a:prstGeom prst="downArrow">
            <a:avLst>
              <a:gd name="adj1" fmla="val 50000"/>
              <a:gd name="adj2" fmla="val 388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495680"/>
            <a:ext cx="822960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definitions, XML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1080" y="4967280"/>
            <a:ext cx="401400" cy="666720"/>
          </a:xfrm>
          <a:prstGeom prst="upArrow">
            <a:avLst>
              <a:gd name="adj1" fmla="val 50000"/>
              <a:gd name="adj2" fmla="val 4152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Hierarch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CC34-EBC4-41C3-AD8D-E127EA09D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648400"/>
            <a:ext cx="822960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ASIS, UN/CEFACT, W3C, Liberty Alli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276720"/>
            <a:ext cx="8229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CHELP and F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057400"/>
            <a:ext cx="8229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keholder Implementations (Lenders, Guarantors, Schools, Originators, Secondary Markets, Servicers, ED, SIS vendor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3400" y="137088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andards are built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po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080" y="3774960"/>
            <a:ext cx="401400" cy="720720"/>
          </a:xfrm>
          <a:prstGeom prst="upArrow">
            <a:avLst>
              <a:gd name="adj1" fmla="val 50000"/>
              <a:gd name="adj2" fmla="val 4488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9360" y="2666880"/>
            <a:ext cx="401760" cy="609840"/>
          </a:xfrm>
          <a:prstGeom prst="upArrow">
            <a:avLst>
              <a:gd name="adj1" fmla="val 50000"/>
              <a:gd name="adj2" fmla="val 3794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1400" y="2666880"/>
            <a:ext cx="441000" cy="609840"/>
          </a:xfrm>
          <a:prstGeom prst="downArrow">
            <a:avLst>
              <a:gd name="adj1" fmla="val 50000"/>
              <a:gd name="adj2" fmla="val 3457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3816360"/>
            <a:ext cx="441360" cy="679320"/>
          </a:xfrm>
          <a:prstGeom prst="downArrow">
            <a:avLst>
              <a:gd name="adj1" fmla="val 50000"/>
              <a:gd name="adj2" fmla="val 3847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4720" y="4952880"/>
            <a:ext cx="441360" cy="685800"/>
          </a:xfrm>
          <a:prstGeom prst="downArrow">
            <a:avLst>
              <a:gd name="adj1" fmla="val 50000"/>
              <a:gd name="adj2" fmla="val 3884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822960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1080" y="4967280"/>
            <a:ext cx="401400" cy="666720"/>
          </a:xfrm>
          <a:prstGeom prst="upArrow">
            <a:avLst>
              <a:gd name="adj1" fmla="val 50000"/>
              <a:gd name="adj2" fmla="val 4152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5382-0876-45C6-B657-D5CDD3572D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History in Financial Ai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ccount Maintenance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Line/Common Record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SC Core Data Dictionary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EE90-CF20-4F51-89F4-C878F3CE4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Relevance – Today and Tomorrow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-time services – another evolutionar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are the necessary linchpin to make new technolog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A is committed and active in standards-setting and development (PESC, CommonLine/Common Record convergence, Web Serv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26DE-A202-483D-8258-F8C83056B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Relevance – Today and Tomo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6765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eor – developing communication, authentication, and data definitions built on work of public and industry standards-setting bodies (PESC, OASIS, JA-SIG, Internet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Line/Common Record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-based data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reasing and limited role for proprietary processes and layo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AEDE-C87D-48E8-9A56-86C5053BC5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Getting Invol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6765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rticipate in the standards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your participation provides a voice and influence for you institution and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actice and promote the standar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this will maximize time and monetary inves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-empt eff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develop proprietary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3218-8D4B-459E-AFEB-A9A1B8FDA3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Getting Involved!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oin PESC and the XM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hip info available at www.StandardsCounc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it www.NCHELP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oin the 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oin the School Advis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0495-EA68-4B70-A232-27A248A215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ession # 50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resented by: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ussell Judd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hief Industry and Government Relations Offic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reat Lakes Educational Loan Services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chael Sessa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ecutive Dire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stsecondary Electronic Standards Council (PESC)</a:t>
            </a:r>
            <a:endParaRPr b="1" i="1" lang="en-US" sz="2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335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13474"/>
                </a:solidFill>
                <a:latin typeface="Tahoma"/>
              </a:rPr>
              <a:t>Standards &amp; </a:t>
            </a:r>
            <a:br>
              <a:rPr sz="6000"/>
            </a:br>
            <a:r>
              <a:rPr b="1" i="1" lang="en-US" sz="6000" spc="-1" strike="noStrike">
                <a:solidFill>
                  <a:srgbClr val="713474"/>
                </a:solidFill>
                <a:latin typeface="Tahoma"/>
              </a:rPr>
              <a:t>Open 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2FE9-A850-4A6B-9EBD-F6064328A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Contact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ssell Ju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8-246-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udd@glhec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ael S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293-738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a@standardscounc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92FC-865A-4460-9429-C2F4C3EC8B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1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ers &amp;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in Financial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ce – Today and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ting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2EA4-67D5-4248-8D03-400A14E42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“</a:t>
            </a: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andard” Defi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48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 guidelines for data exchange that can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/transmiss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tself (format, element names, definitions, transaction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(protocols to protect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(identity recognition and verif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D4AE-B052-45EB-857E-16D2D62EB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“</a:t>
            </a: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andard” Defi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eed upon guidelines 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government regulation or legis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 through cooperation, study, and approval by designat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redited standards-setting bo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nd/or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y agreement and collabo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E030-1100-4D34-8B8E-591A4E2F5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andards must be supported by business standards, agreement on common policy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policy (Common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terminology 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business purpose and transactions (Common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“</a:t>
            </a: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andard”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2E75-8D03-4BCF-A6C8-3DFF9B0C6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“</a:t>
            </a: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Standard” Defi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rietary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often misrepresented a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ome a duplicate of existing or new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often created intentionally to “capture” or “lock-in” customers 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often controlled by small but influential group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ithout open or publ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costs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ome impediments for industry progression road blocking ability to move forward with new features and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2A74-223F-4D0F-968B-654F312B3D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Benefits of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amline processes – eliminate unnecessary complex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 service to customers by expanding functionality and reducing c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reases delivery time of new services to custo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services can be added to a standard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E5B5-5C60-4ED9-A662-0C0480055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Tahoma"/>
              </a:rPr>
              <a:t>Benefits of Standar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or eliminates the cost of maintaining multipl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the playing field” and promote competition based on service, not on process o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plug-n-play and interop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s can integrate, communicate, and exchange information easier which enables value-add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r interconnectivity between partners allows new busines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566A-226C-45EC-8F53-86E737D1F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9:10:10Z</dcterms:created>
  <dc:creator>Steve Crow</dc:creator>
  <dc:description/>
  <dc:language>en-US</dc:language>
  <cp:lastModifiedBy>EPPPAREKH</cp:lastModifiedBy>
  <dcterms:modified xsi:type="dcterms:W3CDTF">2003-05-02T17:30:32Z</dcterms:modified>
  <cp:revision>74</cp:revision>
  <dc:subject/>
  <dc:title>No Slide Title</dc:title>
</cp:coreProperties>
</file>