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E4B-32D8-4511-BC40-4125DBE4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1FC-C66C-44DE-8835-3A19D9B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0FE-7D01-4D10-B2D8-299E8793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DC6-B54C-4B3B-8843-547A1E38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771-80CE-42C7-A46A-8D7FD0A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8B6-352F-4223-AF3F-53611C77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673-A4AC-4083-B18C-AC3A663A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46B-814F-4753-917E-623B2501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F3-52AE-4762-9CB9-3D7F241B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D06-3757-420E-BD7F-343FFCD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05E-3F5B-4577-A5D7-1B34BD9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CCF-6A18-4E31-B04F-25DD49A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6C5-B782-464E-97BD-0176D24B2F2C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Holly.Hyland@ed.gov" TargetMode="External"/><Relationship Id="rId2" Type="http://schemas.openxmlformats.org/officeDocument/2006/relationships/hyperlink" Target="mailto:James.McMahon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49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ftware Development Lifecycle for Business Peo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lly Hyl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im McMah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se Case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05040" y="1320840"/>
          <a:ext cx="490068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1320840"/>
                    <a:ext cx="490068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8C0-3346-4432-9C8E-8EF4985E9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536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2B8-1829-43A8-B394-6EAC944A8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velop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orit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e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83F-F4CC-444C-A762-942618D250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e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of Defense Architecture Framework (DODAF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way to organize an enterprise architecture into a complimentary and consistent 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Zachman Framework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l and highly structured way of defining an enterpr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Enterprise Architectur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methodology for IT within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E87-9F95-4BA3-9999-D00382A1C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ODA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1080" y="1571760"/>
            <a:ext cx="8734320" cy="39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8FF-6411-42F5-8203-B8423D667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Zachman Framewor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2" name="ZachmanFramework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610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ADF-E73D-4517-942C-F6A8E59511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Enterprise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70572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924-DD57-4787-8746-F7DCD2223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mple System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325520"/>
            <a:ext cx="8153280" cy="45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4EB-1FB9-4ACB-8AD2-D0478D1EE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lement New Code or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uter Programm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 of writing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rce Cod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statements or declarations written in a programming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ng Languag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language used to control the behavior of a mach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b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950-C98F-40F3-A6E1-322D911EA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st System 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ing Traceability Matrix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the requirements to the test c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 scripts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enarios designed to test a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ression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ing that adding new functionality did not result in “breaking” what worked bef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 Acceptance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esting with functional us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on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esting new function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5A0-26D1-4431-AF3E-53809A8D3B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oals for Session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vey basic information about the Software Development Lifecycle (SDLC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fy basic processes and a basic vocabulary regarding (SDLC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fy sources for additional informat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F24-E379-4C80-926F-2B5CBFAA6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quirements Flow through to Testing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620720"/>
            <a:ext cx="845820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CDC-6EA5-457A-94AA-400058A27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quirements Traceability to Test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033-9A46-44F4-AB99-7C0E1CCEBE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User Acceptance Test Ca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54080" y="1442880"/>
            <a:ext cx="6946560" cy="4577040"/>
            <a:chOff x="1054080" y="1442880"/>
            <a:chExt cx="6946560" cy="4577040"/>
          </a:xfrm>
        </p:grpSpPr>
        <p:grpSp>
          <p:nvGrpSpPr>
            <p:cNvPr id="87" name=""/>
            <p:cNvGrpSpPr/>
            <p:nvPr/>
          </p:nvGrpSpPr>
          <p:grpSpPr>
            <a:xfrm>
              <a:off x="1059480" y="1446120"/>
              <a:ext cx="6935040" cy="4569840"/>
              <a:chOff x="1059480" y="1446120"/>
              <a:chExt cx="6935040" cy="45698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059480" y="1446120"/>
                <a:ext cx="6935040" cy="424800"/>
                <a:chOff x="1059480" y="1446120"/>
                <a:chExt cx="6935040" cy="4248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059480" y="1446120"/>
                  <a:ext cx="6935040" cy="424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1059480" y="1446120"/>
                  <a:ext cx="6934680" cy="424800"/>
                  <a:chOff x="1059480" y="1446120"/>
                  <a:chExt cx="6934680" cy="4248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1139040" y="1446120"/>
                    <a:ext cx="6775560" cy="424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dentified in BR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059480" y="1446120"/>
                    <a:ext cx="6934680" cy="424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1059480" y="1870920"/>
                <a:ext cx="1474200" cy="637560"/>
                <a:chOff x="1059480" y="1870920"/>
                <a:chExt cx="1474200" cy="6375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059480" y="1870920"/>
                  <a:ext cx="147420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1059480" y="1870920"/>
                  <a:ext cx="1473840" cy="637560"/>
                  <a:chOff x="1059480" y="1870920"/>
                  <a:chExt cx="1473840" cy="6375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1139040" y="1870920"/>
                    <a:ext cx="131472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st Are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059480" y="1870920"/>
                    <a:ext cx="147384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534040" y="1870920"/>
                <a:ext cx="2248560" cy="637560"/>
                <a:chOff x="2534040" y="1870920"/>
                <a:chExt cx="2248560" cy="637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534040" y="1870920"/>
                  <a:ext cx="224856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534040" y="1870920"/>
                  <a:ext cx="2248200" cy="637560"/>
                  <a:chOff x="2534040" y="1870920"/>
                  <a:chExt cx="2248200" cy="6375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613600" y="1870920"/>
                    <a:ext cx="208908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cenari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534040" y="1870920"/>
                    <a:ext cx="224820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4783320" y="1870920"/>
                <a:ext cx="823320" cy="637560"/>
                <a:chOff x="4783320" y="1870920"/>
                <a:chExt cx="823320" cy="6375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783320" y="1870920"/>
                  <a:ext cx="82332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4783320" y="1870920"/>
                  <a:ext cx="822960" cy="637560"/>
                  <a:chOff x="4783320" y="1870920"/>
                  <a:chExt cx="822960" cy="6375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4862160" y="1870920"/>
                    <a:ext cx="66492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ate Test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783320" y="1870920"/>
                    <a:ext cx="82296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5607000" y="1870920"/>
                <a:ext cx="2387520" cy="637560"/>
                <a:chOff x="5607000" y="1870920"/>
                <a:chExt cx="2387520" cy="6375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607000" y="1870920"/>
                  <a:ext cx="238752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5607000" y="1870920"/>
                  <a:ext cx="2387160" cy="637560"/>
                  <a:chOff x="5607000" y="1870920"/>
                  <a:chExt cx="2387160" cy="6375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5686560" y="1870920"/>
                    <a:ext cx="222804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ot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5607000" y="1870920"/>
                    <a:ext cx="238716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1059480" y="2508840"/>
                <a:ext cx="1474200" cy="850320"/>
                <a:chOff x="1059480" y="2508840"/>
                <a:chExt cx="1474200" cy="8503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39040" y="2508840"/>
                  <a:ext cx="131508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ward Classification Tes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59480" y="2508840"/>
                  <a:ext cx="147420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534040" y="2508840"/>
                <a:ext cx="2248560" cy="850320"/>
                <a:chOff x="2534040" y="2508840"/>
                <a:chExt cx="2248560" cy="8503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13600" y="2508840"/>
                  <a:ext cx="208944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eneration of single honour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34040" y="2508840"/>
                  <a:ext cx="224856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4783320" y="2508840"/>
                <a:ext cx="823320" cy="850320"/>
                <a:chOff x="4783320" y="2508840"/>
                <a:chExt cx="823320" cy="8503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862160" y="2508840"/>
                  <a:ext cx="66492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783320" y="2508840"/>
                  <a:ext cx="8233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607000" y="2508840"/>
                <a:ext cx="2387520" cy="850320"/>
                <a:chOff x="5607000" y="2508840"/>
                <a:chExt cx="2387520" cy="850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686560" y="2508840"/>
                  <a:ext cx="22284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607000" y="2508840"/>
                  <a:ext cx="23875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059480" y="3359160"/>
                <a:ext cx="1474200" cy="956520"/>
                <a:chOff x="1059480" y="3359160"/>
                <a:chExt cx="1474200" cy="9565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39040" y="3359160"/>
                  <a:ext cx="131508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059480" y="3359160"/>
                  <a:ext cx="147420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34040" y="3359160"/>
                <a:ext cx="2248560" cy="956520"/>
                <a:chOff x="2534040" y="3359160"/>
                <a:chExt cx="2248560" cy="956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13600" y="3359160"/>
                  <a:ext cx="208944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eneration of combined honours in two discipline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34040" y="3359160"/>
                  <a:ext cx="224856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83320" y="3359160"/>
                <a:ext cx="823320" cy="956520"/>
                <a:chOff x="4783320" y="3359160"/>
                <a:chExt cx="823320" cy="956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2160" y="3359160"/>
                  <a:ext cx="66492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83320" y="3359160"/>
                  <a:ext cx="82332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607000" y="3359160"/>
                <a:ext cx="2387520" cy="956520"/>
                <a:chOff x="5607000" y="3359160"/>
                <a:chExt cx="2387520" cy="9565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686560" y="3359160"/>
                  <a:ext cx="222840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7000" y="3359160"/>
                  <a:ext cx="238752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59480" y="4315680"/>
                <a:ext cx="1474200" cy="850320"/>
                <a:chOff x="1059480" y="4315680"/>
                <a:chExt cx="1474200" cy="850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139040" y="4315680"/>
                  <a:ext cx="131508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9480" y="4315680"/>
                  <a:ext cx="147420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534040" y="4315680"/>
                <a:ext cx="2248560" cy="850320"/>
                <a:chOff x="2534040" y="4315680"/>
                <a:chExt cx="2248560" cy="850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613600" y="4315680"/>
                  <a:ext cx="208944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roup honours qualification gener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534040" y="4315680"/>
                  <a:ext cx="224856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783320" y="4315680"/>
                <a:ext cx="823320" cy="850320"/>
                <a:chOff x="4783320" y="4315680"/>
                <a:chExt cx="823320" cy="850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862160" y="4315680"/>
                  <a:ext cx="66492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83320" y="4315680"/>
                  <a:ext cx="8233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607000" y="4315680"/>
                <a:ext cx="2387520" cy="850320"/>
                <a:chOff x="5607000" y="4315680"/>
                <a:chExt cx="2387520" cy="850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686560" y="4315680"/>
                  <a:ext cx="22284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07000" y="4315680"/>
                  <a:ext cx="23875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059480" y="5166000"/>
                <a:ext cx="1474200" cy="849960"/>
                <a:chOff x="1059480" y="5166000"/>
                <a:chExt cx="1474200" cy="849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139040" y="5166000"/>
                  <a:ext cx="131508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59480" y="5166000"/>
                  <a:ext cx="147420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534040" y="5166000"/>
                <a:ext cx="2248560" cy="849960"/>
                <a:chOff x="2534040" y="5166000"/>
                <a:chExt cx="2248560" cy="849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613600" y="5166000"/>
                  <a:ext cx="208944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Integrated Masters with honour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34040" y="5166000"/>
                  <a:ext cx="224856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783320" y="5166000"/>
                <a:ext cx="823320" cy="849960"/>
                <a:chOff x="4783320" y="5166000"/>
                <a:chExt cx="823320" cy="849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862160" y="5166000"/>
                  <a:ext cx="66492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83320" y="5166000"/>
                  <a:ext cx="82332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607000" y="5166000"/>
                <a:ext cx="2387520" cy="849960"/>
                <a:chOff x="5607000" y="5166000"/>
                <a:chExt cx="2387520" cy="849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686560" y="5166000"/>
                  <a:ext cx="222840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7000" y="5166000"/>
                  <a:ext cx="238752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054080" y="1442880"/>
              <a:ext cx="6946560" cy="4577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6F7-A875-41F8-94D9-DFAF2350C2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– Supporting Disciplin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guration Management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ion contro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ation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ten text that accompanies computer softw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Quality Assurance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software engineering process usually via aud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 Management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ipline of organizing and managing resources so that projects have a defined scope, quality, time and costs constraint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Experience Design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ing to a users satisfact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F8B-5143-476B-BDC5-2708C60CCD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-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12207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cycle for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MM or CMMI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maturity model integ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9000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management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15504 (SPICE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process improvement and capability determi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 Sigma (manufacturing-oriented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s to systematically improve processe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4C8-316D-4760-A064-3BF70C9DB0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ditional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a google search on SDLC – you will find Software Development Lifecycle and System Development Lifecycle.  Both define process method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sit Wikipedia and search on  SDL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CA6-2F49-4D3B-B732-565D95F3F6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for the 2008-2009 AY, do we need to develop or adjust our standard templates for requirements gathering so that we improve our SDLC pro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1D2-B04B-4126-AA52-4B16453212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do we practice a waterfall or iterative process for our SDCL?  Or do we use both processes depending on the expected changes?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943-AED4-4655-8929-C64E5F5CD8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I know that you’re going to need FAO input for the 2008-2009 changes.  Can we get together to develop a project plan?  I want to make sure that you have the resources you need for requirements gathering and testing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BD7-87F3-4F0C-90FC-77933BA4CE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ly Hy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2.377.37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olly.Hyland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McMah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2.377.31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James.McMaho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024-BE07-40DB-A8A9-7096429AA3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 of this Session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s session suggestion came from IT professionals at last years Conference.  In the same way that we offer Financial Aid 101 for IT staff, they wanted a session on SDLC for business people – to enhance education and communication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765-B031-438F-A005-5A9BE4CD8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F3F-6A61-437B-9925-D3A8711CE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Requir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e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 New Code or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 System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loy New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5F7-BF75-442E-B5E6-1B93A6C88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- Model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fall (sequenti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ments, design, implement, test, integration, and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rative (cyclic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 Unified Process (RU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id Application Development) (RA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486-BE47-4207-8289-8360A30FB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Examples - Waterfal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515-E55C-4971-AEF6-A9D0F2014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DLC Examples – Unified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437-C84C-4696-BC82-CA6AFC3CB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Examples - Agi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9A4-A53A-4A44-B0D7-CE5E2BFE6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5:24Z</dcterms:modified>
  <cp:revision>225</cp:revision>
  <dc:subject/>
  <dc:title>PowerPoint Presentation</dc:title>
</cp:coreProperties>
</file>