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F07C-BE4D-4619-B741-477EFD078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2526-694A-4EF6-897D-4A505671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852E-4812-4939-B73F-A62EACF8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00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55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00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55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980E-CCF5-4462-8A02-5B383CA2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A4DE-DFDA-485D-B588-9F39DF76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E40C-53C7-40FD-8F18-C1CA436A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4A39-5DCF-43F5-99B8-2134BAB4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F1A7-FEE4-4A7A-80D4-C4DF18B6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E8D2-F22A-4B43-8A93-F06C57E9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012E-A4C1-41F9-84C0-EDDB22D6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3E13-EB69-4DE7-ACDC-297F8073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42AB-6CF5-472F-A026-9DC60801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1A6E-C8E0-46A6-B4A3-2E9477112805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Holly.Hyland@ed.gov" TargetMode="External"/><Relationship Id="rId2" Type="http://schemas.openxmlformats.org/officeDocument/2006/relationships/hyperlink" Target="mailto:James.McMahon@ed.gov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# 49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oftware Development Lifecycle for Business Peo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olly Hylan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im McMah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Use Case Exampl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805040" y="1320840"/>
          <a:ext cx="4900680" cy="45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5040" y="1320840"/>
                    <a:ext cx="490068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47C3-7994-4BF0-A3E2-B368AEFFA4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quire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55360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1DA2-1672-4603-BC42-E08FC2B743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evelop Require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sist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ioritiz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uctur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raceab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E2DD-54CD-4B30-A76E-BA72962AFC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etermine Architectur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partment of Defense Architecture Framework (DODAF)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 way to organize an enterprise architecture into a complimentary and consistent 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Zachman Framework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al and highly structured way of defining an enterpri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ederal Enterprise Architecture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on methodology for IT within govern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9A11-2C0C-4574-8AC3-A03AB7641D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ODAF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81080" y="1571760"/>
            <a:ext cx="8734320" cy="393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82FB-375C-4094-A396-DCE65639EC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Zachman Framework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72" name="ZachmanFramework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61080" cy="441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0C2D-0FC2-49C8-9D62-E240B74374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ederal Enterprise Architectur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6705720" cy="48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8707-13AA-4D2C-8614-EA2B312062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ample System Architectur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3520" y="1325520"/>
            <a:ext cx="8153280" cy="454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8527-FA2F-469D-9413-3A1C2010E4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mplement New Code or Chang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puter Programming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ss of writing co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ource Code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quence of statements or declarations written in a programming langua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gramming Language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tificial language used to control the behavior of a machi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bo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80FC-755B-44F1-B4B1-17CFD5F686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est System Functionalit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sting Traceability Matrix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pping the requirements to the test ca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st scripts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enarios designed to test a syste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gression Testing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suring that adding new functionality did not result in “breaking” what worked befo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r Acceptance Testing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rocess of testing with functional us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gration Testing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rocess of testing new functionalit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D4C3-E1EE-48F8-AA71-F2FAFC6D82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oals for Session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vey basic information about the Software Development Lifecycle (SDLC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dentify basic processes and a basic vocabulary regarding (SDLC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dentify sources for additional information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685A-4BCA-404B-8F63-79CEA496FA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991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Requirements Flow through to Testing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5800" y="1620720"/>
            <a:ext cx="8458200" cy="424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4CE3-FD7A-4B91-BBD1-21C9DE01DD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Requirements Traceability to Test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391520" cy="39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C610-727D-4E8C-8640-AA5793DDD7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User Acceptance Test Case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054080" y="1442880"/>
            <a:ext cx="6946560" cy="4577040"/>
            <a:chOff x="1054080" y="1442880"/>
            <a:chExt cx="6946560" cy="4577040"/>
          </a:xfrm>
        </p:grpSpPr>
        <p:grpSp>
          <p:nvGrpSpPr>
            <p:cNvPr id="87" name=""/>
            <p:cNvGrpSpPr/>
            <p:nvPr/>
          </p:nvGrpSpPr>
          <p:grpSpPr>
            <a:xfrm>
              <a:off x="1059480" y="1446120"/>
              <a:ext cx="6935040" cy="4569840"/>
              <a:chOff x="1059480" y="1446120"/>
              <a:chExt cx="6935040" cy="4569840"/>
            </a:xfrm>
          </p:grpSpPr>
          <p:grpSp>
            <p:nvGrpSpPr>
              <p:cNvPr id="88" name=""/>
              <p:cNvGrpSpPr/>
              <p:nvPr/>
            </p:nvGrpSpPr>
            <p:grpSpPr>
              <a:xfrm>
                <a:off x="1059480" y="1446120"/>
                <a:ext cx="6935040" cy="424800"/>
                <a:chOff x="1059480" y="1446120"/>
                <a:chExt cx="6935040" cy="42480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1059480" y="1446120"/>
                  <a:ext cx="6935040" cy="42480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" name=""/>
                <p:cNvGrpSpPr/>
                <p:nvPr/>
              </p:nvGrpSpPr>
              <p:grpSpPr>
                <a:xfrm>
                  <a:off x="1059480" y="1446120"/>
                  <a:ext cx="6934680" cy="424800"/>
                  <a:chOff x="1059480" y="1446120"/>
                  <a:chExt cx="6934680" cy="424800"/>
                </a:xfrm>
              </p:grpSpPr>
              <p:sp>
                <p:nvSpPr>
                  <p:cNvPr id="91" name=""/>
                  <p:cNvSpPr/>
                  <p:nvPr/>
                </p:nvSpPr>
                <p:spPr>
                  <a:xfrm>
                    <a:off x="1139040" y="1446120"/>
                    <a:ext cx="6775560" cy="42480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Identified in BR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1059480" y="1446120"/>
                    <a:ext cx="6934680" cy="424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3" name=""/>
              <p:cNvGrpSpPr/>
              <p:nvPr/>
            </p:nvGrpSpPr>
            <p:grpSpPr>
              <a:xfrm>
                <a:off x="1059480" y="1870920"/>
                <a:ext cx="1474200" cy="637560"/>
                <a:chOff x="1059480" y="1870920"/>
                <a:chExt cx="1474200" cy="6375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059480" y="1870920"/>
                  <a:ext cx="1474200" cy="6375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5" name=""/>
                <p:cNvGrpSpPr/>
                <p:nvPr/>
              </p:nvGrpSpPr>
              <p:grpSpPr>
                <a:xfrm>
                  <a:off x="1059480" y="1870920"/>
                  <a:ext cx="1473840" cy="637560"/>
                  <a:chOff x="1059480" y="1870920"/>
                  <a:chExt cx="1473840" cy="63756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1139040" y="1870920"/>
                    <a:ext cx="1314720" cy="6375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Test Are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1059480" y="1870920"/>
                    <a:ext cx="1473840" cy="637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534040" y="1870920"/>
                <a:ext cx="2248560" cy="637560"/>
                <a:chOff x="2534040" y="1870920"/>
                <a:chExt cx="2248560" cy="63756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2534040" y="1870920"/>
                  <a:ext cx="2248560" cy="6375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0" name=""/>
                <p:cNvGrpSpPr/>
                <p:nvPr/>
              </p:nvGrpSpPr>
              <p:grpSpPr>
                <a:xfrm>
                  <a:off x="2534040" y="1870920"/>
                  <a:ext cx="2248200" cy="637560"/>
                  <a:chOff x="2534040" y="1870920"/>
                  <a:chExt cx="2248200" cy="63756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>
                    <a:off x="2613600" y="1870920"/>
                    <a:ext cx="2089080" cy="6375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Scenario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2534040" y="1870920"/>
                    <a:ext cx="2248200" cy="637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" name=""/>
              <p:cNvGrpSpPr/>
              <p:nvPr/>
            </p:nvGrpSpPr>
            <p:grpSpPr>
              <a:xfrm>
                <a:off x="4783320" y="1870920"/>
                <a:ext cx="823320" cy="637560"/>
                <a:chOff x="4783320" y="1870920"/>
                <a:chExt cx="823320" cy="63756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4783320" y="1870920"/>
                  <a:ext cx="823320" cy="6375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5" name=""/>
                <p:cNvGrpSpPr/>
                <p:nvPr/>
              </p:nvGrpSpPr>
              <p:grpSpPr>
                <a:xfrm>
                  <a:off x="4783320" y="1870920"/>
                  <a:ext cx="822960" cy="637560"/>
                  <a:chOff x="4783320" y="1870920"/>
                  <a:chExt cx="822960" cy="63756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>
                    <a:off x="4862160" y="1870920"/>
                    <a:ext cx="664920" cy="6375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Date Teste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4783320" y="1870920"/>
                    <a:ext cx="822960" cy="637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8" name=""/>
              <p:cNvGrpSpPr/>
              <p:nvPr/>
            </p:nvGrpSpPr>
            <p:grpSpPr>
              <a:xfrm>
                <a:off x="5607000" y="1870920"/>
                <a:ext cx="2387520" cy="637560"/>
                <a:chOff x="5607000" y="1870920"/>
                <a:chExt cx="2387520" cy="6375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5607000" y="1870920"/>
                  <a:ext cx="2387520" cy="6375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" name=""/>
                <p:cNvGrpSpPr/>
                <p:nvPr/>
              </p:nvGrpSpPr>
              <p:grpSpPr>
                <a:xfrm>
                  <a:off x="5607000" y="1870920"/>
                  <a:ext cx="2387160" cy="637560"/>
                  <a:chOff x="5607000" y="1870920"/>
                  <a:chExt cx="2387160" cy="63756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>
                    <a:off x="5686560" y="1870920"/>
                    <a:ext cx="2228040" cy="6375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Note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5607000" y="1870920"/>
                    <a:ext cx="2387160" cy="637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3" name=""/>
              <p:cNvGrpSpPr/>
              <p:nvPr/>
            </p:nvGrpSpPr>
            <p:grpSpPr>
              <a:xfrm>
                <a:off x="1059480" y="2508840"/>
                <a:ext cx="1474200" cy="850320"/>
                <a:chOff x="1059480" y="2508840"/>
                <a:chExt cx="1474200" cy="8503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139040" y="2508840"/>
                  <a:ext cx="131508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ward Classification Testin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059480" y="2508840"/>
                  <a:ext cx="1474200" cy="85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534040" y="2508840"/>
                <a:ext cx="2248560" cy="850320"/>
                <a:chOff x="2534040" y="2508840"/>
                <a:chExt cx="2248560" cy="85032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613600" y="2508840"/>
                  <a:ext cx="208944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est for generation of single honours qualification (all possible classifications according to the weighting for the award).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534040" y="2508840"/>
                  <a:ext cx="2248560" cy="85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4783320" y="2508840"/>
                <a:ext cx="823320" cy="850320"/>
                <a:chOff x="4783320" y="2508840"/>
                <a:chExt cx="823320" cy="85032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4862160" y="2508840"/>
                  <a:ext cx="66492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783320" y="2508840"/>
                  <a:ext cx="823320" cy="85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607000" y="2508840"/>
                <a:ext cx="2387520" cy="850320"/>
                <a:chOff x="5607000" y="2508840"/>
                <a:chExt cx="2387520" cy="85032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686560" y="2508840"/>
                  <a:ext cx="22284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chools to run tests for production of classifications for all the scenarios they have.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607000" y="2508840"/>
                  <a:ext cx="2387520" cy="85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1059480" y="3359160"/>
                <a:ext cx="1474200" cy="956520"/>
                <a:chOff x="1059480" y="3359160"/>
                <a:chExt cx="1474200" cy="95652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1139040" y="3359160"/>
                  <a:ext cx="1315080" cy="95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059480" y="3359160"/>
                  <a:ext cx="1474200" cy="95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2534040" y="3359160"/>
                <a:ext cx="2248560" cy="956520"/>
                <a:chOff x="2534040" y="3359160"/>
                <a:chExt cx="2248560" cy="95652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613600" y="3359160"/>
                  <a:ext cx="2089440" cy="95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est for generation of combined honours in two disciplines qualification (all possible classifications according to the weighting for the award).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534040" y="3359160"/>
                  <a:ext cx="2248560" cy="95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4783320" y="3359160"/>
                <a:ext cx="823320" cy="956520"/>
                <a:chOff x="4783320" y="3359160"/>
                <a:chExt cx="823320" cy="9565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862160" y="3359160"/>
                  <a:ext cx="664920" cy="95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83320" y="3359160"/>
                  <a:ext cx="823320" cy="95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5607000" y="3359160"/>
                <a:ext cx="2387520" cy="956520"/>
                <a:chOff x="5607000" y="3359160"/>
                <a:chExt cx="2387520" cy="9565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5686560" y="3359160"/>
                  <a:ext cx="2228400" cy="95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chools to run tests for production of classifications for all the scenarios they have.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607000" y="3359160"/>
                  <a:ext cx="2387520" cy="95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059480" y="4315680"/>
                <a:ext cx="1474200" cy="850320"/>
                <a:chOff x="1059480" y="4315680"/>
                <a:chExt cx="1474200" cy="8503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139040" y="4315680"/>
                  <a:ext cx="131508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59480" y="4315680"/>
                  <a:ext cx="1474200" cy="85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2534040" y="4315680"/>
                <a:ext cx="2248560" cy="850320"/>
                <a:chOff x="2534040" y="4315680"/>
                <a:chExt cx="2248560" cy="8503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2613600" y="4315680"/>
                  <a:ext cx="208944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est for group honours qualification generation (all possible classifications according to the weighting for the award).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534040" y="4315680"/>
                  <a:ext cx="2248560" cy="85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4783320" y="4315680"/>
                <a:ext cx="823320" cy="850320"/>
                <a:chOff x="4783320" y="4315680"/>
                <a:chExt cx="823320" cy="8503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4862160" y="4315680"/>
                  <a:ext cx="66492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783320" y="4315680"/>
                  <a:ext cx="823320" cy="85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5607000" y="4315680"/>
                <a:ext cx="2387520" cy="850320"/>
                <a:chOff x="5607000" y="4315680"/>
                <a:chExt cx="2387520" cy="85032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5686560" y="4315680"/>
                  <a:ext cx="22284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chools to run tests for production of classifications for all the scenarios they have.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607000" y="4315680"/>
                  <a:ext cx="2387520" cy="85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1059480" y="5166000"/>
                <a:ext cx="1474200" cy="849960"/>
                <a:chOff x="1059480" y="5166000"/>
                <a:chExt cx="1474200" cy="8499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1139040" y="5166000"/>
                  <a:ext cx="1315080" cy="84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059480" y="5166000"/>
                  <a:ext cx="1474200" cy="84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2534040" y="5166000"/>
                <a:ext cx="2248560" cy="849960"/>
                <a:chOff x="2534040" y="5166000"/>
                <a:chExt cx="2248560" cy="8499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2613600" y="5166000"/>
                  <a:ext cx="2089440" cy="84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est for Integrated Masters with honours qualification (all possible classifications according to the weighting for the award).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534040" y="5166000"/>
                  <a:ext cx="2248560" cy="84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4783320" y="5166000"/>
                <a:ext cx="823320" cy="849960"/>
                <a:chOff x="4783320" y="5166000"/>
                <a:chExt cx="823320" cy="8499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4862160" y="5166000"/>
                  <a:ext cx="664920" cy="84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783320" y="5166000"/>
                  <a:ext cx="823320" cy="84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5607000" y="5166000"/>
                <a:ext cx="2387520" cy="849960"/>
                <a:chOff x="5607000" y="5166000"/>
                <a:chExt cx="2387520" cy="8499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5686560" y="5166000"/>
                  <a:ext cx="2228400" cy="84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chools to run tests for production of classifications for all the scenarios they have.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7000" y="5166000"/>
                  <a:ext cx="2387520" cy="84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1" name=""/>
            <p:cNvSpPr/>
            <p:nvPr/>
          </p:nvSpPr>
          <p:spPr>
            <a:xfrm>
              <a:off x="1054080" y="1442880"/>
              <a:ext cx="6946560" cy="45770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CC6C-E98F-41C3-921F-56BA478D83C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Vocabulary – Supporting Disciplin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guration Management –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vision contro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cumentation –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ritten text that accompanies computer softwa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Quality Assurance –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nitor software engineering process usually via audi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ject Management –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scipline of organizing and managing resources so that projects have a defined scope, quality, time and costs constraints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r Experience Design –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igning to a users satisfaction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1223-EBBA-4FC1-B104-88BA90637C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Vocabulary - Standard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SO 12207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fecycle for softwa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MM or CMMI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ability maturity model integ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SO 9000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management syste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SO 15504 (SPICE)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ftware process improvement and capability determin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 Sigma (manufacturing-oriented)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actices to systematically improve processes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993C-99C4-4F77-B6F9-EAA7E95E6A7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dditional Inform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o a google search on SDLC – you will find Software Development Lifecycle and System Development Lifecycle.  Both define process method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isit Wikipedia and search on  SDLC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EFB5-D906-4C70-9108-9908278278E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uggested Questio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ey&lt;name&gt;, for the 2008-2009 AY, do we need to develop or adjust our standard templates for requirements gathering so that we improve our SDLC process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DA8C-0114-40DD-8874-D155094F133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uggested Questio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ey&lt;name&gt;, do we practice a waterfall or iterative process for our SDCL?  Or do we use both processes depending on the expected changes?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5C6B-08C4-4A20-8821-DE72CF4E7ED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uggested Questio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ey&lt;name&gt;, I know that you’re going to need FAO input for the 2008-2009 changes.  Can we get together to develop a project plan?  I want to make sure that you have the resources you need for requirements gathering and testing.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712A-7889-498A-AC9C-7108D2FD962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 appreciate your feedback and comments. We can be reached a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lly Hyl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one: 202.377.37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ail: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Holly.Hyland@ed.g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im McMah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one: 202.377.312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ail: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James.McMahon@ed.g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402F-A630-4FD5-9666-4E7E43F5B32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History of this Session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s session suggestion came from IT professionals at last years Conference.  In the same way that we offer Financial Aid 101 for IT staff, they wanted a session on SDLC for business people – to enhance education and communication.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5EE4-A39C-409E-A6C2-2442154DCB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10480" cy="579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934D-65D1-478B-B8B0-118EDC581E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DLC Proces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Requiremen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termine Architectur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mplement New Code or Chang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st System Functional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ploy New Functional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B5AF-642A-401F-B53C-29E099F007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Vocabulary - Model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terfall (sequential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ments, design, implement, test, integration, and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erative (cyclical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g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tional Unified Process (RUP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pid Application Development) (RAD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E192-FBFB-4797-9349-66FC92F3E8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DLC Examples - Waterfall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610480" cy="472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DE8B-4A97-4FE6-BC67-9408720250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991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DLC Examples – Unified Proces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01028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4767-AC54-4D76-9738-D2563AEC71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DLC Examples - Agil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71500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338B-1E0F-49F3-AAEE-7B63CFE84E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yvette.payne</cp:lastModifiedBy>
  <dcterms:modified xsi:type="dcterms:W3CDTF">2007-12-05T18:25:24Z</dcterms:modified>
  <cp:revision>225</cp:revision>
  <dc:subject/>
  <dc:title>PowerPoint Presentation</dc:title>
</cp:coreProperties>
</file>