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E96-2DCE-4E7D-94CE-545AF52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DA7-4F30-4D1B-BE06-4122F9A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A6D-AA8D-4471-9EBE-FC6B525F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A2B-9065-40B1-A955-97AA4409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D8E-D28F-425E-ACE3-AA2F3268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775A-4C6C-4C3D-8C39-1F7B530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929-B74B-4B1B-A030-B069317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711E-31CC-4FC3-AC32-F9D1A5E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CB6A-3C07-48B8-812B-E76F70D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C27-A43D-4867-A87C-FF60474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1411-3101-4EC8-BC03-428C7F7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22C-4254-4AEE-8C58-8641D74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7CA-04F4-4809-8B32-8AAE294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937-F5A7-4629-A0B5-7D3DB5B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9FC-095A-4699-967D-1505583B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D672-1CD4-4397-9D6F-F7961382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8823-3486-424A-A9CB-51CA6C41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E72-01E5-4EB0-920C-DA57BB8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990-C6FD-46C3-A14E-8464344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FDE-E07A-469B-A706-EA091F0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960-D81F-47D6-AB61-26A35CDA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6AA-BBA8-4714-A9CB-98F15FD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1B8-5CF4-4DB7-BF7C-21E66ED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851-15F6-439C-AD47-D7F8DAAA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88D-87EF-45DB-B88C-1E7A5FAED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1C2-DFFD-4CBE-A279-4C97BAA32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tive Loans and CommonLi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m Shiflette--USA Fu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risti Blabaum--Educa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MS System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jor FAMS systems currently handle alternative loan process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aids 8.0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o set up your loan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o to cont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BS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chool Based Software (SB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MS vs SB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o set up your loan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o to cont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m Shiflet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shiflet@usafunds.or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risti Blabau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risti_blabaum@educaid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Objectiv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explain what CommonLine i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explain alternative loan typ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re to get informa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MS &amp; SBS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Li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is CommonLin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lectronic flat fi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FELP and Alternative Lo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do you use it today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will you use it tomorrow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XML--eXtensible Markup Langu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mon Record converg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Line 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cilitates communication between schools and service providers through the use of common files and simplified processes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ables participants to retain existing school-based software (SBS) while becoming part of a common data exchange network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 to Scho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eliminate manual certif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FT avail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rrower Initiated process avail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tive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guaranteed by Federal Gov’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rious participa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rious typ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hey can help your student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rrower vs Co-sign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ere to get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Alternative Loan Type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Guarantor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ww.nchelp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-755640"/>
          <a:ext cx="9144000" cy="76136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755640"/>
                    <a:ext cx="9144000" cy="76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-1484280"/>
          <a:ext cx="11125080" cy="8334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84280"/>
                    <a:ext cx="11125080" cy="83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24:44Z</dcterms:created>
  <dc:creator>kblabaum</dc:creator>
  <dc:description/>
  <dc:language>en-US</dc:language>
  <cp:lastModifiedBy>Dept. of Education</cp:lastModifiedBy>
  <dcterms:modified xsi:type="dcterms:W3CDTF">2002-12-12T18:22:31Z</dcterms:modified>
  <cp:revision>4</cp:revision>
  <dc:subject/>
  <dc:title>Alternative Loans and CommonLine</dc:title>
</cp:coreProperties>
</file>