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73E-B252-4C28-A013-824D7931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A64-BC42-4766-8324-98D1BDD7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79F-65AC-425D-9E1F-AFB081AE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F8F-CE94-4515-AD56-43DB4245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CE6D-6055-4176-8EE0-CE6E85E2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F3EE-B7C3-4F57-82A8-7BE0102B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256A-600C-4C65-94FC-8F3D772A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5A7F-3366-4E5A-BA66-F56E05BC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3CCB-7A57-4597-8274-4BBABC14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6DEA-6437-44F5-89FA-0F13A26E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24EC-1D2B-4D73-A14C-ABE39CA2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595-67A9-41DE-AE32-3A482DEA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E9F8-823D-4908-866F-B96F991F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158C-60EE-4AB4-87AA-ECBE728D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7FCB-A62D-4C36-AC90-51F70D92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129E-8589-4339-ABE8-8D8D2E9C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08F0-72F8-49CA-A38D-7AFD7BAB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170-D36B-43BC-AE2A-744E7197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668-ED59-41CB-A7B8-59D9C40E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DCC-14DB-463D-AA48-ABF695FB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D6D-D064-4DC3-8532-A8BD3F34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687-284E-426A-B50F-BF0D6D4F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602-FBBA-4FF5-B5E4-DFE06BD2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8D0-6481-4DA6-910E-9D253C2F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CB57-3917-4BC1-B4C7-66490C5D15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98F2-678E-4CAC-B79E-D3B6B1AC0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ternative Loans and CommonLi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m Shiflette--USA Fu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risti Blabaum--Educa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MS System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jor FAMS systems currently handle alternative loan process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werFaids 8.0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ow to set up your loan co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o to conta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BS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chool Based Software (SB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MS vs SB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ow to set up your loan co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o to conta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m Shiflet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shiflet@usafunds.or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risti Blabau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risti_blabaum@educaid.co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ssion Objective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explain what CommonLine i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explain alternative loan typ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re to get informa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MS &amp; SBS Infor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Li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is CommonLine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lectronic flat fi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FELP and Alternative Loa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ow do you use it today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ow will you use it tomorrow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XML--eXtensible Markup Languag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mmon Record converge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Line Benefi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cilitates communication between schools and service providers through the use of common files and simplified processes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ables participants to retain existing school-based software (SBS) while becoming part of a common data exchange network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enefits to Schoo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eliminate manual certif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FT avail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orrower Initiated process avail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ternative Lo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t guaranteed by Federal Gov’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rious participa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rious typ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ow they can help your student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orrower vs Co-sign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ere to get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 Alternative Loan Type Co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 Guarantor infor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ww.nchelp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-755640"/>
          <a:ext cx="9144000" cy="76136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755640"/>
                    <a:ext cx="9144000" cy="76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-1484280"/>
          <a:ext cx="11125080" cy="83343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484280"/>
                    <a:ext cx="11125080" cy="83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4:24:44Z</dcterms:created>
  <dc:creator>kblabaum</dc:creator>
  <dc:description/>
  <dc:language>en-US</dc:language>
  <cp:lastModifiedBy>Dept. of Education</cp:lastModifiedBy>
  <dcterms:modified xsi:type="dcterms:W3CDTF">2002-12-12T18:22:31Z</dcterms:modified>
  <cp:revision>4</cp:revision>
  <dc:subject/>
  <dc:title>Alternative Loans and CommonLine</dc:title>
</cp:coreProperties>
</file>