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0F3002-7B20-448B-81A8-061E376C8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277-6545-47BD-B870-3880D88B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9F1-77D5-4516-BF7C-2653A37D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930-19CB-459C-8494-37FDE932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256-9C2A-463D-BFAB-AD1F3018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A7D-6649-4CAA-9339-95981AF7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990-39EF-49A3-BFB5-F61BDA2E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D93-E829-410B-B097-149AFD71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21B-0488-45C5-8713-D917CFCD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7D4-F454-4674-98E4-82743D15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24C-BA87-4557-BC02-FE837895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8B6-4D85-4EAD-BA8B-187CA70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942-68B1-4B90-B049-310A222A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D5AA8-652F-4E2F-98E0-16A7E73E6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Authentication in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gher Edu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im Bornholtz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572400" y="96372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hibboleth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ibboleth is an Open Source Web Single Sign On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ly supports SAML 1.0 and 1.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ibboleth 2.0 in Open Be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s SAML 2.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operable with many other SAML 2.0 compliant produ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287-E76F-4239-BB04-C89E2B5E24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Comm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federation of higher education and research institutions in the U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s Shibboleth as its federating softwa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bership continues to gr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ly over 60 participa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ng over 1.3 million end us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539-C6C2-4DBF-AC98-BC8C455D6FC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Common and eAuthentic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006 InCommon demonstrated federated access to National Institutes of Health (NIH), by two campu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SA has reiterated that interfederated interoperability with InCommon is a high prior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6C0-9114-4B3A-B839-722411A3E76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Other Shibboleth Based Federations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9798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IDE – Nor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ional sector in Norw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KA Federation – Fin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ty federation of Finnish universities, polytechnics and research instit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9920" y="1371240"/>
            <a:ext cx="39798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DSS – United King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tion for managing access to UK academic online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ITCH – Switzer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ven universities - more than 140,000 u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than 80 resources - primarily in the field of e-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FC0-0BF9-4F9E-973E-F2DB9CBCD23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Student Ai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ibboleth as a relying product was chosen by Federal Student Aid as the primary solution for E-Authenti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ampus Based will be the first application to be E-Authentication enab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 E-Auth Solution (Shibboleth) into Federal Student Aid Security Architect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Federal Student Aid Security Architecture TAM LDA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100-FD4F-4BEB-B3E8-88246BECD56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Student Aid Statu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eived official sign off and acceptance testing report from GSA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waiting hardware at Perot VDC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-System testing in progres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 Live date scheduled for December 2007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6D4-AB4E-449F-8AEF-CD59C21A05D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teor Network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eor is an Open Source application that aggregates student financial aid. information from multiple 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eor 3.3 available for testing September 15.  Production availability December 2007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cal enhancements to increase security and audi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ability enhancements based on extensive customer feedbac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7D4-8CE5-48F3-86B7-F0543E67254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eteor Technical Infrastructur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SAML assertions to convey authentication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rtion is signed with XML signatu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request is also signed with XML signatu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central Index Providers to determine optimal locations of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Providers access real-time backend systems for up to date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9A6-978C-4CBE-9564-E37DD18F884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40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lementation Roadmap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join a fe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the business probl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sure you understand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usines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 you are solv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 started with legal process as soon as possi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take up to 18 months for internal legal approv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is not complica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AF2-15E2-49AF-ADF7-498A0A65293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tion Concer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y determination and enfor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 makes the rules?  How are they modifi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 elig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scope of the feder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 and 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ies us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policies in pl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al from the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the legal and political ramifica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0FE-A98B-4F37-80A5-18E3A49A369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40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the problem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ll have different passwords to many different system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should be able to log in once and use those credentials as we move from site to sit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st be able to securely pass credentials without compromising password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B86-7A57-4FC3-A523-482432DDDB9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essons Learn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olicy work is much harder than the technical wor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egal staff at every member will need to review the polici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members will need to be educ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federations work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they are sec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189-7253-409E-9488-32127548E15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40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mma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15472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ppreciate your feedback and com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n be reached at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 Bornholtz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540-446-840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@bornholtz.c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bornholtz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A41-CCAB-4FF4-950D-0ECDC616022E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ansitive Property of Equa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f a = b and b = c, then a = 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: This is a property of equality and inequalities. One must be cautious, however, when attempting to develop arguments using the transitive property in other setting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116-7C83-483D-A1BE-CC833CDDBCE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thematics and Trus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rusts B and B trusts 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this mean that A will trust C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trust relationships can only go so f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probably would not trust a friend of a friend of a friend of a frie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not indefinite levels of tru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undaries of your trust make up the Feder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759-CD1A-44D2-9DC3-3FCB6F3101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Federation is a group of organizations that have agreed to trust each oth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members of the Federation trust all other members within the Feder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arate agreements with each and every member not necessar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8DC-662C-47CF-B022-17A6B9BC3D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ules of a Feder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s agree to abide by rules of the Fe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Federation has some sort of “steering committee” that decides on the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al rules – who can participate and what can they do within the Fe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cal rules – technical infrastructure and specifications necessary to communicate with other Federation memb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81B-7806-44F0-B6BA-B59C18DE0A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o what is eAuthentication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uthentication is a Federation of US government agencies and private sector organiz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SA is coordinating the Fed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d the legal policies required for joining the networ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ed the technical requirements to participa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EF3-C50F-4F79-8B0B-B0EB2D470C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do Federations work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urity Assertion Markup Language (SAML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urity authentication statements are passed as XML from one provider to the nex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words ar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v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t across the wi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rtions are signed with XML signatures and verified as valid participants within the Fe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A93-0342-48D9-99A7-3A07385CB6E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40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ome Current Feder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hibboleth based federations (InCommon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Government (eAuthentication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02E-5C40-41C0-946A-978C7AFFC1B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vette.payne</cp:lastModifiedBy>
  <dcterms:modified xsi:type="dcterms:W3CDTF">2007-12-05T18:24:32Z</dcterms:modified>
  <cp:revision>10</cp:revision>
  <dc:subject/>
  <dc:title>PowerPoint Presentation</dc:title>
</cp:coreProperties>
</file>