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704876-5131-4A50-8427-26969A9BC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7B5-8C2C-4574-AF5D-660B22A2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0B5-FEE6-4B90-AF5A-227694BF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435-3C7C-41FB-AAC2-7089177D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635-2645-452B-B5E7-76726AE9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30B-2ED4-4A99-9ED9-71E1DADB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C7C-FA11-4F32-9E66-6E49EDC6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9E3-D1AD-4D3E-9E6D-238A1D65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61F-7CC3-482D-A394-F8B151FC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4A2-3F70-4A3D-BB06-224A2BE9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C86-21EF-483A-B2CA-50687F7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708-1AC0-4F3E-90CA-0902D3A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998-A3FF-44FD-9FC7-E8256DAF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AD528-FF4F-4E1F-81E3-193CEA0EE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Authentication in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gher Edu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m Bornholtz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572400" y="96372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hibboleth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ibboleth is an Open Source Web Single Sign On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ly supports SAML 1.0 and 1.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ibboleth 2.0 in Open Be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s SAML 2.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operable with many other SAML 2.0 compliant produ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953-3917-4DE1-B09B-5F789C3587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Comm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federation of higher education and research institutions in the U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s Shibboleth as its federating softwa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bership continues to gr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ly over 60 participa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ng over 1.3 million end us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FC1-4AB5-4606-B143-40E7A4F3D8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Common and eAuthenti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cember 2006 InCommon demonstrated federated access to National Institutes of Health (NIH), by two campu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SA has reiterated that interfederated interoperability with InCommon is a high prior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DC9-FFAE-4EAD-BC1E-FED776377A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Other Shibboleth Based Federations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39798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IDE – Nor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al sector in Norw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KA Federation – Fin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ty federation of Finnish universities, polytechnics and research instit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9920" y="1371240"/>
            <a:ext cx="39798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DSS – United King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tion for managing access to UK academic online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ITCH – Switzer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ven universities - more than 140,000 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than 80 resources - primarily in the field of e-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8B5-9905-4A82-A968-86990A3E6B0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Student 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ibboleth as a relying product was chosen by Federal Student Aid as the primary solution for E-Authenti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ampus Based will be the first application to be E-Authentication enab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 E-Auth Solution (Shibboleth) into Federal Student Aid Security Architect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Federal Student Aid Security Architecture TAM LDA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C22-D2DB-497D-B889-D002E3FC989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Student Aid Statu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eived official sign off and acceptance testing report from GSA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waiting hardware at Perot VDC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-System testing in progres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 Live date scheduled for December 2007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594-58BA-4CC3-B50D-528DF0995B4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teor Network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eor is an Open Source application that aggregates student financial aid. information from multiple 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eor 3.3 available for testing September 15.  Production availability December 2007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cal enhancements to increase security and audi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ability enhancements based on extensive customer feedba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CCF-D727-4F23-A385-56CF2C8005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eteor Technical Infrastructur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SAML assertions to convey authentication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rtion is signed with XML signat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request is also signed with XML signat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central Index Providers to determine optimal locations of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Providers access real-time backend systems for up to date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213-5103-4700-9ADB-70C90BA4BFC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40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lementation Roadmap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join a fe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the business probl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sure you understand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usines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 you are solv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started with legal process as soon as possi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take up to 18 months for internal legal approv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is not complica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DC8-5D57-428E-9B00-FDA31E8F3A1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tion Concer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y determination and enfor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 makes the rules?  How are they modifi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 elig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scope of the feder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 and 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ies us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policies in pl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al from the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e legal and political ramifica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8A3-7C88-4852-A6DE-CD385FE97D8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40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the problem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ll have different passwords to many different system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should be able to log in once and use those credentials as we move from site to sit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be able to securely pass credentials without compromising password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A9B-800C-4AA2-AAC9-5234B81C73E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essons Learn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olicy work is much harder than the technical wor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egal staff at every member will need to review the polici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members will need to be educ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federations work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they are sec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640-B002-4ADF-B1F5-DF9072DD0FF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40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mma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15472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ppreciate your feedback and com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n be reached at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 Bornholtz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540-446-840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@bornholtz.c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bornholtz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DFB-7131-4257-8395-7D1B4B3C903B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ansitive Property of Equa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a = b and b = c, then a =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This is a property of equality and inequalities. One must be cautious, however, when attempting to develop arguments using the transitive property in other setting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210-55F2-49C7-9FC6-015F747076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thematics and Trus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rusts B and B trusts 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this mean that A will trust C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trust relationships can only go so f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probably would not trust a friend of a friend of a friend of a frie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not indefinite levels of tru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undaries of your trust make up the Feder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06B-45BC-42B1-BEBD-7EC631AA6A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Federation is a group of organizations that have agreed to trust each 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members of the Federation trust all other members within the Feder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arate agreements with each and every member not necessar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249-1412-4897-B798-02001F941C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ules of a Feder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s agree to abide by rules of the Fe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Federation has some sort of “steering committee” that decides on the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al rules – who can participate and what can they do within the Fe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cal rules – technical infrastructure and specifications necessary to communicate with other Federation mem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D62-0BA6-458B-8DE6-CAB0C04465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o what is eAuthentication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uthentication is a Federation of US government agencies and private sector organiz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SA is coordinating the Fed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d the legal policies required for joining the networ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ed the technical requirements to participa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464-DD7C-43EF-8EC5-24B93D53C9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563400"/>
            <a:ext cx="88408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do Federations work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urity Assertion Markup Language (SAML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urity authentication statements are passed as XML from one provider to the nex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s ar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ve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t across the wi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rtions are signed with XML signatures and verified as valid participants within the Fe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0F5-D947-4616-B343-9E35249418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408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ome Current Feder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47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hibboleth based federations (InCommon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Government (eAuthentication)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e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257-1109-4FB8-8D4E-7684C20D1E0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vette.payne</cp:lastModifiedBy>
  <dcterms:modified xsi:type="dcterms:W3CDTF">2007-12-05T18:24:32Z</dcterms:modified>
  <cp:revision>10</cp:revision>
  <dc:subject/>
  <dc:title>PowerPoint Presentation</dc:title>
</cp:coreProperties>
</file>