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ED217-F32B-4DC5-884A-A1643912CA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44B14-44D9-4CF2-BF70-25A6A4659F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D9B8D-119E-48AB-B4D5-2F29BD1217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282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70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282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70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78785-3384-4452-98D6-7A2772D691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123720" y="456840"/>
            <a:ext cx="5821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219F6-70CD-4A59-BF4B-34AE1AA120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282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70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282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70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91A22-F940-49B1-A7DC-2F4DB3A7BC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33960-2334-4431-AC39-33CBD3FC75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49DF1-8933-4D20-B27F-D867B2B51F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123720" y="456840"/>
            <a:ext cx="5821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C44B3-2A7E-45D0-9310-56B85AB4AE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1A53B-D85C-46CF-8CB9-95499C6978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FB292-43D5-4AB7-92A7-7DAC88F702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1424F-60E3-425B-86A8-9504366948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823c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23c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06708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F4252-B08A-41F5-BBD9-6803808A2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23880" y="0"/>
            <a:ext cx="7620120" cy="53352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rcRect l="0" t="31673" r="0" b="54484"/>
          <a:stretch/>
        </p:blipFill>
        <p:spPr>
          <a:xfrm>
            <a:off x="0" y="6553080"/>
            <a:ext cx="7696080" cy="3049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359080" cy="160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839080" cy="760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rcRect l="5679" t="32004" r="0" b="61183"/>
          <a:stretch/>
        </p:blipFill>
        <p:spPr>
          <a:xfrm>
            <a:off x="0" y="6400800"/>
            <a:ext cx="6781680" cy="457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1676520" y="1219320"/>
            <a:ext cx="5584680" cy="37893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1347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23c8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23c8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361960" y="456840"/>
            <a:ext cx="658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i="1" lang="en-US" sz="4400" spc="-1" strike="noStrike">
                <a:solidFill>
                  <a:srgbClr val="713474"/>
                </a:solidFill>
                <a:latin typeface="Arial"/>
              </a:rPr>
              <a:t>Personal Finance Standards &amp; Benchmarks</a:t>
            </a:r>
            <a:endParaRPr b="1" i="1" lang="en-US" sz="44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99840" y="304776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e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nding and Cr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ving and Inv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657840" y="3505320"/>
          <a:ext cx="2283120" cy="213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57840" y="3505320"/>
                    <a:ext cx="2283120" cy="21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1579320" y="1616040"/>
            <a:ext cx="652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c2c00"/>
                </a:solidFill>
                <a:latin typeface="Arial"/>
              </a:rPr>
              <a:t>What students need to know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c2c00"/>
                </a:solidFill>
                <a:latin typeface="Arial"/>
              </a:rPr>
              <a:t>be able to 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7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0" y="22860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13474"/>
                </a:solidFill>
                <a:latin typeface="Arial"/>
              </a:rPr>
              <a:t>Search the Clearinghouse</a:t>
            </a:r>
            <a:br>
              <a:rPr sz="4400"/>
            </a:br>
            <a:r>
              <a:rPr b="0" i="1" lang="en-US" sz="4400" spc="-1" strike="noStrike">
                <a:solidFill>
                  <a:srgbClr val="713474"/>
                </a:solidFill>
                <a:latin typeface="Arial"/>
              </a:rPr>
              <a:t>www.jumpstart.org</a:t>
            </a: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 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17720" y="1828800"/>
            <a:ext cx="7927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ill fi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 finance materi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ing guides, videos, C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books, web sites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free and low-cost 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BS00554_" descr=""/>
          <p:cNvPicPr/>
          <p:nvPr/>
        </p:nvPicPr>
        <p:blipFill>
          <a:blip r:embed="rId1"/>
          <a:stretch/>
        </p:blipFill>
        <p:spPr>
          <a:xfrm>
            <a:off x="6559560" y="1693800"/>
            <a:ext cx="2279520" cy="173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tate Coalition Status Map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pic>
        <p:nvPicPr>
          <p:cNvPr id="127" name="State-map-for-PowerPoint" descr=""/>
          <p:cNvPicPr/>
          <p:nvPr/>
        </p:nvPicPr>
        <p:blipFill>
          <a:blip r:embed="rId1"/>
          <a:stretch/>
        </p:blipFill>
        <p:spPr>
          <a:xfrm>
            <a:off x="2286000" y="457200"/>
            <a:ext cx="656748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61722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Partnership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19320" y="2521080"/>
            <a:ext cx="6781680" cy="1441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914040" y="3060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914040" y="4952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" y="3073320"/>
            <a:ext cx="0" cy="187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371600" y="2743200"/>
            <a:ext cx="6553080" cy="9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ease Send Mone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inancial Survival Guide for Young Ad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Dara Dugu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19320" y="4191120"/>
            <a:ext cx="6781680" cy="1441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23880" y="4495680"/>
            <a:ext cx="6324840" cy="9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erican Education Services (AE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ivision of the Pennsylvania Hig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 Assistance Agency (PHEA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456840"/>
            <a:ext cx="6507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Project Specific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oney Matt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eractive CD-R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component of AES/PHEAA’s public service campaig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students with the information to plan for their financial futures 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at no cost to financial aid administra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ed content fro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lease Send Mon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workshe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6629400" y="152280"/>
          <a:ext cx="198108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152280"/>
                    <a:ext cx="19810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7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ontent Example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4086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ing Your Student Lo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x Ded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 Easy Steps to Creating a 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Your Financial Pri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ing Your Deb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863960" y="1986120"/>
          <a:ext cx="4077000" cy="380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63960" y="1986120"/>
                    <a:ext cx="4077000" cy="38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7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ontent Example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4086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ing Off Credit Bal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idden Dangers of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Avoid Deb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equences of Defa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ey Motiv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ionaire by 6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863960" y="1986120"/>
          <a:ext cx="4077000" cy="380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63960" y="1986120"/>
                    <a:ext cx="4077000" cy="38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7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123720" y="896760"/>
            <a:ext cx="5821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What Can You Do?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09480" y="2610000"/>
            <a:ext cx="4086360" cy="25524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957560" y="1447560"/>
            <a:ext cx="403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est copy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oney Matters-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-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ome familiar with cont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urage students visiting financial aid office to utilize the CD-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worksh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Resource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51055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CanDealWithI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ney Matt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D-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mp$tart Clearinghouse- http://www.jumpstart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h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562720" y="2219400"/>
            <a:ext cx="3200400" cy="279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7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123720" y="809640"/>
            <a:ext cx="582156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ontact U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47560" y="1904760"/>
            <a:ext cx="64767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appreciate your feedback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nts.  I can be reached 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ra Dugu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ne: 202-466-8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x: 202-223-03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il: dduguay@afsamail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ession 47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2133720"/>
            <a:ext cx="8382240" cy="180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713474"/>
                </a:solidFill>
                <a:latin typeface="Arial"/>
              </a:rPr>
              <a:t>Programs for Building      Early Awareness &amp;</a:t>
            </a:r>
            <a:r>
              <a:rPr b="1" i="1" lang="en-US" sz="4400" spc="-1" strike="noStrike">
                <a:solidFill>
                  <a:srgbClr val="713474"/>
                </a:solidFill>
                <a:latin typeface="Arial"/>
              </a:rPr>
              <a:t>	</a:t>
            </a:r>
            <a:r>
              <a:rPr b="1" i="1" lang="en-US" sz="4400" spc="-1" strike="noStrike">
                <a:solidFill>
                  <a:srgbClr val="713474"/>
                </a:solidFill>
                <a:latin typeface="Arial"/>
              </a:rPr>
              <a:t>   Financial Litera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86200" y="5334120"/>
            <a:ext cx="4572000" cy="7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y Dara Dugua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Jump$tart Coali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066680" y="4724280"/>
          <a:ext cx="2514600" cy="17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724280"/>
                    <a:ext cx="251460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750840" y="45684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13474"/>
                </a:solidFill>
                <a:latin typeface="Arial"/>
              </a:rPr>
              <a:t>Financial Literacy Defined</a:t>
            </a:r>
            <a:endParaRPr b="1" i="1" lang="en-US" sz="44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28800" y="2819520"/>
            <a:ext cx="4495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inancial literacy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refers to the basic skills people need to manage money and make financial decis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6629400" y="2209680"/>
            <a:ext cx="2285640" cy="3428640"/>
            <a:chOff x="6629400" y="2209680"/>
            <a:chExt cx="2285640" cy="3428640"/>
          </a:xfrm>
        </p:grpSpPr>
        <p:sp>
          <p:nvSpPr>
            <p:cNvPr id="93" name="Puzzle3"/>
            <p:cNvSpPr/>
            <p:nvPr/>
          </p:nvSpPr>
          <p:spPr>
            <a:xfrm>
              <a:off x="7742520" y="2209680"/>
              <a:ext cx="898560" cy="182232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Puzzle2"/>
            <p:cNvSpPr/>
            <p:nvPr/>
          </p:nvSpPr>
          <p:spPr>
            <a:xfrm>
              <a:off x="7481160" y="3537000"/>
              <a:ext cx="1433880" cy="165960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Puzzle4"/>
            <p:cNvSpPr/>
            <p:nvPr/>
          </p:nvSpPr>
          <p:spPr>
            <a:xfrm>
              <a:off x="6926040" y="3516480"/>
              <a:ext cx="864720" cy="212184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Puzzle1"/>
            <p:cNvSpPr/>
            <p:nvPr/>
          </p:nvSpPr>
          <p:spPr>
            <a:xfrm>
              <a:off x="6629400" y="2760840"/>
              <a:ext cx="1451880" cy="126468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tatistic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1% of 24- 64 year-olds have no retirement savings account of any k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1% of undergraduates owe between $3,000- $7,000 on their credit c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tgage delinquencies have surged to their highest level since 199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ens spent $173 billion in 2001, equal to Mexico’s yearly ex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99840" y="380880"/>
            <a:ext cx="61722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tatistic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ge students borrowed in the 90s what they did in the 60s, 70s &amp; 80s combin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uating students owe an average of $20,402 in student loan &amp; credit card deb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kruptcies filed by those under-25 rose 96% from 1991- 1999 to 118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1 Personal Savings Rate was 1.6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secured consumer debt= 1.65 trill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209160"/>
            <a:ext cx="8153280" cy="146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Jump$tart Coalition</a:t>
            </a:r>
            <a:br>
              <a:rPr sz="4000"/>
            </a:b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Personal Finance Survey Result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4572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2 National Benchmark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024 High School Seni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Score w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.2%-a Failing G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5% said they felt “very sure” or “somewhat sure” about ability to manage their fin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5105520" y="1981080"/>
          <a:ext cx="380988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1981080"/>
                    <a:ext cx="380988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5416560" y="5950080"/>
            <a:ext cx="296532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7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22200" y="456840"/>
            <a:ext cx="502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13474"/>
                </a:solidFill>
                <a:latin typeface="Arial"/>
              </a:rPr>
              <a:t>The Good News</a:t>
            </a:r>
            <a:endParaRPr b="1" i="1" lang="en-US" sz="44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76160" y="1905120"/>
            <a:ext cx="5257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little as 10 hours of classroom instruction can affect how teens handle their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8% of students improved their spending ha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6% of students improved their savings ha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FE Financial Literacy Stu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7086600" y="4648320"/>
          <a:ext cx="175248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4648320"/>
                    <a:ext cx="175248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695400" y="456840"/>
            <a:ext cx="524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13474"/>
                </a:solidFill>
                <a:latin typeface="Arial"/>
              </a:rPr>
              <a:t>More Good News</a:t>
            </a:r>
            <a:endParaRPr b="1" i="1" lang="en-US" sz="44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89280" y="2378160"/>
            <a:ext cx="6568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1905120"/>
            <a:ext cx="7088040" cy="43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dults, age 30-49, who studied personal finance in high school ha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A greater net worth – by abou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1 year of in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More personal saving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ducation and Savings:  The Long-Term Effects of HS Financial Curriculum Mandate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ernheim, B.D., Garrett, D.M., and Maki.  199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7543800" y="4724280"/>
          <a:ext cx="160020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4724280"/>
                    <a:ext cx="160020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750840" y="45684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13474"/>
                </a:solidFill>
                <a:latin typeface="Arial"/>
              </a:rPr>
              <a:t>Major Jump$tart Activities</a:t>
            </a:r>
            <a:endParaRPr b="1" i="1" lang="en-US" sz="44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3880" y="1676160"/>
            <a:ext cx="5486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s and Benchmar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earinghou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te Coal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bd05012_" descr=""/>
          <p:cNvPicPr/>
          <p:nvPr/>
        </p:nvPicPr>
        <p:blipFill>
          <a:blip r:embed="rId1"/>
          <a:stretch/>
        </p:blipFill>
        <p:spPr>
          <a:xfrm>
            <a:off x="5562720" y="2743200"/>
            <a:ext cx="3200400" cy="266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7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0T18:53:46Z</dcterms:created>
  <dc:creator>Jeanne Henderson</dc:creator>
  <dc:description/>
  <dc:language>en-US</dc:language>
  <cp:lastModifiedBy>Dept. of Education</cp:lastModifiedBy>
  <cp:lastPrinted>2002-09-20T18:59:28Z</cp:lastPrinted>
  <dcterms:modified xsi:type="dcterms:W3CDTF">2002-12-12T18:19:01Z</dcterms:modified>
  <cp:revision>2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09312546</vt:r8>
  </property>
  <property fmtid="{D5CDD505-2E9C-101B-9397-08002B2CF9AE}" pid="3" name="_AuthorEmail">
    <vt:lpwstr>WideGa@ncs.com</vt:lpwstr>
  </property>
  <property fmtid="{D5CDD505-2E9C-101B-9397-08002B2CF9AE}" pid="4" name="_AuthorEmailDisplayName">
    <vt:lpwstr>Widel, Gary</vt:lpwstr>
  </property>
  <property fmtid="{D5CDD505-2E9C-101B-9397-08002B2CF9AE}" pid="5" name="_EmailSubject">
    <vt:lpwstr>2002 Presentation and Instructions</vt:lpwstr>
  </property>
  <property fmtid="{D5CDD505-2E9C-101B-9397-08002B2CF9AE}" pid="6" name="_PreviousAdHocReviewCycleID">
    <vt:r8>2074826488</vt:r8>
  </property>
</Properties>
</file>