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FF9-143E-4290-8580-3401B12A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1C9-8BAD-4D38-BCDF-5E1CA2B6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24F-E5AF-4A89-A8FC-E3C96F68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56B-AEEE-48B2-B8EF-8B4A20CA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C09-F580-436A-A611-D52615B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B6C-77BE-4FE4-B6C2-5F993D5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F11-FEA9-41C6-B19D-EFE9CB5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A21-A9E5-4041-9345-4D58909C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0D0-11BA-420B-8B85-A3C25F3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938-B3FA-4E30-A064-B97236E8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A8F-5FC5-47CC-B87C-8F728E3A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AC5-4765-4045-81D9-8A5143B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F8BD-168D-43E0-96CB-67B181323619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46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Federal Student Aid 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Technical Architecture Initiatives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dy Engl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319-681E-4BEF-862A-95EEBD4834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a Portal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grated and personalized access point to information, applications, and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Verdana"/>
              </a:rPr>
              <a:t>Provides a single, secure, simplified, and personalized access point to business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s integrated content and applications, within a unified, collaborative workpl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421240" y="2590920"/>
            <a:ext cx="350856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06640" y="2627280"/>
            <a:ext cx="3346560" cy="315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5120" y="332424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68000" y="288612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8080" y="288144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" y="2635200"/>
            <a:ext cx="3254400" cy="316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00520" y="2938320"/>
            <a:ext cx="156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8600" y="3224160"/>
            <a:ext cx="2787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plified and standardized look and f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ized information &amp; services to meet users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ccess content from multiple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cur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5840" y="3200400"/>
            <a:ext cx="2484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and portfolio of online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crease self-services &amp; user self-su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alyze "merged"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02440" y="3157560"/>
            <a:ext cx="23558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mproved internal use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cure data sharing with external organiz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419-FC8C-4AC3-B823-33B8D77185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Portal Benefits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Verdana"/>
              </a:rPr>
              <a:t>Leverage current investments and asse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rease productivity and effici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rove decision-mak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engthen constituent goodwill and 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roved customer service and cost sav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Verdana"/>
              </a:rPr>
              <a:t>Standard look and fe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AB6-CCBA-417E-A526-E950321AD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Portal Framework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295596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071720"/>
          <a:ext cx="60292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71720"/>
                    <a:ext cx="60292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315200" y="2473200"/>
            <a:ext cx="168264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ramework provides a taxonomy for describing portal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C70-8D40-4488-B129-E8F11F8852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3D6-C898-41BF-B0DB-D60C819936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a Enterprise Service Bus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chitecture and an infrastructure that unifies and connects services, applications, and resources within a busines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the open, standards-based connectivity infrastructure for a service oriented architecture (SO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communication between systems through shared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483160" y="2590920"/>
            <a:ext cx="350856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9200" y="2647800"/>
            <a:ext cx="3346200" cy="315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7680" y="33256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55880" y="282564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A Enab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28224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2655720"/>
            <a:ext cx="3254400" cy="316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284940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Benefits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4680" y="3201840"/>
            <a:ext cx="291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respond to changing business nee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 existing assets in new wa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software development and maintenance c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system security, scalability, availability and robustnes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78400" y="3270240"/>
            <a:ext cx="2098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motes r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oster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incremental implementatio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2520" y="3159000"/>
            <a:ext cx="209232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ndardiz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grate with all new and exist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verages existing Security Architectur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51C-DB44-44AD-A236-45A2EDFFB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Enterprise Service Bus Benefits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ides the following Web services mediation capabilitie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ally apply security (encryption, authentication, &amp; authorization) by leveraging Security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udit service requests/repl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ta trans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ynamic ro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e and reuse shared services across the enterprise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usiness logic is accessible at an enterprise level, rather than just the application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horeograph business flows across the enterpr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s-based - vendor neut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9FF-F2AA-418D-9DD0-7667EF2C64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Current State EAI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1219320"/>
          <a:ext cx="4876920" cy="47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487692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724280" y="1295280"/>
            <a:ext cx="4038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AI Core Capabilities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red Messag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tion Transpa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tform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ocol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Multi-platform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xt-based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sh-Subscri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-speed Bulk Transf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&gt; 100 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B72-2A85-4AC3-81B2-790C773B18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ransition State ESB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97000" y="1101600"/>
          <a:ext cx="70326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1101600"/>
                    <a:ext cx="70326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F23-9CDD-4656-B04C-4CFAACA948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arget State ESB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5560" y="1123920"/>
          <a:ext cx="399276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123920"/>
                    <a:ext cx="399276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386320" y="1076400"/>
            <a:ext cx="3272040" cy="2112840"/>
          </a:xfrm>
          <a:prstGeom prst="wedgeRoundRectCallout">
            <a:avLst>
              <a:gd name="adj1" fmla="val -98861"/>
              <a:gd name="adj2" fmla="val 105523"/>
              <a:gd name="adj3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545080" y="1503360"/>
          <a:ext cx="299736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5080" y="1503360"/>
                    <a:ext cx="29973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234-2CB1-4D6C-9D30-B22C639995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Objective - Key Target State Vision Enablers </a:t>
            </a: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63B-4E2C-43F4-A4CC-705BAD97C8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AFE-A180-45DB-A3D6-F7ADCAB204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Security Architecture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a single, integrated authentication, and authorization frame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consistent Authentication, Authorization, and Account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entication:  Who are you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ization:  What are you allowed to d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untability:  What did you d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21240" y="2527200"/>
            <a:ext cx="350856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06640" y="2563920"/>
            <a:ext cx="3346560" cy="31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5120" y="324180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0120" y="28036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1120" y="2714760"/>
            <a:ext cx="206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terprise Security</a:t>
            </a:r>
            <a:r>
              <a:rPr b="1" lang="en-US" sz="20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" y="2571840"/>
            <a:ext cx="3254400" cy="316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2640" y="2855880"/>
            <a:ext cx="20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istent Secur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8600" y="3141720"/>
            <a:ext cx="2787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crease security ri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mproves maintainability of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ffloads “ADHOC” application security from application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78080" y="3057480"/>
            <a:ext cx="244332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le sign-on for web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plified registration/approval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legated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6680" y="3236760"/>
            <a:ext cx="27432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solidated security views and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lexibility to accommodate new or redeploy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wers security development and operational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5AE-E88B-4576-8FB3-1ED8AB4B25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Security Architecture</a:t>
            </a:r>
            <a:r>
              <a:rPr b="1" lang="en-US" sz="4000" spc="-1" strike="noStrike">
                <a:solidFill>
                  <a:srgbClr val="ccff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Benefits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ides consistent security services &amp; configurations across Federal Student Aid system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ase securit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mproves maintainability of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ffloads ad-hoc application security from application te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Gives better service to our customers/partner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mplified sign-on for web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mplified registration/approva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legated administ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mote enterprise security management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olidated security views and repor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lexibility to accommodate new or redeployed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wers security development and operational co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569-03E9-4F40-90D6-FB6ED62118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Security Architecture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58680" y="849240"/>
          <a:ext cx="719460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849240"/>
                    <a:ext cx="719460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69C-EF79-4245-8660-BF92A6291C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9296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arget State Security Architecture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4880" y="1139760"/>
          <a:ext cx="8404200" cy="46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139760"/>
                    <a:ext cx="840420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EA6-095F-4717-BCBA-9FECEB422F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299-D78D-4588-81B9-046E96C41D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Gateway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t is part of an organization's technical architecture that facilitates the communication between internal applications and external system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vides separation and security between the outside world and an internal network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cts as a proxy to broker requests between external partners and Federal Student Aid system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411880" y="2514600"/>
            <a:ext cx="350820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7280" y="2550960"/>
            <a:ext cx="3346200" cy="315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5760" y="322884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0760" y="2790720"/>
            <a:ext cx="20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ustomer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64800" y="2786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T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6240" y="2558880"/>
            <a:ext cx="3254040" cy="316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3280" y="2765520"/>
            <a:ext cx="221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usiness</a:t>
            </a: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3129120"/>
            <a:ext cx="278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11360" y="3076560"/>
            <a:ext cx="2648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Simplifies trading partner 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Enables right-time 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Reduces the number of different data exchange for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Reduces effort required for integration within F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0600" y="3062160"/>
            <a:ext cx="2449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pports a wide range of transport protocols and industry data for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mproves visibility of transaction workflows with external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Web services will be used to facilitate 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6520" y="3063960"/>
            <a:ext cx="2909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ndardizes external exchange of data through a single, virtual, secure gatew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ables access to key business services for the external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ight-time exchange of data with trading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911-B5CA-4E89-B113-F06C597B09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Gateway</a:t>
            </a:r>
            <a:r>
              <a:rPr b="1" lang="en-US" sz="4000" spc="-1" strike="noStrike">
                <a:solidFill>
                  <a:srgbClr val="ccff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Benefits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s an enterprise view of external interface information exchanged with Federal Student 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ables centralized management of external 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ides the capability for an external partner to upload and download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ides a layer of security between Federal Student Aid and external partn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s well defined procedures for integrating with Federal Student Ai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alidates and enforces the use of a standard data schema between systems and enables data consistency throughout data exchange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D74-1D42-490A-AD83-F8292DF802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Current State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85640" y="2590920"/>
          <a:ext cx="820440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2590920"/>
                    <a:ext cx="82044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28600" y="1266840"/>
            <a:ext cx="87631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communication channels and entry points into Federal Student Aid are not centrally tracked or man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real-time data inter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urity architecture is not being lever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674-334B-4FE4-86B4-84B644D0BB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arget State Gateway Solution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066680" y="1905120"/>
          <a:ext cx="685800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85800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33520" y="114300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SV Gateway solution will be a single communication channel between Federal Student Aid, external partners and external service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596-A97E-45F8-868B-94EEFDD911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arget State Vision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1219320"/>
          <a:ext cx="83822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D27-0ABE-4BDB-BFF8-863F1AF596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Gateway Framework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030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4EE-C477-48A1-A49D-71B1F35017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 appreciate your feedback and comments. I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:Sandy Eng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202-377-353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Sandy.England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778-174C-48F1-A77A-87B472E8AF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F50-D06C-4E76-BA7B-E563797A93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SV Architecture Overview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Technical Architecture, Portal, ESB, Security Architecture, Gateway and internal applications are integrated within the enterprise target state vi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5DC-2E4C-4F03-84C8-70A89D275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620-546A-4E02-950F-AC9E29A22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Integrated Technical Architecture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on, shared, proven architecture using standardized tools, technology, and technical support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ffective technical architecture supports a business’ ability to deliver sufficient resources to us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strategic and economic benef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5394240" y="2639880"/>
            <a:ext cx="350856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9640" y="2676600"/>
            <a:ext cx="3346560" cy="315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8120" y="33544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44920" y="2916360"/>
            <a:ext cx="200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ndardized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87880" y="2911320"/>
            <a:ext cx="23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 Specialis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684520"/>
            <a:ext cx="3254400" cy="316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720" y="2968560"/>
            <a:ext cx="22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ndardized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1600" y="3254400"/>
            <a:ext cx="2787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ndardized configuration of hardware and software plat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ndardized messaging technology to support communications across varying hardware platforms, projects and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98840" y="3230640"/>
            <a:ext cx="2484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thods, standards, policies, and directives for maintaining an integrated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ructured approach to evaluate/implement changes into the environment and support problem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9960" y="3289320"/>
            <a:ext cx="27432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ighly trained staff to manage resources and provid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nage daily operations, controlled development environment, maintain software, and plan for futur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A78-1598-4460-A0D1-96BA57199B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Integrated Technical Architecture Benefit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Verdana"/>
              </a:rPr>
              <a:t>Leverage current investments and assets -</a:t>
            </a:r>
            <a:r>
              <a:rPr b="1" i="1" lang="en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Verdana"/>
              </a:rPr>
              <a:t>Provides simplified, secure, and integrated access to Federal Student Aid services and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cilitates an enterprise-wide perspective to planning, developing, and delivering IT application systems and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gnificant cost saving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s hardware, software licensing, and support co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ility to share highly skilled product specialists among multiple te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roved application performance -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chitecture can be easily scaled to meet capacity and performance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rease productivity and efficiency 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s get “faster and smarter” by implementing best practices, common services, and lessons learned from previous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960-8D41-49F3-8230-75506E1713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75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Integrated Technical Architecture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14400" y="1066680"/>
          <a:ext cx="7315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315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6C3-7ADA-452C-BF4B-2ABCEDE3A1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Product Selection Approach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3649680" y="1298520"/>
            <a:ext cx="1644480" cy="673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 best practices and market research to determine industry leaders of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86600" y="1219320"/>
            <a:ext cx="2011320" cy="885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high-level functional and technical capabilities of each product to create a short list of vendors to evalu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440" y="2481120"/>
            <a:ext cx="1657080" cy="682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extensive set of criteria to evaluate the shor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81400" y="2487600"/>
            <a:ext cx="1401840" cy="660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ule technical briefings with each shortlist ven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4840" y="2521080"/>
            <a:ext cx="2678400" cy="588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aluate technical capabilities of the products and ability to meet the evaluation crit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3770280"/>
            <a:ext cx="2011320" cy="763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view/talk with current customers that are using products to assess support quality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8800" y="3786120"/>
            <a:ext cx="2011320" cy="885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uct Technical Proofs of Concept to determine if products are technically compatible with existing architecture and meet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322280"/>
            <a:ext cx="1611000" cy="641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e business and technical architectur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3"/>
            <a:endCxn id="72" idx="1"/>
          </p:cNvCxnSpPr>
          <p:nvPr/>
        </p:nvCxnSpPr>
        <p:spPr>
          <a:xfrm flipV="1">
            <a:off x="2307960" y="1634760"/>
            <a:ext cx="13294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306760" y="1634760"/>
            <a:ext cx="867240" cy="27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5" idx="3"/>
            <a:endCxn id="76" idx="1"/>
          </p:cNvCxnSpPr>
          <p:nvPr/>
        </p:nvCxnSpPr>
        <p:spPr>
          <a:xfrm flipV="1">
            <a:off x="4695840" y="2815920"/>
            <a:ext cx="807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4" idx="3"/>
            <a:endCxn id="75" idx="1"/>
          </p:cNvCxnSpPr>
          <p:nvPr/>
        </p:nvCxnSpPr>
        <p:spPr>
          <a:xfrm flipV="1">
            <a:off x="2265120" y="2817000"/>
            <a:ext cx="100368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  <a:endCxn id="85" idx="1"/>
          </p:cNvCxnSpPr>
          <p:nvPr/>
        </p:nvCxnSpPr>
        <p:spPr>
          <a:xfrm flipV="1">
            <a:off x="5292720" y="4226760"/>
            <a:ext cx="9374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3" idx="3"/>
            <a:endCxn id="74" idx="1"/>
          </p:cNvCxnSpPr>
          <p:nvPr/>
        </p:nvCxnSpPr>
        <p:spPr>
          <a:xfrm flipH="1">
            <a:off x="581760" y="1661760"/>
            <a:ext cx="7628760" cy="1161000"/>
          </a:xfrm>
          <a:prstGeom prst="bentConnector5">
            <a:avLst>
              <a:gd name="adj1" fmla="val -2826"/>
              <a:gd name="adj2" fmla="val 54280"/>
              <a:gd name="adj3" fmla="val 10282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6" idx="3"/>
            <a:endCxn id="77" idx="1"/>
          </p:cNvCxnSpPr>
          <p:nvPr/>
        </p:nvCxnSpPr>
        <p:spPr>
          <a:xfrm flipH="1">
            <a:off x="561240" y="2815920"/>
            <a:ext cx="7644600" cy="1337400"/>
          </a:xfrm>
          <a:prstGeom prst="bentConnector5">
            <a:avLst>
              <a:gd name="adj1" fmla="val -2820"/>
              <a:gd name="adj2" fmla="val 46661"/>
              <a:gd name="adj3" fmla="val 10282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242040" y="3784680"/>
            <a:ext cx="2011320" cy="885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e which products best fit by evaluating their ability to meet the detailed evaluation criteria and understanding their key differenti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5" idx="2"/>
            <a:endCxn id="89" idx="0"/>
          </p:cNvCxnSpPr>
          <p:nvPr/>
        </p:nvCxnSpPr>
        <p:spPr>
          <a:xfrm flipH="1">
            <a:off x="7178760" y="4683240"/>
            <a:ext cx="70200" cy="46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486400" y="5160960"/>
            <a:ext cx="2819520" cy="706320"/>
          </a:xfrm>
          <a:prstGeom prst="flowChartInputOutpu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 product recommendation based on product’s ability to meet the key selection crite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>
            <a:off x="2598480" y="4191120"/>
            <a:ext cx="678600" cy="40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5F9-D6E8-4424-9C76-C4AE23A3D3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3:59Z</dcterms:modified>
  <cp:revision>242</cp:revision>
  <dc:subject/>
  <dc:title>PowerPoint Presentation</dc:title>
</cp:coreProperties>
</file>