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F57-D6C1-419B-B39A-C6C59D6F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2C4-1A28-492D-B959-6E5FAADC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2B8-8847-47D1-A0A7-AE80E754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660-9EEB-4B7E-A8AB-13128CA2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ACD-5B65-4DA2-B1E1-5A353E6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DF1-C823-490A-9628-4F982DE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1C9-8FC6-4209-803C-6B107CE2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0A3-0656-4AD1-9217-E9EDC144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9E5-45AD-4BBC-8C87-620ECD83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EEE-456B-4543-881D-9FC463A3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186-79D6-44A7-9CF6-2B4F95A9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32F-1A8D-4247-A904-3EB158CF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565E-0607-4C75-B257-58DC9E8A486D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 46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Federal Student Aid 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Technical Architecture Initiatives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dy Engl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Key Target State Vision Enable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EBA-7D24-49CC-AF2B-C8EB234CF2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5407"/>
                </a:solidFill>
                <a:latin typeface="Verdana"/>
              </a:rPr>
              <a:t>What is a Portal?</a:t>
            </a:r>
            <a:endParaRPr b="1" lang="en-US" sz="35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ntegrated and personalized access point to information, applications, and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Verdana"/>
              </a:rPr>
              <a:t>Provides a single, secure, simplified, and personalized access point to business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s integrated content and applications, within a unified, collaborative workpl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421240" y="2590920"/>
            <a:ext cx="3508560" cy="322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06640" y="2627280"/>
            <a:ext cx="3346560" cy="315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05120" y="332424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68000" y="288612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8080" y="288144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" y="2635200"/>
            <a:ext cx="3254400" cy="316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00520" y="2938320"/>
            <a:ext cx="156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8600" y="3224160"/>
            <a:ext cx="2787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plified and standardized look and f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ized information &amp; services to meet users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ccess content from multiple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cur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5840" y="3200400"/>
            <a:ext cx="2484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pand portfolio of online 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crease self-services &amp; user self-su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nalyze "merged"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02440" y="3157560"/>
            <a:ext cx="23558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mproved internal use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cure data sharing with external organiz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FBE-9B9F-4A9E-8546-8176AD8385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Portal Benefits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Verdana"/>
              </a:rPr>
              <a:t>Leverage current investments and asse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rease productivity and effici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prove decision-mak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engthen constituent goodwill and t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proved customer service and cost sav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Verdana"/>
              </a:rPr>
              <a:t>Standard look and fe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DB4-787C-4F22-A455-6E8EA46273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Portal Framework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295596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071720"/>
          <a:ext cx="602928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71720"/>
                    <a:ext cx="60292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315200" y="2473200"/>
            <a:ext cx="168264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ramework provides a taxonomy for describing portal cap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B95-DB71-456F-8473-CAD89A44B7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Key Target State Vision Enable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207-B9E1-4BEC-AB22-30D215CF7C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5407"/>
                </a:solidFill>
                <a:latin typeface="Verdana"/>
              </a:rPr>
              <a:t>What is a Enterprise Service Bus?</a:t>
            </a:r>
            <a:endParaRPr b="1" lang="en-US" sz="35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chitecture and an infrastructure that unifies and connects services, applications, and resources within a busines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the open, standards-based connectivity infrastructure for a service oriented architecture (SO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communication between systems through shared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483160" y="2590920"/>
            <a:ext cx="3508560" cy="322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9200" y="2647800"/>
            <a:ext cx="3346200" cy="315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57680" y="332568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55880" y="282564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A Enab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28224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2655720"/>
            <a:ext cx="3254400" cy="316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0680" y="284940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Benefits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4680" y="3201840"/>
            <a:ext cx="2917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respond to changing business nee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 existing assets in new way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software development and maintenance c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system security, scalability, availability and robustnes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78400" y="3270240"/>
            <a:ext cx="2098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motes r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oster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incremental implementatio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2520" y="3159000"/>
            <a:ext cx="209232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ndardize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grate with all new and existing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verages existing Security Architectur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96F-EFD1-4386-91A1-98B802AD76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Enterprise Service Bus Benefits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ides the following Web services mediation capabilitie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entrally apply security (encryption, authentication, &amp; authorization) by leveraging Security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udit service requests/repl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ata trans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ynamic rou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voke and reuse shared services across the enterprise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usiness logic is accessible at an enterprise level, rather than just the application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horeograph business flows across the enterpr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s-based - vendor neut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FC0-34FD-4DAD-8E76-221A56AE67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Current State EAI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1219320"/>
          <a:ext cx="4876920" cy="47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487692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724280" y="1295280"/>
            <a:ext cx="4038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AI Core Capabilities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red Messag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tion Transpa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tform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tocol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Multi-platform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xt-based 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sh-Subscri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-speed Bulk Transf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&gt; 100 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AB8-CE0D-483E-B347-9F111B3FB9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ransition State ESB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97000" y="1101600"/>
          <a:ext cx="70326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1101600"/>
                    <a:ext cx="70326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CE1-05D3-47C0-8B6E-A508762DF9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arget State ESB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5560" y="1123920"/>
          <a:ext cx="399276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123920"/>
                    <a:ext cx="399276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386320" y="1076400"/>
            <a:ext cx="3272040" cy="2112840"/>
          </a:xfrm>
          <a:prstGeom prst="wedgeRoundRectCallout">
            <a:avLst>
              <a:gd name="adj1" fmla="val -98861"/>
              <a:gd name="adj2" fmla="val 105523"/>
              <a:gd name="adj3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B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545080" y="1503360"/>
          <a:ext cx="299736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5080" y="1503360"/>
                    <a:ext cx="29973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9C6-1598-49B1-ACC0-E2FADC1324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Objective - Key Target State Vision Enablers </a:t>
            </a: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A1B-F129-4A18-A3F8-9086C75275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Key Target State Vision Enable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E08-0E19-4CB4-9E31-68E257FE32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5407"/>
                </a:solidFill>
                <a:latin typeface="Verdana"/>
              </a:rPr>
              <a:t>What is Security Architecture?</a:t>
            </a:r>
            <a:endParaRPr b="1" lang="en-US" sz="35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a single, integrated authentication, and authorization frame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ables consistent Authentication, Authorization, and Account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entication:  Who are you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ization:  What are you allowed to d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ountability:  What did you d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21240" y="2527200"/>
            <a:ext cx="3508560" cy="322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06640" y="2563920"/>
            <a:ext cx="3346560" cy="315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5120" y="324180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0120" y="28036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1120" y="2714760"/>
            <a:ext cx="206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terprise Security</a:t>
            </a:r>
            <a:r>
              <a:rPr b="1" lang="en-US" sz="20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" y="2571840"/>
            <a:ext cx="3254400" cy="316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2640" y="2855880"/>
            <a:ext cx="20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istent Secur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8600" y="3141720"/>
            <a:ext cx="2787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crease security ri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mproves maintainability of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ffloads “ADHOC” application security from application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78080" y="3057480"/>
            <a:ext cx="244332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ngle sign-on for web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mplified registration/approval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legated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6680" y="3236760"/>
            <a:ext cx="274320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solidated security views and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lexibility to accommodate new or redeploy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owers security development and operational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E0A-512C-4C6F-9AD6-4769B70FFA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Security Architecture</a:t>
            </a:r>
            <a:r>
              <a:rPr b="1" lang="en-US" sz="4000" spc="-1" strike="noStrike">
                <a:solidFill>
                  <a:srgbClr val="ccff99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Benefits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ides consistent security services &amp; configurations across Federal Student Aid system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crease securit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mproves maintainability of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ffloads ad-hoc application security from application te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Gives better service to our customers/partner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mplified sign-on for web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implified registration/approval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legated administ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mote enterprise security management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olidated security views and repor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lexibility to accommodate new or redeployed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owers security development and operational co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D95-B9E0-456F-AEB0-FADF9E5D1C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Security Architecture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58680" y="849240"/>
          <a:ext cx="7194600" cy="50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849240"/>
                    <a:ext cx="719460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D6F-B2FC-408E-B0DE-D5C6C0004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9296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arget State Security Architecture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4880" y="1139760"/>
          <a:ext cx="8404200" cy="46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139760"/>
                    <a:ext cx="840420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9A2-FCDE-4A5D-B020-222ABB50BF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Key Target State Vision Enable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C53-D884-4E44-AA0B-F8D063BE12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5407"/>
                </a:solidFill>
                <a:latin typeface="Verdana"/>
              </a:rPr>
              <a:t>What is Gateway?</a:t>
            </a:r>
            <a:endParaRPr b="1" lang="en-US" sz="35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t is part of an organization's technical architecture that facilitates the communication between internal applications and external system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vides separation and security between the outside world and an internal network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cts as a proxy to broker requests between external partners and Federal Student Aid system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5411880" y="2514600"/>
            <a:ext cx="3508200" cy="322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7280" y="2550960"/>
            <a:ext cx="3346200" cy="315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5760" y="322884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0760" y="2790720"/>
            <a:ext cx="20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ustomer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64800" y="2786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T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6240" y="2558880"/>
            <a:ext cx="3254040" cy="316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3280" y="2765520"/>
            <a:ext cx="221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usiness</a:t>
            </a:r>
            <a:r>
              <a:rPr b="1" lang="en-US" sz="2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3129120"/>
            <a:ext cx="278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11360" y="3076560"/>
            <a:ext cx="2648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Book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Antiqua"/>
              </a:rPr>
              <a:t>Simplifies trading partner data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Book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Antiqua"/>
              </a:rPr>
              <a:t>Enables right-time data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Book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Antiqua"/>
              </a:rPr>
              <a:t>Reduces the number of different data exchange form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Book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Antiqua"/>
              </a:rPr>
              <a:t>Reduces effort required for integration within F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0600" y="3062160"/>
            <a:ext cx="2449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upports a wide range of transport protocols and industry data form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mproves visibility of transaction workflows with external 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Book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ookAntiqua"/>
              </a:rPr>
              <a:t>Web services will be used to facilitate data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6520" y="3063960"/>
            <a:ext cx="2909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ndardizes external exchange of data through a single, virtual, secure gatew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ables access to key business services for the external 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ight-time exchange of data with trading 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A14-6151-4E1A-9D7D-791061CD0B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Gateway</a:t>
            </a:r>
            <a:r>
              <a:rPr b="1" lang="en-US" sz="4000" spc="-1" strike="noStrike">
                <a:solidFill>
                  <a:srgbClr val="ccff99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Benefits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s an enterprise view of external interface information exchanged with Federal Student 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ables centralized management of external 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ides the capability for an external partner to upload and download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ides a layer of security between Federal Student Aid and external partn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s well defined procedures for integrating with Federal Student Aid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alidates and enforces the use of a standard data schema between systems and enables data consistency throughout data exchange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AFA-725E-4227-B393-9703A4A529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Current State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85640" y="2590920"/>
          <a:ext cx="8204400" cy="29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2590920"/>
                    <a:ext cx="820440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28600" y="1266840"/>
            <a:ext cx="87631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communication channels and entry points into Federal Student Aid are not centrally tracked or man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real-time data inter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urity architecture is not being lever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965-4C78-450E-AD50-890BB186DC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arget State Gateway Solution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066680" y="1905120"/>
          <a:ext cx="685800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685800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33520" y="114300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SV Gateway solution will be a single communication channel between Federal Student Aid, external partners and external service 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403-784C-4A5C-8675-CA77CF295F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arget State Vision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1219320"/>
          <a:ext cx="83822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671-9F62-401F-B236-B72D4EF311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Gateway Framework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030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523-DED3-4E8A-A851-FD0CD1BBB7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 appreciate your feedback and comments. I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:Sandy Eng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202-377-353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Sandy.England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AC5-B3D6-4BB5-9EC8-42946ED238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989-940B-4274-A7B2-779AFFBD97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TSV Architecture Overview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Technical Architecture, Portal, ESB, Security Architecture, Gateway and internal applications are integrated within the enterprise target state vi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62940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02D-2432-49F2-8E38-044649D370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Key Target State Vision Enabler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Integrated Technical Architectur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Enterprise Por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urity Architecture (S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deral Student Aid Gatew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87C-0C58-48C1-8BEC-2329374C3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5407"/>
                </a:solidFill>
                <a:latin typeface="Verdana"/>
              </a:rPr>
              <a:t>What is Integrated Technical Architecture?</a:t>
            </a:r>
            <a:endParaRPr b="1" lang="en-US" sz="35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on, shared, proven architecture using standardized tools, technology, and technical support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ffective technical architecture supports a business’ ability to deliver sufficient resources to us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strategic and economic benef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5394240" y="2639880"/>
            <a:ext cx="3508560" cy="322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9640" y="2676600"/>
            <a:ext cx="3346560" cy="315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8120" y="335448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mprov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44920" y="2916360"/>
            <a:ext cx="200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ndardized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87880" y="2911320"/>
            <a:ext cx="23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duct Specialis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684520"/>
            <a:ext cx="3254400" cy="316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720" y="2968560"/>
            <a:ext cx="22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ndardized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1600" y="3254400"/>
            <a:ext cx="2787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ndardized configuration of hardware and software plat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ndardized messaging technology to support communications across varying hardware platforms, projects and lo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98840" y="3230640"/>
            <a:ext cx="2484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ethods, standards, policies, and directives for maintaining an integrated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ructured approach to evaluate/implement changes into the environment and support problem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9960" y="3289320"/>
            <a:ext cx="27432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ighly trained staff to manage resources and provide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nage daily operations, controlled development environment, maintain software, and plan for futur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0F3-AA81-4651-97D5-A5A559B218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Integrated Technical Architecture Benefits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Verdana"/>
              </a:rPr>
              <a:t>Leverage current investments and assets -</a:t>
            </a:r>
            <a:r>
              <a:rPr b="1" i="1" lang="en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Verdana"/>
              </a:rPr>
              <a:t>Provides simplified, secure, and integrated access to Federal Student Aid services and resour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cilitates an enterprise-wide perspective to planning, developing, and delivering IT application systems and ser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gnificant cost saving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s hardware, software licensing, and support co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ility to share highly skilled product specialists among multiple te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proved application performance -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chitecture can be easily scaled to meet capacity and performance 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rease productivity and efficiency -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s get “faster and smarter” by implementing best practices, common services, and lessons learned from previous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85A-198F-4CBD-82FD-8689FDE5EA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753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Integrated Technical Architecture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14400" y="1066680"/>
          <a:ext cx="73152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7315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5AC-1259-41B4-BCAA-0276BC2AB8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5407"/>
                </a:solidFill>
                <a:latin typeface="Verdana"/>
              </a:rPr>
              <a:t>Product Selection Approach</a:t>
            </a:r>
            <a:endParaRPr b="1" lang="en-US" sz="37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3649680" y="1298520"/>
            <a:ext cx="1644480" cy="673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 best practices and market research to determine industry leaders of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86600" y="1219320"/>
            <a:ext cx="2011320" cy="885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e high-level functional and technical capabilities of each product to create a short list of vendors to evalu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440" y="2481120"/>
            <a:ext cx="1657080" cy="682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extensive set of criteria to evaluate the shor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81400" y="2487600"/>
            <a:ext cx="1401840" cy="660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edule technical briefings with each shortlist ven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14840" y="2521080"/>
            <a:ext cx="2678400" cy="588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aluate technical capabilities of the products and ability to meet the evaluation crite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3770280"/>
            <a:ext cx="2011320" cy="763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view/talk with current customers that are using products to assess support quality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68800" y="3786120"/>
            <a:ext cx="2011320" cy="885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uct Technical Proofs of Concept to determine if products are technically compatible with existing architecture and meet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322280"/>
            <a:ext cx="1611000" cy="641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e business and technical architectur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3"/>
            <a:endCxn id="72" idx="1"/>
          </p:cNvCxnSpPr>
          <p:nvPr/>
        </p:nvCxnSpPr>
        <p:spPr>
          <a:xfrm flipV="1">
            <a:off x="2307960" y="1634760"/>
            <a:ext cx="1329480" cy="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306760" y="1634760"/>
            <a:ext cx="867240" cy="27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5" idx="3"/>
            <a:endCxn id="76" idx="1"/>
          </p:cNvCxnSpPr>
          <p:nvPr/>
        </p:nvCxnSpPr>
        <p:spPr>
          <a:xfrm flipV="1">
            <a:off x="4695840" y="2815920"/>
            <a:ext cx="807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4" idx="3"/>
            <a:endCxn id="75" idx="1"/>
          </p:cNvCxnSpPr>
          <p:nvPr/>
        </p:nvCxnSpPr>
        <p:spPr>
          <a:xfrm flipV="1">
            <a:off x="2265120" y="2817000"/>
            <a:ext cx="100368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3"/>
            <a:endCxn id="85" idx="1"/>
          </p:cNvCxnSpPr>
          <p:nvPr/>
        </p:nvCxnSpPr>
        <p:spPr>
          <a:xfrm flipV="1">
            <a:off x="5292720" y="4226760"/>
            <a:ext cx="9374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3" idx="3"/>
            <a:endCxn id="74" idx="1"/>
          </p:cNvCxnSpPr>
          <p:nvPr/>
        </p:nvCxnSpPr>
        <p:spPr>
          <a:xfrm flipH="1">
            <a:off x="581760" y="1661760"/>
            <a:ext cx="7628760" cy="1161000"/>
          </a:xfrm>
          <a:prstGeom prst="bentConnector5">
            <a:avLst>
              <a:gd name="adj1" fmla="val -2826"/>
              <a:gd name="adj2" fmla="val 54280"/>
              <a:gd name="adj3" fmla="val 102826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6" idx="3"/>
            <a:endCxn id="77" idx="1"/>
          </p:cNvCxnSpPr>
          <p:nvPr/>
        </p:nvCxnSpPr>
        <p:spPr>
          <a:xfrm flipH="1">
            <a:off x="561240" y="2815920"/>
            <a:ext cx="7644600" cy="1337400"/>
          </a:xfrm>
          <a:prstGeom prst="bentConnector5">
            <a:avLst>
              <a:gd name="adj1" fmla="val -2820"/>
              <a:gd name="adj2" fmla="val 46661"/>
              <a:gd name="adj3" fmla="val 10282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242040" y="3784680"/>
            <a:ext cx="2011320" cy="885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e which products best fit by evaluating their ability to meet the detailed evaluation criteria and understanding their key differenti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5" idx="2"/>
            <a:endCxn id="89" idx="0"/>
          </p:cNvCxnSpPr>
          <p:nvPr/>
        </p:nvCxnSpPr>
        <p:spPr>
          <a:xfrm flipH="1">
            <a:off x="7178760" y="4683240"/>
            <a:ext cx="70200" cy="46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486400" y="5160960"/>
            <a:ext cx="2819520" cy="706320"/>
          </a:xfrm>
          <a:prstGeom prst="flowChartInputOutpu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 product recommendation based on product’s ability to meet the key selection crite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>
            <a:off x="2598480" y="4191120"/>
            <a:ext cx="678600" cy="40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2EC-17A8-46CF-A51E-8B6E15E57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3:59Z</dcterms:modified>
  <cp:revision>242</cp:revision>
  <dc:subject/>
  <dc:title>PowerPoint Presentation</dc:title>
</cp:coreProperties>
</file>