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C6A-46A7-4135-BF7E-25F6F9BD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4F0-9284-4AF5-8AA8-DAB10AC5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A2E-F3D2-4A90-B486-6CCBEAF1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A0E-AB5B-43E9-91C8-A64707F3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954-19DE-4CF9-B544-157A4BE6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959-02EA-43BE-B46F-E1C386C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D46-194A-4F1D-AB19-0629336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501-4CF5-4AE5-BCAF-345783F1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356-F83D-4E60-A074-B339500D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F3D-A792-4A58-B69F-BEDC944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954-813C-4EBC-BBDF-50FE994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202-8F5D-49D1-8F74-F6BC920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817-D14C-416D-BEAB-ECAEBDF53B18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4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rst Tim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id Internet Gateway (SAIG)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rlie Henk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version is 7.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4952880" y="2057400"/>
            <a:ext cx="396252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BD7-35DB-43B3-AEEE-84264AECE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curity Setu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ewall - op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rt 265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allow for outbound TCP/IP traf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 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assword - EDconnect login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work Password - SAIG mail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81625" b="79330"/>
          <a:stretch/>
        </p:blipFill>
        <p:spPr>
          <a:xfrm>
            <a:off x="5334120" y="3429000"/>
            <a:ext cx="304776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61868" b="63559"/>
          <a:stretch/>
        </p:blipFill>
        <p:spPr>
          <a:xfrm>
            <a:off x="5105520" y="838080"/>
            <a:ext cx="3504960" cy="2438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38F-FA1F-4BCE-B2EC-8072E7789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nload the Host Communication Guide from the web a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JCL/Scripts to execute TD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95F-644C-4176-A78F-5E081EE25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pported Platfor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VS OS/390 2.6+ &amp; LE 1.9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/400 4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IX 4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n Solaris 2.6+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PUX 10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37F-B9F7-4102-97E9-7D5F0C7091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b Tool - view network traffic in your SAIG mailbo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AF7-4F94-422B-9511-407B7280B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M Featur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s sent and received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s filter and sort capabil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s advanced search op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be used to restore fi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ew error detail to troubleshoot transmission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984-331C-4D4D-A517-8A1B54502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gin Screen for TD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380952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name: enter TG and the five digit TG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enter your SAIG Network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Lo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7810" r="15555" b="65124"/>
          <a:stretch/>
        </p:blipFill>
        <p:spPr>
          <a:xfrm>
            <a:off x="1066680" y="1371600"/>
            <a:ext cx="6553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1EE-3D0E-4EE3-9567-2EE60A4183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eps moving forw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1: Web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2: Download software and docu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connect - PC us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DClient – mainframe/midrange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3: Install softwar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4: Setup and Tes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BAF-BF5B-4240-9085-09A3E775D2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2A-4133-4D86-87D3-3692233EA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F6D-7903-4103-9F7D-8F1BB5240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rcRect l="0" t="11667" r="50545" b="77260"/>
          <a:stretch/>
        </p:blipFill>
        <p:spPr>
          <a:xfrm>
            <a:off x="304920" y="1676520"/>
            <a:ext cx="3581280" cy="83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37160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fsawebenrol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39D-96D6-41CD-879B-4F301B32E0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44197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Enroll for SAIG Mailbox go to: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ttps://www.fsawebenroll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1667" r="49635" b="59307"/>
          <a:stretch/>
        </p:blipFill>
        <p:spPr>
          <a:xfrm>
            <a:off x="1066680" y="1447920"/>
            <a:ext cx="67057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386-202F-494B-9D69-9876767C9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dd a new Destination Point (TG number/mailbox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dd a new TG number/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dify existing services for a Destination Po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hange or add services for a TG number/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11741" r="52127" b="53147"/>
          <a:stretch/>
        </p:blipFill>
        <p:spPr>
          <a:xfrm>
            <a:off x="990720" y="1219320"/>
            <a:ext cx="73911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A87-2986-4E5F-A7F3-6AA2666E7B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G Numb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tination Point Administrator (DPA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840-1DBC-4F02-8D17-DD488A52A2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sage class - used to identify type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CRXXIN – NSLDS Roster file (non cycl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SA08OP – ISIR data files for 2007-2008 cycle (cycl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2 characters determine se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– sent from school to applica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 – sent from application system to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EFA-34A0-4872-BCC9-60DF9E88E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sage Class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irew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 barrier between computer &amp; external source (Internet), hardware or software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prevent EDconnect or TDClient from communicating with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27082" b="81508"/>
          <a:stretch/>
        </p:blipFill>
        <p:spPr>
          <a:xfrm>
            <a:off x="914400" y="16002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E93-4B03-4EAB-AC21-2C62AC0D59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C software used to send and receive data.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Web tool used for viewing files transmitted through the mailboxing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BE3-F617-4F5B-A3EF-1D8C7D678C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3:20Z</dcterms:modified>
  <cp:revision>224</cp:revision>
  <dc:subject/>
  <dc:title>PowerPoint Presentation</dc:title>
</cp:coreProperties>
</file>