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8F8-C353-4A7E-A84D-82A68921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B36-A40C-41E4-9925-4140726C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F82-A4F7-4BB6-BCFF-354FF003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3CA-1482-4A67-951B-0EA14A86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5B5-FCD7-4AD0-82A4-F8B2AB11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3F3-A6FA-41F0-9B9A-01CC2E0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721-0FA3-4146-AF2D-9A79E72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3FD-D029-41DA-AAE6-E977E170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DB5-6165-4DDC-B4A6-BDACDE1D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17B-7900-4221-A81F-CC57340E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AFA-583A-43A1-AEB8-1AB671D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D97-2E8F-47AF-A1DA-A600AC2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2A0-DA1D-47C6-91EE-783C057B74E8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4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rst Tim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 Aid Internet Gateway (SAIG)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rlie Henk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647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rent version is 7.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4952880" y="2057400"/>
            <a:ext cx="3962520" cy="23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420-6391-4FB8-8B0C-9B9EB6590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curity Setup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ewall - op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rt 2658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allow for outbound TCP/IP traff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 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assword - EDconnect login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work Password - SAIG mail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81625" b="79330"/>
          <a:stretch/>
        </p:blipFill>
        <p:spPr>
          <a:xfrm>
            <a:off x="5334120" y="3429000"/>
            <a:ext cx="304776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61868" b="63559"/>
          <a:stretch/>
        </p:blipFill>
        <p:spPr>
          <a:xfrm>
            <a:off x="5105520" y="838080"/>
            <a:ext cx="3504960" cy="2438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F1B-6380-49AF-A306-02788C371E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wnload the Host Communication Guide from the web a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JCL/Scripts to execute TD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BC3-BBF2-4CF8-A928-45190F272C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pported Platfor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VS OS/390 2.6+ &amp; LE 1.9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S/400 4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IX 4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n Solaris 2.6+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PUX 10.2+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A82-694B-416D-9021-5C6140F58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b Tool - view network traffic in your SAIG mailbo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712-90A0-404A-BAB5-203D6E1DA8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M Featur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s sent and received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vides filter and sort capabil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pports advanced search op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be used to restore fi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ew error detail to troubleshoot transmission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921-54FA-4B8B-9179-02DE6B888B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gin Screen for TDC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380952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name: enter TG and the five digit TG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word: enter your SAIG Network passwo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Log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7810" r="15555" b="65124"/>
          <a:stretch/>
        </p:blipFill>
        <p:spPr>
          <a:xfrm>
            <a:off x="1066680" y="1371600"/>
            <a:ext cx="6553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19C-6709-4652-82D6-DDE729A795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eps moving forwa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1: Web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2: Download software and documen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connect - PC us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DClient – mainframe/midrange us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3: Install softwar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ep 4: Setup and Tes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ECA-7247-40A5-B2A6-DD06BB301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9B-A931-4057-A170-A8B444440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Enroll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0B9-5A4C-4B95-8473-8569592E1D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rcRect l="0" t="11667" r="50545" b="77260"/>
          <a:stretch/>
        </p:blipFill>
        <p:spPr>
          <a:xfrm>
            <a:off x="304920" y="1676520"/>
            <a:ext cx="3581280" cy="83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137160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fsawebenrol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2D7-4B79-4075-9E01-62256CB1DF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44197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Enroll for SAIG Mailbox go to: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ttps://www.fsawebenroll.ed.g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1667" r="49635" b="59307"/>
          <a:stretch/>
        </p:blipFill>
        <p:spPr>
          <a:xfrm>
            <a:off x="1066680" y="1447920"/>
            <a:ext cx="67057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CF3-151A-4E01-91BD-69D50E126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nroll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4343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dd a new Destination Point (TG number/mailbox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dd a new TG number/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dify existing services for a Destination Poi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hange or add services for a TG number/mail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11741" r="52127" b="53147"/>
          <a:stretch/>
        </p:blipFill>
        <p:spPr>
          <a:xfrm>
            <a:off x="990720" y="1219320"/>
            <a:ext cx="73911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676-49BA-42C5-A46D-78391E767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G Numbe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stination Point Administrator (DPA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1C1-3575-434D-944A-E00EA6D84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sage class - used to identify type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CRXXIN – NSLDS Roster file (non cycl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SA08OP – ISIR data files for 2007-2008 cycle (cycl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2 characters determine se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– sent from school to applica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 – sent from application system to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A70-4B7F-4AEB-B742-68D2B6C87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rminolog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ssage Class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irew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 barrier between computer &amp; external source (Internet), hardware or software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prevent EDconnect or TDClient from communicating with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27082" b="81508"/>
          <a:stretch/>
        </p:blipFill>
        <p:spPr>
          <a:xfrm>
            <a:off x="914400" y="16002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8D1-8841-4714-8D55-AA0A20429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C software used to send and receive data.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Web tool used for viewing files transmitted through the mailboxing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123-CD1B-4292-94AD-2E173912D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3:20Z</dcterms:modified>
  <cp:revision>224</cp:revision>
  <dc:subject/>
  <dc:title>PowerPoint Presentation</dc:title>
</cp:coreProperties>
</file>