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39C73-695A-4515-A68C-6644A15E8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74DB7-A51B-4D2D-B549-1C4098026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ou can take a bow to their applause of thanks...and bask in the knowledge that together you and your FA colleagues are an unbeatable tea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3ED-16F5-40B0-BB02-276D24E6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39F-A516-4C23-A07C-9B70EE31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1BD-CFF0-41EE-AFA3-41D55359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70E-8986-4091-80C3-10389FCC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537-5B5D-4860-B7AA-5F3C6342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DD3-263C-4F49-80D9-F9EA00D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435-38AA-4051-8733-F6876891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421-A492-4C7D-B26A-CADE68FD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1F6-8CA0-4895-AE7D-EF92F87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563-6200-42B7-9A70-C9802DE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427-8203-47AF-939F-06781D8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DC2-F0CA-416F-BFC5-12EC35A1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9F67-C7B9-4315-BA7B-5B0FF4DE85D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STR007.wav" TargetMode="External"/><Relationship Id="rId2" Type="http://schemas.microsoft.com/office/2007/relationships/media" Target="file:///tmp/home/.config/libreoffice/4/user/gallery/INSTR007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4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ncial Aid For  Technical Staf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od Ma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tional Youth Administ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3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DR “New Deal”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you say Tech Schoo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8B6-5EF4-45BC-9A16-6B0BB6DE20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44 - Serviceman’s Readjustment 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52 - Veteran’s Readjustment Assistance Ac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32F-1B56-473E-8705-3C6E8FC99B4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238880" y="60199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50’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’l Defense Education Act of 195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’l Defense Student Loan Program (morphed into Perkins Loan Progra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44B-76A7-4AB0-984F-8EEC866D4540}" type="slidenum">
              <a:t>12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er Education Act of 196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aranteed Student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ucational Opportunity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619-BEE0-4A83-92B1-D3CD39848C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er Education Reconciliation Act of 200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/National SMART aw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D/Professional Student PLUS borrow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849-985C-453F-884F-C797EDEB86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5867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F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e Application for Federal Student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7CC-0CE4-4CE8-AC62-94F8F17854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504120" y="5629320"/>
            <a:ext cx="232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COD interfaces routed through EAI except DC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1120" y="3276720"/>
            <a:ext cx="981360" cy="4204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527"/>
                </a:solidFill>
                <a:latin typeface="Times New Roman"/>
              </a:rPr>
              <a:t>SA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3581280" y="3428640"/>
            <a:ext cx="42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04920" y="2438280"/>
            <a:ext cx="1447560" cy="1947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>
            <a:off x="1828800" y="34286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114800" y="3809880"/>
            <a:ext cx="16002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C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809880"/>
            <a:ext cx="167652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B M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29718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527"/>
                </a:solidFill>
                <a:latin typeface="Times New Roman"/>
              </a:rPr>
              <a:t>Central Process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527"/>
                </a:solidFill>
                <a:latin typeface="Times New Roman"/>
              </a:rPr>
              <a:t>(C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642960"/>
            <a:ext cx="1904760" cy="1947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tudent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V="1">
            <a:off x="55623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4114800" y="3048120"/>
            <a:ext cx="3276720" cy="19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683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527"/>
                </a:solidFill>
                <a:latin typeface="Times New Roman"/>
              </a:rPr>
              <a:t>*FOTW – FAFSA on th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7BC-5686-4A76-8F97-14F5A3CDBDF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l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id Eligibility/Determin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 Process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cted Family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328-408A-49CC-B9A0-07F3C18CE31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A (Cost of Attendance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876920"/>
            <a:ext cx="693432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844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1562400" cy="23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353-74A8-482D-A94B-8F324562EC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 (Academic Competitiveness Gr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MART Grant (National Science and Mathematics Access to Retain Talent Gra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B1C-DD9A-4600-8FCD-5C5440DCE54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4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 Beeouttahe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mpus Based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Supplemental Educational Opportunity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-Work Study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kins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7DA-7232-4CB0-ADFE-5EEEA4B839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lliam D. Ford Federal Student Direct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Family Education Loan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ernative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CD1-7CE3-4FA2-BBB6-F911B40182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ward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Ai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185-839D-4EC5-BD14-B2F1AC4EA2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OD Boogi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481120" y="3765600"/>
            <a:ext cx="981360" cy="420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2920" y="5219640"/>
            <a:ext cx="110160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Mgt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2640" y="3521160"/>
            <a:ext cx="1028880" cy="961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n Servicing System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DLS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0560" y="3241800"/>
            <a:ext cx="1459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G, SMART, Direct Loan and Pell Origination, Change and Disbursemen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300560"/>
            <a:ext cx="1228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ch and web-generated Respons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3680" y="154620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CP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6200" y="4151160"/>
            <a:ext cx="9619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an Bookings &amp; Disburs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95480" y="231624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ool Eligibility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22800" y="4680000"/>
            <a:ext cx="115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ing 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ment 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23200" y="27702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Level  Gran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66000" y="4022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2531880"/>
            <a:ext cx="920880" cy="82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2520" y="2568600"/>
            <a:ext cx="50004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7040" y="27352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Level  Direct Loa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39880" y="4724280"/>
            <a:ext cx="110196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MSS / GA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1" idx="3"/>
            <a:endCxn id="127" idx="1"/>
          </p:cNvCxnSpPr>
          <p:nvPr/>
        </p:nvCxnSpPr>
        <p:spPr>
          <a:xfrm>
            <a:off x="3462480" y="3976200"/>
            <a:ext cx="676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23960" y="3500280"/>
            <a:ext cx="1028520" cy="96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6"/>
            <a:endCxn id="111" idx="1"/>
          </p:cNvCxnSpPr>
          <p:nvPr/>
        </p:nvCxnSpPr>
        <p:spPr>
          <a:xfrm flipV="1">
            <a:off x="1752480" y="3976200"/>
            <a:ext cx="7293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"/>
          <p:cNvCxnSpPr>
            <a:stCxn id="128" idx="4"/>
            <a:endCxn id="125" idx="2"/>
          </p:cNvCxnSpPr>
          <p:nvPr/>
        </p:nvCxnSpPr>
        <p:spPr>
          <a:xfrm flipH="1" rot="16200000">
            <a:off x="1552320" y="4147200"/>
            <a:ext cx="772200" cy="14022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7" idx="2"/>
            <a:endCxn id="112" idx="0"/>
          </p:cNvCxnSpPr>
          <p:nvPr/>
        </p:nvCxnSpPr>
        <p:spPr>
          <a:xfrm>
            <a:off x="5100120" y="4555800"/>
            <a:ext cx="3960" cy="66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stCxn id="125" idx="6"/>
            <a:endCxn id="112" idx="2"/>
          </p:cNvCxnSpPr>
          <p:nvPr/>
        </p:nvCxnSpPr>
        <p:spPr>
          <a:xfrm>
            <a:off x="3741480" y="5234040"/>
            <a:ext cx="8118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346040" y="5257800"/>
            <a:ext cx="122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dow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2592360"/>
            <a:ext cx="165240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9320" y="1558800"/>
            <a:ext cx="112104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 Secondary Education Participant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EP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260960" y="250344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Applica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645160" y="4335120"/>
            <a:ext cx="1712880" cy="141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69080" y="4802040"/>
            <a:ext cx="115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ment 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35720" y="153972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 Data 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NSLD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8560" y="3403440"/>
            <a:ext cx="19224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on Origination &amp; Disbursement  (C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3720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408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2448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38640" y="4172040"/>
            <a:ext cx="17431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17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417528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Service 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2280" y="417348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n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4960" y="1533600"/>
            <a:ext cx="1121040" cy="1044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bt Collection Services (DC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00680" y="2590920"/>
            <a:ext cx="444240" cy="81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62720" y="251460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udent Pell Payment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36576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057040" y="4191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691-319D-4E1F-B50C-D62ED30DBF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971800" cy="2325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124080" cy="2444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400560" y="2979720"/>
            <a:ext cx="351612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1BB-E6F5-4710-9AC8-D04658C3A2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OD Boogi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3765600"/>
            <a:ext cx="981000" cy="420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133720"/>
            <a:ext cx="48769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G, SMART, Direct Loan and Pell Origination, Change and Disburseme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800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tch and web generated Respo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200" y="154620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CP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5002200"/>
            <a:ext cx="110196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3500280"/>
            <a:ext cx="1028520" cy="96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6"/>
            <a:endCxn id="158" idx="1"/>
          </p:cNvCxnSpPr>
          <p:nvPr/>
        </p:nvCxnSpPr>
        <p:spPr>
          <a:xfrm flipV="1">
            <a:off x="1752480" y="3976200"/>
            <a:ext cx="19915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76320" y="4795920"/>
            <a:ext cx="2666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d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0020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9320" y="1558800"/>
            <a:ext cx="112104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 Data 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NSLD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97360" y="3403440"/>
            <a:ext cx="192276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on Origination &amp; Disbursement  (C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6756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704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8652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0680" y="4172040"/>
            <a:ext cx="17431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417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16520" y="417528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Service 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040" y="4173480"/>
            <a:ext cx="8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nt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3" idx="0"/>
            <a:endCxn id="161" idx="4"/>
          </p:cNvCxnSpPr>
          <p:nvPr/>
        </p:nvCxnSpPr>
        <p:spPr>
          <a:xfrm flipH="1" flipV="1">
            <a:off x="963000" y="2590560"/>
            <a:ext cx="275400" cy="9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>
            <a:off x="4724280" y="396216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endCxn id="162" idx="1"/>
          </p:cNvCxnSpPr>
          <p:nvPr/>
        </p:nvCxnSpPr>
        <p:spPr>
          <a:xfrm>
            <a:off x="1600200" y="4343040"/>
            <a:ext cx="543600" cy="80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792-81B6-4508-99B0-F223C57720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ing – C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on Origination &amp; Disbursement (CO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MART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65D-2267-4773-BF86-C3BD3976D20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ing - C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on Rec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6DE-8B90-4B80-8A4E-BD199A6AEEC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ly 1, 2007 – June 30,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war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012-5EB6-41E4-9C92-436316565E3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er ter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year closeout for loans (prior award yea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war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der/trail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53C-2EF6-40E6-B166-C4EDE3B3509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ut First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a9"/>
                </a:solidFill>
                <a:latin typeface="Times New Roman"/>
              </a:rPr>
              <a:t>It’s Picture Ti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E36-4611-4B97-9687-D3F023DA541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ll PE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ditionally chaot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ation and st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 year-end reconciliation and close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493-4AA0-42E4-B48F-E4F6F0D0FD0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ring PE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ation and start of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 global job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s/awarding for NEXT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2C8-FFF6-42D3-B8AA-0465B1743A2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-504720" y="825480"/>
            <a:ext cx="87343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Blessed are those that survive PEAK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5F2-D4B0-49A5-B937-771B2F5ACF27}" type="slidenum">
              <a:t>32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Next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ul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llars an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F3C-548F-4E57-8353-675E9BE87FF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Next Award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T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of it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other system that touches you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C66-4AA3-49C1-82FF-2EFB3161F6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D Tech Re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ssar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AP.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Student Aid Professio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721-890B-42DB-AC11-4423CC970A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ministrative Cost Allow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Overaward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R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ple Reporting Rec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99D-C4B8-460D-9B43-15230D6E67B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9436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Relations Cen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 customer service center in Niagara Falls, 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S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9436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er service represen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94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607-BA99-4D7F-A3AD-C6EB9400CD3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...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P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s Administration and Pay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whence all moneys 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ing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 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C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E1C-B6B0-4072-8737-DEB6333D6C9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...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SL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tudent Loan Databas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Access Onli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43F-8672-4B02-8BF2-69B958DF593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alkin’ the talk...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Processing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Aid Internet Gatewa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722-B656-4E40-AC07-8F060131C7A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uld you use a little more scheduled time on the box, or maybe some additional bandwidth for transmitting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89E-B7B0-407A-BF12-FD29E5BAB18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rolled your transfer students in NSLDS’ transfer monitoring and alert activity? I’d hate to see you spend precious time dealing with a POP’d student during Spring Peak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D70-CEF5-4712-BB8F-628E7050E42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d finally.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720-64A6-4B7B-BBA1-A27F23CF746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are &amp; Feeding of Your FA Colleagu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lly computer system! Really, it’s not your fault. I’ll get the back-up CD and you’ll be up and running in no time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762-EFEF-43BA-8122-3CC830EC7E2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CC7-0AA2-46A7-8DA8-DE1C3E81692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 appreciate your feedback and comments.  I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me: Wood Ma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 404.562.627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600" spc="-1" strike="noStrike">
                <a:solidFill>
                  <a:srgbClr val="cf0527"/>
                </a:solidFill>
                <a:latin typeface="Verdana"/>
              </a:rPr>
              <a:t>wood.mason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14A-8E61-43C5-97E1-E03C1233234E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4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d $50 cash to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 Beeouttahe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55 East West A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gernona, GA 6789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 a Nutshell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2096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 appl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 calculates 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determines aid offe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D74-EB21-440E-9941-5F2E2EB066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rvard Univers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9, 164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dy Ann Radcliffe Mowlson endowed Harvard’s first scholarship f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40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vard’s first loa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CB2-C0E1-477B-9A67-E4A46FE3F5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23623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abody Education Fu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6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$2 million dollars over 30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EE7-440C-4428-911F-F6C380FF25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86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binet level p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B28-C50E-4D8C-B650-EA0406E14E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2:49Z</dcterms:modified>
  <cp:revision>214</cp:revision>
  <dc:subject/>
  <dc:title>PowerPoint Presentation</dc:title>
</cp:coreProperties>
</file>