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CF7C1-72D6-48FE-B77B-EEFD12AF7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0885-999C-43E9-A755-154B91B37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ou can take a bow to their applause of thanks...and bask in the knowledge that together you and your FA colleagues are an unbeatable tea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FC-4CC3-456F-9DD5-04F7DD15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B2F-6FAD-477E-9F43-5E09AA07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955-BC5B-47EE-BA2E-6D32CE59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E4A-D2FF-40A6-A53B-D82783DF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829-8C14-4F42-91AA-1AED5EA7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57A-2E26-4385-966D-705815C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D21-3F06-471C-B7B4-F7D5A32D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92A-204B-494A-8DCF-06FC0E8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7DA-EE15-41FA-942F-F5E588F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576-855F-4972-AB9F-F8BED71B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456-7E51-4C72-9B93-EEC036E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359-EAF5-4432-B9CE-3E46026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BE9-4A94-410F-AE3E-254EDEB7E2E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STR007.wav" TargetMode="External"/><Relationship Id="rId2" Type="http://schemas.microsoft.com/office/2007/relationships/media" Target="file:///tmp/home/.config/libreoffice/4/user/gallery/INSTR007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ncial Aid For  Technical Staf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od Ma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tional Youth Admin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3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DR “New Deal”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you say Tech Schoo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D5B-9E74-4F9A-9B37-C80AA9DEC5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44 - Serviceman’s Readjustment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52 - Veteran’s Readjustment Assistance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B92-35A7-4ED9-B14B-CBB10C917E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60199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50’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’l Defense Education Act of 195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’l Defense Student Loan Program (morphed into Perkins Loan Progra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A14-04F4-43ED-B08F-EE8B58E25497}" type="slidenum">
              <a:t>12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er Education Act of 196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aranteed Student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al Opportunity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467-1C5F-44F8-B00D-A8E8CDA459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er Education Reconciliation Act of 200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/National SMART aw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/Professional Student PLUS borrow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126-D15A-435F-89D8-1440325444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F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e Application for Federal Student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43C-FB6E-46AB-B8E5-3E7F2F1335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504120" y="5629320"/>
            <a:ext cx="232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COD interfaces routed through EAI except DC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1120" y="3276720"/>
            <a:ext cx="981360" cy="420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527"/>
                </a:solidFill>
                <a:latin typeface="Times New Roman"/>
              </a:rPr>
              <a:t>SA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3581280" y="342864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04920" y="2438280"/>
            <a:ext cx="1447560" cy="1947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>
            <a:off x="1828800" y="3428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114800" y="3809880"/>
            <a:ext cx="16002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C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809880"/>
            <a:ext cx="16765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B M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9718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527"/>
                </a:solidFill>
                <a:latin typeface="Times New Roman"/>
              </a:rPr>
              <a:t>Central Process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527"/>
                </a:solidFill>
                <a:latin typeface="Times New Roman"/>
              </a:rPr>
              <a:t>(C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642960"/>
            <a:ext cx="1904760" cy="1947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tudent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V="1">
            <a:off x="55623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4114800" y="3048120"/>
            <a:ext cx="327672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683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527"/>
                </a:solidFill>
                <a:latin typeface="Times New Roman"/>
              </a:rPr>
              <a:t>*FOTW – FAFSA on t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2DB-6D41-4E68-87A2-CEDB13FB0B7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id Eligibility/Deter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 Process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54C-3EE1-4384-88A7-E4F38C64E2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A (Cost of Attendanc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876920"/>
            <a:ext cx="69343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844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1562400" cy="23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173-924A-4F4F-B318-1805375F97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 (Academic Competitiveness Gr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 (National Science and Mathematics Access to Retain Talent Gr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A7D-D7DF-4332-A1D8-6FBA799A90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 Beeoutta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mpus Based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upplemental Educational Opportunity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-Work Study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4A4-5BFC-4361-B3A7-E8C216AB676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lliam D. Ford Federal Student Direct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Family Education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ive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8C8-6CF1-4E96-82A0-795ABC2637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Ai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5FC-CBB9-4A6F-9330-33C59C28DF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OD Boogi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481120" y="3765600"/>
            <a:ext cx="981360" cy="420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5219640"/>
            <a:ext cx="110160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Mgt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3521160"/>
            <a:ext cx="1028880" cy="961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n Servicing Syste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DLS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0560" y="3241800"/>
            <a:ext cx="1459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G, SMART, Direct Loan and Pell Origination, Change and Disburseme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300560"/>
            <a:ext cx="1228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 and web-generated Respons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3680" y="154620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6200" y="4151160"/>
            <a:ext cx="961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an Bookings &amp; Disburs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95480" y="23162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22800" y="4680000"/>
            <a:ext cx="115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ing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3200" y="27702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Level  Gra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66000" y="4022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2531880"/>
            <a:ext cx="920880" cy="82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2520" y="2568600"/>
            <a:ext cx="50004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7040" y="27352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Level  Direct Loa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39880" y="4724280"/>
            <a:ext cx="110196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MSS / GA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1" idx="3"/>
            <a:endCxn id="127" idx="1"/>
          </p:cNvCxnSpPr>
          <p:nvPr/>
        </p:nvCxnSpPr>
        <p:spPr>
          <a:xfrm>
            <a:off x="3462480" y="3976200"/>
            <a:ext cx="676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23960" y="3500280"/>
            <a:ext cx="1028520" cy="96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6"/>
            <a:endCxn id="111" idx="1"/>
          </p:cNvCxnSpPr>
          <p:nvPr/>
        </p:nvCxnSpPr>
        <p:spPr>
          <a:xfrm flipV="1">
            <a:off x="1752480" y="3976200"/>
            <a:ext cx="7293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"/>
          <p:cNvCxnSpPr>
            <a:stCxn id="128" idx="4"/>
            <a:endCxn id="125" idx="2"/>
          </p:cNvCxnSpPr>
          <p:nvPr/>
        </p:nvCxnSpPr>
        <p:spPr>
          <a:xfrm flipH="1" rot="16200000">
            <a:off x="1552320" y="4147200"/>
            <a:ext cx="772200" cy="14022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7" idx="2"/>
            <a:endCxn id="112" idx="0"/>
          </p:cNvCxnSpPr>
          <p:nvPr/>
        </p:nvCxnSpPr>
        <p:spPr>
          <a:xfrm>
            <a:off x="5100120" y="4555800"/>
            <a:ext cx="3960" cy="66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stCxn id="125" idx="6"/>
            <a:endCxn id="112" idx="2"/>
          </p:cNvCxnSpPr>
          <p:nvPr/>
        </p:nvCxnSpPr>
        <p:spPr>
          <a:xfrm>
            <a:off x="3741480" y="5234040"/>
            <a:ext cx="8118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346040" y="5257800"/>
            <a:ext cx="122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dow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2592360"/>
            <a:ext cx="165240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9320" y="1558800"/>
            <a:ext cx="112104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Secondary Education Participant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E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260960" y="25034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Applica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645160" y="4335120"/>
            <a:ext cx="1712880" cy="141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69080" y="4802040"/>
            <a:ext cx="11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35720" y="153972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 Data 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SLD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8560" y="3403440"/>
            <a:ext cx="19224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on Origination &amp; Disbursement  (C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720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408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2448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8640" y="4172040"/>
            <a:ext cx="17431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17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417528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Service 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2280" y="417348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n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4960" y="1533600"/>
            <a:ext cx="1121040" cy="1044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bt Collection Services (DC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00680" y="2590920"/>
            <a:ext cx="444240" cy="81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62720" y="251460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Pell Payme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6576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057040" y="4191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3FE-D8E9-4728-867D-33DCFDA7813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971800" cy="2325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124080" cy="244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400560" y="2979720"/>
            <a:ext cx="351612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40B-258F-43F1-8A89-5F057AB2B6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OD Boogi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3765600"/>
            <a:ext cx="981000" cy="420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133720"/>
            <a:ext cx="48769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G, SMART, Direct Loan and Pell Origination, Change and Disbursem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800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tch and web generated Respo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54620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5002200"/>
            <a:ext cx="110196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3500280"/>
            <a:ext cx="1028520" cy="96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6"/>
            <a:endCxn id="158" idx="1"/>
          </p:cNvCxnSpPr>
          <p:nvPr/>
        </p:nvCxnSpPr>
        <p:spPr>
          <a:xfrm flipV="1">
            <a:off x="1752480" y="3976200"/>
            <a:ext cx="19915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76320" y="4795920"/>
            <a:ext cx="2666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d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0020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9320" y="1558800"/>
            <a:ext cx="112104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 Data 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SLD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97360" y="3403440"/>
            <a:ext cx="192276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on Origination &amp; Disbursement  (C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756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704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8652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0680" y="4172040"/>
            <a:ext cx="17431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417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6520" y="417528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Service 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040" y="4173480"/>
            <a:ext cx="8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n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3" idx="0"/>
            <a:endCxn id="161" idx="4"/>
          </p:cNvCxnSpPr>
          <p:nvPr/>
        </p:nvCxnSpPr>
        <p:spPr>
          <a:xfrm flipH="1" flipV="1">
            <a:off x="963000" y="2590560"/>
            <a:ext cx="275400" cy="9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>
            <a:off x="4724280" y="396216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endCxn id="162" idx="1"/>
          </p:cNvCxnSpPr>
          <p:nvPr/>
        </p:nvCxnSpPr>
        <p:spPr>
          <a:xfrm>
            <a:off x="1600200" y="4343040"/>
            <a:ext cx="543600" cy="80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E37-E129-49A6-9B4D-DCBB0713F8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ing – C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on Origination &amp; Disbursement (CO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4B9-C54C-45F6-89BE-37B65ED96E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ing - C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on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D02-D49A-474F-BE52-5BF6CEFABB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ly 1, 2007 – June 30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war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879-F378-4416-BAC8-01C2B94FD90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er te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year closeout for loans (prior award yea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war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er/trail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233-5BA0-4D91-8FED-8FF3832A149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ut First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a9"/>
                </a:solidFill>
                <a:latin typeface="Times New Roman"/>
              </a:rPr>
              <a:t>It’s Picture Ti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E25-5E48-42E1-9530-9839694E21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ll PE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ditionally chao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and st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 year-end reconciliation and close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B17-1739-4B7C-849F-287FACBD91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ring PE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and start of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 global job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/awarding for NEXT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AC8-FF6E-43E9-BB0C-18598A855F3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-504720" y="825480"/>
            <a:ext cx="87343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Blessed are those that survive PEAK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CA-693F-40B0-9D22-DB79AEC7DC72}" type="slidenum">
              <a:t>32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Next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llars an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86A-6DE2-46DF-953F-1C09E4171A8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Next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T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f it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other system that touches you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409-3AB6-47FE-B11A-925F92F217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D Tech Re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ss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AP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Student Aid Professio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C25-9CC4-4B8B-9EFC-B12606A4D43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ministrative Cost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Overaward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R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e Reporting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B3B-AC4F-494F-96C8-66F596C7ABA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Relations Cen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 customer service center in Niagara Falls, 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S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er service represen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2C8-DA1F-481F-AECD-16206B3DE30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P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 Administration and Pay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whence all moneys 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ing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 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DE0-A007-438F-A28D-CA965AAD794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tudent Loan Databas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Access Onli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3A3-3EE5-4EF4-96B8-2E05C802670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Processing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Aid Internet Gatewa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395-581F-4D59-A33E-0C13896A19A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uld you use a little more scheduled time on the box, or maybe some additional bandwidth for transmitting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D3C-30F7-405B-8246-9394B179FE6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rolled your transfer students in NSLDS’ transfer monitoring and alert activity? I’d hate to see you spend precious time dealing with a POP’d student during Spring Peak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61A-F311-4971-AA01-EBDF4CBDC22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d finally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E98-D845-4BDA-BBFD-328209800F3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lly computer system! Really, it’s not your fault. I’ll get the back-up CD and you’ll be up and running in no time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CBD-7D5D-4C08-A32F-36F500550DB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764-0A12-4A8F-90F1-7E93F4152D7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appreciate your feedback and comments.  I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me: Wood Ma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 404.562.627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600" spc="-1" strike="noStrike">
                <a:solidFill>
                  <a:srgbClr val="cf0527"/>
                </a:solidFill>
                <a:latin typeface="Verdana"/>
              </a:rPr>
              <a:t>wood.maso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129-602B-4213-8071-B24E852119E6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d $50 cash to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 Beeoutta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55 East West A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gernona, GA 6789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 a Nutshell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ppl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 calculates 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determines aid offe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8B4-752E-4822-8547-E9360000B3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rvard Univers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9, 164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dy Ann Radcliffe Mowlson endowed Harvard’s first scholarship f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40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vard’s first loa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31B-351B-445B-97DB-16A4EF6B75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abody Education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6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 million dollars over 30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754-EA03-41AD-ACA9-9B6382D716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86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binet level p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62-F8AD-4A53-A9FF-E991AAB82C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2:49Z</dcterms:modified>
  <cp:revision>214</cp:revision>
  <dc:subject/>
  <dc:title>PowerPoint Presentation</dc:title>
</cp:coreProperties>
</file>