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C24F-0B0C-4047-AD8E-64D9C0687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09180-E2A7-469B-AB61-C25AC2A7C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3099D-7E99-4CC5-8A7B-D0F8B17D8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22D01-79DC-4EBB-A528-7932A74A7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BD9D-5858-4524-80C4-4C9AE467D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9535-CFCC-4C32-80E4-E67E85606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CFBC-298B-4088-AEBE-31318D839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D5C3A-3C67-44AF-9755-8E6B1F477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C57DC-A651-4124-86F2-AA28F2009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83632-398C-4A8D-873E-87D86DDBC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34658-60F1-487A-BA8F-28BE61457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FC5A-8094-48DE-8A34-C24933BCE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CDC0-0FAD-45EF-A6E7-71D7130FF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19429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arly Adopte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necticut Student Loan Foundation - 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necticut Student Loan Foundation - L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 – South Dak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orida Dept. of Education, OS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orgia Higher Education Assistance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at Lakes Higher Education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llinois Student Assistance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1371600"/>
            <a:ext cx="3886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HE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ional Student Loa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Hampshire Higher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llie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 Loans of North Dak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 Loan Guarantee Foundation of Arkan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as Guarant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A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’s Foundation Principl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ly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Particip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Standar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messaging using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 with the PESC XML Forum fo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IFX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with the Department of Education’s Common Record and the current NCHELP CommonLine re-engineering XML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90920" y="380880"/>
            <a:ext cx="57909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tandards and their implementation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1828800"/>
            <a:ext cx="4953240" cy="685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1981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ete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2666880"/>
            <a:ext cx="2514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Times New Roman"/>
              </a:rPr>
              <a:t>Annou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Times New Roman"/>
              </a:rPr>
              <a:t>Exp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2743200"/>
            <a:ext cx="251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Times New Roman"/>
              </a:rPr>
              <a:t>U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Times New Roman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Times New Roman"/>
              </a:rPr>
              <a:t>U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Times New Roman"/>
              </a:rPr>
              <a:t>S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2666880"/>
            <a:ext cx="2438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Times New Roman"/>
              </a:rPr>
              <a:t>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68120" y="29862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[Feb 200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6934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2666880"/>
            <a:ext cx="144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2666880"/>
            <a:ext cx="180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uthentic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36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entral authentic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s transitive trus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ccess Provider uses their existing authentication model (single sign-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of trust assigned at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0 (Unique 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1 (Unique ID &amp; 1 piece of public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 (Unique ID &amp; 2 pieces of public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3 (Unique/User ID &amp; shared secr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is Leading Edg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orld of web services applications, Meteor is leading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is Leading Edg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or’s open-source web service architecture can be the example for student aid services, as well as other education applications, and even growing into broader IT conside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ing common industry standards based on XML, our goal is to enable seamless sharing of information across many platforms and programming languages and over the Internet with XML web servic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soft 2002 Annual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Architectur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or employs a “web services”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entral data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-to-peer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aggregation of information for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52360" y="1222200"/>
            <a:ext cx="7477200" cy="4624560"/>
          </a:xfrm>
          <a:prstGeom prst="roundRect">
            <a:avLst>
              <a:gd name="adj" fmla="val 5787"/>
            </a:avLst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Architectur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18000" y="2090880"/>
            <a:ext cx="1143000" cy="35812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3581280"/>
              <a:gd name="textAreaBottom" fmla="*/ 3525480 h 3581280"/>
            </a:gdLst>
            <a:ahLst/>
            <a:rect l="textAreaLeft" t="textAreaTop" r="textAreaRight" b="textAreaBottom"/>
            <a:pathLst>
              <a:path w="21600" h="67663">
                <a:moveTo>
                  <a:pt x="3600" y="0"/>
                </a:moveTo>
                <a:arcTo wR="3600" hR="3600" stAng="16200000" swAng="-5400000"/>
                <a:lnTo>
                  <a:pt x="0" y="64063"/>
                </a:lnTo>
                <a:arcTo wR="3600" hR="3600" stAng="10800000" swAng="-5400000"/>
                <a:lnTo>
                  <a:pt x="18000" y="6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12880" y="1633680"/>
            <a:ext cx="1523880" cy="403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36760" y="1481040"/>
            <a:ext cx="4343400" cy="609840"/>
          </a:xfrm>
          <a:prstGeom prst="rightArrow">
            <a:avLst>
              <a:gd name="adj1" fmla="val 43750"/>
              <a:gd name="adj2" fmla="val 95787"/>
            </a:avLst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36760" y="2166840"/>
            <a:ext cx="1905120" cy="609840"/>
          </a:xfrm>
          <a:prstGeom prst="rightArrow">
            <a:avLst>
              <a:gd name="adj1" fmla="val 50000"/>
              <a:gd name="adj2" fmla="val 78099"/>
            </a:avLst>
          </a:prstGeom>
          <a:solidFill>
            <a:srgbClr val="0000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ML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36760" y="2776680"/>
            <a:ext cx="1905120" cy="609480"/>
          </a:xfrm>
          <a:prstGeom prst="leftArrow">
            <a:avLst>
              <a:gd name="adj1" fmla="val 50000"/>
              <a:gd name="adj2" fmla="val 78145"/>
            </a:avLst>
          </a:prstGeom>
          <a:solidFill>
            <a:srgbClr val="0000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ML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6760" y="4148280"/>
            <a:ext cx="1905120" cy="609480"/>
          </a:xfrm>
          <a:prstGeom prst="rightArrow">
            <a:avLst>
              <a:gd name="adj1" fmla="val 50000"/>
              <a:gd name="adj2" fmla="val 78145"/>
            </a:avLst>
          </a:prstGeom>
          <a:solidFill>
            <a:srgbClr val="0000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ML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36760" y="4834080"/>
            <a:ext cx="1905120" cy="609480"/>
          </a:xfrm>
          <a:prstGeom prst="leftArrow">
            <a:avLst>
              <a:gd name="adj1" fmla="val 50000"/>
              <a:gd name="adj2" fmla="val 78145"/>
            </a:avLst>
          </a:prstGeom>
          <a:solidFill>
            <a:srgbClr val="0000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ML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41880" y="4148280"/>
            <a:ext cx="129528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5902200"/>
            <a:ext cx="1093680" cy="852480"/>
          </a:xfrm>
          <a:prstGeom prst="flowChartMagneticDisk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g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53960" y="1627200"/>
            <a:ext cx="1828800" cy="8380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88" y="0"/>
                </a:lnTo>
                <a:lnTo>
                  <a:pt x="21600" y="10800"/>
                </a:lnTo>
                <a:lnTo>
                  <a:pt x="166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al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189000" y="4528800"/>
            <a:ext cx="1433520" cy="68580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1407600" y="4528800"/>
            <a:ext cx="1219320" cy="685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41880" y="2319480"/>
            <a:ext cx="129528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70480" y="2928960"/>
            <a:ext cx="914400" cy="76212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37160" y="254808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37160" y="437688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80160" y="1481040"/>
            <a:ext cx="838440" cy="426744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4267440"/>
              <a:gd name="textAreaBottom" fmla="*/ 4226760 h 4267440"/>
            </a:gdLst>
            <a:ahLst/>
            <a:rect l="textAreaLeft" t="textAreaTop" r="textAreaRight" b="textAreaBottom"/>
            <a:pathLst>
              <a:path w="21600" h="109900">
                <a:moveTo>
                  <a:pt x="3600" y="0"/>
                </a:moveTo>
                <a:arcTo wR="3600" hR="3600" stAng="16200000" swAng="-5400000"/>
                <a:lnTo>
                  <a:pt x="0" y="106300"/>
                </a:lnTo>
                <a:arcTo wR="3600" hR="3600" stAng="10800000" swAng="-5400000"/>
                <a:lnTo>
                  <a:pt x="18000" y="109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Protocol (LD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41480" y="3233880"/>
            <a:ext cx="1062000" cy="114300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396040" y="5284800"/>
            <a:ext cx="1380960" cy="1380960"/>
          </a:xfrm>
          <a:custGeom>
            <a:avLst/>
            <a:gdLst>
              <a:gd name="textAreaLeft" fmla="*/ 376200 w 1380960"/>
              <a:gd name="textAreaRight" fmla="*/ 1112760 w 1380960"/>
              <a:gd name="textAreaTop" fmla="*/ 865440 h 1380960"/>
              <a:gd name="textAreaBottom" fmla="*/ 1112760 h 13809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5884" y="9340"/>
                </a:lnTo>
                <a:lnTo>
                  <a:pt x="5884" y="13536"/>
                </a:lnTo>
                <a:lnTo>
                  <a:pt x="13536" y="13536"/>
                </a:lnTo>
                <a:lnTo>
                  <a:pt x="13536" y="5884"/>
                </a:lnTo>
                <a:lnTo>
                  <a:pt x="9340" y="5884"/>
                </a:lnTo>
                <a:lnTo>
                  <a:pt x="15470" y="0"/>
                </a:lnTo>
                <a:lnTo>
                  <a:pt x="21600" y="5884"/>
                </a:lnTo>
                <a:lnTo>
                  <a:pt x="17404" y="5884"/>
                </a:lnTo>
                <a:lnTo>
                  <a:pt x="17404" y="17404"/>
                </a:lnTo>
                <a:lnTo>
                  <a:pt x="5884" y="17404"/>
                </a:lnTo>
                <a:lnTo>
                  <a:pt x="588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15400" y="1182600"/>
            <a:ext cx="25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o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rchitectural Benefi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ation for continued growth in collaborative student ai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ility in implementation an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/no cost options for establishing this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#43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2209680"/>
            <a:ext cx="3886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13474"/>
                </a:solidFill>
                <a:latin typeface="Arial"/>
              </a:rPr>
              <a:t>METEOR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733920"/>
            <a:ext cx="52974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ss Judd, Great L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ele Marsh, A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 Cameron, NC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ic Access Confer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ember 3-6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Opportunity Knock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or implementation should be viewed as an opportunity to enhance custome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s are demanding more real-time access to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133200"/>
            <a:ext cx="9296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152280" y="57240"/>
            <a:ext cx="9296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is Meteor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-based universal access channel for financial ai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regated information to assist the FAP with counseling borrowers and with the aid process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ift to schools and borr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ming Soon… “Super Screen”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0" y="1828800"/>
          <a:ext cx="5334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828800"/>
                    <a:ext cx="5334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3962160"/>
            <a:ext cx="8336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your help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all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t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ould b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us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ummar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st year has been spent in making cutting-edge technology address student loan business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eor architecture is advanced technology—not only in FFELP, but in all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dvanced technology provides collateral opportunities to enhance customer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38280" y="304920"/>
            <a:ext cx="6705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713474"/>
                </a:solidFill>
                <a:latin typeface="Arial"/>
              </a:rPr>
              <a:t>Recommendations to the community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1676520"/>
            <a:ext cx="7467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Aft>
                <a:spcPts val="876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 in the these technolo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as used for e-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876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customer behavior and p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and parents (Student Chann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and Staff (Professional Chann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876"/>
              </a:spcAft>
              <a:buClr>
                <a:srgbClr val="823c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n eye on the industry lea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HELP - standards, industry dir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-SIG - Portal technology, Java and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Ongoing Statu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urrent status and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eor Project Inf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nchelp.org/Meteo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Sponso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7840" y="16765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Educa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Student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se Manhat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Foundation,  Inc. [N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Board/College Credit Education Loa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cut Student Loan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al Credit Management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ssistance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Funding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rida Department of Education, OS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61960" y="380520"/>
            <a:ext cx="601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Sponso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 Higher Education Assistance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Lakes Higher Education Guaranty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c, L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Education Student Assistance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inois Student Assistance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wa Student Loan Liquidity Corpo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tucky Higher Education Assistance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Educatio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tar Systems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igan Higher Education Assistance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ana Guaranteed Student Loa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Sponso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Student Loan Program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Hampshire Higher Education Assistance Foun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exico Educational Assistanc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York State Higher Education Services Corpo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S Pea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Carolina State Education Assistance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west Education Loan Association (NE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lahoma Guaranteed Student Loa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egon Student Assistance Com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handle-Plains Student Loan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de Island Higher Education Assistance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6196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Sponso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07840" y="12193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lie Mae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west Student Services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Loan Finance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Loan Guarantee Foundation of Arkan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Loans of North Dak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as Guaranteed Student Loan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udent Aid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mont Student Assistance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23720" y="777600"/>
            <a:ext cx="5821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Ques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dditional questions. Please e-m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54720" y="2971800"/>
            <a:ext cx="546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tcameron@nchelp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rjudd@glhec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amarsh@aessuccess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does Meteor Work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or uses the concept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Provid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Provid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e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Provi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inquirers to obtain information through its web site by hosting a copy of the Meteor software, which generates the request to the Data Providers for the borrower’s inform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providers can be Schools, Guarantors, Lenders, Servicers, or Secondary Mar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does Meteor Work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e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Provi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sts a copy of the Meteor software that enables them to respond to the Access Provider’s request for information, supplying data from thei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Providers are typically Lenders, Servicers, Guarantors, and Secondary Market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uture, the Dept. of ED, State Grant authorities, Schools, and others could become Data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1219320"/>
            <a:ext cx="8686800" cy="5181480"/>
          </a:xfrm>
          <a:prstGeom prst="rect">
            <a:avLst/>
          </a:prstGeom>
          <a:solidFill>
            <a:srgbClr val="efa9ef"/>
          </a:solidFill>
          <a:ln w="9360">
            <a:solidFill>
              <a:srgbClr val="efa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he Meteor Proces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96" name="school" descr=""/>
          <p:cNvPicPr/>
          <p:nvPr/>
        </p:nvPicPr>
        <p:blipFill>
          <a:blip r:embed="rId1"/>
          <a:stretch/>
        </p:blipFill>
        <p:spPr>
          <a:xfrm>
            <a:off x="4202280" y="2514600"/>
            <a:ext cx="1054080" cy="1066680"/>
          </a:xfrm>
          <a:prstGeom prst="rect">
            <a:avLst/>
          </a:prstGeom>
          <a:ln w="0">
            <a:noFill/>
          </a:ln>
        </p:spPr>
      </p:pic>
      <p:pic>
        <p:nvPicPr>
          <p:cNvPr id="97" name="guarantee" descr=""/>
          <p:cNvPicPr/>
          <p:nvPr/>
        </p:nvPicPr>
        <p:blipFill>
          <a:blip r:embed="rId2"/>
          <a:stretch/>
        </p:blipFill>
        <p:spPr>
          <a:xfrm>
            <a:off x="7626240" y="2286000"/>
            <a:ext cx="974880" cy="1066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780320" y="327672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lender" descr=""/>
          <p:cNvPicPr/>
          <p:nvPr/>
        </p:nvPicPr>
        <p:blipFill>
          <a:blip r:embed="rId3"/>
          <a:stretch/>
        </p:blipFill>
        <p:spPr>
          <a:xfrm>
            <a:off x="7467480" y="3733920"/>
            <a:ext cx="1067040" cy="852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96080" y="44956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17524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Access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1752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Data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42900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Financial Aid Professional/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nder" descr=""/>
          <p:cNvPicPr/>
          <p:nvPr/>
        </p:nvPicPr>
        <p:blipFill>
          <a:blip r:embed="rId4"/>
          <a:stretch/>
        </p:blipFill>
        <p:spPr>
          <a:xfrm>
            <a:off x="7543800" y="5029200"/>
            <a:ext cx="914400" cy="730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39920" y="568944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Th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comp_guy" descr=""/>
          <p:cNvPicPr/>
          <p:nvPr/>
        </p:nvPicPr>
        <p:blipFill>
          <a:blip r:embed="rId5"/>
          <a:stretch/>
        </p:blipFill>
        <p:spPr>
          <a:xfrm>
            <a:off x="685800" y="2481120"/>
            <a:ext cx="1523880" cy="1005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14800" y="4952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Index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191120" y="4267080"/>
          <a:ext cx="1014120" cy="69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91120" y="4267080"/>
                    <a:ext cx="10141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64832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3276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57800" y="2895480"/>
            <a:ext cx="2362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257800" y="3352320"/>
            <a:ext cx="22096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105160" y="3429000"/>
            <a:ext cx="251460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Implementation Phas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data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access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Summary &amp; Detai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aid professional (school)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Implementation Phas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aid profession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student/borrower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he Current State of Meteor Affai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hase public code released  August 30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adopter implementation begins at public release through the end of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18:53:06Z</dcterms:created>
  <dc:creator>Tim Cameron</dc:creator>
  <dc:description/>
  <dc:language>en-US</dc:language>
  <cp:lastModifiedBy>Dept. of Education</cp:lastModifiedBy>
  <dcterms:modified xsi:type="dcterms:W3CDTF">2002-12-12T18:11:51Z</dcterms:modified>
  <cp:revision>33</cp:revision>
  <dc:subject/>
  <dc:title>FFELP’s Direction With XML</dc:title>
</cp:coreProperties>
</file>