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1371600"/>
            <a:ext cx="861048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13474"/>
                </a:solidFill>
                <a:latin typeface="Tahoma"/>
              </a:rPr>
              <a:t>Completing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13474"/>
                </a:solidFill>
                <a:latin typeface="Tahoma"/>
              </a:rPr>
              <a:t>Data Puzz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733920"/>
            <a:ext cx="685800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rie Steere-Sala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CS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im Director of Student Financia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hael Se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ociate Executive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secondary Electronic Standards Coun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257800"/>
            <a:ext cx="2667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as Ve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cemb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AGEND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ent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ther points of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ding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Student Life Cycl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mission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ther local, state,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Student Life Cycl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ans, grants,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gistrar, records, alum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dit cards, car loans, mortg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ther points of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Trading Partn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haring da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ithin 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stomer services and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pri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Data Availabilit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dit reporting agencies &amp; other third party trusted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uthentication, privacy,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Data Standa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t level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rov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ke interoperability a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SC - supports, promotes, guides higher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1460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981080"/>
            <a:ext cx="6858000" cy="44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rie Steere-Sala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CS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im Director of Student Financia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15-502-82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rie@saa.ucsf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hael Se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ociate Executive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secondary Electronic Standards Coun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2-293-73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a@standardscouncil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11-04T03:07:39Z</cp:lastPrinted>
  <dcterms:modified xsi:type="dcterms:W3CDTF">2002-12-12T18:10:11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sessa@aacrao.org</vt:lpwstr>
  </property>
  <property fmtid="{D5CDD505-2E9C-101B-9397-08002B2CF9AE}" pid="3" name="_AuthorEmailDisplayName">
    <vt:lpwstr>Sessa, Michael</vt:lpwstr>
  </property>
  <property fmtid="{D5CDD505-2E9C-101B-9397-08002B2CF9AE}" pid="4" name="_EmailSubject">
    <vt:lpwstr>Please review 'Completing the Data Puzzle'</vt:lpwstr>
  </property>
  <property fmtid="{D5CDD505-2E9C-101B-9397-08002B2CF9AE}" pid="5" name="_ReviewCycleID">
    <vt:r8>1531029665</vt:r8>
  </property>
</Properties>
</file>