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BA9E4-C0DA-4191-BB3F-C167DEB44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69BD7-F662-4112-9609-872082062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02E57-FC1B-4A96-9FB4-7C82C2BE1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85B2-A3F1-4A07-9207-B7ED251B8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C982B-DDCC-42F2-937C-7D7E23B4D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29094-9C34-4D07-843B-D8604087D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BA346-8C10-45B3-907B-72F7C6C3D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83042-E61A-43CF-9056-011CF5D2C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02361-D795-4BF2-A2B6-5CE58FA90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D7940-5C45-4B8B-9845-082B7677C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E4BC-AA5B-4038-B360-B7F92994E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2D1C-9436-47F5-8C86-E9D836123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9B23-89E1-4540-A9D1-9F4656454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ASTLoans Online MPN™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secure online Stafford Loan Master Promissory Note with electronic and paper signature options. Borrowers access FASTLoans from the school’s Web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 provide their preferred lender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rowers can sign electronically using the Department of Education 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45A4C-82C5-4B35-9A57-3AF9384DC5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LUS PreApproval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Loans PLUS PreApproval™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online tool offers parent borrowers the convenience of instant online credit decisions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ools ca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Receive notification of activity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Promote their preferred lender lis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ent borrowers ca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Print an application or request to hav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one mai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8AB6E-63F0-44A8-A24F-9C10A76CD9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Online Borrower Inquir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(Internet Borrower Inquiry Servic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Lakes borrower account information is available around the clock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ccess live da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Look up application, loan and repay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6E938-664C-4662-B4BF-6FD584FA80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Online Borrower Inquir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or (session #4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24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n online resource serving schools, students, and their famili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24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bility to access timely, student-specific financial aid information from multiple sources. You will receive a list of loans for each student borrower research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24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ides a one-step, common, online customer resource for scho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24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hance ability of participants to provide Web capable produc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24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itially providing FFELP information, but will ultimately include Direct Loans, Perkins Loans, PELL Grants, State Grants, and private alternative loa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13201-1160-4815-AE70-5DB5AEBB12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eb-Based School Softwar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HOLAR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E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man Old Style"/>
              </a:rPr>
              <a:t>®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no-cost, secure, Web-based loan processing syste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Use just one product for FFELP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lternative loan process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end data to any lender, guarantor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ervice provider who receives fi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CommonLine®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1AC16-45DA-4D63-9DF5-BEC4857EA9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Bookman Old Style"/>
              </a:rPr>
              <a:t>S</a:t>
            </a:r>
            <a:r>
              <a:rPr b="1" i="1" lang="en-US" sz="3600" spc="-1" strike="noStrike">
                <a:solidFill>
                  <a:srgbClr val="713474"/>
                </a:solidFill>
                <a:latin typeface="Bookman Old Style"/>
              </a:rPr>
              <a:t>CHOLAR</a:t>
            </a:r>
            <a:r>
              <a:rPr b="1" i="1" lang="en-US" sz="4400" spc="-1" strike="noStrike">
                <a:solidFill>
                  <a:srgbClr val="713474"/>
                </a:solidFill>
                <a:latin typeface="Bookman Old Style"/>
              </a:rPr>
              <a:t>N</a:t>
            </a:r>
            <a:r>
              <a:rPr b="1" i="1" lang="en-US" sz="3600" spc="-1" strike="noStrike">
                <a:solidFill>
                  <a:srgbClr val="713474"/>
                </a:solidFill>
                <a:latin typeface="Bookman Old Style"/>
              </a:rPr>
              <a:t>ET</a:t>
            </a:r>
            <a:r>
              <a:rPr b="1" i="1" lang="en-US" sz="4000" spc="-1" strike="noStrike" baseline="30000">
                <a:solidFill>
                  <a:srgbClr val="713474"/>
                </a:solidFill>
                <a:latin typeface="Bookman Old Style"/>
              </a:rPr>
              <a:t>®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 process all application and loan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t guaranty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time, online change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d repor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E7258-5C3B-4BC5-A7F9-D4B4F7A561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ygreatlakes.com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Web services offered by Great Lakes to schools are available from our new Web site, mygreatlakes.com. From the home page, click on the Schools Chann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02AD2-E0B8-4ADE-841C-0B0A129357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utting it all Together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590920"/>
            <a:ext cx="12956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8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2590920"/>
            <a:ext cx="12952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8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38880" y="2514600"/>
            <a:ext cx="14479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24080" y="2478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t E-A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2868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057400" y="27432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057400" y="31240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057400" y="38862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31240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es online entrance counse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3886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ine M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237816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ifies app/loan electronically with 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409720" y="28954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409720" y="31240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26000" y="312408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ns disbur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F53EA-3565-4AFA-A59B-801604BE0A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ech Slid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6476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ll H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88-895-4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88-895-66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rn@glhec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68C34-059B-4932-B3F4-FBADC75A70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41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819520"/>
            <a:ext cx="83818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Services on the Web for 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297D2-559F-4381-A63F-DA37AAB1F6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eb Servic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ession provides information on services available to schools on the We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represent one guarantor and servicer of FFELP and Alternative Loans, but many other lenders, guarantors, and service providers offer simila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E163C-0983-4CB0-8316-22332CE12B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ntrance and Exit Counseling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ing-Your-Future.org (session #4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online student loan counseling and related services (fre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fers students and parents one place on the Web to access general college, career, and financial aid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accurate, up-to-date counseling and default prevention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customized school-specific information, as well as electronic confirmation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tains high level of privacy and security for students and financial aid professio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BBBDD-A1AF-422D-859E-BD5C1643E3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ntrance and Exit Counseling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Facts™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online student loan counseling products save time for schools and borrowers. Schools can use one or both of the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6283F-8270-41FB-89BB-C31571F5FD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ASTFacts™ Entrance and Exit Counseling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, Web-based couns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borrowers understand rights and responsibilities regarding student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 federal counseling and data collec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ze the product and the exams to reflect their own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B2D91-6DF0-4128-826B-A18A0E167F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Online Award Lette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Awards™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eb-based product provides students with immediate financial aid award information at their convenience.</a:t>
            </a:r>
            <a:br>
              <a:rPr sz="3200"/>
            </a:br>
            <a:br>
              <a:rPr sz="1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n interactive financial aid award delivery/acceptance tool.</a:t>
            </a:r>
            <a:br>
              <a:rPr sz="3200"/>
            </a:br>
            <a:br>
              <a:rPr sz="1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ccess FASTAwards from the school’s Web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8BEA-850A-453A-9369-8D7AE72F91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ASTAwards™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separately or in conjunction with FAST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ze award offers and student response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estimated, official, and revised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outside scholarship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76386-DD15-4EAC-91DA-E469CA3DE4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Online MP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Loans Online MPN™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eb-based tool allows student borrowers a quick and easy way to complete the Federal Stafford Loan Master Promissory Note (MPN) on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5564-3867-4D94-8D49-6FE5981C16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8:09:04Z</dcterms:modified>
  <cp:revision>2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