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569F-AF5B-4180-B26C-932242345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EE42-BA6A-4B0D-A628-BBE3CD2EB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D847-6C7F-41D5-9CDA-B2CEE33D7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E836-A6E2-4200-BFED-837FCBD56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4384-B376-4243-AAD6-C92FAF14C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740D-84F5-457D-9DE6-8FAB4D46C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385F-F282-4180-ACD9-F5C991B90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C965-39B2-45C2-BABD-559D9D612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E027-F8C3-4469-A75F-209733BA5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16BD-320E-48F6-A12C-3E8167FFD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F38E-1130-40C1-81FC-6757FF232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C110-0671-4D8F-AF17-22C714132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1E77-46A9-49EC-98DC-2F5FC1DD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Loans Online MPN™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secure online Stafford Loan Master Promissory Note with electronic and paper signature options. Borrowers access FASTLoans from the school’s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provide their preferred lender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s can sign electronically using the Department of Education P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3CFF-4C46-47E0-887C-F661AEF707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LUS PreApprov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Loans PLUS PreApproval™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online tool offers parent borrowers the convenience of instant online credit decisions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Receive notification of activit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Promote their preferred lender lis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borrowers ca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Print an application or request to hav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one mai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D761-EACA-447E-96BB-ADA26B654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Borrower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(Internet Borrower Inquiry Servic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Lakes borrower account information is available around the clock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cess live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Look up application, loan and repay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0FD2-AE59-4CC0-8F58-7091506083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Borrower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or (session #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online resource serving schools, students, and their famili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ility to access timely, student-specific financial aid information from multiple sources. You will receive a list of loans for each student borrower research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s a one-step, common, online customer resource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hance ability of participants to provide Web capable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24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itially providing FFELP information, but will ultimately include Direct Loans, Perkins Loans, PELL Grants, State Grants, and private alternative lo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9326-85BB-4E0F-B3D8-BE99E5FAB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eb-Based School Softwa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HOLAR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man Old Style"/>
              </a:rPr>
              <a:t>®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no-cost, secure, Web-based loan processing syste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Use just one product for FFELP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lternative loan process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nd data to any lender, guarantor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rvice provider who receives fi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CommonLine®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5A8F-E66A-444F-BC2C-A986D8DE28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Bookman Old Style"/>
              </a:rPr>
              <a:t>S</a:t>
            </a:r>
            <a:r>
              <a:rPr b="1" i="1" lang="en-US" sz="3600" spc="-1" strike="noStrike">
                <a:solidFill>
                  <a:srgbClr val="713474"/>
                </a:solidFill>
                <a:latin typeface="Bookman Old Style"/>
              </a:rPr>
              <a:t>CHOLAR</a:t>
            </a:r>
            <a:r>
              <a:rPr b="1" i="1" lang="en-US" sz="4400" spc="-1" strike="noStrike">
                <a:solidFill>
                  <a:srgbClr val="713474"/>
                </a:solidFill>
                <a:latin typeface="Bookman Old Style"/>
              </a:rPr>
              <a:t>N</a:t>
            </a:r>
            <a:r>
              <a:rPr b="1" i="1" lang="en-US" sz="3600" spc="-1" strike="noStrike">
                <a:solidFill>
                  <a:srgbClr val="713474"/>
                </a:solidFill>
                <a:latin typeface="Bookman Old Style"/>
              </a:rPr>
              <a:t>ET</a:t>
            </a:r>
            <a:r>
              <a:rPr b="1" i="1" lang="en-US" sz="4000" spc="-1" strike="noStrike" baseline="30000">
                <a:solidFill>
                  <a:srgbClr val="713474"/>
                </a:solidFill>
                <a:latin typeface="Bookman Old Style"/>
              </a:rPr>
              <a:t>®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process all application and loa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guaranty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, online chang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re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1442-CB89-4D16-BB5F-142A3BF72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ygreatlakes.co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Web services offered by Great Lakes to schools are available from our new Web site, mygreatlakes.com. From the home page, click on the Schools Chann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40CE-2BE9-468A-AF21-3D71BF540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utting it all Togeth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8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590920"/>
            <a:ext cx="1295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8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514600"/>
            <a:ext cx="14479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4080" y="2478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E-A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68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400" y="2743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057400" y="31240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740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124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s online entrance couns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886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M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37816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es app/loan electronically with 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09720" y="28954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0972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26000" y="31240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ns disbu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6E0A-787E-4D68-BEFB-FFCAD64E71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476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l H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8-895-4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88-895-6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rn@glhe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2D86-A595-4077-AE65-B42215F1FA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1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Services on the Web for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B4C7-480C-4E33-A3E6-E84947AED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eb Servi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provides information on services available to schools on the W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epresent one guarantor and servicer of FFELP and Alternative Loans, but many other lenders, guarantors, and service providers offer simila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937E-DBA2-4347-8D47-ADBD68A70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-Your-Future.org (session #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online student loan counseling and related services (f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rs students and parents one place on the Web to access general college, career, and financial ai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ccurate, up-to-date counseling and default prevention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customized school-specific information, as well as electronic confirmation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s high level of privacy and security for students and financial aid professio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0C7A-9130-4FAC-8462-8AA6B35D0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Facts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online student loan counseling products save time for schools and borrowers. Schools can use one or both of th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FA3B-7519-4BC5-8A30-114416D548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Facts™ Entrance and Exit Counsel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, Web-based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borrowers understand rights and responsibilities regarding studen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federal counseling and data colle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 the product and the exams to reflect their ow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D260-8B8A-47A0-862A-A293801BB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Award Let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Awards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b-based product provides students with immediate financial aid award information at their convenience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interactive financial aid award delivery/acceptance tool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ccess FASTAwards from the school’s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4285-7F95-4EAA-BF92-77732F4F6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STAwards™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separately or in conjunction with FAST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 award offers and student respons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estimated, official, and revised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outside scholarship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C62A-E801-4A93-A32C-FD2BD644D0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nline MP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Loans Online MPN™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b-based tool allows student borrowers a quick and easy way to complete the Federal Stafford Loan Master Promissory Note (MPN)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6C5D-0139-4EA4-BD85-932987741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09:04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