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77C76E-0DE5-4836-A6A5-49AAE3FC33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9480" y="397836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C57A93-6DEC-4392-BAA9-08DE69F68D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8124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F5E428-C228-49E8-B7CE-82AAF21EE7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282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470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94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282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470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0BDB2C-65B7-41DC-960A-BD54AECDE4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123720" y="456840"/>
            <a:ext cx="5821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6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3982F5-F3F0-4290-8D42-4444AB16CE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8124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09480" y="397836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8124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282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70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094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282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70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83CD01-982D-4CB6-841B-7A89A32747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66F41E-DD32-4402-8B13-E9AC78B041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D0DD78-B8FE-4921-8C39-DA57955FCA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23720" y="456840"/>
            <a:ext cx="5821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6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18016-4318-4A47-BA28-83AA4CA3A8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E1003E-F050-4F91-AE3B-1E7DB3BFAD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8124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8AEB11-0A48-49E1-86E2-ECFEAB4BB8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B28238-8D36-4651-8E95-6FDF7F5AA9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823c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823c8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06708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76760"/>
            <a:ext cx="1828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3D040-2FCD-4F84-BB11-6178173753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523880" y="0"/>
            <a:ext cx="7620120" cy="53352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3"/>
          <a:srcRect l="0" t="31673" r="0" b="54484"/>
          <a:stretch/>
        </p:blipFill>
        <p:spPr>
          <a:xfrm>
            <a:off x="0" y="6553080"/>
            <a:ext cx="7696080" cy="30492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2359080" cy="1600200"/>
          </a:xfrm>
          <a:prstGeom prst="rect">
            <a:avLst/>
          </a:prstGeom>
          <a:ln w="0">
            <a:noFill/>
          </a:ln>
        </p:spPr>
      </p:pic>
      <p:pic>
        <p:nvPicPr>
          <p:cNvPr id="7" name="0" descr="The U.S. Department of Education"/>
          <p:cNvPicPr/>
          <p:nvPr/>
        </p:nvPicPr>
        <p:blipFill>
          <a:blip r:embed="rId5"/>
          <a:stretch/>
        </p:blipFill>
        <p:spPr>
          <a:xfrm>
            <a:off x="5257800" y="5943600"/>
            <a:ext cx="3695760" cy="53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839080" cy="76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rcRect l="5679" t="32004" r="0" b="61183"/>
          <a:stretch/>
        </p:blipFill>
        <p:spPr>
          <a:xfrm>
            <a:off x="0" y="6400800"/>
            <a:ext cx="6781680" cy="4572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1676520" y="1219320"/>
            <a:ext cx="5584680" cy="3789360"/>
          </a:xfrm>
          <a:prstGeom prst="rect">
            <a:avLst/>
          </a:prstGeom>
          <a:ln w="0">
            <a:noFill/>
          </a:ln>
        </p:spPr>
      </p:pic>
      <p:pic>
        <p:nvPicPr>
          <p:cNvPr id="47" name="0" descr="The U.S. Department of Education"/>
          <p:cNvPicPr/>
          <p:nvPr/>
        </p:nvPicPr>
        <p:blipFill>
          <a:blip r:embed="rId5"/>
          <a:stretch/>
        </p:blipFill>
        <p:spPr>
          <a:xfrm>
            <a:off x="5181480" y="5791320"/>
            <a:ext cx="3695760" cy="5331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13474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823c8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823c8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823c86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13474"/>
                </a:solidFill>
                <a:latin typeface="Arial"/>
              </a:rPr>
              <a:t>Let the Fun Continue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nt Exercise # 2 – Run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ield RANGE Repor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income ranges where EFC changes are concentra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ield Range Repor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y Grade Lev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 Verification Outco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4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05476-4DE1-4D5B-8821-09F5AA3EEFB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13474"/>
                </a:solidFill>
                <a:latin typeface="Arial"/>
              </a:rPr>
              <a:t>Your President also requested...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umer Information recommendations Discuss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ist-EFC Change by Stud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port for Worksheets A,B and 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 verification outco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4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441F43-52AD-45A6-9F8B-80D75D01E77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Tool Enhancements for 2003-04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 change from Quality Analysis Tool to ISIR Analysis To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he use of the Verification Tracking Flag into reports and query fun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 prior year setup, user defined queries, and custom formats to be carried forward from 02-0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4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8327AF-80E0-4FA8-98EF-7858BB2456B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Tool Enhancements Continued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lude summary data on verification reports that provides detail on the verification tracking flags applied to the records in the datab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s of existing reports have been changed to make them intuitive to the us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release date – May 20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4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403150-D981-4961-9375-7C8A36B068B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Resources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qaprogram.air.org or </a:t>
            </a:r>
            <a:r>
              <a:rPr b="1" lang="en-US" sz="3200" spc="-1" strike="noStrike">
                <a:solidFill>
                  <a:srgbClr val="713474"/>
                </a:solidFill>
                <a:latin typeface="Arial"/>
              </a:rPr>
              <a:t>http://sfa4schools.sfa.ed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823c8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 Vide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823c8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IR Guid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823c8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uide to Attain, Sustain and Advance 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823c8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fadownload.ed.g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4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16BCB-645F-43A6-A6CC-84C170793FF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Related Sessions 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ed Sessions at the EA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23c8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ssion 9 – CPS Edits, Verification selection and FSA Quality Analysis T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23c8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ssion 12 – Which, Who, How and So What: Using the Quality Analysis Too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23c8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C L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4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C08E1A-9CD3-486A-B82C-00B34AC19C6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90d5d"/>
                </a:solidFill>
                <a:latin typeface="Arial"/>
              </a:rPr>
              <a:t>Questions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47560" y="1904760"/>
            <a:ext cx="64767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appreciate your feedback and comments.  We can be reach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ai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lityassurance@ed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4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89164F-9B91-496F-84E6-08443D380CC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Session 40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2819520"/>
            <a:ext cx="8381880" cy="30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27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713474"/>
                </a:solidFill>
                <a:latin typeface="Arial"/>
              </a:rPr>
              <a:t>Taking the Quality Analysis Tool for a Test Driv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27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713474"/>
                </a:solidFill>
                <a:latin typeface="Arial"/>
              </a:rPr>
              <a:t>(Hands On Session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27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4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02B68B-3E13-4341-BF9C-ED0E521BB3C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Objective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e what the Quality Analysis Tool can do for your verification proc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4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1A3033-1B99-40E5-8A1B-328CCE2B0F9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During this session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 the reasons why using the software may be of benefit to your scho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the characteristics of 2 reports and successfully print 2 repor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 Tool Enhancements for 2003-0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resources to provide help and guid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4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BFB5B5-F6A4-430D-8F9C-D81817BA55D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What is the Quality Analysis Tool?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verification T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 of the EDE Suite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ailable free to all schools: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Download from sfadownload.ed.g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yzes FAFSA data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es two transaction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Reports on frequency and impact of corr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4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3C929-8550-42BE-B54C-E3AADC7DE25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The Design of the Quality Analysis Tool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23c8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most frequently changed ISIR field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23c8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ir impact on EFC and Pell Eligibilit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23c8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should be verifi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23c8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could be left alo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23c8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could the institutional process be more effici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4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DBF612-6C33-4189-BC1A-28B69B6A38C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Your President requests...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chool’s dilemma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’s imagine that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4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6EDA39-EBA1-4C45-B2EC-E9DABF9F3A7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Getting Started with the Tool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the tool involves 4 required steps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713474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wnload the Software from (sfadownload.ed.gov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713474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up the Softwa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Set-up the Field Increment – Parent’s AGI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Set-up Query – Grad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713474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ort ISIR’s – EDExpress or Mainfr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713474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idat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4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C5008E-5AFF-4496-94A7-F5D7DBF2B9C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13474"/>
                </a:solidFill>
                <a:latin typeface="Arial"/>
              </a:rPr>
              <a:t>ANALYSIS</a:t>
            </a:r>
            <a:br>
              <a:rPr sz="3200"/>
            </a:br>
            <a:r>
              <a:rPr b="1" lang="en-US" sz="3200" spc="-1" strike="noStrike">
                <a:solidFill>
                  <a:srgbClr val="713474"/>
                </a:solidFill>
                <a:latin typeface="Arial"/>
              </a:rPr>
              <a:t>Let the Fun Begin</a:t>
            </a:r>
            <a:br>
              <a:rPr sz="3200"/>
            </a:br>
            <a:endParaRPr b="1" i="1" lang="en-US" sz="32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nt Exercise 1 - Run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ield Change Repor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 the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ISIR fields that warrant further analys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4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04AA1A-DCF9-4BC9-9080-20939533DC6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0T18:53:46Z</dcterms:created>
  <dc:creator>Jeanne Henderson</dc:creator>
  <dc:description/>
  <dc:language>en-US</dc:language>
  <cp:lastModifiedBy>Dept. of Education</cp:lastModifiedBy>
  <cp:lastPrinted>2002-09-20T18:59:28Z</cp:lastPrinted>
  <dcterms:modified xsi:type="dcterms:W3CDTF">2002-12-12T18:07:56Z</dcterms:modified>
  <cp:revision>107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909312546</vt:r8>
  </property>
  <property fmtid="{D5CDD505-2E9C-101B-9397-08002B2CF9AE}" pid="3" name="_AuthorEmail">
    <vt:lpwstr>WideGa@ncs.com</vt:lpwstr>
  </property>
  <property fmtid="{D5CDD505-2E9C-101B-9397-08002B2CF9AE}" pid="4" name="_AuthorEmailDisplayName">
    <vt:lpwstr>Widel, Gary</vt:lpwstr>
  </property>
  <property fmtid="{D5CDD505-2E9C-101B-9397-08002B2CF9AE}" pid="5" name="_EmailSubject">
    <vt:lpwstr>2002 Presentation and Instructions</vt:lpwstr>
  </property>
  <property fmtid="{D5CDD505-2E9C-101B-9397-08002B2CF9AE}" pid="6" name="_PreviousAdHocReviewCycleID">
    <vt:r8>2074826488</vt:r8>
  </property>
</Properties>
</file>