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8AE1E-4CA6-40FF-A79D-1F35C9AFB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E64E7-8068-456F-A6B8-D30F142B4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2EF74-3285-449D-AEF0-DCDE02BA8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2F164-952C-4AB1-9205-72F4A5390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78C88-2F10-4022-8148-48210DDD7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CED15-616E-4779-A63A-3A55C2443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701A2-885B-4810-A79A-ED33EB2D9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3BF89-D0C2-4DAE-AE85-79C68389F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C5E1E-E7F8-407E-AF96-7981AC69F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1F36E-BDB1-4FA8-B256-70368C3A5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70634-25F3-4EC7-BDD8-58FD374FF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8C89F-D744-48C9-B94D-F371AC1F3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7110-A426-4D32-BA98-9521E5DBF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Fund Maintenance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5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1708-05BC-4234-A3F3-2CEFA27678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ward Methodologie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EDExpress how to award defined funds to different studen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iority field and queries to filter 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elf-help, Gift-aid limit fields to set award ceiling for certain aid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77B68-E69D-462F-8B06-DE1C8D62CE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ward Methodologie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172200" cy="44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832C-8EE8-4F30-BDF5-E6AFDCF3DC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Budget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Cost of Attendance (COA) amounts for different student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either during ISIR import of from Process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iority and queries to control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Pell COA if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07569-4E35-4F5A-A802-C5C9A375D3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Budget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53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5AC37-4B0A-480C-8B75-6ED7C4E826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reating Record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 im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only import valid ISI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time-efficient, accurat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import 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03A3A-DEE6-4725-AFD3-EE91E28DBA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reating Record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324480" cy="45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B8282-FB47-4A97-A49D-C18F20A6C5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Packaging Record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 from Awards tab or Glob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award Pell first, then run through methodologies in priority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Awarded Funds screen to examine results of Packag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ackage/Repackag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8755-C8AC-4CB3-9206-904CCF2939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Packaging Record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400800" cy="459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7D53-FF9E-4565-9A71-FBEDCB8963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ward Letter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Globally or from the Awards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ust have fund(s)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and Notification letter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letter text can be mod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7DC0-6CF0-43D2-9904-8E6C105012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39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819520"/>
            <a:ext cx="838188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Effective Techniques for Using EDExpress Packaging (Hands 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EB907-6308-4008-A06B-18F3297348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ward Letter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248160" cy="44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67334-88A5-46D1-8A49-5AF0FDB1B0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90d5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E6EF-052F-4B51-B499-634427572F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tact Inform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ppreciate your feedback and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PS/WAN Tech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 800-330-59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cpswan@nc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SATech Lists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fsatech@inet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-up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d.gov/offices/OSFAP/sfatech/listserv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5D82-888A-4696-9D9F-0D104C1A8A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ntroduc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ession is designed for beginning or novice users of EDExpress Pack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5B7F9-54E9-44CE-8532-D613CE8CEB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is Packaging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, flexible method of awarding funds to student records and generating award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s with Apps, Pell, and Direct Loa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mport data from and export data to external system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2EF4-A87D-4323-868E-F78C6EAE07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genda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up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ing Setup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ckag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ing Award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00AEE-5B28-4858-A4C6-CFD0BEAA5F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etup Planning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your office needs and assess what you need Packaging to do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all relevant information on available funds, awarding schemes, COA for different studen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it out --- use Packaging setup 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4AF6F-53A3-4F66-97B1-CBE0BE1F28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cademic Year Profile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how awarded fund totals are split between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how Pell is awarded: select formula type, perce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for ISIR im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00374-DF3F-4496-BC8C-257D740603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cademic Year Profile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59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44139-BA03-4C16-835E-BC92F15F75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Fund Maintenance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fund profile for each federal, state, local or private aid source to be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queries and Remaining Need to restrict a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correct Aid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6B22A-C32B-4276-A9DE-E83405B6B2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8:06:26Z</dcterms:modified>
  <cp:revision>59</cp:revision>
  <dc:subject/>
  <dc:title>No Slide Title</dc:title>
</cp:coreProperties>
</file>