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E1AC-E985-4EA9-BE2B-734C9AF2F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63BF-B6F9-4275-95B5-C10D83D65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373A-D5C6-4003-AC09-C4BF842F1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8839-E555-43F8-9BE5-BE5EFD5E9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860D-5564-49F5-837E-3C14BC432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7624-D9F4-4F64-8640-9353CD6E1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2874-F6D8-49AB-AC65-94FAFCDA0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F987-D268-4EBB-843A-556BC3541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4127-4FDC-4408-B45C-44B4CE78C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FAB2-45DA-43A6-BB17-8EE7644CC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82BE-9E1E-4E9E-B9C9-F65F0EB34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C0CF-1015-43CB-8FA8-8584979F7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AF83-71B6-4C7D-9501-16C6D4B2A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Fund Maintenanc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BE22-7237-4818-86BD-C7705B41A2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ward Methodologie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EDExpress how to award defined funds to different studen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iority field and queries to filter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lf-help, Gift-aid limit fields to set award ceiling for certain aid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0D48-77C0-4401-9BBC-252FA9789F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ward Methodologie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4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60C0-2F8B-4C4A-BD14-BC4EA93494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Budge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Cost of Attendance (COA) amounts for different student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either during ISIR import of from Process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iority and queries to control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Pell COA if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F0F6-02FE-409C-88D1-6AFC745CAC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Budget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53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8A3C-DBCA-446B-B4D7-925EA6D21E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reating Record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im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nly import valid ISI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time-efficient, accurat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import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5BD9-25B2-445B-9E5F-54F7046182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Creating Record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324480" cy="45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15BC-0D90-4A7E-A0FE-37C3D9493C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Packaging Record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 from Awards tab or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ward Pell first, then run through methodologies in priority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Awarded Funds screen to examine results of Packa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ackage/Repackag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B110-EA9C-46F2-8FF0-9761C7AAAA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Packaging Record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45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BB44-B5B1-4B35-A008-E57DA95BD6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ward Letter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Globally or from the Awards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ust have fund(s)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and Notification letter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etter text can be 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C0B2-BF0A-44A6-BAAC-2B990CC71D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39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8188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Effective Techniques for Using EDExpress Packaging (Hands 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C0D0-0951-4229-9CE3-60CDF41FDD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ward Letter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248160" cy="44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0CF7-5F94-44E6-8621-78B3D82CCF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90d5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1542-062E-44F8-8165-C24CD339DA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act Inform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ppreciate your feedback and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PS/WAN 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800-330-59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cpswan@n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SATech 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fsatech@ine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-up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d.gov/offices/OSFAP/sfatech/listserv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C215-50DD-47C0-B84B-DD873EC7B2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Introduc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is designed for beginning or novice users of EDExpress Pack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C135-7649-4741-A287-07C85B45DA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is Packaging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, flexible method of awarding funds to student records and generating award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Apps, Pell, and Direct Loa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mport data from and export data to external system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0567-EE36-45B3-BE8B-7722D13CAE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genda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ing Setup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cka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ing Award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A6DF-9C0A-4E3E-90FE-620F335317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Setup Planning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your office needs and assess what you need Packaging to do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all relevant information on available funds, awarding schemes, COA for different studen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it out --- use Packaging setup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4BA2-7A50-4281-A86F-7C8C86709C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ademic Year Profil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how awarded fund totals are split between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how Pell is awarded: select formula type, perce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ISIR im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46A5-9C27-4DD5-9338-B13CC19284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Academic Year Profil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59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DD08-1123-4EC0-994C-84CF6080D1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Fund Maintenance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fund profile for each federal, state, local or private aid source to be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queries and Remaining Need to restrict a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correct Ai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9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7836-06A8-453E-9BE8-91EB5F7D72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06:26Z</dcterms:modified>
  <cp:revision>59</cp:revision>
  <dc:subject/>
  <dc:title>No Slide Title</dc:title>
</cp:coreProperties>
</file>