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90AAF-21F0-4E06-AC73-2CB25E8A05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tially equal  terms are when no term is more than two weeks longer than any other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oactive disbursements may be made in one lump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979-9AAF-4F16-99CD-B825BC5F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1DA-42F8-46AA-8475-53F4406C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9E3-8626-4FA1-9E88-54B7E15F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9B4-7F97-46C7-BC10-63F35010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F59-8C87-4577-8899-EC4B8F1C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C91-672F-46B0-A20F-596BE581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943-22CE-451C-BF66-6CB2167D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017-C615-49C3-9D53-B8E155D1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08A-E1B5-4F8E-A3C8-C8396F54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B7B-116C-4AF6-9EC3-78E40DF2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796-6D50-4CAF-9D21-5B7EB2F7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51A-B6C8-4051-8ADC-400D5E54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120F-5924-4E35-9A01-81450EE28AE2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37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isbursing Title IV Fund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ve Elliot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eg Mar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quired Authoriz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not require or coerce students to provide an autho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zation may be modified or cancelled at any time (procedure must be explain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cellation or modification is not retroa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zation may remain in effect for entire period of enrollment – unless cancelled or mod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47D-85C0-467F-9621-E5E577104C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lectronic Processes for Notifications/Authoriz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s may provide notifications or obtain authorizations electronic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sonable safeguards must be adop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-Sign Act governs electronic sign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s that a signature, contract etc. may not be deemed invalid solely because it is 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386-2199-4BEA-85F1-23A41DD894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hecking Eligibility at Time of Disburs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fore disbursing Title IV funds, schoo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confirm th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ipient is an eligibl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s enrolled for the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loans, student is enrolled at least half-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has begun attendance if disbursement occurs on/after first day of cla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D1A-53C8-4C56-9950-B6AC3B7E52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hecking Eligibility at Time of Disbursement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ord and PLUS – students’ eligibility is certified when loan is certified/origin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ool must ensure continuous eligibility has been maintained before loan is disburs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ool must have system in place to check enrollment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student drops below ½ time temporarily, disbursement may be made when ½ time status resumes assuming student still qualifies for loan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CD0-0848-42F5-BE9D-19C3E9D8BB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s to Students on Leave of Absenc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not disburse FFEL/DL to students on an LO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disburse Federal Pell Grant, ACG, National SMART, FSEOG and Perkins funds to students on an LO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tle IV credit balances may be disbursed to students on a leave of abs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6C4-69AA-49EF-9F94-CF2A7452DE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rograms offered in semester, trimester, quarter or non-standard terms with credit hours, payment period is ter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rograms measured in clock hours, payment periods vary depending upon length of the program (discussed on an upcoming slid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tle IV disbursements (except FWS) must generally be made on a payment period ba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1B8-99E1-41E0-A945-C47539AFE5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s for Clock Hour Progra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less than an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yment period is period of time in which student completes the first half of th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yment period is period of time in which student completes the second half of the progra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CD3-00B2-4F3A-A5D9-7C04AC18ED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s for Clock Hour Progra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longer than an academic year with a remaining portion less than or equal to one-half an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and any subsequent complete academic years – follow guidance on the previous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payment period is the remaining portion of th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965240" y="4537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65240" y="6033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EC8-B7CF-4BB6-8F9C-479E6B006F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s for Clock Hour Progra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3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longer than an academic year with a remaining portion more than one-half an academic year in length, but less than a full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and any subsequent academic years – follow guidance on slide 1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aining portion of program is divided into equal payment peri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21B-2DE8-4FBA-848C-FB1419F71F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s for Clock Hour Progra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equal to or more than two academic years in length - first academic year and any subsequent academic ye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yment period is period of time in which student completes first half of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yment period is period of time in which student completes second half of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4495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540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269-0CF5-41DC-8B27-2B02FB1529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ate of Disburs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sbursement occurs when a school credits a student’s account or pays a student or parent directly wit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tle IV funds received from the Department or an FFEL lender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funds labeled as Title IV funds in advance of receiving actual FSA program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: Exceptions exist (see following slid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744-F930-48CB-9DAE-9AD25E98B7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ock Hour Exampl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914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880 clock hour program, 900 clock-hour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2362320"/>
            <a:ext cx="2575080" cy="3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4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828800"/>
            <a:ext cx="53020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5929" dir="128288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80 Clock-Hou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362320"/>
            <a:ext cx="2558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4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5812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200 clock hour program, 900 clock-hour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" y="4114440"/>
            <a:ext cx="8001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5929" dir="128288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00 Clock Hou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800600"/>
            <a:ext cx="25592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4800600"/>
            <a:ext cx="25592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4800600"/>
            <a:ext cx="2558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D16-8E2E-405D-A8FC-D180910BF8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ock Hour Exampl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1981080"/>
            <a:ext cx="14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540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9810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540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9760" y="1447920"/>
            <a:ext cx="72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700 clock hour program, 900 clock-hour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880" y="1904760"/>
            <a:ext cx="7696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5929" dir="128288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00 Clock Hou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9528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590920"/>
            <a:ext cx="2133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2590920"/>
            <a:ext cx="2286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8600" y="4343040"/>
            <a:ext cx="8229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5929" dir="128288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00 Clock Hou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9760" y="3886200"/>
            <a:ext cx="72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800 clock hour program, 900 clock-hour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49528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9528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9528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25909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25909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C50-FD72-4F02-9D3B-9B1052B64D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ing the Student’s Accou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out student authorization, school may use Title IV funds to credit student’s account to satisfy current charges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ition and F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om and board (if the student contracts with the institu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prior student authoriz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allowable current charges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23D-DC6A-4D39-8154-8A5FEF83C3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itle IV Credit Balan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 when Title IV funds credited to student’s account exceed  allowable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be paid to student or parent no later than 14 calendar days aft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balance occurred – if  after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ay of class for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st day of classes for the payment period if balance occurred on or bef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day of 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143-8C53-4AD0-A3BA-1938112456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itle IV Credit Balances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able charges are $5,000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itution receives and credits h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ount with the following ai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71600" y="3124080"/>
          <a:ext cx="4876920" cy="3070440"/>
        </p:xfrm>
        <a:graphic>
          <a:graphicData uri="http://schemas.openxmlformats.org/drawingml/2006/table">
            <a:tbl>
              <a:tblPr/>
              <a:tblGrid>
                <a:gridCol w="2819520"/>
                <a:gridCol w="2057400"/>
              </a:tblGrid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ffor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SE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al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la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7238880" y="35053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13120" y="3657600"/>
            <a:ext cx="263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5407"/>
                </a:solidFill>
                <a:latin typeface="Times New Roman"/>
              </a:rPr>
              <a:t>Does this student</a:t>
            </a:r>
            <a:br>
              <a:rPr sz="2800"/>
            </a:br>
            <a:r>
              <a:rPr b="0" lang="en-US" sz="2800" spc="-1" strike="noStrike">
                <a:solidFill>
                  <a:srgbClr val="cc5407"/>
                </a:solidFill>
                <a:latin typeface="Times New Roman"/>
              </a:rPr>
              <a:t>have a Title IV </a:t>
            </a:r>
            <a:br>
              <a:rPr sz="2800"/>
            </a:br>
            <a:r>
              <a:rPr b="0" lang="en-US" sz="2800" spc="-1" strike="noStrike">
                <a:solidFill>
                  <a:srgbClr val="cc5407"/>
                </a:solidFill>
                <a:latin typeface="Times New Roman"/>
              </a:rPr>
              <a:t>credit bal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00440" y="497196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5407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356-2515-4EB5-9A56-8011264621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itle IV Credit Balances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able charges are $5,000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itution credits her account with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ing ai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3880" y="3505320"/>
          <a:ext cx="4876920" cy="2444760"/>
        </p:xfrm>
        <a:graphic>
          <a:graphicData uri="http://schemas.openxmlformats.org/drawingml/2006/table">
            <a:tbl>
              <a:tblPr/>
              <a:tblGrid>
                <a:gridCol w="2590920"/>
                <a:gridCol w="2286000"/>
              </a:tblGrid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ffor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SE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ki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238880" y="35053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2720" y="3606840"/>
            <a:ext cx="263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5407"/>
                </a:solidFill>
                <a:latin typeface="Times New Roman"/>
              </a:rPr>
              <a:t>Does this student</a:t>
            </a:r>
            <a:br>
              <a:rPr sz="2800"/>
            </a:br>
            <a:r>
              <a:rPr b="0" lang="en-US" sz="2800" spc="-1" strike="noStrike">
                <a:solidFill>
                  <a:srgbClr val="cc5407"/>
                </a:solidFill>
                <a:latin typeface="Times New Roman"/>
              </a:rPr>
              <a:t>have a Title IV </a:t>
            </a:r>
            <a:br>
              <a:rPr sz="2800"/>
            </a:br>
            <a:r>
              <a:rPr b="0" lang="en-US" sz="2800" spc="-1" strike="noStrike">
                <a:solidFill>
                  <a:srgbClr val="cc5407"/>
                </a:solidFill>
                <a:latin typeface="Times New Roman"/>
              </a:rPr>
              <a:t>credit bal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00440" y="49719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5407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C24-114C-4DEA-983E-B1F6A80657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itle IV Credit Balan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 PLUS Loan funds (not Grad PLUS) must be returned to the pa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chool determines PLUS Loan funds created the credit balance – balance goes to pa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disburse excess PLUS funds to student with parent autho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determines which Title IV funds created a credit bala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516-9F1D-4003-99DA-BBD0763526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inor Prior Year Char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Title IV funds may be used to pay only current educational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student authorization, Title IV funds may be used for paying prior-year charges less than $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or-year charges equal to or greater than $100 may be paid with an authorization and documentation that payment would not prevent student from paying current educational expens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730-77C7-4856-A2C1-B0C4438ECB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arly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-term, credit-hour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iest date to disburse is 10 days before the 1st day of classes for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ck-hour programs and credit-hour programs without standard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iest date to disburse is later of 10 days before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ay of classes for the payment period; or date student completed the previous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182-D5EE-44B4-8C47-0A033AFEF4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udent Who Fail to Begin Attendanc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who withdraws before beginning attendance is not entitled to any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return Pell, ACG, National SMART, FSEOG and Perkins disbursed to student who fails to begin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return Stafford/PLUS credited to the account of student who fails to begin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25C-4190-4931-AC07-37436A74E9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otification of Disburs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notify a student of the amount of funds he or she can expect to receive and how those funds will be disbur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fication must be sent before the disbursement i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funds include Stafford Loans (FFEL or DL) notice must indicate which funds are from subsidized and which funds are from unsubsidized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41B-1CE1-485D-920B-F1441CD271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afford/PLUS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ndard terms and substantially equal nonstandard 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re than one term in the loan period - loan must be disbursed equally over all terms in loan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ly one term in loan perio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 be disbursed in equal amounts at beginning of the term and at the term’s calendar mid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th default rate &lt; 10% for three most recently published years, may be disbursed in one pa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2FF-F169-4109-B12A-EB4DB25AC0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afford/PLUS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dit hour non-term or non-standard terms not substantially equal in length AND clock hour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an must be disbursed in two substantially equal amounts with the first disbursement at the beginning of the loan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half of loan may not be disbursed until later of calendar midpoint, or date student successfully completes clock hours in the loan period or completes half the credit h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9B9-282F-44CE-915E-9E81445B23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troactive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pay retroactively for any completed payment periods within award year if student was eligible for payment in those peri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/ACG/SMART Grant disbursements for a completed term are based on hours competed by th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ord Loan certifications may include an earlier period of eligibility only if student completed a half-time course load during tha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152-292F-4330-B10A-DC46EBB8A9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ate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ly, a student becomes ineligi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receive Title IV funds on the date th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FFEL/DL, student is no longer enrolled at least half-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ell Grant, ACG, National SMART, FSEOG and Perkins Loan, student is no longer enrolled at th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certain circumstances are met, student may qualify for late disbursements after they become ineligib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CE2-AB8B-4236-B953-F080C5C100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ditions for a Late Disburs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R/ISIR with an official EFC processed before the student became ineligible for all Title IV aid except parent P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 or DL must have been certified or originated prior to the student’s becoming inelig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EOG and Perkins awards must have been made prior to the student’s becoming inelig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E78-4A31-495E-89B9-5743F59A6D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datory vs. Optional Late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</a:t>
            </a:r>
            <a:r>
              <a:rPr b="1" i="1" lang="en-US" sz="2800" spc="-1" strike="noStrike">
                <a:solidFill>
                  <a:srgbClr val="cc5407"/>
                </a:solidFill>
                <a:latin typeface="Verdana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er a late disbursement of Title IV funds to student who successfully completes the payment period or period of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</a:t>
            </a:r>
            <a:r>
              <a:rPr b="1" i="1" lang="en-US" sz="2800" spc="-1" strike="noStrike">
                <a:solidFill>
                  <a:srgbClr val="cc5407"/>
                </a:solidFill>
                <a:latin typeface="Verdana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er a late disbursement of FFEL/DL to student who does not withdraw but ceases to be enrolled on a half-time ba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F74-4B5B-44EA-AC18-3AAE0CD7B0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imitations on Late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r subsequent late disbursement is prohibited unl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has successfully completed the loan period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has gradu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disbursement to a first- year, first-time borrower is prohibited if he/she withdraws before 30th day of the program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if the school is subject to 30 day de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2BE-399B-4B86-A644-BAB9D79E27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imitations on Late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disbursements of Pell, ACG and National SMART Grant may only be made to students who have a valid SAR/ISIR by the deadline establis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disbursements must be made no later than 120 days after date student became inelig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 may approve school requests for late disbursements later than 1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DE4-E3BD-4507-B01F-8E188DCA3E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s - Funding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receive funds from ED through the Grants Administration and Payment System (GAP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ce payment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mbursement or cash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receive FFEL funds directly from len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ster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vidual paper che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2685960" cy="189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99B-B71A-4E4D-8AD7-E242C1C465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porting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submit a common record that reports anticipated or actual disbursements to C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Loan records submitted to COD must have anticipated and/or actual disbursement 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are required to report “actual” disbursements of Pell, ACG, National SMART Grant and Direct Loans within 30 days of the date of dis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87C-994B-49CB-AE10-2BAF432627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7696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ing Accounts With School Fund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credit account with own funds earlier than 10 days before first day of classes for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considered a Title IV disbursement until the 10th day before 1st day of cla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ord borrowers subject to 30 day delay – not considered a disbursement until 30th day after beginning of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142-A17E-4732-87FC-0D114FFD0C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s—Advance Fund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138400" cy="1535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1793880" cy="1812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447920" y="4343400"/>
            <a:ext cx="1560240" cy="1639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1874880" cy="2039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29000" y="2057400"/>
            <a:ext cx="2133720" cy="457200"/>
          </a:xfrm>
          <a:prstGeom prst="rightArrow">
            <a:avLst>
              <a:gd name="adj1" fmla="val 50000"/>
              <a:gd name="adj2" fmla="val 11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1240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4800600"/>
            <a:ext cx="2438280" cy="457200"/>
          </a:xfrm>
          <a:prstGeom prst="rightArrow">
            <a:avLst>
              <a:gd name="adj1" fmla="val 50000"/>
              <a:gd name="adj2" fmla="val 133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2266400">
            <a:off x="3285720" y="3373200"/>
            <a:ext cx="2332080" cy="457200"/>
          </a:xfrm>
          <a:prstGeom prst="rightArrow">
            <a:avLst>
              <a:gd name="adj1" fmla="val 50000"/>
              <a:gd name="adj2" fmla="val 1275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114800" y="1905120"/>
            <a:ext cx="771480" cy="758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267080" y="3352680"/>
            <a:ext cx="685800" cy="674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3886200" y="4724280"/>
            <a:ext cx="695160" cy="695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1752480" y="3200400"/>
            <a:ext cx="695520" cy="695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8088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2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144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032-D8B8-49BB-BAA4-89B6C07E40E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rot="1404600">
            <a:off x="3076200" y="3386160"/>
            <a:ext cx="2803680" cy="426960"/>
          </a:xfrm>
          <a:prstGeom prst="leftRightArrow">
            <a:avLst>
              <a:gd name="adj1" fmla="val 50000"/>
              <a:gd name="adj2" fmla="val 1307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s—Report Drive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138400" cy="1535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1793880" cy="1812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447920" y="4343400"/>
            <a:ext cx="1560240" cy="1639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1874880" cy="2039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29000" y="2057400"/>
            <a:ext cx="2133720" cy="457200"/>
          </a:xfrm>
          <a:prstGeom prst="rightArrow">
            <a:avLst>
              <a:gd name="adj1" fmla="val 50000"/>
              <a:gd name="adj2" fmla="val 11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1240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4800600"/>
            <a:ext cx="2438280" cy="457200"/>
          </a:xfrm>
          <a:prstGeom prst="rightArrow">
            <a:avLst>
              <a:gd name="adj1" fmla="val 50000"/>
              <a:gd name="adj2" fmla="val 133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114800" y="1905120"/>
            <a:ext cx="771480" cy="758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4114800" y="3276720"/>
            <a:ext cx="685800" cy="674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3886200" y="4724280"/>
            <a:ext cx="695160" cy="695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1752480" y="3200400"/>
            <a:ext cx="695520" cy="695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8088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2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44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9BD-0A4D-43F8-B535-C41E777C480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1404600">
            <a:off x="3056040" y="3382560"/>
            <a:ext cx="2803320" cy="533520"/>
          </a:xfrm>
          <a:prstGeom prst="leftRightArrow">
            <a:avLst>
              <a:gd name="adj1" fmla="val 50000"/>
              <a:gd name="adj2" fmla="val 1046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s—School Fund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138400" cy="1535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1793880" cy="1812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447920" y="4343400"/>
            <a:ext cx="1560240" cy="1639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1874880" cy="2039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429000" y="2057400"/>
            <a:ext cx="2133720" cy="457200"/>
          </a:xfrm>
          <a:prstGeom prst="rightArrow">
            <a:avLst>
              <a:gd name="adj1" fmla="val 50000"/>
              <a:gd name="adj2" fmla="val 11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1240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800600"/>
            <a:ext cx="2438280" cy="457200"/>
          </a:xfrm>
          <a:prstGeom prst="rightArrow">
            <a:avLst>
              <a:gd name="adj1" fmla="val 50000"/>
              <a:gd name="adj2" fmla="val 133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114800" y="1905120"/>
            <a:ext cx="771480" cy="758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4114800" y="3276720"/>
            <a:ext cx="685800" cy="674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3886200" y="4724280"/>
            <a:ext cx="695160" cy="695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1752480" y="3200400"/>
            <a:ext cx="695520" cy="69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8088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91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44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F1A-3D49-49AC-9E7F-24D45629560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djusting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bursement adjustments may be necessary for various reas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estimated financial assistance (resourc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of attendance adjus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jud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drawal (R2T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recalculation based on actual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P (Pell Overpayment Proc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C26-A24C-4C24-AA9A-99FE7D37FDC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djusting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ments to disbursements must be made within 30 days of determination that an adjustment is necess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Pell, ACG, National SMART and Direct Loan adjustments to C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may need to adjust GAPS draw dow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FFEL adjustments to the len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22E-F8C4-4F38-A8A1-D6F70771F22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 Reporting to NSLD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, ACG, and National Smart Grant disbursements are reported to NSLDS through COD dai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 Loan disbursements are reported to NSLDS by the DL Servic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5F3-EC26-474A-AC8E-19D35C3F42B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pay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payments of disbursed funds must be reported to NSLDS using NSLDS on-line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resolved overpayment information in NSLDS results in student in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ed to schools via ISIR Financial Aid His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295-CE93-4C3B-B78A-8E7F5F4AA9A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 Reporting -FISAP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40960" y="1752120"/>
            <a:ext cx="73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reporting of student level disbursements of campus based funds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expenditures for the campus based programs are reported on the FIS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reconciled with GAPS draw dow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C18-F39E-4E27-86A4-A76D749ADEE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our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7-08 Federal Student Aid Hand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me 4, Chapter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of Federal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4 CFR 668.16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lue Book (October 200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9740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30B-2D15-4095-96F4-9D24FFFE9B9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2952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3520" y="3733560"/>
            <a:ext cx="6324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lvl="4" marL="1828800">
              <a:lnSpc>
                <a:spcPct val="115000"/>
              </a:lnSpc>
              <a:spcBef>
                <a:spcPts val="499"/>
              </a:spcBef>
              <a:buClr>
                <a:srgbClr val="007aa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eg Mart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215) 656-645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gregory.martin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28195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ve Elliot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214) 661-9453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dave.elliott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5B0-4DB3-4EC8-BB9C-31C1939F94D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emo Entries and Estimated Ai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o entries for billing purposes that do not identify a Title IV credit, e.g. “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stimated Federal Pell Grant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not considered disburs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o entries are often needed to prepare billing statements and/or allow students to register for 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1AC-518F-457E-BB55-92755B593C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ease provide any comments regarding this training or the trainers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 Ann Bor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tle IV Training Supervis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ann.borel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2-377-39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5AD-DB69-4A7D-99F2-197DCB6EC3A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ethod of Disburs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easing FFEL check directly to student or pa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ing a check to student or pa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T to student or parent bank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ensing cash with signed recei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ing student’s account at the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96080" y="3809880"/>
            <a:ext cx="121788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7B4-19D2-46DF-94A2-C04839A5BB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otification of Disburs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notify student in writing (paper or electronic) when Perkins, Stafford or PLUS loans are being credited to student’s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 be no earlier than 30 days before and no later than 30 after crediting student acc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 include: date and disbursement amount; student right to cancel all or part of loan or disbursement; and procedures and time by which student must notify school of desire to canc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09B-0FCA-4F9F-A0FA-6D5585631C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ncellation Procedur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rower must inform school of desire to cancel all or part of lo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honor request if received prior to start of payment period or within 14 days after the date notice was sent to the borrower – school may but is not required to honor late requ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must be informed of outcome of any cancellation req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is not responsible for returning portion of loan directly disbursed to student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F10-3E9E-4B61-B904-BF4B71F256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quired Authoriz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obtain authorization from student befo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bursing FSA funds by EFT to a bank account designated by th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FSA funds to pay allowable charges other than tuition, fees, and room and board (if student contracts with schoo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lding an FSA credit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ing FSA funds to minor prior ye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A99-C2D3-41A9-9B3A-AF8EA1DFA2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0:32Z</dcterms:modified>
  <cp:revision>42</cp:revision>
  <dc:subject/>
  <dc:title>PowerPoint Presentation</dc:title>
</cp:coreProperties>
</file>