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C746-C7BA-4DBA-945C-602ACEC1C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tially equal  terms are when no term is more than two weeks longer than any other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active disbursements may be made in one lump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747-CE0D-4815-A20A-581209B1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65E-2F2E-496A-9DF6-DF9C6DC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18A-D962-4AAB-BE44-D750908A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097-9634-492F-BAFE-2DEF0CD6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C17-BD6B-43E5-B130-B1135E6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E53-89BE-4963-B893-5BA8D86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8C2-AE31-489B-8B12-FA5EDB35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B54-2090-46A7-8E54-E1E8A62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607-80B1-4EB1-A0AF-4B29BB36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5F8-7091-4A06-9C2D-69C0DE2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2DC-77DB-4A39-916D-0E719D4E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CEF-F3DA-45BB-A7ED-DBB4D3C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BD3-81B9-4FEA-8DFE-9E09E3CE852E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37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bursing Title IV Fund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ve Elliot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d 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require or coerce students to provide an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ation may be modified or cancelled at any time (procedure must be explain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cellation or modification is not retroa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zation may remain in effect for entire period of enrollment – unless cancelled or mod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774-B519-470D-88F0-E35B5EDD9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lectronic Processes for Notifications/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s may provide notifications or obtain authorizations electronic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able safeguards must be adop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Sign Act governs electronic sign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that a signature, contract etc. may not be deemed invalid solely because it is 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CB7-5369-4B5D-8CAD-7A975FAD2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hecking Eligibility at Time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fore disbursing Title IV funds, schoo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onfirm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ient is an eligibl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s enrolled for th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loans, student is enrolled at least half-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begun attendance if disbursement occurs on/after first day of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7B5-FB85-4B4A-81AC-C4E24009FB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ecking Eligibility at Time of Disburs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and PLUS – students’ eligibility is certified when loan is certified/origin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ol must ensure continuous eligibility has been maintained before loan is disburs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ol must have system in place to check enrollment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student drops below ½ time temporarily, disbursement may be made when ½ time status resumes assuming student still qualifies for loan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C58-C9C1-4F6E-9EC7-FE708122B8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 to Students on Leave of Abse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disburse FFEL/DL to students on an LO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Federal Pell Grant, ACG, National SMART, FSEOG and Perkins funds to students on an L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credit balances may be disbursed to students on a leave of abs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47B-6041-4CE9-BDF2-A0DE4A8D49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rograms offered in semester, trimester, quarter or non-standard terms with credit hours, payment period is te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rograms measured in clock hours, payment periods vary depending upon length of the program (discussed on an upcoming sl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disbursements (except FWS) must generally be made on a payment period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526-E32D-4A5D-9BE3-6D1FF8144D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ess than an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the first half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the second half of the progr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C3C-BC47-4B21-BE02-48A3090722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onger than an academic year with a remaining portion less than or equal to one-half an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and any subsequent complete academic years – follow guidance on the previous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payment period is the remaining por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9652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6033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B1A-E6B8-4ACF-8F8E-E8C16ED196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longer than an academic year with a remaining portion more than one-half an academic year in length, but less than a full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and any subsequent academic years – follow guidance on slide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portion of program is divided into equal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9B5-0434-4951-9447-1DBEC147A3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s for Clock Hour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equal to or more than two academic years in length - first academic year and any subsequent academic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first half of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 is period of time in which student completes second half of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D72-8AE6-4CFB-BA7D-239B83BDB0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ate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bursement occurs when a school credits a student’s account or pays a student or parent directly wit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s received from the Department or an FFEL lender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funds labeled as Title IV funds in advance of receiving actual FSA program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: Exceptions exist (see following slid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33A-04B6-4C43-8375-024CA590C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Exam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14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8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362320"/>
            <a:ext cx="2575080" cy="3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4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828800"/>
            <a:ext cx="5302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80 Clock-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62320"/>
            <a:ext cx="255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4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5812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2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" y="4114440"/>
            <a:ext cx="8001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800600"/>
            <a:ext cx="25592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4800600"/>
            <a:ext cx="25592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4800600"/>
            <a:ext cx="255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9C9-E4EE-4954-BE09-CD4CE152E3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ock Hour Exampl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1981080"/>
            <a:ext cx="14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98108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9760" y="1447920"/>
            <a:ext cx="72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7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880" y="1904760"/>
            <a:ext cx="7696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590920"/>
            <a:ext cx="2133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590920"/>
            <a:ext cx="2286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8600" y="434304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5929" dir="128288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00 Clock Hou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9760" y="3886200"/>
            <a:ext cx="72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800 clock hour program, 900 clock-hour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95288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25909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25909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 Clock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D81-57D6-4493-B4D7-C670DC940E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ing the Student’s Accou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student authorization, school may use Title IV funds to credit student’s account to satisfy current charges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om and board (if the student contracts with the institu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prior student authoriz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allowable current charg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CEB-FFB2-4E3B-A0A4-48A665F3DB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n Title IV funds credited to student’s account exceed  allowable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paid to student or parent no later than 14 calendar days aft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balance occurred – if  afte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y of clas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st day of classes for the payment period if balance occurred on or 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ay of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68A-D09D-4C41-8EAB-A70AE4807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ble charges are $5,000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itution receives and credits h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ount with the following a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3124080"/>
          <a:ext cx="4876920" cy="307044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ffo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E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al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la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7238880" y="3505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3120" y="3657600"/>
            <a:ext cx="26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Does this student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have a Title IV 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credi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0440" y="497196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D40-9214-41CA-9277-7D8460C51A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able charges are $5,000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itution credits her account with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ing ai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3505320"/>
          <a:ext cx="4876920" cy="2444760"/>
        </p:xfrm>
        <a:graphic>
          <a:graphicData uri="http://schemas.openxmlformats.org/drawingml/2006/table">
            <a:tbl>
              <a:tblPr/>
              <a:tblGrid>
                <a:gridCol w="2590920"/>
                <a:gridCol w="2286000"/>
              </a:tblGrid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ffor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SE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ki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238880" y="3505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2720" y="3606840"/>
            <a:ext cx="26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Does this student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have a Title IV </a:t>
            </a:r>
            <a:br>
              <a:rPr sz="2800"/>
            </a:br>
            <a:r>
              <a:rPr b="0" lang="en-US" sz="2800" spc="-1" strike="noStrike">
                <a:solidFill>
                  <a:srgbClr val="cc5407"/>
                </a:solidFill>
                <a:latin typeface="Times New Roman"/>
              </a:rPr>
              <a:t>credi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440" y="49719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5407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589-59C2-46BE-B90E-3B2916C642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Credit Balan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 PLUS Loan funds (not Grad PLUS) must be returned to the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determines PLUS Loan funds created the credit balance – balance goes to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disburse excess PLUS funds to student with parent autho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determines which Title IV funds created a credit bala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444-73CD-4074-A292-0CDD574A10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or Prior Year Char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Title IV funds may be used to pay only current education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student authorization, Title IV funds may be used for paying prior-year charges less than $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-year charges equal to or greater than $100 may be paid with an authorization and documentation that payment would not prevent student from paying current educational expens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2F8-9B07-4E96-BBE7-27DEE166CF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arly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-term, credit-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st date to disburse is 10 days before the 1st day of class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-hour programs and credit-hour programs without standar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iest date to disburse is later of 10 days befor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y of classes for the payment period; or date student completed the previous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E30-FF74-4554-B5AC-97216208B9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udent Who Fail to Begin Attend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ho withdraws before beginning attendance is not entitled to any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return Pell, ACG, National SMART, FSEOG and Perkins disbursed to student who fails to begin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return Stafford/PLUS credited to the account of student who fails to begin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9FF-F46E-403C-8A8E-2526A5C1AD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otification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notify a student of the amount of funds he or she can expect to receive and how those funds will be disbu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must be sent before the disbursement i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funds include Stafford Loans (FFEL or DL) notice must indicate which funds are from subsidized and which funds are from unsubsidize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601-0A43-479C-8984-3BFA4A6B7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fford/PLUS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 terms and substantially equal nonstandard te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re than one term in the loan period - loan must be disbursed equally over all terms in loa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ly one term in loan peri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disbursed in equal amounts at beginning of the term and at the term’s calendar mid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default rate &lt; 10% for three most recently published years, may be disbursed in one 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23F-309C-4411-87DD-30AA1ACB1B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fford/PLUS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dit hour non-term or non-standard terms not substantially equal in length AND clock hour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n must be disbursed in two substantially equal amounts with the first disbursement at the beginning of the loa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half of loan may not be disbursed until later of calendar midpoint, or date student successfully completes clock hours in the loan period or completes half the credit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A8A-0732-41F1-82AB-5B4B70BEF7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troactiv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pay retroactively for any completed payment periods within award year if student was eligible for payment in those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/ACG/SMART Grant disbursements for a completed term are based on hours competed by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Loan certifications may include an earlier period of eligibility only if student completed a half-time course load during tha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C09-0D03-4EF3-8932-649D31B667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, a student becomes inelig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ceive Title IV funds on the date th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FFEL/DL, student is no longer enrolled at least half-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 Grant, ACG, National SMART, FSEOG and Perkins Loan, student is no longer enrolled at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ertain circumstances are met, student may qualify for late disbursements after they become ineligi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671-B4E0-4A43-A2A3-B0EB113BC1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ditions for a Late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R/ISIR with an official EFC processed before the student became ineligible for all Title IV aid except parent P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or DL must have been certified or originated prior to the student’s becoming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 and Perkins awards must have been made prior to the student’s becoming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E8E-5994-438E-B3B7-D6BA44A12E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datory vs. Optional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</a:t>
            </a: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er a late disbursement of Title IV funds to student who successfully completes the payment period or period of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</a:t>
            </a:r>
            <a:r>
              <a:rPr b="1" i="1" lang="en-US" sz="2800" spc="-1" strike="noStrike">
                <a:solidFill>
                  <a:srgbClr val="cc5407"/>
                </a:solidFill>
                <a:latin typeface="Verdan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er a late disbursement of FFEL/DL to student who does not withdraw but ceases to be enrolled on a half-time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3E8-1FD9-42A3-A8AF-F20CEEF76E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mitations on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r subsequent late disbursement is prohibited unl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successfully completed the loan period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gradu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 to a first- year, first-time borrower is prohibited if he/she withdraws before 30th day of the program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if the school is subject to 30 day de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A46-8685-464C-92DE-E30A070B02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imitations on Late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 of Pell, ACG and National SMART Grant may only be made to students who have a valid SAR/ISIR by the deadline establ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 must be made no later than 120 days after date student became inelig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may approve school requests for late disbursements later than 1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D2E-004E-45A5-9050-2BFE1EE822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 - Funding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ceive funds from ED through the Grants Administration and Payment System (GA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ce payment meth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mbursement or cash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receive FFEL funds directly from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ter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 paper che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268596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3BE-2D0B-4BE3-9AD8-8DF013517F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por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submit a common record that reports anticipated or actual disburse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 records submitted to COD must have anticipated and/or actual disbursement 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are required to report “actual” disbursements of Pell, ACG, National SMART Grant and Direct Loans within 30 days of the date of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B8C-5B39-46D6-A5B6-7C7B3D5D8D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7696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diting Accounts With School Fund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redit account with own funds earlier than 10 days before first day of classes for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onsidered a Title IV disbursement until the 10th day before 1st day of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ord borrowers subject to 30 day delay – not considered a disbursement until 30th day after beginning of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9E1-46E5-4C71-9BCE-0D2280D5C6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Advance Fund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2266400">
            <a:off x="3285720" y="3373200"/>
            <a:ext cx="2332080" cy="457200"/>
          </a:xfrm>
          <a:prstGeom prst="rightArrow">
            <a:avLst>
              <a:gd name="adj1" fmla="val 50000"/>
              <a:gd name="adj2" fmla="val 127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221-761F-494B-8BBD-B254E4C4C4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1404600">
            <a:off x="3076200" y="3386160"/>
            <a:ext cx="2803680" cy="426960"/>
          </a:xfrm>
          <a:prstGeom prst="leftRightArrow">
            <a:avLst>
              <a:gd name="adj1" fmla="val 50000"/>
              <a:gd name="adj2" fmla="val 1307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Report Drive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114800" y="327672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9EB-CD88-4A92-95FA-C547FF2E42E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1404600">
            <a:off x="3056040" y="3382560"/>
            <a:ext cx="2803320" cy="533520"/>
          </a:xfrm>
          <a:prstGeom prst="leftRightArrow">
            <a:avLst>
              <a:gd name="adj1" fmla="val 50000"/>
              <a:gd name="adj2" fmla="val 1046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s—School Funde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138400" cy="153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793880" cy="1812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1560240" cy="163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874880" cy="2039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429000" y="2057400"/>
            <a:ext cx="2133720" cy="457200"/>
          </a:xfrm>
          <a:prstGeom prst="rightArrow">
            <a:avLst>
              <a:gd name="adj1" fmla="val 50000"/>
              <a:gd name="adj2" fmla="val 11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1240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114800" y="1905120"/>
            <a:ext cx="771480" cy="758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4114800" y="3276720"/>
            <a:ext cx="685800" cy="67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886200" y="4724280"/>
            <a:ext cx="695160" cy="69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752480" y="3200400"/>
            <a:ext cx="695520" cy="69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8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4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FE6-F948-4D66-8576-7895D6F027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bursement adjustments may be necessary for various rea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estimated financial assistance (resourc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attendance adjus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jud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drawal (R2T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recalculation based on actual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P (Pell Overpayment Proc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0B2-2CB3-4A03-A447-EF996075C9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justing Disburs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ments to disbursements must be made within 30 days of determination that an adjustment is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Pell, ACG, National SMART and Direct Loan adjustments to C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may need to adjust GAPS draw d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 FFEL adjustments to the le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9E-86C7-4BB6-BE0A-C9B18057BD9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Reporting to NSLD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, ACG, and National Smart Grant disbursements are reported to NSLDS through COD dai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 Loan disbursements are reported to NSLDS by the DL Servic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47B-D4AA-40F3-858B-9CDC2D54AD0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pay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payments of disbursed funds must be reported to NSLDS using NSLDS on-line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resolved overpayment information in NSLDS results in student in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ed to schools via ISIR Financial Aid His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EC8-1982-4B47-B804-B1FBDAC7F4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bursement Reporting -FISAP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40960" y="1752120"/>
            <a:ext cx="73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porting of student level disbursements of campus based fund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expenditures for the campus based programs are reported on the FIS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reconciled with GAPS draw dow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F29-250A-486D-97EE-DEE5CF5D8D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7-08 Federal Student Aid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4, Chapter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of Federal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 CFR 668.1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lue Book (October 200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9740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3CF-E8C3-4C88-929A-820900C518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3520" y="3733560"/>
            <a:ext cx="6324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lvl="4" marL="18288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eg Mart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5) 656-645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gregory.marti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8195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ve Ellio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214) 661-945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dave.elliott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DCF-49DA-499D-9645-C650B9787C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mo Entries and Estimated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 entries for billing purposes that do not identify a Title IV credit, e.g. “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stimated Federal Pell Grant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not considered disburs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o entries are often needed to prepare billing statements and/or allow students to register for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925-BF08-41C6-BC7D-69024BE16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B2F-B707-4FD5-BC0F-BCAD3D6E976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thod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ing FFEL check directly to student or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ing a check to student or pa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T to student or parent bank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nsing cash with signed recei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ing student’s account at the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96080" y="3809880"/>
            <a:ext cx="12178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D5E-4D0E-4B50-998D-3B5DD29B6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otification of Disburs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notify student in writing (paper or electronic) when Perkins, Stafford or PLUS loans are being credited to student’s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be no earlier than 30 days before and no later than 30 after crediting student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 include: date and disbursement amount; student right to cancel all or part of loan or disbursement; and procedures and time by which student must notify school of desire to canc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E87-8844-4DA6-AC9C-37952F3B3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ncellation Procedur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 must inform school of desire to cancel all or part of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honor request if received prior to start of payment period or within 14 days after the date notice was sent to the borrower – school may but is not required to honor late req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be informed of outcome of any cancellation 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is not responsible for returning portion of loan directly disbursed to studen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F62-5001-4A46-B061-9A74F7349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d Authoriza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 obtain authorization from student befo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bursing FSA funds by EFT to a bank account designated by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FSA funds to pay allowable charges other than tuition, fees, and room and board (if student contracts with scho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ing an FSA credit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ing FSA funds to minor prior y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EC2-4A54-4C50-9AD0-E8FC41BC6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0:32Z</dcterms:modified>
  <cp:revision>42</cp:revision>
  <dc:subject/>
  <dc:title>PowerPoint Presentation</dc:title>
</cp:coreProperties>
</file>