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5A1C-DFE6-4CE1-A6F3-895B59DA5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06/83 Fed Reg established maximum time frame theory --- must include all complete academic history, even if no Title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9/94 Fed Reg established 150% for undergraduate programs -- don't count periods if nonenroll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tudent given credit for every hour in attendance, hours attempted equal hours completed…so must use calendar…weeks or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Suspended for certain period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attend without aid and meet cumulative require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F3E-8DF0-41F8-B98D-3B1250FD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153-E90B-4F82-9BF4-93C5783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35F-88A4-4EE7-890F-2A2B0786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046-E5AA-4BFD-B9A6-9DC05BC7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D45-ECCF-42C6-88DB-3C7B0FE2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E27-2E89-4750-A45B-C02E24EF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721-25DB-4EA8-B153-41A73ED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6AC-C81C-44E2-A86F-9761B558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2DD-330B-40A2-B6D1-4D41E6B1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AA9-A073-41C1-AC4A-A8C31D4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1D2-E876-4A58-A63F-3846ACC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3EE-4533-4D98-A03A-E9EA7601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AA0-EA63-4154-A64B-5B93F23FA43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SATISFACTORY ACADEMIC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eg Mar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xed Standard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student must maintain a cumulative grade point average of 2.0 after two terms of enrollment, and subsequently, each academic ye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DDB-EA41-41B2-8651-C8FE89C9FC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raduated Standard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de Point Averag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to 30 credits = 1.6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1 to 60 credits = 1.8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1 to graduation = 2.0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D2B-E7CA-460E-9547-BC184D250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Programs Longer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an Two Yea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the end of the second academic year, student must hav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“C” average or its equival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ademic standing consistent with graduation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s measured in time, not grad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CD6-A37D-446F-B921-AC0F65EEBB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tigating Circumstances Regarding “C” After Two Year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standards may be set aside if certain circumstances affect prog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ath of a rel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jury or illness of stud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special circumst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E6C-9C19-4B6D-8961-62C5A8DCD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antitative Stand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measure progress toward cour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6EA-D135-4E74-9CE2-B65B5D5C9D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ximum Time Fra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s may receive aid for a maximum of 150% of the published length of the educational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mulative, including periods without Title IV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F32-4016-4014-8D92-C8AA88166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raduate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must develop a writ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y establishing a maximu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frame 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ich a gradu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must complete th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780-3F2F-4C72-8A18-53C2C24823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School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define maximum time frame 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ademic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dit Hours Attemp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5EC-D3C1-47F8-81BD-36881A2AF7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program takes 4 year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X 150% = 6 year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X 125% = 5 years is maximum time fra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665-D78F-4725-8454-6ADC90662E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s Attempt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program requires 1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dits for comple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0 X 150% = 180 attempted credit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344-A553-4FC6-ADFC-979B34E127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Eligi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s satisfactory progress in his/her course of study according to school’s published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68.32(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68.3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E53-13E8-45FC-9FA9-51383120F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program takes 6 t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X 150% = 9 term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A17-6A75-47FA-B3D5-FBBAF873CA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use calendar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00 clock hour program takes 8 months to comple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 X 150% = 12 months is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47E-79B5-4F7D-865B-051F0F1353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valuating Students’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often should students’ progress be evaluated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124080"/>
            <a:ext cx="1881360" cy="1752840"/>
          </a:xfrm>
          <a:custGeom>
            <a:avLst/>
            <a:gdLst>
              <a:gd name="textAreaLeft" fmla="*/ 113400 w 1881360"/>
              <a:gd name="textAreaRight" fmla="*/ 1767960 w 188136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3183" h="21600">
                <a:moveTo>
                  <a:pt x="0" y="0"/>
                </a:moveTo>
                <a:lnTo>
                  <a:pt x="23183" y="0"/>
                </a:lnTo>
                <a:lnTo>
                  <a:pt x="23183" y="21600"/>
                </a:lnTo>
                <a:lnTo>
                  <a:pt x="0" y="21600"/>
                </a:lnTo>
                <a:close/>
              </a:path>
              <a:path fill="lightenLess" w="23183" h="21600">
                <a:moveTo>
                  <a:pt x="0" y="0"/>
                </a:moveTo>
                <a:lnTo>
                  <a:pt x="23183" y="0"/>
                </a:lnTo>
                <a:lnTo>
                  <a:pt x="21783" y="1400"/>
                </a:lnTo>
                <a:lnTo>
                  <a:pt x="1400" y="1400"/>
                </a:lnTo>
                <a:close/>
              </a:path>
              <a:path fill="darken" w="23183" h="21600">
                <a:moveTo>
                  <a:pt x="23183" y="0"/>
                </a:moveTo>
                <a:lnTo>
                  <a:pt x="23183" y="21600"/>
                </a:lnTo>
                <a:lnTo>
                  <a:pt x="21783" y="20200"/>
                </a:lnTo>
                <a:lnTo>
                  <a:pt x="21783" y="1400"/>
                </a:lnTo>
                <a:close/>
              </a:path>
              <a:path fill="darkenLess" w="23183" h="21600">
                <a:moveTo>
                  <a:pt x="2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3" y="20200"/>
                </a:lnTo>
                <a:close/>
              </a:path>
              <a:path fill="lighten" w="2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3" h="21600">
                <a:moveTo>
                  <a:pt x="115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83" h="21600">
                <a:moveTo>
                  <a:pt x="12697" y="14281"/>
                </a:moveTo>
                <a:lnTo>
                  <a:pt x="12697" y="12323"/>
                </a:lnTo>
                <a:cubicBezTo>
                  <a:pt x="12697" y="11496"/>
                  <a:pt x="13028" y="10800"/>
                  <a:pt x="13628" y="10800"/>
                </a:cubicBezTo>
                <a:cubicBezTo>
                  <a:pt x="14760" y="10800"/>
                  <a:pt x="15656" y="9434"/>
                  <a:pt x="15656" y="7849"/>
                </a:cubicBezTo>
                <a:cubicBezTo>
                  <a:pt x="15656" y="5534"/>
                  <a:pt x="13802" y="3794"/>
                  <a:pt x="11592" y="3794"/>
                </a:cubicBezTo>
                <a:cubicBezTo>
                  <a:pt x="9381" y="3794"/>
                  <a:pt x="7710" y="5534"/>
                  <a:pt x="7710" y="7849"/>
                </a:cubicBezTo>
                <a:lnTo>
                  <a:pt x="9564" y="7849"/>
                </a:lnTo>
                <a:cubicBezTo>
                  <a:pt x="9564" y="6709"/>
                  <a:pt x="10486" y="5821"/>
                  <a:pt x="11592" y="5821"/>
                </a:cubicBezTo>
                <a:cubicBezTo>
                  <a:pt x="12697" y="5821"/>
                  <a:pt x="13628" y="6709"/>
                  <a:pt x="13628" y="7849"/>
                </a:cubicBezTo>
                <a:cubicBezTo>
                  <a:pt x="13628" y="8589"/>
                  <a:pt x="13158" y="9320"/>
                  <a:pt x="12697" y="9320"/>
                </a:cubicBezTo>
                <a:cubicBezTo>
                  <a:pt x="11592" y="9320"/>
                  <a:pt x="10486" y="10800"/>
                  <a:pt x="10486" y="12323"/>
                </a:cubicBezTo>
                <a:lnTo>
                  <a:pt x="10486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9BB-8FB3-40D2-9712-11FC7DFAEA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ximum Time Fra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divided into equal evaluation peri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ion periods cannot exceed the lesser of one half of the program or one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243-D7A7-48B1-9F5F-3AB34F26A4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grams One Year Or L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must evaluate progress 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st once, at the half-way poi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DD2-C973-45BD-9022-3A3221EB95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Program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 months/900 clock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is one year in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half of the program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month evaluation peri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734-82A4-4C4A-861D-946044792E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Non-Term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gram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months/24 quarter cre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is less than one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half of the program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month evaluation peri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E06-5AED-4BA8-8D5B-25B8B6856C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grams Longer Than One Ye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must evaluate progress 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st once per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6D3-4BA0-4256-85E5-48F88E9F29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Term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gree Progra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evalua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ess at least once academic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evaluate progress at end of each te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22F-B796-430E-AA0D-EA63878856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valuating Students’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work must be completed a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each evaluation perio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505320"/>
            <a:ext cx="1371600" cy="144756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447560"/>
              <a:gd name="textAreaBottom" fmla="*/ 1358640 h 1447560"/>
            </a:gdLst>
            <a:ahLst/>
            <a:rect l="textAreaLeft" t="textAreaTop" r="textAreaRight" b="textAreaBottom"/>
            <a:pathLst>
              <a:path w="21600" h="22796">
                <a:moveTo>
                  <a:pt x="0" y="0"/>
                </a:moveTo>
                <a:lnTo>
                  <a:pt x="21600" y="0"/>
                </a:lnTo>
                <a:lnTo>
                  <a:pt x="21600" y="22796"/>
                </a:lnTo>
                <a:lnTo>
                  <a:pt x="0" y="22796"/>
                </a:lnTo>
                <a:close/>
              </a:path>
              <a:path fill="lightenLess" w="21600" h="22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96">
                <a:moveTo>
                  <a:pt x="21600" y="0"/>
                </a:moveTo>
                <a:lnTo>
                  <a:pt x="21600" y="22796"/>
                </a:lnTo>
                <a:lnTo>
                  <a:pt x="20200" y="21396"/>
                </a:lnTo>
                <a:lnTo>
                  <a:pt x="20200" y="1400"/>
                </a:lnTo>
                <a:close/>
              </a:path>
              <a:path fill="darkenLess" w="21600" h="22796">
                <a:moveTo>
                  <a:pt x="21600" y="22796"/>
                </a:moveTo>
                <a:lnTo>
                  <a:pt x="0" y="22796"/>
                </a:lnTo>
                <a:lnTo>
                  <a:pt x="1400" y="21396"/>
                </a:lnTo>
                <a:lnTo>
                  <a:pt x="20200" y="21396"/>
                </a:lnTo>
                <a:close/>
              </a:path>
              <a:path fill="lighten" w="21600" h="22796">
                <a:moveTo>
                  <a:pt x="0" y="22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96"/>
                </a:lnTo>
                <a:close/>
              </a:path>
              <a:path fill="darken" w="21600" h="22796">
                <a:moveTo>
                  <a:pt x="10800" y="1540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96">
                <a:moveTo>
                  <a:pt x="11905" y="14879"/>
                </a:moveTo>
                <a:lnTo>
                  <a:pt x="11905" y="12921"/>
                </a:lnTo>
                <a:cubicBezTo>
                  <a:pt x="11905" y="12094"/>
                  <a:pt x="12236" y="11398"/>
                  <a:pt x="12837" y="11398"/>
                </a:cubicBezTo>
                <a:cubicBezTo>
                  <a:pt x="13968" y="11398"/>
                  <a:pt x="14865" y="10031"/>
                  <a:pt x="14865" y="8447"/>
                </a:cubicBezTo>
                <a:cubicBezTo>
                  <a:pt x="14865" y="6132"/>
                  <a:pt x="13011" y="4391"/>
                  <a:pt x="10800" y="4391"/>
                </a:cubicBezTo>
                <a:cubicBezTo>
                  <a:pt x="8589" y="4391"/>
                  <a:pt x="6918" y="6132"/>
                  <a:pt x="6918" y="8447"/>
                </a:cubicBezTo>
                <a:lnTo>
                  <a:pt x="8772" y="8447"/>
                </a:lnTo>
                <a:cubicBezTo>
                  <a:pt x="8772" y="7307"/>
                  <a:pt x="9695" y="6419"/>
                  <a:pt x="10800" y="6419"/>
                </a:cubicBezTo>
                <a:cubicBezTo>
                  <a:pt x="11905" y="6419"/>
                  <a:pt x="12837" y="7307"/>
                  <a:pt x="12837" y="8447"/>
                </a:cubicBezTo>
                <a:cubicBezTo>
                  <a:pt x="12837" y="9187"/>
                  <a:pt x="12367" y="9918"/>
                  <a:pt x="11905" y="9918"/>
                </a:cubicBezTo>
                <a:cubicBezTo>
                  <a:pt x="10800" y="9918"/>
                  <a:pt x="9695" y="11398"/>
                  <a:pt x="9695" y="12921"/>
                </a:cubicBezTo>
                <a:lnTo>
                  <a:pt x="9695" y="148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5A7-5A79-4446-B483-6143058A3B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ministrative Capa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ablishes, publishes, and applies reasonable standards for measuring if a student is maintaining satisfactory progress in his/her educational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125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68.16(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40F-33EE-4AC9-82C6-9904DD3DE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Must Complete Within Maximum Time Fra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r policy may requ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fixed amount of work that must be completed in each evalua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ercentage of work that must be completed in each evaluation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D78-FF8E-4590-BC39-68ED6E917D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- 6 Year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must complete 1/6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ork required for the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ee requires 120 cre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/6 = .1666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 credits per year required to finish within 6 ye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67F-B32F-4845-9047-8D4D7F29F0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 Hour - Attempted Credi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0 credits / 180 credits = 67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must earn 67% of credit hours attemp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5A2-A6FD-4276-93D4-082600706E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Program - 12 Month Max Tim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months / 12 months = 34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4% X 900 = 306 clock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06 clock hours in 4 month perio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6F2-32DE-45FD-BC57-AA92C0C448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urse Repea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these affect progress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ative - average grades, count both grades, or count the higher gra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ntitative - included in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only count toward enrollment status if receiving cre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C10-A049-4298-BF55-7C8DD66260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Abou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omple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draw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credit remedial cour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077-0D4D-4489-B7D9-ACBD12DEA8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ransfer Stud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make initial disburs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no credits transferred in, then SAP evaluated solely on work at current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received transfer credits, those must be included when determining progress toward maximum time fr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ED4-8F93-4029-81FC-9F14BDBCF9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bation/Warn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lo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stipulations must student mee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ification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7EE-7292-4FA1-896A-8B3413DED9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jor/Degree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ill you deal with maximu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fra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ke credits earned and apply toward max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eligible for aid for 150% of remaining required cre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it require an appea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03F-85D4-4297-945A-22AEB3A279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eal Polic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procedures for student to appeal if not making satisfactory prog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will decide appeal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B9E-E24F-4297-9102-2AFB3D06DE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sh and make readily available to current and prospective stud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ndards for making satisfactory prog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iteria for reestablishing eligibility if SAP is viola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68.42(c)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3C3-1B08-45DF-82C1-B0949C09E1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To Re-establish Eligibi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happens once a student fails to meet the standard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appeal or disapproved appe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0B1-B178-4179-955C-358724FE28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 Of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certain that student meets satisfactory academic progress standards as of last time your policy required eval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EF5-F5A2-4CF7-B2BC-3A6F5454CB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egory Mart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15) 656-645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gregory.marti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4197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971800"/>
            <a:ext cx="6858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312) 730-152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jamie.malone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66A-14BF-4785-8704-8DE3A308338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81F-1A5D-4EEB-AAFF-D7FDE2BF2F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ly to all Title IV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8C7-367E-47E6-9341-D3BC5605AC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 Must B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stently Appl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ab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14C-86F7-4AA8-B3C6-26F8DC6EC3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same as or stricter th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ndards for non-Title IV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in same education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you using your school’s academic standards or standards specifically for Title IV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5F9-6B4F-4309-80AB-2711438798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P Standards Must Inclu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must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cumul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656-BE82-44D7-A050-62C8B7B9F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alitative Stand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assess quality of academic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standards measurable against a nor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de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use fixed or graduated stand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A67-0C5D-4B22-8306-97D9ED757E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17:19:09Z</dcterms:created>
  <dc:creator>Jamie Malone</dc:creator>
  <dc:description/>
  <dc:language>en-US</dc:language>
  <cp:lastModifiedBy>yvette.payne</cp:lastModifiedBy>
  <cp:lastPrinted>2001-03-27T23:43:49Z</cp:lastPrinted>
  <dcterms:modified xsi:type="dcterms:W3CDTF">2007-12-05T18:20:12Z</dcterms:modified>
  <cp:revision>51</cp:revision>
  <dc:subject/>
  <dc:title>Standards</dc:title>
</cp:coreProperties>
</file>