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2FD4C-B5C2-400E-9E29-118581F83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06/83 Fed Reg established maximum time frame theory --- must include all complete academic history, even if no Title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9/94 Fed Reg established 150% for undergraduate programs -- don't count periods if nonenroll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tudent given credit for every hour in attendance, hours attempted equal hours completed…so must use calendar…weeks or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Suspended for certain period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attend without aid and meet cumulative requirem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91E-BEB3-468A-BD57-62B9BDB7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915-375A-493E-BB0D-DCAB9A9F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B56-FB3A-4B9C-A695-D1F49878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A1D-B64D-41B4-AB88-BEED3DD4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DFD-08AD-4582-B7CC-388BB735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D18-906B-4BAE-9ABA-D8E9D29E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251-46AB-41FD-B8E4-D2AF25C0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BDF-381D-4074-81FA-2EED5396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246-F546-4A0D-AC1B-3B3C1BAB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668-2078-4D92-A698-CA414812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221-F0FE-485B-B8B0-0B65FA82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F92-3C68-4E58-8367-1837FB0E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086C-A4C9-4344-BCFE-2788595955FF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SATISFACTORY ACADEMIC PROGR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440" y="38095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amie Mal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eg Mar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xed Standard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tudent must maintain a cumulative grade point average of 2.0 after two terms of enrollment, and subsequently, each academic yea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496-35D3-4793-B95F-D58F5B4A65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raduated Standard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de Point Average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to 30 credits = 1.6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1 to 60 credits = 1.8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1 to graduation = 2.0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160-ACD5-4902-BD5F-A2AE95BA0E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Programs Longer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an Two Yea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y the end of the second academic year, student must hav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“C” average or its equival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ademic standing consistent with graduation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s measured in time, not grad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E7B-3D49-41D3-8226-3917498FE9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itigating Circumstances Regarding “C” After Two Year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153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standards may be set aside if certain circumstances affect prog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ath of a rel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jury or illness of stud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special circumst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CF3-E904-4044-B193-A6E738B1FB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antitative Standa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measure progress toward cour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BF1-8560-4615-8615-5AD4704DA6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ximum Time Fra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graduates may receive aid for a maximum of 150% of the published length of the educational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mulative, including periods without Title IV as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ACA-6B61-40C8-B401-7CAA17491E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raduate Max Ti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must develop a writ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y establishing a maximum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frame 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ch a gradu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must complete th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5C4-4263-4043-8733-65D326C88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 School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define maximum time frame 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ademic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dit Hours Attemp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871-A622-44D2-9CD7-9C71D691B1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Yea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ee program takes 4 year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X 150% = 6 years is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X 125% = 5 years is maximum time fra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440-1A6D-4346-86B2-5A2EAB15CB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s Attempt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ee program requires 1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dits for comple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20 X 150% = 180 attempted credits is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65C-672C-4900-9571-91C00E99A0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Eligibi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s satisfactory progress in his/her course of study according to school’s published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68.32(f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68.3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12F-0121-4912-BDD4-DF34EC60D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r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ee program takes 6 t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 X 150% = 9 terms is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395-F304-4D6E-8FAC-9E1C6E5D99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ock Hour Max Ti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use calendar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00 clock hour program takes 8 months to compl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 X 150% = 12 months is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7A5-B51F-4B90-9C90-AC62EEAFF3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valuating Students’ Progr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often should students’ progress be evaluated?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124080"/>
            <a:ext cx="1881360" cy="1752840"/>
          </a:xfrm>
          <a:custGeom>
            <a:avLst/>
            <a:gdLst>
              <a:gd name="textAreaLeft" fmla="*/ 113400 w 1881360"/>
              <a:gd name="textAreaRight" fmla="*/ 1767960 w 188136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23183" h="21600">
                <a:moveTo>
                  <a:pt x="0" y="0"/>
                </a:moveTo>
                <a:lnTo>
                  <a:pt x="23183" y="0"/>
                </a:lnTo>
                <a:lnTo>
                  <a:pt x="23183" y="21600"/>
                </a:lnTo>
                <a:lnTo>
                  <a:pt x="0" y="21600"/>
                </a:lnTo>
                <a:close/>
              </a:path>
              <a:path fill="lightenLess" w="23183" h="21600">
                <a:moveTo>
                  <a:pt x="0" y="0"/>
                </a:moveTo>
                <a:lnTo>
                  <a:pt x="23183" y="0"/>
                </a:lnTo>
                <a:lnTo>
                  <a:pt x="21783" y="1400"/>
                </a:lnTo>
                <a:lnTo>
                  <a:pt x="1400" y="1400"/>
                </a:lnTo>
                <a:close/>
              </a:path>
              <a:path fill="darken" w="23183" h="21600">
                <a:moveTo>
                  <a:pt x="23183" y="0"/>
                </a:moveTo>
                <a:lnTo>
                  <a:pt x="23183" y="21600"/>
                </a:lnTo>
                <a:lnTo>
                  <a:pt x="21783" y="20200"/>
                </a:lnTo>
                <a:lnTo>
                  <a:pt x="21783" y="1400"/>
                </a:lnTo>
                <a:close/>
              </a:path>
              <a:path fill="darkenLess" w="23183" h="21600">
                <a:moveTo>
                  <a:pt x="2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3" y="20200"/>
                </a:lnTo>
                <a:close/>
              </a:path>
              <a:path fill="lighten" w="2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3" h="21600">
                <a:moveTo>
                  <a:pt x="115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83" h="21600">
                <a:moveTo>
                  <a:pt x="12697" y="14281"/>
                </a:moveTo>
                <a:lnTo>
                  <a:pt x="12697" y="12323"/>
                </a:lnTo>
                <a:cubicBezTo>
                  <a:pt x="12697" y="11496"/>
                  <a:pt x="13028" y="10800"/>
                  <a:pt x="13628" y="10800"/>
                </a:cubicBezTo>
                <a:cubicBezTo>
                  <a:pt x="14760" y="10800"/>
                  <a:pt x="15656" y="9434"/>
                  <a:pt x="15656" y="7849"/>
                </a:cubicBezTo>
                <a:cubicBezTo>
                  <a:pt x="15656" y="5534"/>
                  <a:pt x="13802" y="3794"/>
                  <a:pt x="11592" y="3794"/>
                </a:cubicBezTo>
                <a:cubicBezTo>
                  <a:pt x="9381" y="3794"/>
                  <a:pt x="7710" y="5534"/>
                  <a:pt x="7710" y="7849"/>
                </a:cubicBezTo>
                <a:lnTo>
                  <a:pt x="9564" y="7849"/>
                </a:lnTo>
                <a:cubicBezTo>
                  <a:pt x="9564" y="6709"/>
                  <a:pt x="10486" y="5821"/>
                  <a:pt x="11592" y="5821"/>
                </a:cubicBezTo>
                <a:cubicBezTo>
                  <a:pt x="12697" y="5821"/>
                  <a:pt x="13628" y="6709"/>
                  <a:pt x="13628" y="7849"/>
                </a:cubicBezTo>
                <a:cubicBezTo>
                  <a:pt x="13628" y="8589"/>
                  <a:pt x="13158" y="9320"/>
                  <a:pt x="12697" y="9320"/>
                </a:cubicBezTo>
                <a:cubicBezTo>
                  <a:pt x="11592" y="9320"/>
                  <a:pt x="10486" y="10800"/>
                  <a:pt x="10486" y="12323"/>
                </a:cubicBezTo>
                <a:lnTo>
                  <a:pt x="10486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A47-B4CF-44B9-8025-CFCC03F0AD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ximum Time Fra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divided into equal evaluation peri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ion periods cannot exceed the lesser of one half of the program or one academic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AD7-F0E2-4E97-B147-B2CA59C0EF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grams One Year Or L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must evaluate progress 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st once, at the half-way poi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391-C54C-42A4-BB55-75C1CFBA1B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ock Hour Program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 months/900 clock ho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 is one year in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half of the program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month evaluation peri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3CC-511B-4B7C-AA9B-51970B5935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 Non-Term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gram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 months/24 quarter cred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 is less than one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half of the program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 month evaluation peri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713-8AF4-42AB-B1A1-AD2FF229AB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grams Longer Than One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must evaluate progress 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st once per academic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366-98E2-47F0-954F-7EB6B9DCB0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 Term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gree Progra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evalua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ess at least once academic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evaluate progress at end of each te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27B-A801-4212-9DCD-F8EF96172B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valuating Students’ Progr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work must be completed a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each evaluation perio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505320"/>
            <a:ext cx="1371600" cy="144756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447560"/>
              <a:gd name="textAreaBottom" fmla="*/ 1358640 h 1447560"/>
            </a:gdLst>
            <a:ahLst/>
            <a:rect l="textAreaLeft" t="textAreaTop" r="textAreaRight" b="textAreaBottom"/>
            <a:pathLst>
              <a:path w="21600" h="22796">
                <a:moveTo>
                  <a:pt x="0" y="0"/>
                </a:moveTo>
                <a:lnTo>
                  <a:pt x="21600" y="0"/>
                </a:lnTo>
                <a:lnTo>
                  <a:pt x="21600" y="22796"/>
                </a:lnTo>
                <a:lnTo>
                  <a:pt x="0" y="22796"/>
                </a:lnTo>
                <a:close/>
              </a:path>
              <a:path fill="lightenLess" w="21600" h="22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96">
                <a:moveTo>
                  <a:pt x="21600" y="0"/>
                </a:moveTo>
                <a:lnTo>
                  <a:pt x="21600" y="22796"/>
                </a:lnTo>
                <a:lnTo>
                  <a:pt x="20200" y="21396"/>
                </a:lnTo>
                <a:lnTo>
                  <a:pt x="20200" y="1400"/>
                </a:lnTo>
                <a:close/>
              </a:path>
              <a:path fill="darkenLess" w="21600" h="22796">
                <a:moveTo>
                  <a:pt x="21600" y="22796"/>
                </a:moveTo>
                <a:lnTo>
                  <a:pt x="0" y="22796"/>
                </a:lnTo>
                <a:lnTo>
                  <a:pt x="1400" y="21396"/>
                </a:lnTo>
                <a:lnTo>
                  <a:pt x="20200" y="21396"/>
                </a:lnTo>
                <a:close/>
              </a:path>
              <a:path fill="lighten" w="21600" h="22796">
                <a:moveTo>
                  <a:pt x="0" y="22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96"/>
                </a:lnTo>
                <a:close/>
              </a:path>
              <a:path fill="darken" w="21600" h="22796">
                <a:moveTo>
                  <a:pt x="10800" y="1540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796">
                <a:moveTo>
                  <a:pt x="11905" y="14879"/>
                </a:moveTo>
                <a:lnTo>
                  <a:pt x="11905" y="12921"/>
                </a:lnTo>
                <a:cubicBezTo>
                  <a:pt x="11905" y="12094"/>
                  <a:pt x="12236" y="11398"/>
                  <a:pt x="12837" y="11398"/>
                </a:cubicBezTo>
                <a:cubicBezTo>
                  <a:pt x="13968" y="11398"/>
                  <a:pt x="14865" y="10031"/>
                  <a:pt x="14865" y="8447"/>
                </a:cubicBezTo>
                <a:cubicBezTo>
                  <a:pt x="14865" y="6132"/>
                  <a:pt x="13011" y="4391"/>
                  <a:pt x="10800" y="4391"/>
                </a:cubicBezTo>
                <a:cubicBezTo>
                  <a:pt x="8589" y="4391"/>
                  <a:pt x="6918" y="6132"/>
                  <a:pt x="6918" y="8447"/>
                </a:cubicBezTo>
                <a:lnTo>
                  <a:pt x="8772" y="8447"/>
                </a:lnTo>
                <a:cubicBezTo>
                  <a:pt x="8772" y="7307"/>
                  <a:pt x="9695" y="6419"/>
                  <a:pt x="10800" y="6419"/>
                </a:cubicBezTo>
                <a:cubicBezTo>
                  <a:pt x="11905" y="6419"/>
                  <a:pt x="12837" y="7307"/>
                  <a:pt x="12837" y="8447"/>
                </a:cubicBezTo>
                <a:cubicBezTo>
                  <a:pt x="12837" y="9187"/>
                  <a:pt x="12367" y="9918"/>
                  <a:pt x="11905" y="9918"/>
                </a:cubicBezTo>
                <a:cubicBezTo>
                  <a:pt x="10800" y="9918"/>
                  <a:pt x="9695" y="11398"/>
                  <a:pt x="9695" y="12921"/>
                </a:cubicBezTo>
                <a:lnTo>
                  <a:pt x="9695" y="148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D57-67C4-402C-A58B-58FCD47259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dministrative Capabi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ablishes, publishes, and applies reasonable standards for measuring if a student is maintaining satisfactory progress in his/her educational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125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68.16(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8FB-B4C5-4FFB-8968-F588FA0209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Must Complete Within Maximum Time Fra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r policy may requ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fixed amount of work that must be completed in each evaluation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percentage of work that must be completed in each evaluation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F3A-16A4-4464-ABB2-F4C90F2EE4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 - 6 Year Max Ti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must complete 1/6 o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ork required for the deg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ee requires 120 cred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/6 = .1666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 credits per year required to finish within 6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4E8-70BB-4D23-9C8D-B5B158CE14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 - Attempted Credi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20 credits / 180 credits = 67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must earn 67% of credit hours attemp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368-62DB-4058-907A-AAC6A4678D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ock Hour Program - 12 Month Max Ti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months / 12 months = 34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4% X 900 = 306 clock ho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06 clock hours in 4 month perio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16B-AA65-41BF-8B3D-F6276E2FC8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urse Repea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these affect progress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ative - average grades, count both grades, or count the higher gra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ntitative - included in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only count toward enrollment status if receiving cre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EBC-6D1B-4016-8E93-C1A2A7C6F7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About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omple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draw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credit remedial cour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1DA-5B20-45F7-A84B-C2FB4EAFE7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ansfer Stud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make initial disburs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no credits transferred in, then SAP evaluated solely on work at current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received transfer credits, those must be included when determining progress toward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D71-D4B9-499F-9819-2372AF35AC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bation/Warn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long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stipulations must student mee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ification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8B1-D9D3-446E-B1FD-F3F90EB757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jor/Degree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ill you deal with maximum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fram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ke credits earned and apply toward max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eligible for aid for 150% of remaining required cred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it require an appeal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C27-63D3-4A15-A337-07F07E0345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eal Polic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procedures for student to appeal if not making satisfactory prog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o will decide appeal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75B-06D6-4110-9F9B-ECC06064232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sh and make readily available to current and prospective stud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ndards for making satisfactory progr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iteria for reestablishing eligibility if SAP is viola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68.42(c)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282-4425-4A48-B9F3-43CBEA798C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To Re-establish Eligibi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happens once a student fails to meet the standard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appeal or disapproved app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0B7-B2D5-4AC4-B81A-D8B7927DAD6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 Of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certain that student meets satisfactory academic progress standards as of last time your policy required evalu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210-3FA2-4ABA-89AC-4C7808DF606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egory Mart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215) 656-645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gregory.martin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295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4197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15000"/>
              </a:lnSpc>
              <a:spcBef>
                <a:spcPts val="499"/>
              </a:spcBef>
              <a:buClr>
                <a:srgbClr val="007aa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971800"/>
            <a:ext cx="6858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mie M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312) 730-152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jamie.malone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E25-E0D5-4DA1-8A62-A734D06B313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ease provide any comments regarding this training or the trainer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 Ann Bor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Training Supervi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ann.borel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2-377-39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298-4F13-4061-825A-BA87BBBE328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P Standar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pply to all Title IV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EC5-B699-44AD-B64C-EE9D725420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P Standards Must B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istently Appli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asonab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744-6B37-4B58-B87C-8F62925F2F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P Standar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same as or stricter th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ndards for non-Title IV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s in same educationa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 you using your school’s academic standards or standards specifically for Title IV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8EF-3EC1-4041-B1B0-B01ABB4B54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P Standards Must Inclu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must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cumul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4EC-088A-4F6F-9BD5-C27F5C74DA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alitative Standa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assess quality of academic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standards measurable against a norm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des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pro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use fixed or graduated stand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CA0-E921-4D6A-8316-7B703631CC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17:19:09Z</dcterms:created>
  <dc:creator>Jamie Malone</dc:creator>
  <dc:description/>
  <dc:language>en-US</dc:language>
  <cp:lastModifiedBy>yvette.payne</cp:lastModifiedBy>
  <cp:lastPrinted>2001-03-27T23:43:49Z</cp:lastPrinted>
  <dcterms:modified xsi:type="dcterms:W3CDTF">2007-12-05T18:20:12Z</dcterms:modified>
  <cp:revision>51</cp:revision>
  <dc:subject/>
  <dc:title>Standards</dc:title>
</cp:coreProperties>
</file>