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DC725-898A-4C9E-8CCC-398D2F76B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ckage #1, the student took an FWS job.  Later, the student was awarded an outside merit scholarship, which caused an overaward of $110.  The FAO spoke with the student who decided to just decline the entire FWS award, as he really the time to study.  In both packages, there is room for a parent PLU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Package #2 gives the student a subsidized loan by following the Chapter 30 exclusion.</a:t>
            </a:r>
            <a:r>
              <a:rPr b="1" lang="en-US" sz="2400" spc="-1" strike="noStrike">
                <a:solidFill>
                  <a:srgbClr val="007aa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Even though remaining need is negative, package #2 has no overaward.   In package #3, by excluding the sub, the student has remaining need for campus-based aid.</a:t>
            </a:r>
            <a:r>
              <a:rPr b="1" lang="en-US" sz="2400" spc="-1" strike="noStrike">
                <a:solidFill>
                  <a:srgbClr val="cc540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 #2 could be for the student who did not want to work.  In that case, there is still room the parent to borrow a PLUS loan, additional FSEOG, or Perkins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987-E9F9-4D56-804A-788A4258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92C-7C6E-4EE5-BA37-368F1F6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636-F90D-4DBF-AE9B-6BC64AFE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3DB-9A99-4C09-893C-8DDC4DEF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F25-E70C-4A4C-A6F7-4733387D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9F0-6080-4FD7-B54C-E68507B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ACE-FC97-4B9F-B3A2-60B807B8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84C-D0CC-4982-94A0-A0D744C3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3DE-FCC1-4A51-AB1B-12A5ECE4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D3E-3233-4000-80A9-7F42F9E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EE1-D202-496F-828E-077D853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4AF-E341-4796-8B0C-92CB1BE5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ECC-6E64-4E9D-BAD5-05271E9C057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3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WARDING AI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oundation of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es only to undergraduate students who have not received a bachelor’s or first professional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d using student’s COA, EFC, and ED’s Pell payment/disbursement sched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other aid is considered in determining Pell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CBA-02F0-4DEB-B9A9-BF61E432EE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Found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3200400"/>
            <a:ext cx="5105160" cy="28756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$20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EFC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1,00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-P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ell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7aa9"/>
                </a:solidFill>
                <a:uFillTx/>
                <a:latin typeface="Verdana"/>
              </a:rPr>
              <a:t>3,360</a:t>
            </a:r>
            <a:br>
              <a:rPr sz="2800"/>
            </a:b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=Remaining Need  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$15,6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45788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7aa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calculating any Pell eligibility, use your packaging policy to take into account other sources of assistance available to th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994-D58D-48E1-A3DB-CA5DE8842463}" type="slidenum">
              <a:t>11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Competitiveness Grant – AC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graduate, from rigorous high school curricul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Citiz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or second academic year student in a two or four year degre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mulative G.P.A. of at least 3.0 for second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F68-7636-4C8D-B884-87FD32FFD8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ational SMART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.S. citiz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Pell Grant recipient in same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r fourth academic year student in an eligible bachelor’s degree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joring in an eligible maj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mulative GPA of at least 3.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9DA-42AA-41F3-8B9B-0ADDD25D79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FEL/D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at least half-time enroll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termination of Pell Grant elig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termination of subsidized eligibility prior to awarding unsubsidized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annual and aggregate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B7A-BF5B-4DDD-96E3-B709F01C723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mpus-Based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, FWS, and Perkins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make funds reasonably available to all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minimum enrollment status i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03D-0513-4EDC-B2CE-831DFA5522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SEO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to undergraduate students who have not received a bachelor’s or first professional deg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award to students with lowest EFC who will also receive Pell Grant in that award ye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award is $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um award is $4,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B04-3E9D-4F24-A3DD-98F44F33B25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Work-Stud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part-time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minimum or maximum a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look at willingness to 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pay at least federal minimum w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3CF-FC11-4C6E-AD69-DA325C75AD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rkins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graduate and graduate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ive priority to students with exceptional need, as defined by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look at student’s willingness to rep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annual and aggregate loan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24F-AFDC-440F-A69A-444BB125CE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vailable Institutional Ai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within aid office’s control and n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criteria and packaging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stantships and fellowshi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-based em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24560" y="2819520"/>
            <a:ext cx="181944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C2B-83AD-414E-AC4D-C717669DAB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Packaging?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ing the best combination of aid programs to meet the student’s financial need, u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tory/regulatory lim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resources at the sch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itutional poli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2860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630-2F9A-44B5-9BC5-157F65B9DE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utside Aid Student May Receiv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larships (organizations, merit, etc.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loyer tuition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ive education lo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4894200"/>
            <a:ext cx="236232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050-095F-46D0-9A56-6FAB746847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Exceptions for Montgomery GI Bill and AmeriCorps Benefit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exclude Chapter 30 VA benefits and AmeriCorps benefits as EFA when determining subsidized loan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include Chapter 30 VA benefits and AmeriCorps benefits as EFA for all othe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, may exclude from EFA any portion of subsidized loan amou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mount of Chapter 30 or AmeriCorps benefits for campus-based, ACG, and National SMART G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E12-D8FD-4752-AC1D-85E087755C7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plete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F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F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10360" cy="36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79A-9632-43F8-86BE-7B746E8E5AC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mple Aid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523880"/>
            <a:ext cx="487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9960"/>
                <a:tab algn="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2,205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7,79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ll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06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Staffor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3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SEOG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Perkin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,0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FWS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500</a:t>
            </a: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Scholarship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7aa9"/>
                </a:solidFill>
                <a:uFillTx/>
                <a:latin typeface="Arial"/>
              </a:rPr>
              <a:t>$5,000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Unmet Need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2,235</a:t>
            </a: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733920"/>
            <a:ext cx="2362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3200400"/>
            <a:ext cx="533160" cy="1981080"/>
          </a:xfrm>
          <a:custGeom>
            <a:avLst/>
            <a:gdLst>
              <a:gd name="textAreaLeft" fmla="*/ 0 w 533160"/>
              <a:gd name="textAreaRight" fmla="*/ 374040 w 5331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31240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a9"/>
                </a:solidFill>
                <a:latin typeface="Arial"/>
              </a:rPr>
              <a:t>Estimated Financial Assistance (EF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a9"/>
                </a:solidFill>
                <a:latin typeface="Arial"/>
              </a:rPr>
              <a:t>$15,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044-55AC-42DE-B223-989070CD1315}" type="slidenum">
              <a:t>23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 Case Stud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4410000" cy="42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AC4-37D6-4CDF-BEFF-845C062F415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omas at Art &amp; Design Community Colle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omas is a dependent student who graduated from high school in June 2006. He originally wanted to be a doctor, but has decided to follow his heart and major in fashion design. He has decided to attend Art &amp; Design Community College to get his AA prior to going on to a 4-year colle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320040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E92-303E-4491-B497-AE0737BD3FF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omas at ADCC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3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3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5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 Scholarshi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it Scholarship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9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3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AAB-3655-4430-9856-7F978695F0D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serving his country as a medic in the military, George has decided to return to college. His career goal is to be a physical therapist.  He has been volunteering at a local hospital since his discharge and is really excited about school.  George has $9,600 in Chapter 30, Montgomery GI Bill VA benefits to use for scho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E67-F386-4871-B158-059D05A6F0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6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5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,6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4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,5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4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,5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0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1EF-36EA-4092-B8B3-3F60D0CDA2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orge at XYZ State Univers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#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4,9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4,9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8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,8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56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5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30 V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,6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6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35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2,56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0D5-BC10-4E06-B372-46A49BAC7E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ior to 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u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developed packaging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Title IV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payment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cost(s) of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ISIR with official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determine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Pell Gra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gibility and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of available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EF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individual student’s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aid resources at you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726-B4D7-4096-87C2-F2319EC24AA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arlett at University of Aeronautical Stud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igh achiever since she won her state spelling bee as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ader, Scarlett is determined to become an aeronautical engineer. She is a dependent US citizen, with a 3.98 GPA and in her third academic year. She is living at home with her parents &amp; 9 br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81952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025-608A-40B9-8D5A-09ECEDEBC5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arlett at UA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#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5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 Gran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3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3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SEO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ional SMA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sidized Loa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W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,0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. Academic Awar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SA Scholarshi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r" pos="5037120"/>
                <a:tab algn="r" pos="776772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maining Nee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,69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,69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856-3CCA-486D-BA12-3C173DE93C0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Mal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312) 730-15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jamie.malone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4197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>
              <a:lnSpc>
                <a:spcPct val="115000"/>
              </a:lnSpc>
              <a:spcBef>
                <a:spcPts val="499"/>
              </a:spcBef>
              <a:buClr>
                <a:srgbClr val="007aa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971800"/>
            <a:ext cx="6172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da Coff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ne: (816) 268-043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il: linda.coffey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198-331A-4BBE-B0A8-47B3C1F05D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provide any comments regarding this training or the trainers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 Ann Bor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Training Supervis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ann.borel@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2-377-39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271-9E30-4436-91DE-3E0A6D5518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Need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– EFC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varies by school and 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C is taken from ISI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is filled with available aid programs and other 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200400" cy="1556280"/>
          </a:xfrm>
          <a:prstGeom prst="rect">
            <a:avLst/>
          </a:prstGeom>
          <a:noFill/>
          <a:ln w="3816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20,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-  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EFC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7aa9"/>
                </a:solidFill>
                <a:uFillTx/>
                <a:latin typeface="Arial"/>
              </a:rPr>
              <a:t>1000</a:t>
            </a:r>
            <a:br>
              <a:rPr sz="3200"/>
            </a:b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= Need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aa9"/>
                </a:solidFill>
                <a:latin typeface="Arial"/>
              </a:rPr>
              <a:t>$19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D60-14D8-48F2-99F2-B51B32866553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st of Attendance/Budge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ition and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state/out of s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ks and Suppl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m and Bo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sonal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5080" y="137124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an F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endent C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ability Related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y-Abroad Expen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443-367C-44DD-9DAC-CE167AB7A3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stimated Financial Assistance (EFA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ther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earnings from need-base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 education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xception for Chapter 3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4000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tuition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ition and fee wa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llowship and assistant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educational benefit paid because of postsecondary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D66-B9B1-406E-B18F-FD1D11E9D8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C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= $13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Base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C - EFA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1000 - 13,000 =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Need Base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nsubsidized or Plus Lo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A - EFA = Ne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14,000 - $13,000 = $1,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DD3-4843-44B5-9275-7024E58966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ckag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bination of student aid and EFC must not exceed student’s C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financial aid from any source becomes available after packaging, awards must be reduced until total package does not exceed CO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4C8-0003-4D3F-95AA-39804001B8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itle IV Aid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l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SMART Gr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mpus-Based 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SEO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Work-Stud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kins Lo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FEL/D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45240" y="1447920"/>
            <a:ext cx="339876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265-58DC-41E3-9513-BAD34C2299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9:54Z</dcterms:modified>
  <cp:revision>67</cp:revision>
  <dc:subject/>
  <dc:title>PowerPoint Presentation</dc:title>
</cp:coreProperties>
</file>