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2190E-A01E-48C4-90B1-2E9360A62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ckage #1, the student took an FWS job.  Later, the student was awarded an outside merit scholarship, which caused an overaward of $110.  The FAO spoke with the student who decided to just decline the entire FWS award, as he really the time to study.  In both packages, there is room for a parent PLU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Package #2 gives the student a subsidized loan by following the Chapter 30 exclusion.</a:t>
            </a:r>
            <a:r>
              <a:rPr b="1" lang="en-US" sz="2400" spc="-1" strike="noStrike">
                <a:solidFill>
                  <a:srgbClr val="007aa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Even though remaining need is negative, package #2 has no overaward.   In package #3, by excluding the sub, the student has remaining need for campus-based aid.</a:t>
            </a: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 #2 could be for the student who did not want to work.  In that case, there is still room the parent to borrow a PLUS loan, additional FSEOG, or Perkin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9FD-FEB8-4D42-B268-2256B58B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8ED-D3E9-45D0-A551-A5681187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4D7-D4E5-49C3-BD31-6654A1EF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B5D-1A16-4796-B8CB-05ECE2C4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578-FD2A-4758-A5A9-4CD810CB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831-14EB-4B9D-B674-44C95F1B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D59-57A6-4B96-A58F-771F25C4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F52-413F-4DFA-9A52-DDE7F9A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B89-8CB8-49B5-A910-503DA7F6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BD0-3558-452D-B775-F02BB62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E12-825A-4CCC-A550-6061176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B64-84AB-4AD6-B7D9-BD03E80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A611-FCFC-407E-80F4-79292E012E83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3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WARDING AI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oundation of Aid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es only to undergraduate students who have not received a bachelor’s or first professional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d using student’s COA, EFC, and ED’s Pell payment/disbursement sched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other aid is considered in determining Pell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4E3-14DD-4821-9356-DC72503266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eyond the Found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3200400"/>
            <a:ext cx="5105160" cy="28756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$20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EFC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1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P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ell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3,36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=Remaining Need  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$15,6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calculating any Pell eligibility, use your packaging policy to take into account other sources of assistance available to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A5C-AD72-41CF-B39C-DA8D6CDE764F}" type="slidenum">
              <a:t>11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Competitiveness Grant – AC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school graduate, from rigorous high school curricu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Citiz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or second academic year student in a two or four year degre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mulative G.P.A. of at least 3.0 for second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EC6-5F44-4D93-934B-381263A21D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tional SMART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citiz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r fourth academic year student in an eligible bachelor’s degree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joring in an eligible maj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mulative GPA of at least 3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861-01CA-4EB7-9A10-4B623FFDF8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/D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at least half-time enroll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determination of Pell Grant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determination of subsidized eligibility prior to awarding unsubsidized f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annual and aggregate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6B1-0196-4C6F-8011-A7AB6580F7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EOG, FWS, and Perkins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make funds reasonably available to all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minimum enrollment status is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012-ECB2-448F-8F40-CBE25AF135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SEO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to undergraduate students who have not received a bachelor’s or first professional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award to students with lowest EFC who will also receive Pell Grant in that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award is $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um award is $4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73C-5CE3-4D12-A30F-21039592654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Work-Stud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 part-time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minimum or maximum aw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look at willingness to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pay at least federal minimum w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226-BD2B-491C-A6A6-C3F7835132F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erkins Lo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 priority to students with exceptional need, as defined by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look at student’s willingness to rep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annual and aggregate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424-F9AC-4144-BA5A-15EEA1D77DB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vailable Institutional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within aid office’s control and n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criteria and packaging poli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antships and fellow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24560" y="2819520"/>
            <a:ext cx="181944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C91-C1E6-4D64-B171-19B4BF8942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Packaging?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ing the best combination of aid programs to meet the student’s financial need, u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tory/regulatory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resources at the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al poli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28600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15F-9681-44D3-B2F2-C04C69CE1E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utside Aid Student May Receiv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larships (organizations, merit,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loyer tuition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ernative education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553080" y="4894200"/>
            <a:ext cx="236232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A50-5A36-4F23-9DCA-BCA69DE10FA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xceptions for Montgomery GI Bill and AmeriCorps Benefi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exclude Chapter 30 VA benefits and AmeriCorps benefits as EFA when determining subsidized loan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include Chapter 30 VA benefits and AmeriCorps benefits as EFA for all othe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, may exclude from EFA any portion of subsidized loan amou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mount of Chapter 30 or AmeriCorps benefits for campus-based, ACG, and 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036-E10F-4FFA-97EF-569CFF4C68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mplete Aid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F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10360" cy="369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BF8-E00F-4578-877E-9AF1A2050B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mple Aid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52388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9960"/>
                <a:tab algn="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2,205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7,79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Pell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06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Staffor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3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SEOG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Perkins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,0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WS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Scholarship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$5,000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Unmet 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235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3733920"/>
            <a:ext cx="236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200400"/>
            <a:ext cx="533160" cy="1981080"/>
          </a:xfrm>
          <a:custGeom>
            <a:avLst/>
            <a:gdLst>
              <a:gd name="textAreaLeft" fmla="*/ 0 w 533160"/>
              <a:gd name="textAreaRight" fmla="*/ 374040 w 5331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3124080"/>
            <a:ext cx="2743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a9"/>
                </a:solidFill>
                <a:latin typeface="Arial"/>
              </a:rPr>
              <a:t>Estimated Financial Assistance (E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5,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DB4-271B-495B-90DD-BAAB1410455B}" type="slidenum">
              <a:t>23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ckaging Case Studi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4410000" cy="42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0C6-0A6B-452D-A03D-11EBF00DBBC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omas at Art &amp; Design Community Colle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omas is a dependent student who graduated from high school in June 2006. He originally wanted to be a doctor, but has decided to follow his heart and major in fashion design. He has decided to attend Art &amp; Design Community College to get his AA prior to going on to a 4-year colle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3200400" cy="31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EEE-4F64-4830-A4EF-E7A6525C47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omas at ADC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36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3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5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 Scholarshi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5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it Scholarshi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9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3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786-3661-4618-8EBD-3046C7AE87E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orge at XYZ State University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ter serving his country as a medic in the military, George has decided to return to college. His career goal is to be a physical therapist.  He has been volunteering at a local hospital since his discharge and is really excited about school.  George has $9,600 in Chapter 30, Montgomery GI Bill VA benefits to use for scho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B03-0532-4B58-B059-C714568BA73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56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5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,6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4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,5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4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,5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,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9B8-C7F1-459B-BEBD-75307F15C5F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#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56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5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,6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6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35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2,56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C1E-11BE-4E33-99AF-26B7B07338A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ior to Packag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developed packaging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Title IV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payment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cost(s) of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ISIR with official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determine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Pell Gra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and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of available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EF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individual student’s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aid resources at your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999-91B7-4CF7-B739-91200768FC6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arlett at University of Aeronautical Studi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5790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igh achiever since she won her state spelling bee as 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ader, Scarlett is determined to become an aeronautical engineer. She is a dependent US citizen, with a 3.98 GPA and in her third academic year. She is living at home with her parents &amp; 9 br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819520" cy="393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797-D657-4BFA-99E2-BD54A7FCBC8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arlett at UA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,0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3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3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ional SMA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0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,0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g. Academic Awar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,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SA Scholarshi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69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,6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2F5-A955-4124-99E8-08189DD4A75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312) 730-152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jamie.malone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4197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971800"/>
            <a:ext cx="61722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816) 268-043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linda.coffey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77A-09F7-4EF6-9842-78C6B85EE5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709-5616-4F9A-88DA-6E97726195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Need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– EFC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varies by school and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 is taken from ISI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is filled with available aid programs and other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3200400" cy="15562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-  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1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= Need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19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089-E02C-4083-818A-31E3F5EBC21E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st of Attendance/Budge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ition and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tate/out of st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s and Supp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m and Bo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5080" y="137124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an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C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ability Related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y-Abroad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8BD-34CE-4425-A4AF-2818E02558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stimated Financial Assistance (EFA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ther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lar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earnings from need-bas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xception for Chapter 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tuition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lowship and assistant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educational benefit paid because of postsecondary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688-EC19-4DFE-AA7F-1706DDCFED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- EFC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= $13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Bas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- EFC - EFA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- 13,000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Need Bas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nsubsidized or Plus Lo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- EFA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$13,000 = $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BA2-A031-4597-9A1A-AB801A5E8D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ation of student aid and EFC must not exceed student’s C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financial aid from any source becomes available after packaging, awards must be reduced until total package does not exceed C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030-76F6-4BF1-A0F3-EE7991E729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Aid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MART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EO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Work-Stu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kins Lo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FEL/D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45240" y="1447920"/>
            <a:ext cx="339876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A5C-C58F-4492-A44D-32682D9D56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9:54Z</dcterms:modified>
  <cp:revision>67</cp:revision>
  <dc:subject/>
  <dc:title>PowerPoint Presentation</dc:title>
</cp:coreProperties>
</file>