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5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notesSlide2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9.gif" ContentType="image/gif"/>
  <Override PartName="/ppt/media/image8.wmf" ContentType="image/x-wmf"/>
  <Override PartName="/ppt/media/image13.png" ContentType="image/png"/>
  <Override PartName="/ppt/media/image11.jpeg" ContentType="image/jpeg"/>
  <Override PartName="/ppt/media/image7.wmf" ContentType="image/x-wmf"/>
  <Override PartName="/ppt/media/image12.png" ContentType="image/png"/>
  <Override PartName="/ppt/media/image6.wmf" ContentType="image/x-wmf"/>
  <Override PartName="/ppt/media/image5.wmf" ContentType="image/x-wmf"/>
  <Override PartName="/ppt/media/image10.png" ContentType="image/png"/>
  <Override PartName="/ppt/media/image3.png" ContentType="image/png"/>
  <Override PartName="/ppt/media/image26.png" ContentType="image/png"/>
  <Override PartName="/ppt/media/image2.jpeg" ContentType="image/jpeg"/>
  <Override PartName="/ppt/media/image4.wmf" ContentType="image/x-wmf"/>
  <Override PartName="/ppt/media/image1.jpeg" ContentType="image/jpeg"/>
  <Override PartName="/ppt/media/image14.png" ContentType="image/png"/>
  <Override PartName="/ppt/media/image28.gif" ContentType="image/gif"/>
  <Override PartName="/ppt/media/image27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</p:sldIdLst>
  <p:sldSz cx="9144000" cy="6858000"/>
  <p:notesSz cx="7189788" cy="9501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7189200" cy="950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114720" cy="474840"/>
          </a:xfrm>
          <a:prstGeom prst="rect">
            <a:avLst/>
          </a:prstGeom>
          <a:noFill/>
          <a:ln w="0">
            <a:noFill/>
          </a:ln>
        </p:spPr>
        <p:txBody>
          <a:bodyPr lIns="19800" rIns="19800" tIns="0" bIns="0" anchor="t">
            <a:noAutofit/>
          </a:bodyPr>
          <a:p>
            <a:pPr marL="216000" indent="0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3"/>
          </p:nvPr>
        </p:nvSpPr>
        <p:spPr>
          <a:xfrm>
            <a:off x="4073400" y="-360"/>
            <a:ext cx="3114720" cy="474840"/>
          </a:xfrm>
          <a:prstGeom prst="rect">
            <a:avLst/>
          </a:prstGeom>
          <a:noFill/>
          <a:ln w="0">
            <a:noFill/>
          </a:ln>
        </p:spPr>
        <p:txBody>
          <a:bodyPr lIns="19800" rIns="1980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228680" y="719280"/>
            <a:ext cx="4732560" cy="3549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13474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958320" y="4511520"/>
            <a:ext cx="5270760" cy="427536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4"/>
          </p:nvPr>
        </p:nvSpPr>
        <p:spPr>
          <a:xfrm>
            <a:off x="0" y="9024480"/>
            <a:ext cx="3114720" cy="474840"/>
          </a:xfrm>
          <a:prstGeom prst="rect">
            <a:avLst/>
          </a:prstGeom>
          <a:noFill/>
          <a:ln w="0">
            <a:noFill/>
          </a:ln>
        </p:spPr>
        <p:txBody>
          <a:bodyPr lIns="19800" rIns="1980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5"/>
          </p:nvPr>
        </p:nvSpPr>
        <p:spPr>
          <a:xfrm>
            <a:off x="4073400" y="9024480"/>
            <a:ext cx="3114720" cy="474840"/>
          </a:xfrm>
          <a:prstGeom prst="rect">
            <a:avLst/>
          </a:prstGeom>
          <a:noFill/>
          <a:ln w="0">
            <a:noFill/>
          </a:ln>
        </p:spPr>
        <p:txBody>
          <a:bodyPr lIns="19800" rIns="1980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fld id="{3784C2EB-E9C6-476A-8371-9A3B3E1B49FC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4073400" y="9024480"/>
            <a:ext cx="3114720" cy="474840"/>
          </a:xfrm>
          <a:prstGeom prst="rect">
            <a:avLst/>
          </a:prstGeom>
          <a:noFill/>
          <a:ln w="0">
            <a:noFill/>
          </a:ln>
        </p:spPr>
        <p:txBody>
          <a:bodyPr lIns="19800" rIns="1980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fld id="{7FEA8C76-FA4B-4BCC-9336-283100CA5712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0" y="9024480"/>
            <a:ext cx="3114720" cy="474840"/>
          </a:xfrm>
          <a:prstGeom prst="rect">
            <a:avLst/>
          </a:prstGeom>
          <a:noFill/>
          <a:ln w="0">
            <a:noFill/>
          </a:ln>
        </p:spPr>
        <p:txBody>
          <a:bodyPr lIns="19800" rIns="19800" tIns="0" bIns="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0" y="-360"/>
            <a:ext cx="3114720" cy="474840"/>
          </a:xfrm>
          <a:prstGeom prst="rect">
            <a:avLst/>
          </a:prstGeom>
          <a:noFill/>
          <a:ln w="0">
            <a:noFill/>
          </a:ln>
        </p:spPr>
        <p:txBody>
          <a:bodyPr lIns="19800" rIns="19800" tIns="0" bIns="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4073400" y="-360"/>
            <a:ext cx="3114720" cy="474840"/>
          </a:xfrm>
          <a:prstGeom prst="rect">
            <a:avLst/>
          </a:prstGeom>
          <a:noFill/>
          <a:ln w="0">
            <a:noFill/>
          </a:ln>
        </p:spPr>
        <p:txBody>
          <a:bodyPr lIns="19800" rIns="19800" tIns="0" bIns="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17520" y="712800"/>
            <a:ext cx="4753080" cy="3564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58320" y="4511520"/>
            <a:ext cx="527076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4073400" y="9024480"/>
            <a:ext cx="3114720" cy="474840"/>
          </a:xfrm>
          <a:prstGeom prst="rect">
            <a:avLst/>
          </a:prstGeom>
          <a:noFill/>
          <a:ln w="0">
            <a:noFill/>
          </a:ln>
        </p:spPr>
        <p:txBody>
          <a:bodyPr lIns="19800" rIns="1980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fld id="{0E00B4A2-7469-41EC-AAF4-4CEDE541DA73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0" y="9024480"/>
            <a:ext cx="3114720" cy="474840"/>
          </a:xfrm>
          <a:prstGeom prst="rect">
            <a:avLst/>
          </a:prstGeom>
          <a:noFill/>
          <a:ln w="0">
            <a:noFill/>
          </a:ln>
        </p:spPr>
        <p:txBody>
          <a:bodyPr lIns="19800" rIns="19800" tIns="0" bIns="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0" y="-360"/>
            <a:ext cx="3114720" cy="474840"/>
          </a:xfrm>
          <a:prstGeom prst="rect">
            <a:avLst/>
          </a:prstGeom>
          <a:noFill/>
          <a:ln w="0">
            <a:noFill/>
          </a:ln>
        </p:spPr>
        <p:txBody>
          <a:bodyPr lIns="19800" rIns="19800" tIns="0" bIns="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4073400" y="-360"/>
            <a:ext cx="3114720" cy="474840"/>
          </a:xfrm>
          <a:prstGeom prst="rect">
            <a:avLst/>
          </a:prstGeom>
          <a:noFill/>
          <a:ln w="0">
            <a:noFill/>
          </a:ln>
        </p:spPr>
        <p:txBody>
          <a:bodyPr lIns="19800" rIns="19800" tIns="0" bIns="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217520" y="712800"/>
            <a:ext cx="4753080" cy="3564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58320" y="4511520"/>
            <a:ext cx="527076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4073400" y="9024480"/>
            <a:ext cx="3114720" cy="474840"/>
          </a:xfrm>
          <a:prstGeom prst="rect">
            <a:avLst/>
          </a:prstGeom>
          <a:noFill/>
          <a:ln w="0">
            <a:noFill/>
          </a:ln>
        </p:spPr>
        <p:txBody>
          <a:bodyPr lIns="19800" rIns="1980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fld id="{4D02F6DA-FE29-4C0A-8BE5-DC05AC0EC4AB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0" y="9024480"/>
            <a:ext cx="3114720" cy="474840"/>
          </a:xfrm>
          <a:prstGeom prst="rect">
            <a:avLst/>
          </a:prstGeom>
          <a:noFill/>
          <a:ln w="0">
            <a:noFill/>
          </a:ln>
        </p:spPr>
        <p:txBody>
          <a:bodyPr lIns="19800" rIns="19800" tIns="0" bIns="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0" y="-360"/>
            <a:ext cx="3114720" cy="474840"/>
          </a:xfrm>
          <a:prstGeom prst="rect">
            <a:avLst/>
          </a:prstGeom>
          <a:noFill/>
          <a:ln w="0">
            <a:noFill/>
          </a:ln>
        </p:spPr>
        <p:txBody>
          <a:bodyPr lIns="19800" rIns="19800" tIns="0" bIns="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4073400" y="-360"/>
            <a:ext cx="3114720" cy="474840"/>
          </a:xfrm>
          <a:prstGeom prst="rect">
            <a:avLst/>
          </a:prstGeom>
          <a:noFill/>
          <a:ln w="0">
            <a:noFill/>
          </a:ln>
        </p:spPr>
        <p:txBody>
          <a:bodyPr lIns="19800" rIns="19800" tIns="0" bIns="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17520" y="712800"/>
            <a:ext cx="4753080" cy="3564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58320" y="4511520"/>
            <a:ext cx="527076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4073400" y="9024480"/>
            <a:ext cx="3114720" cy="474840"/>
          </a:xfrm>
          <a:prstGeom prst="rect">
            <a:avLst/>
          </a:prstGeom>
          <a:noFill/>
          <a:ln w="0">
            <a:noFill/>
          </a:ln>
        </p:spPr>
        <p:txBody>
          <a:bodyPr lIns="19800" rIns="1980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fld id="{54CCAE88-8388-41F6-8925-9FC1D289EE47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0" y="9024480"/>
            <a:ext cx="3114720" cy="474840"/>
          </a:xfrm>
          <a:prstGeom prst="rect">
            <a:avLst/>
          </a:prstGeom>
          <a:noFill/>
          <a:ln w="0">
            <a:noFill/>
          </a:ln>
        </p:spPr>
        <p:txBody>
          <a:bodyPr lIns="19800" rIns="19800" tIns="0" bIns="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0" y="-360"/>
            <a:ext cx="3114720" cy="474840"/>
          </a:xfrm>
          <a:prstGeom prst="rect">
            <a:avLst/>
          </a:prstGeom>
          <a:noFill/>
          <a:ln w="0">
            <a:noFill/>
          </a:ln>
        </p:spPr>
        <p:txBody>
          <a:bodyPr lIns="19800" rIns="19800" tIns="0" bIns="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4073400" y="-360"/>
            <a:ext cx="3114720" cy="474840"/>
          </a:xfrm>
          <a:prstGeom prst="rect">
            <a:avLst/>
          </a:prstGeom>
          <a:noFill/>
          <a:ln w="0">
            <a:noFill/>
          </a:ln>
        </p:spPr>
        <p:txBody>
          <a:bodyPr lIns="19800" rIns="19800" tIns="0" bIns="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17520" y="712800"/>
            <a:ext cx="4753080" cy="3564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958320" y="4511520"/>
            <a:ext cx="527076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4073400" y="9024480"/>
            <a:ext cx="3114720" cy="474840"/>
          </a:xfrm>
          <a:prstGeom prst="rect">
            <a:avLst/>
          </a:prstGeom>
          <a:noFill/>
          <a:ln w="0">
            <a:noFill/>
          </a:ln>
        </p:spPr>
        <p:txBody>
          <a:bodyPr lIns="19800" rIns="1980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fld id="{D4861C05-EAA1-41FE-BAA5-497AECFDA36A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0" y="9024480"/>
            <a:ext cx="3114720" cy="474840"/>
          </a:xfrm>
          <a:prstGeom prst="rect">
            <a:avLst/>
          </a:prstGeom>
          <a:noFill/>
          <a:ln w="0">
            <a:noFill/>
          </a:ln>
        </p:spPr>
        <p:txBody>
          <a:bodyPr lIns="19800" rIns="19800" tIns="0" bIns="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0" y="-360"/>
            <a:ext cx="3114720" cy="474840"/>
          </a:xfrm>
          <a:prstGeom prst="rect">
            <a:avLst/>
          </a:prstGeom>
          <a:noFill/>
          <a:ln w="0">
            <a:noFill/>
          </a:ln>
        </p:spPr>
        <p:txBody>
          <a:bodyPr lIns="19800" rIns="19800" tIns="0" bIns="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4073400" y="-360"/>
            <a:ext cx="3114720" cy="474840"/>
          </a:xfrm>
          <a:prstGeom prst="rect">
            <a:avLst/>
          </a:prstGeom>
          <a:noFill/>
          <a:ln w="0">
            <a:noFill/>
          </a:ln>
        </p:spPr>
        <p:txBody>
          <a:bodyPr lIns="19800" rIns="19800" tIns="0" bIns="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217520" y="712800"/>
            <a:ext cx="4753080" cy="3564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958320" y="4511520"/>
            <a:ext cx="527076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4073400" y="9024480"/>
            <a:ext cx="3114720" cy="474840"/>
          </a:xfrm>
          <a:prstGeom prst="rect">
            <a:avLst/>
          </a:prstGeom>
          <a:noFill/>
          <a:ln w="0">
            <a:noFill/>
          </a:ln>
        </p:spPr>
        <p:txBody>
          <a:bodyPr lIns="19800" rIns="1980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fld id="{EC7A5C7C-9DDA-493A-A0EA-F12F5188F331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0" y="9024480"/>
            <a:ext cx="3114720" cy="474840"/>
          </a:xfrm>
          <a:prstGeom prst="rect">
            <a:avLst/>
          </a:prstGeom>
          <a:noFill/>
          <a:ln w="0">
            <a:noFill/>
          </a:ln>
        </p:spPr>
        <p:txBody>
          <a:bodyPr lIns="19800" rIns="19800" tIns="0" bIns="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0" y="-360"/>
            <a:ext cx="3114720" cy="474840"/>
          </a:xfrm>
          <a:prstGeom prst="rect">
            <a:avLst/>
          </a:prstGeom>
          <a:noFill/>
          <a:ln w="0">
            <a:noFill/>
          </a:ln>
        </p:spPr>
        <p:txBody>
          <a:bodyPr lIns="19800" rIns="19800" tIns="0" bIns="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4073400" y="-360"/>
            <a:ext cx="3114720" cy="474840"/>
          </a:xfrm>
          <a:prstGeom prst="rect">
            <a:avLst/>
          </a:prstGeom>
          <a:noFill/>
          <a:ln w="0">
            <a:noFill/>
          </a:ln>
        </p:spPr>
        <p:txBody>
          <a:bodyPr lIns="19800" rIns="19800" tIns="0" bIns="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217520" y="712800"/>
            <a:ext cx="4753080" cy="3564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958320" y="4511520"/>
            <a:ext cx="527076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4073400" y="9024480"/>
            <a:ext cx="3114720" cy="474840"/>
          </a:xfrm>
          <a:prstGeom prst="rect">
            <a:avLst/>
          </a:prstGeom>
          <a:noFill/>
          <a:ln w="0">
            <a:noFill/>
          </a:ln>
        </p:spPr>
        <p:txBody>
          <a:bodyPr lIns="19800" rIns="1980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fld id="{5329E0AB-3A09-4FFF-834D-FB9FC6F81D4E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0" y="9024480"/>
            <a:ext cx="3114720" cy="474840"/>
          </a:xfrm>
          <a:prstGeom prst="rect">
            <a:avLst/>
          </a:prstGeom>
          <a:noFill/>
          <a:ln w="0">
            <a:noFill/>
          </a:ln>
        </p:spPr>
        <p:txBody>
          <a:bodyPr lIns="19800" rIns="19800" tIns="0" bIns="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0" y="-360"/>
            <a:ext cx="3114720" cy="474840"/>
          </a:xfrm>
          <a:prstGeom prst="rect">
            <a:avLst/>
          </a:prstGeom>
          <a:noFill/>
          <a:ln w="0">
            <a:noFill/>
          </a:ln>
        </p:spPr>
        <p:txBody>
          <a:bodyPr lIns="19800" rIns="19800" tIns="0" bIns="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4073400" y="-360"/>
            <a:ext cx="3114720" cy="474840"/>
          </a:xfrm>
          <a:prstGeom prst="rect">
            <a:avLst/>
          </a:prstGeom>
          <a:noFill/>
          <a:ln w="0">
            <a:noFill/>
          </a:ln>
        </p:spPr>
        <p:txBody>
          <a:bodyPr lIns="19800" rIns="19800" tIns="0" bIns="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217520" y="712800"/>
            <a:ext cx="4753080" cy="3564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958320" y="4511520"/>
            <a:ext cx="527076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4073400" y="9024480"/>
            <a:ext cx="3114720" cy="474840"/>
          </a:xfrm>
          <a:prstGeom prst="rect">
            <a:avLst/>
          </a:prstGeom>
          <a:noFill/>
          <a:ln w="0">
            <a:noFill/>
          </a:ln>
        </p:spPr>
        <p:txBody>
          <a:bodyPr lIns="19800" rIns="1980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fld id="{F58097E7-5636-4CC3-A366-4389C7789EBB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0" y="9024480"/>
            <a:ext cx="3114720" cy="474840"/>
          </a:xfrm>
          <a:prstGeom prst="rect">
            <a:avLst/>
          </a:prstGeom>
          <a:noFill/>
          <a:ln w="0">
            <a:noFill/>
          </a:ln>
        </p:spPr>
        <p:txBody>
          <a:bodyPr lIns="19800" rIns="19800" tIns="0" bIns="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0" y="-360"/>
            <a:ext cx="3114720" cy="474840"/>
          </a:xfrm>
          <a:prstGeom prst="rect">
            <a:avLst/>
          </a:prstGeom>
          <a:noFill/>
          <a:ln w="0">
            <a:noFill/>
          </a:ln>
        </p:spPr>
        <p:txBody>
          <a:bodyPr lIns="19800" rIns="19800" tIns="0" bIns="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4073400" y="-360"/>
            <a:ext cx="3114720" cy="474840"/>
          </a:xfrm>
          <a:prstGeom prst="rect">
            <a:avLst/>
          </a:prstGeom>
          <a:noFill/>
          <a:ln w="0">
            <a:noFill/>
          </a:ln>
        </p:spPr>
        <p:txBody>
          <a:bodyPr lIns="19800" rIns="19800" tIns="0" bIns="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217520" y="712800"/>
            <a:ext cx="4753080" cy="3564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958320" y="4511520"/>
            <a:ext cx="527076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4073400" y="9024480"/>
            <a:ext cx="3114720" cy="474840"/>
          </a:xfrm>
          <a:prstGeom prst="rect">
            <a:avLst/>
          </a:prstGeom>
          <a:noFill/>
          <a:ln w="0">
            <a:noFill/>
          </a:ln>
        </p:spPr>
        <p:txBody>
          <a:bodyPr lIns="19800" rIns="1980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fld id="{FF6336DE-5B94-4A08-A0E5-C867FBF1F142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0" y="9024480"/>
            <a:ext cx="3114720" cy="474840"/>
          </a:xfrm>
          <a:prstGeom prst="rect">
            <a:avLst/>
          </a:prstGeom>
          <a:noFill/>
          <a:ln w="0">
            <a:noFill/>
          </a:ln>
        </p:spPr>
        <p:txBody>
          <a:bodyPr lIns="19800" rIns="19800" tIns="0" bIns="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0" y="-360"/>
            <a:ext cx="3114720" cy="474840"/>
          </a:xfrm>
          <a:prstGeom prst="rect">
            <a:avLst/>
          </a:prstGeom>
          <a:noFill/>
          <a:ln w="0">
            <a:noFill/>
          </a:ln>
        </p:spPr>
        <p:txBody>
          <a:bodyPr lIns="19800" rIns="19800" tIns="0" bIns="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4073400" y="-360"/>
            <a:ext cx="3114720" cy="474840"/>
          </a:xfrm>
          <a:prstGeom prst="rect">
            <a:avLst/>
          </a:prstGeom>
          <a:noFill/>
          <a:ln w="0">
            <a:noFill/>
          </a:ln>
        </p:spPr>
        <p:txBody>
          <a:bodyPr lIns="19800" rIns="19800" tIns="0" bIns="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217520" y="712800"/>
            <a:ext cx="4753080" cy="3564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958320" y="4511520"/>
            <a:ext cx="527076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 txBox="1"/>
          <p:nvPr/>
        </p:nvSpPr>
        <p:spPr>
          <a:xfrm>
            <a:off x="4073400" y="9024480"/>
            <a:ext cx="3114720" cy="474840"/>
          </a:xfrm>
          <a:prstGeom prst="rect">
            <a:avLst/>
          </a:prstGeom>
          <a:noFill/>
          <a:ln w="0">
            <a:noFill/>
          </a:ln>
        </p:spPr>
        <p:txBody>
          <a:bodyPr lIns="19800" rIns="1980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fld id="{69EDF9B0-B707-45BA-959B-BC271AAE94E9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0" y="9024480"/>
            <a:ext cx="3114720" cy="474840"/>
          </a:xfrm>
          <a:prstGeom prst="rect">
            <a:avLst/>
          </a:prstGeom>
          <a:noFill/>
          <a:ln w="0">
            <a:noFill/>
          </a:ln>
        </p:spPr>
        <p:txBody>
          <a:bodyPr lIns="19800" rIns="19800" tIns="0" bIns="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0" y="-360"/>
            <a:ext cx="3114720" cy="474840"/>
          </a:xfrm>
          <a:prstGeom prst="rect">
            <a:avLst/>
          </a:prstGeom>
          <a:noFill/>
          <a:ln w="0">
            <a:noFill/>
          </a:ln>
        </p:spPr>
        <p:txBody>
          <a:bodyPr lIns="19800" rIns="19800" tIns="0" bIns="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4073400" y="-360"/>
            <a:ext cx="3114720" cy="474840"/>
          </a:xfrm>
          <a:prstGeom prst="rect">
            <a:avLst/>
          </a:prstGeom>
          <a:noFill/>
          <a:ln w="0">
            <a:noFill/>
          </a:ln>
        </p:spPr>
        <p:txBody>
          <a:bodyPr lIns="19800" rIns="19800" tIns="0" bIns="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217520" y="712800"/>
            <a:ext cx="4753080" cy="3564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958320" y="4511520"/>
            <a:ext cx="527076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 txBox="1"/>
          <p:nvPr/>
        </p:nvSpPr>
        <p:spPr>
          <a:xfrm>
            <a:off x="4073400" y="9024480"/>
            <a:ext cx="3114720" cy="474840"/>
          </a:xfrm>
          <a:prstGeom prst="rect">
            <a:avLst/>
          </a:prstGeom>
          <a:noFill/>
          <a:ln w="0">
            <a:noFill/>
          </a:ln>
        </p:spPr>
        <p:txBody>
          <a:bodyPr lIns="19800" rIns="1980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fld id="{B09D1B01-A9E4-4F4F-B329-3F0FA5AF3B53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0" y="9024480"/>
            <a:ext cx="3114720" cy="474840"/>
          </a:xfrm>
          <a:prstGeom prst="rect">
            <a:avLst/>
          </a:prstGeom>
          <a:noFill/>
          <a:ln w="0">
            <a:noFill/>
          </a:ln>
        </p:spPr>
        <p:txBody>
          <a:bodyPr lIns="19800" rIns="19800" tIns="0" bIns="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0" y="-360"/>
            <a:ext cx="3114720" cy="474840"/>
          </a:xfrm>
          <a:prstGeom prst="rect">
            <a:avLst/>
          </a:prstGeom>
          <a:noFill/>
          <a:ln w="0">
            <a:noFill/>
          </a:ln>
        </p:spPr>
        <p:txBody>
          <a:bodyPr lIns="19800" rIns="19800" tIns="0" bIns="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4073400" y="-360"/>
            <a:ext cx="3114720" cy="474840"/>
          </a:xfrm>
          <a:prstGeom prst="rect">
            <a:avLst/>
          </a:prstGeom>
          <a:noFill/>
          <a:ln w="0">
            <a:noFill/>
          </a:ln>
        </p:spPr>
        <p:txBody>
          <a:bodyPr lIns="19800" rIns="19800" tIns="0" bIns="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217520" y="712800"/>
            <a:ext cx="4753080" cy="3564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958320" y="4511520"/>
            <a:ext cx="527076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 txBox="1"/>
          <p:nvPr/>
        </p:nvSpPr>
        <p:spPr>
          <a:xfrm>
            <a:off x="4073400" y="9024480"/>
            <a:ext cx="3114720" cy="474840"/>
          </a:xfrm>
          <a:prstGeom prst="rect">
            <a:avLst/>
          </a:prstGeom>
          <a:noFill/>
          <a:ln w="0">
            <a:noFill/>
          </a:ln>
        </p:spPr>
        <p:txBody>
          <a:bodyPr lIns="19800" rIns="1980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fld id="{0DF31EE0-A6B0-414D-B1EF-515C09A6B042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0" y="9024480"/>
            <a:ext cx="3114720" cy="474840"/>
          </a:xfrm>
          <a:prstGeom prst="rect">
            <a:avLst/>
          </a:prstGeom>
          <a:noFill/>
          <a:ln w="0">
            <a:noFill/>
          </a:ln>
        </p:spPr>
        <p:txBody>
          <a:bodyPr lIns="19800" rIns="19800" tIns="0" bIns="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0" y="-360"/>
            <a:ext cx="3114720" cy="474840"/>
          </a:xfrm>
          <a:prstGeom prst="rect">
            <a:avLst/>
          </a:prstGeom>
          <a:noFill/>
          <a:ln w="0">
            <a:noFill/>
          </a:ln>
        </p:spPr>
        <p:txBody>
          <a:bodyPr lIns="19800" rIns="19800" tIns="0" bIns="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4073400" y="-360"/>
            <a:ext cx="3114720" cy="474840"/>
          </a:xfrm>
          <a:prstGeom prst="rect">
            <a:avLst/>
          </a:prstGeom>
          <a:noFill/>
          <a:ln w="0">
            <a:noFill/>
          </a:ln>
        </p:spPr>
        <p:txBody>
          <a:bodyPr lIns="19800" rIns="19800" tIns="0" bIns="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217520" y="712800"/>
            <a:ext cx="4753080" cy="3564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958320" y="4510080"/>
            <a:ext cx="5270760" cy="428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4073400" y="9024480"/>
            <a:ext cx="3114720" cy="474840"/>
          </a:xfrm>
          <a:prstGeom prst="rect">
            <a:avLst/>
          </a:prstGeom>
          <a:noFill/>
          <a:ln w="0">
            <a:noFill/>
          </a:ln>
        </p:spPr>
        <p:txBody>
          <a:bodyPr lIns="19800" rIns="1980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fld id="{C47D0D12-54E9-4170-9EDC-7F46522E57CA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0" y="9024480"/>
            <a:ext cx="3114720" cy="474840"/>
          </a:xfrm>
          <a:prstGeom prst="rect">
            <a:avLst/>
          </a:prstGeom>
          <a:noFill/>
          <a:ln w="0">
            <a:noFill/>
          </a:ln>
        </p:spPr>
        <p:txBody>
          <a:bodyPr lIns="19800" rIns="19800" tIns="0" bIns="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0" y="-360"/>
            <a:ext cx="3114720" cy="474840"/>
          </a:xfrm>
          <a:prstGeom prst="rect">
            <a:avLst/>
          </a:prstGeom>
          <a:noFill/>
          <a:ln w="0">
            <a:noFill/>
          </a:ln>
        </p:spPr>
        <p:txBody>
          <a:bodyPr lIns="19800" rIns="19800" tIns="0" bIns="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4073400" y="-360"/>
            <a:ext cx="3114720" cy="474840"/>
          </a:xfrm>
          <a:prstGeom prst="rect">
            <a:avLst/>
          </a:prstGeom>
          <a:noFill/>
          <a:ln w="0">
            <a:noFill/>
          </a:ln>
        </p:spPr>
        <p:txBody>
          <a:bodyPr lIns="19800" rIns="19800" tIns="0" bIns="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217520" y="712800"/>
            <a:ext cx="4753080" cy="3564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58320" y="4511520"/>
            <a:ext cx="527076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 txBox="1"/>
          <p:nvPr/>
        </p:nvSpPr>
        <p:spPr>
          <a:xfrm>
            <a:off x="4073400" y="9024480"/>
            <a:ext cx="3114720" cy="474840"/>
          </a:xfrm>
          <a:prstGeom prst="rect">
            <a:avLst/>
          </a:prstGeom>
          <a:noFill/>
          <a:ln w="0">
            <a:noFill/>
          </a:ln>
        </p:spPr>
        <p:txBody>
          <a:bodyPr lIns="19800" rIns="1980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fld id="{3FFF7F0F-1E35-4DD9-9ACB-93C2DE251C44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0" y="9024480"/>
            <a:ext cx="3114720" cy="474840"/>
          </a:xfrm>
          <a:prstGeom prst="rect">
            <a:avLst/>
          </a:prstGeom>
          <a:noFill/>
          <a:ln w="0">
            <a:noFill/>
          </a:ln>
        </p:spPr>
        <p:txBody>
          <a:bodyPr lIns="19800" rIns="19800" tIns="0" bIns="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0" y="-360"/>
            <a:ext cx="3114720" cy="474840"/>
          </a:xfrm>
          <a:prstGeom prst="rect">
            <a:avLst/>
          </a:prstGeom>
          <a:noFill/>
          <a:ln w="0">
            <a:noFill/>
          </a:ln>
        </p:spPr>
        <p:txBody>
          <a:bodyPr lIns="19800" rIns="19800" tIns="0" bIns="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4073400" y="-360"/>
            <a:ext cx="3114720" cy="474840"/>
          </a:xfrm>
          <a:prstGeom prst="rect">
            <a:avLst/>
          </a:prstGeom>
          <a:noFill/>
          <a:ln w="0">
            <a:noFill/>
          </a:ln>
        </p:spPr>
        <p:txBody>
          <a:bodyPr lIns="19800" rIns="19800" tIns="0" bIns="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217520" y="712800"/>
            <a:ext cx="4753080" cy="3564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958320" y="4510080"/>
            <a:ext cx="5270760" cy="428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91455E-6CCB-49D7-8ED0-7214C051B8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09480" y="3978360"/>
            <a:ext cx="83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69610F-2F40-47BD-ACBC-91F231FA6D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480" y="397836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81240" y="397836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C54BBD-D3A0-46AA-B34F-B80B721A9D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28280" y="182880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247080" y="182880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09480" y="397836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428280" y="397836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247080" y="397836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58BB67-BFE1-41B1-8E3E-EB2EA88041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123720" y="456840"/>
            <a:ext cx="5821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6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9480" y="397836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934CDD-928B-4F4D-9376-0F19AF3C3F7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81240" y="397836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9480" y="3978360"/>
            <a:ext cx="83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09480" y="3978360"/>
            <a:ext cx="83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9480" y="397836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81240" y="397836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28280" y="182880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47080" y="182880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09480" y="397836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28280" y="397836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47080" y="397836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297096-3683-4C93-98B1-28974932B5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5775EB-8AAF-4508-8657-E8D27D1849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5348DD-7285-4603-867E-F5405AE973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123720" y="456840"/>
            <a:ext cx="5821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6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5FCF79-E1CB-474D-B15A-AC8712BC6D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09480" y="397836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18440D-C66E-4CBC-843A-0AF196B1BC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81240" y="397836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643AA9-36EB-4491-8FD8-A019E11403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480" y="3978360"/>
            <a:ext cx="83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CDDD8F-99DB-4DC1-8ABA-207A4605E9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823c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823c8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06708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76760"/>
            <a:ext cx="18288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93D6D-8126-4BFC-B142-D08EBD2789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523880" y="0"/>
            <a:ext cx="7620120" cy="533520"/>
          </a:xfrm>
          <a:prstGeom prst="rect">
            <a:avLst/>
          </a:prstGeom>
          <a:ln w="0">
            <a:noFill/>
          </a:ln>
        </p:spPr>
      </p:pic>
      <p:pic>
        <p:nvPicPr>
          <p:cNvPr id="5" name="" descr=""/>
          <p:cNvPicPr/>
          <p:nvPr/>
        </p:nvPicPr>
        <p:blipFill>
          <a:blip r:embed="rId3"/>
          <a:srcRect l="0" t="31673" r="0" b="54484"/>
          <a:stretch/>
        </p:blipFill>
        <p:spPr>
          <a:xfrm>
            <a:off x="0" y="6553080"/>
            <a:ext cx="7696080" cy="30492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4"/>
          <a:stretch/>
        </p:blipFill>
        <p:spPr>
          <a:xfrm>
            <a:off x="0" y="0"/>
            <a:ext cx="2359080" cy="1600200"/>
          </a:xfrm>
          <a:prstGeom prst="rect">
            <a:avLst/>
          </a:prstGeom>
          <a:ln w="0">
            <a:noFill/>
          </a:ln>
        </p:spPr>
      </p:pic>
      <p:pic>
        <p:nvPicPr>
          <p:cNvPr id="7" name="0" descr="The U.S. Department of Education"/>
          <p:cNvPicPr/>
          <p:nvPr/>
        </p:nvPicPr>
        <p:blipFill>
          <a:blip r:embed="rId5"/>
          <a:stretch/>
        </p:blipFill>
        <p:spPr>
          <a:xfrm>
            <a:off x="5257800" y="5943600"/>
            <a:ext cx="3695760" cy="533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8839080" cy="76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rcRect l="5679" t="32004" r="0" b="61183"/>
          <a:stretch/>
        </p:blipFill>
        <p:spPr>
          <a:xfrm>
            <a:off x="0" y="6400800"/>
            <a:ext cx="6781680" cy="4572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1676520" y="1219320"/>
            <a:ext cx="5584680" cy="3789360"/>
          </a:xfrm>
          <a:prstGeom prst="rect">
            <a:avLst/>
          </a:prstGeom>
          <a:ln w="0">
            <a:noFill/>
          </a:ln>
        </p:spPr>
      </p:pic>
      <p:pic>
        <p:nvPicPr>
          <p:cNvPr id="47" name="0" descr="The U.S. Department of Education"/>
          <p:cNvPicPr/>
          <p:nvPr/>
        </p:nvPicPr>
        <p:blipFill>
          <a:blip r:embed="rId5"/>
          <a:stretch/>
        </p:blipFill>
        <p:spPr>
          <a:xfrm>
            <a:off x="5181480" y="5791320"/>
            <a:ext cx="3695760" cy="53316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13474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823c8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823c86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823c86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hyperlink" Target="mailto:cpswan@ncs.com" TargetMode="External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image" Target="../media/image7.wmf"/><Relationship Id="rId6" Type="http://schemas.openxmlformats.org/officeDocument/2006/relationships/image" Target="../media/image8.wmf"/><Relationship Id="rId7" Type="http://schemas.openxmlformats.org/officeDocument/2006/relationships/hyperlink" Target="http://www.saigportal.sfa.ed.gov/saigprod/index.jsp" TargetMode="External"/><Relationship Id="rId8" Type="http://schemas.openxmlformats.org/officeDocument/2006/relationships/image" Target="../media/image9.png"/><Relationship Id="rId9" Type="http://schemas.openxmlformats.org/officeDocument/2006/relationships/hyperlink" Target="http://saigportal.ed.gov/" TargetMode="External"/><Relationship Id="rId10" Type="http://schemas.openxmlformats.org/officeDocument/2006/relationships/slideLayout" Target="../slideLayouts/slideLayout5.xml"/><Relationship Id="rId11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9.gif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0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fsadownload.ed.gov/softedconnect.htm" TargetMode="External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590920" y="533520"/>
            <a:ext cx="5410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Security View Setup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ecurity Group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Use same TGID and password to access SAIG mail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User 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ll customers w/in group using EDconnect must have a unique User ID and password for accessing the EDconnect soft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rcRect l="0" t="0" r="77467" b="68748"/>
          <a:stretch/>
        </p:blipFill>
        <p:spPr>
          <a:xfrm>
            <a:off x="4343400" y="1600200"/>
            <a:ext cx="4343400" cy="3809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34 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93D16C-A0A0-4833-B817-11F83DF272F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133720" y="228600"/>
            <a:ext cx="6781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 </a:t>
            </a: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Security View - User Setup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rectorie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b displays location of EDconnect data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end &amp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ceiv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directories default to C:\iam\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directories should match your EDExpress or other software set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4343400" y="1219320"/>
            <a:ext cx="4349880" cy="4724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34 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69F8BF-6734-47F7-948D-4B8E16BFCCEA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533160"/>
            <a:ext cx="457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Connection Setup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80880" y="1676160"/>
            <a:ext cx="83059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connect - internet connection for transmis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hods for configuring internet conn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 Connec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601"/>
              </a:spcBef>
              <a:buClr>
                <a:srgbClr val="823c8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N (Local Area Networ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601"/>
              </a:spcBef>
              <a:buClr>
                <a:srgbClr val="823c8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ble mod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601"/>
              </a:spcBef>
              <a:buClr>
                <a:srgbClr val="823c8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SL mod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P -  dial-up ac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34 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2BCA43-3064-4407-8581-B1B782F87E2D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514240" y="685800"/>
            <a:ext cx="4724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Security: Firewalls </a:t>
            </a:r>
            <a:br>
              <a:rPr sz="4000"/>
            </a:b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Firewal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- barrier between computer &amp; external source (Interne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rdware or software implemen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y prevent EDconnect from communicating with SAI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a firewall is present the technical staff will need to open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ort 2658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allow outbound TCP/IP traff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34 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C8C98A-5F44-4A41-8292-4B7A243005C7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666520" y="685440"/>
            <a:ext cx="5715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Transmission Queue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09480" y="4800240"/>
            <a:ext cx="8336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 by clicking 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 items in TQ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609480" y="1827360"/>
          <a:ext cx="8096400" cy="243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827360"/>
                    <a:ext cx="8096400" cy="24397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5410080" y="4572000"/>
            <a:ext cx="2133720" cy="647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06" name=""/>
          <p:cNvSpPr/>
          <p:nvPr/>
        </p:nvSpPr>
        <p:spPr>
          <a:xfrm>
            <a:off x="5410080" y="5410080"/>
            <a:ext cx="486000" cy="762120"/>
          </a:xfrm>
          <a:prstGeom prst="upArrow">
            <a:avLst>
              <a:gd name="adj1" fmla="val 50000"/>
              <a:gd name="adj2" fmla="val 39204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34 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73C43F-7647-46EB-A097-1D06EE68A521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124080" y="533160"/>
            <a:ext cx="4724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Sending from TQ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09480" y="4419360"/>
            <a:ext cx="83361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lude filename when sen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terisk indicates TQ is not comple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762120" y="1676520"/>
          <a:ext cx="7772400" cy="26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26668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34 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89D37E-855B-45BC-BEED-B92C47728C9B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971800" y="685440"/>
            <a:ext cx="3581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Activity Log 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440" y="3733920"/>
            <a:ext cx="80773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ailed audit trail for data transmis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umn width adjus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380880" y="1981080"/>
          <a:ext cx="8382240" cy="227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981080"/>
                    <a:ext cx="8382240" cy="22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34 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6B568D-B396-4782-8E32-F5F44CFE2D16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742840" y="609120"/>
            <a:ext cx="4876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Mailbox Query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42667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plays your mailbo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select files for downloading f/ mailbo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23c8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e to TQ” colum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3498" r="0" b="63171"/>
          <a:stretch/>
        </p:blipFill>
        <p:spPr>
          <a:xfrm>
            <a:off x="228600" y="1676520"/>
            <a:ext cx="8686800" cy="2209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34 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E9B8F9-33D2-46D5-9ECC-53790283AC6C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200400" y="533520"/>
            <a:ext cx="4495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Archive View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914040" y="3733560"/>
            <a:ext cx="74674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trieve files within ten days of downloa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Item Number in Activity Log and Archive 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304920" y="1600200"/>
          <a:ext cx="8534160" cy="213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600200"/>
                    <a:ext cx="8534160" cy="21337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34 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ECB33F-B0CC-423F-91DA-6668E2FDAB4F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2286000" y="609480"/>
            <a:ext cx="57913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Times New Roman"/>
              </a:rPr>
              <a:t>EasyAccess Cli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28600" y="1676520"/>
            <a:ext cx="78487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80008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quest software via CPS/WAN Technical Support - FTP passwo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80008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ost Communication Guide 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http://fsadownload.ed.gov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80008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reate JCL/Scripts to execute EACli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0008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cript problems? Visit PC lab or contact CPS/WAN Technical sup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34 -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6E9766-5972-48CB-9A11-B0194B4D7B96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057040" y="1676160"/>
            <a:ext cx="655308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tudent Aid Internet Gateway (SAIG) Software</a:t>
            </a:r>
            <a:br>
              <a:rPr sz="4400"/>
            </a:br>
            <a:r>
              <a:rPr b="1" i="1" lang="en-US" sz="4400" spc="-1" strike="noStrike">
                <a:solidFill>
                  <a:srgbClr val="003366"/>
                </a:solidFill>
                <a:latin typeface="Arial"/>
              </a:rPr>
              <a:t> for Title IV Transmissions</a:t>
            </a:r>
            <a:br>
              <a:rPr sz="4400"/>
            </a:br>
            <a:endParaRPr b="1" i="1" lang="en-US" sz="44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-162000" y="15840"/>
            <a:ext cx="193680" cy="935244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ersLi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ke out EasyAccess/TDCl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553080" y="5105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 u="sng">
                <a:solidFill>
                  <a:srgbClr val="800080"/>
                </a:solidFill>
                <a:uFillTx/>
                <a:latin typeface="Times New Roman"/>
              </a:rPr>
              <a:t>Session #3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34 -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A93D61-1FE5-4023-9424-7599246B69E9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2743200" y="533520"/>
            <a:ext cx="5715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Times New Roman"/>
              </a:rPr>
              <a:t>Supported Platform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85800" y="1905120"/>
            <a:ext cx="731520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80008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VS OS/390 2.6+ &amp; LE 1.9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0008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S/400 4.2+ (Compiler Level 3.7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0008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IX 4.2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80008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un Solaris 2.6+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0008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C Open VMS 7.1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0008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PUX 10.2+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34 -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937D55-8364-417F-94E0-834856E54B1B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2057400" y="380880"/>
            <a:ext cx="68580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Times New Roman"/>
              </a:rPr>
              <a:t>EasyAccess Client Basic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990720" y="2057400"/>
            <a:ext cx="487656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80008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ssword chang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0008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ery List &amp; Audit Log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0008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nding Dat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0008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iving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34 -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DC41C1-2C5F-408C-A65B-913B6D87AE2D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828800" y="1295280"/>
            <a:ext cx="632448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28600" y="685800"/>
            <a:ext cx="84582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Times New Roman"/>
              </a:rPr>
              <a:t>Password Chan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efc42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80880" y="1447920"/>
            <a:ext cx="85345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WORK=SAIGPORT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TPUSERID=TG5000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FTPPASSWD=PASSWORD/newpassword/new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FER=(NAME=anything SENDUSERID=TG50000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D=DD:SENDFILE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_COMP_PARMS='SECFILE=DD:SECFILEX'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34 -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B5F4BE-A27D-4288-8388-961D3CCA7D5C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1828800" y="1295280"/>
            <a:ext cx="632448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80880" y="45720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80"/>
                </a:solidFill>
                <a:latin typeface="Arial"/>
              </a:rPr>
              <a:t>Query Li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28600" y="1981080"/>
            <a:ext cx="86868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WORK=SAIGPORT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TPUSERID=TG5000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TPPASSWD=passwor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ERY_LIST QUERY_FILE=DD:QUE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ERY_STATUS= [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RECEIVED, AVAILABLE or DELET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34 -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918FA0-C4F6-412D-94BD-5B018B3CEEDE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1828800" y="1295280"/>
            <a:ext cx="632448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0880" y="45720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Arial"/>
              </a:rPr>
              <a:t>Audit Lo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838080" y="1981080"/>
            <a:ext cx="72392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WORK=SAIGPORT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TPUSERID=TG5000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TPPASSWD=passwor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RECEIVE_AUDIT_LO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34 -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F1721F-86F6-4BB3-BBF0-A510EB123F71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1828800" y="1295280"/>
            <a:ext cx="632448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905120" y="533520"/>
            <a:ext cx="56386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Times New Roman"/>
              </a:rPr>
              <a:t>Sending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80880" y="1600200"/>
            <a:ext cx="8458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WORK=SAIGPORT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TPUSERID=TG5000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TPPASSWD=passwor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ET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80880" y="3809880"/>
            <a:ext cx="8534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FER=(NAME=anything SENDUSERID=TG50000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D=DD:SENDFILE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_COMP_PARMS='SECFILE=DD:SECFILEX'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34 -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906A19-B4F5-49F0-A8E0-85792DF134F5}" type="slidenum">
              <a:t>25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380880" y="1752480"/>
            <a:ext cx="84582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09680" y="380880"/>
            <a:ext cx="5029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Arial"/>
              </a:rPr>
              <a:t>SECFI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28600" y="1981080"/>
            <a:ext cx="8686800" cy="25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NDER(TG50000);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ADERLITERAL(O*N05) HEADERSTART(1) RECEIVERSTART(6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EIVERLENGTH(14) CLASSSTART(25) CLASSLENGTH(8);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AILERLITERAL(O*N95) TRAILERSTART(1);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TERAL(O*N01) LITERALSTART(1) DROP(Y);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TERAL(O*N99) LITERALSTART(1) DROP(Y);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34 -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51AFE3-F8CA-43AB-A88B-85180A39F789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1828800" y="1295280"/>
            <a:ext cx="632448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28600" y="380880"/>
            <a:ext cx="85345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80"/>
                </a:solidFill>
                <a:latin typeface="Times New Roman"/>
              </a:rPr>
              <a:t>Receiving Da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85800" y="1600200"/>
            <a:ext cx="8153280" cy="17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WORK=SAIGPORT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TPUSERID=TG50000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TPPASSWD=passwor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ET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85800" y="3352680"/>
            <a:ext cx="807732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FER=(NAME=anything1       RECEIVECLASS=SARA02OP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EIVE=DD:SARA02OP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85800" y="4724280"/>
            <a:ext cx="807732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FER=(NAME=anything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EIVE=DD:ALLDAT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34 -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5E0791-FC7D-49A9-A797-7FB630DED51B}" type="slidenum">
              <a:t>27</a:t>
            </a:fld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533520" y="1676520"/>
            <a:ext cx="815328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buClr>
                <a:srgbClr val="80008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merly referred to as OS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80008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b tool - view network traffic in your SAIG mailbo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80008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net address: </a:t>
            </a: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http://www.saigportal.fsa.ed.gov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80008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wnload the TDCM User’s Guide at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http://fsadownload.ed.go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981080" y="304920"/>
            <a:ext cx="716292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Times New Roman"/>
              </a:rPr>
              <a:t>TDCommunity Manag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34 -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2F2B35-0553-404C-8731-B66D56283E46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590920" y="533160"/>
            <a:ext cx="6278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TDCM Features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90360" y="1752120"/>
            <a:ext cx="655308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80008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itors sent and received fil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008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s filter and sort capabi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008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s advanced search op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008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be used to restor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008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ew error detail to troubleshoot transmission err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34 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96AAE4-3C16-4542-804C-53B0DE0310EB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Agenda 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udent Aid Internet Gateway(SAI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ransmission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Dconn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asy Access Cli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D CommunityManager (formerly OS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pcoming Changes for SAIG su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34 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8588F3-A163-4947-9E88-BEAA47071E2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742840" y="685800"/>
            <a:ext cx="5715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Basics for TDCM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34544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eenwich Mean Time (GMT) Military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net Explorer V5.0 displays screens b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rious Netscape versions will not display fu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34 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C58B55-F46A-4D58-9E7D-D464C9594F6E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514600" y="533520"/>
            <a:ext cx="63244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 </a:t>
            </a: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Login Screen for TDCM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09480" y="3962160"/>
            <a:ext cx="833616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name: enter TG Number, including “TG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ssword: enter your SAIG Network passwo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Log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stomers access following tab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lcome, Participants, Messages &amp; Arch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other tabs reserved for CPS/WAN or administ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7" name=""/>
          <p:cNvGraphicFramePr/>
          <p:nvPr/>
        </p:nvGraphicFramePr>
        <p:xfrm>
          <a:off x="304920" y="1371600"/>
          <a:ext cx="8458200" cy="251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371600"/>
                    <a:ext cx="8458200" cy="25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34 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D28BDA-ED42-4E3F-AD84-413CC4E878DC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Participants Tab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380880" y="4343400"/>
            <a:ext cx="79250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Participants Tab only make changes to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Password” &amp; “Verify Password” fiel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ing other fields may corrupt your school’s setup in OSM &amp; prevent the sending and receiving of dat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1" name=""/>
          <p:cNvGraphicFramePr/>
          <p:nvPr/>
        </p:nvGraphicFramePr>
        <p:xfrm>
          <a:off x="228600" y="1447920"/>
          <a:ext cx="8678880" cy="281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447920"/>
                    <a:ext cx="8678880" cy="281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34 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25D18F-548D-41FE-9FBB-81A8F315E9E7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39625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Messages Tab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28600" y="2819520"/>
            <a:ext cx="1143000" cy="304560"/>
          </a:xfrm>
          <a:prstGeom prst="ellipse">
            <a:avLst/>
          </a:prstGeom>
          <a:noFill/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143000" y="3200400"/>
            <a:ext cx="990720" cy="3049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6" name=""/>
          <p:cNvGraphicFramePr/>
          <p:nvPr/>
        </p:nvGraphicFramePr>
        <p:xfrm>
          <a:off x="217440" y="1371600"/>
          <a:ext cx="8621640" cy="4657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7440" y="1371600"/>
                    <a:ext cx="8621640" cy="465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34 -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0B74C1-3081-4A44-860F-D6244DAB1DBF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362320" y="304920"/>
            <a:ext cx="40384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Expanded View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114800" y="3200400"/>
            <a:ext cx="91440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0" name=""/>
          <p:cNvGraphicFramePr/>
          <p:nvPr/>
        </p:nvGraphicFramePr>
        <p:xfrm>
          <a:off x="293760" y="1447920"/>
          <a:ext cx="8545320" cy="439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3760" y="1447920"/>
                    <a:ext cx="8545320" cy="439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34 -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1A7E26-F410-4EF5-9544-19F5298B641A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590920" y="533160"/>
            <a:ext cx="6202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Advanced Search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8107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hod to filter the fields and create a specific sear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elds which can be filtered inclu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ilbo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800080"/>
                </a:solidFill>
                <a:latin typeface="Arial"/>
              </a:rPr>
              <a:t>–</a:t>
            </a:r>
            <a:r>
              <a:rPr b="0" lang="en-US" sz="24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ceived by Networ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ssage Cla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800080"/>
                </a:solidFill>
                <a:latin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ced in Mail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Mailbo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800080"/>
                </a:solidFill>
                <a:latin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trieved from Mail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ly New Messages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f5050"/>
                </a:solidFill>
                <a:latin typeface="Arial"/>
              </a:rPr>
              <a:t>Restored to Mail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tch # 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om Mail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34 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D2EB36-2426-48C0-ACDE-87F757C3A9C6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819160" y="380520"/>
            <a:ext cx="6019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Advanced Search </a:t>
            </a:r>
            <a:br>
              <a:rPr sz="4000"/>
            </a:b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For Messages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graphicFrame>
        <p:nvGraphicFramePr>
          <p:cNvPr id="275" name=""/>
          <p:cNvGraphicFramePr/>
          <p:nvPr/>
        </p:nvGraphicFramePr>
        <p:xfrm>
          <a:off x="380880" y="1371600"/>
          <a:ext cx="8458200" cy="5105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371600"/>
                    <a:ext cx="8458200" cy="510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34 -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D73493-EF3B-4B77-936A-170E2BA986F0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2362320" y="228240"/>
            <a:ext cx="5440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Archived Messages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228600" y="4648320"/>
            <a:ext cx="304920" cy="152280"/>
          </a:xfrm>
          <a:prstGeom prst="rightArrow">
            <a:avLst>
              <a:gd name="adj1" fmla="val 50000"/>
              <a:gd name="adj2" fmla="val 50059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28600" y="5410080"/>
            <a:ext cx="304920" cy="152640"/>
          </a:xfrm>
          <a:prstGeom prst="rightArrow">
            <a:avLst>
              <a:gd name="adj1" fmla="val 50000"/>
              <a:gd name="adj2" fmla="val 49941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533520" y="1371600"/>
          <a:ext cx="8381880" cy="5105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371600"/>
                    <a:ext cx="8381880" cy="510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2" name=""/>
          <p:cNvSpPr/>
          <p:nvPr/>
        </p:nvSpPr>
        <p:spPr>
          <a:xfrm>
            <a:off x="3581280" y="3200400"/>
            <a:ext cx="304920" cy="152280"/>
          </a:xfrm>
          <a:prstGeom prst="rightArrow">
            <a:avLst>
              <a:gd name="adj1" fmla="val 50000"/>
              <a:gd name="adj2" fmla="val 50059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34 -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C801E3-5FFD-4440-ADCA-2ED6580F6B81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Coming Changes</a:t>
            </a: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	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twork Password expiration period will be changed from 120 to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90 day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xt release of EDconnect &amp; EasyAccess client (TDClient) – Summer 2003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new4a" descr=""/>
          <p:cNvPicPr/>
          <p:nvPr/>
        </p:nvPicPr>
        <p:blipFill>
          <a:blip r:embed="rId1"/>
          <a:stretch/>
        </p:blipFill>
        <p:spPr>
          <a:xfrm>
            <a:off x="380880" y="2438280"/>
            <a:ext cx="365400" cy="239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34 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94771A-B084-4960-BEB8-92731C69273A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457200" y="1371600"/>
            <a:ext cx="830592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60000"/>
              </a:lnSpc>
              <a:spcBef>
                <a:spcPts val="799"/>
              </a:spcBef>
              <a:buClr>
                <a:srgbClr val="80008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Times New Roman"/>
              </a:rPr>
              <a:t>CPS/WAN Technical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60000"/>
              </a:lnSpc>
              <a:spcBef>
                <a:spcPts val="799"/>
              </a:spcBef>
              <a:buClr>
                <a:srgbClr val="80008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00080"/>
                </a:solidFill>
                <a:latin typeface="Times New Roman"/>
              </a:rPr>
              <a:t>1-800-330-594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60000"/>
              </a:lnSpc>
              <a:spcBef>
                <a:spcPts val="799"/>
              </a:spcBef>
              <a:buClr>
                <a:srgbClr val="80008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00080"/>
                </a:solidFill>
                <a:latin typeface="Times New Roman"/>
              </a:rPr>
              <a:t>Email:</a:t>
            </a:r>
            <a:r>
              <a:rPr b="1" lang="en-US" sz="32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Times New Roman"/>
                <a:hlinkClick r:id="rId1"/>
              </a:rPr>
              <a:t>cpswan@ncs.c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60000"/>
              </a:lnSpc>
              <a:spcBef>
                <a:spcPts val="249"/>
              </a:spcBef>
              <a:buClr>
                <a:srgbClr val="6efc42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00080"/>
                </a:solidFill>
                <a:uFillTx/>
                <a:latin typeface="Times New Roman"/>
              </a:rPr>
              <a:t>FSATech Listser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E-mail: fsatech@inet.ed.go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Sign-up information: http://www.ed.gov/offices/OSFAP/sfatech/listserv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28600" y="228600"/>
            <a:ext cx="8534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duct Suppor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34 -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D4611B-6104-4D09-BB6B-5F20B6477F44}" type="slidenum">
              <a:t>39</a:t>
            </a:fld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6248520" y="4038480"/>
            <a:ext cx="990360" cy="1143000"/>
          </a:xfrm>
          <a:prstGeom prst="rect">
            <a:avLst/>
          </a:prstGeom>
          <a:solidFill>
            <a:srgbClr val="ffffff"/>
          </a:solidFill>
          <a:ln w="19080">
            <a:solidFill>
              <a:srgbClr val="efa9e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DPort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ilbox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ustom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 Sy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102120" y="4429080"/>
            <a:ext cx="1371600" cy="1054080"/>
          </a:xfrm>
          <a:prstGeom prst="rect">
            <a:avLst/>
          </a:prstGeom>
          <a:solidFill>
            <a:srgbClr val="ffffff"/>
          </a:solidFill>
          <a:ln w="19080">
            <a:solidFill>
              <a:srgbClr val="5490a8"/>
            </a:solidFill>
            <a:miter/>
          </a:ln>
          <a:effectLst>
            <a:outerShdw dist="17819" dir="2700000" blurRad="0" rotWithShape="0">
              <a:srgbClr val="efa9e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800080"/>
                </a:solidFill>
                <a:latin typeface="Arial"/>
              </a:rPr>
              <a:t>EDconnect v 5.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044880" y="3114720"/>
            <a:ext cx="1428840" cy="1149480"/>
          </a:xfrm>
          <a:prstGeom prst="rect">
            <a:avLst/>
          </a:prstGeom>
          <a:solidFill>
            <a:srgbClr val="ffffff"/>
          </a:solidFill>
          <a:ln w="19080">
            <a:solidFill>
              <a:srgbClr val="5490a8"/>
            </a:solidFill>
            <a:miter/>
          </a:ln>
          <a:effectLst>
            <a:outerShdw dist="17819" dir="2700000" blurRad="0" rotWithShape="0">
              <a:srgbClr val="efa9e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inframe &am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drang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800080"/>
                </a:solidFill>
                <a:latin typeface="Arial"/>
              </a:rPr>
              <a:t>Easy Access Cli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943600" y="4038480"/>
            <a:ext cx="304920" cy="1143000"/>
          </a:xfrm>
          <a:prstGeom prst="rect">
            <a:avLst/>
          </a:prstGeom>
          <a:solidFill>
            <a:srgbClr val="ffffff"/>
          </a:solidFill>
          <a:ln w="19080">
            <a:solidFill>
              <a:srgbClr val="efa9e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k Avenir Book"/>
              </a:rPr>
              <a:t>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Bk Avenir Book"/>
              </a:rPr>
              <a:t>T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Bk Avenir Book"/>
              </a:rPr>
              <a:t>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248520" y="4648320"/>
            <a:ext cx="990360" cy="0"/>
          </a:xfrm>
          <a:prstGeom prst="line">
            <a:avLst/>
          </a:prstGeom>
          <a:ln w="9360">
            <a:solidFill>
              <a:srgbClr val="efa9e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57880" y="4686480"/>
            <a:ext cx="14223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191120" y="4381560"/>
            <a:ext cx="11174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715000" y="1752480"/>
            <a:ext cx="2743200" cy="533520"/>
          </a:xfrm>
          <a:prstGeom prst="rect">
            <a:avLst/>
          </a:prstGeom>
          <a:solidFill>
            <a:srgbClr val="5490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Virtual Data Center (VDC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15000" y="2209680"/>
            <a:ext cx="2743200" cy="3048120"/>
          </a:xfrm>
          <a:prstGeom prst="rect">
            <a:avLst/>
          </a:prstGeom>
          <a:noFill/>
          <a:ln w="3240">
            <a:solidFill>
              <a:srgbClr val="549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572000" y="4125960"/>
            <a:ext cx="105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0" y="3505320"/>
            <a:ext cx="1206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66"/>
                </a:solidFill>
                <a:latin typeface="Bk Avenir Book"/>
              </a:rPr>
              <a:t>SSL 3.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4800600"/>
            <a:ext cx="1206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66"/>
                </a:solidFill>
                <a:latin typeface="Bk Avenir Book"/>
              </a:rPr>
              <a:t>SSL 3.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473720" y="4797360"/>
            <a:ext cx="1180800" cy="0"/>
          </a:xfrm>
          <a:prstGeom prst="line">
            <a:avLst/>
          </a:prstGeom>
          <a:ln w="9360">
            <a:solidFill>
              <a:srgbClr val="5490a8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24480" y="3743280"/>
            <a:ext cx="1143000" cy="0"/>
          </a:xfrm>
          <a:prstGeom prst="line">
            <a:avLst/>
          </a:prstGeom>
          <a:ln w="9360">
            <a:solidFill>
              <a:srgbClr val="5490a8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21592200">
            <a:off x="609120" y="3732480"/>
            <a:ext cx="1501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ostsecondary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stitu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1598800">
            <a:off x="609480" y="4159440"/>
            <a:ext cx="1730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e Scholarship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uaranty Agenc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21557400">
            <a:off x="837720" y="4799160"/>
            <a:ext cx="1184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rd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rvic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04920" y="380880"/>
            <a:ext cx="83055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80"/>
                </a:solidFill>
                <a:latin typeface="Times New Roman"/>
              </a:rPr>
              <a:t>SAIG SUI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495680" y="4800600"/>
            <a:ext cx="1143000" cy="0"/>
          </a:xfrm>
          <a:prstGeom prst="line">
            <a:avLst/>
          </a:prstGeom>
          <a:ln w="9360">
            <a:solidFill>
              <a:srgbClr val="5490a8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2209680" y="2971800"/>
          <a:ext cx="1143000" cy="2209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2971800"/>
                    <a:ext cx="1143000" cy="22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0" name=""/>
          <p:cNvSpPr/>
          <p:nvPr/>
        </p:nvSpPr>
        <p:spPr>
          <a:xfrm flipH="1">
            <a:off x="7314840" y="45720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7924680" y="3733920"/>
            <a:ext cx="0" cy="838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943600" y="3124080"/>
            <a:ext cx="685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21571200">
            <a:off x="533160" y="3352320"/>
            <a:ext cx="147456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fa9e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5490a8"/>
                </a:solidFill>
                <a:latin typeface="Arial"/>
              </a:rPr>
              <a:t>custom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HTMLText1" descr=""/>
          <p:cNvPicPr/>
          <p:nvPr/>
        </p:nvPicPr>
        <p:blipFill>
          <a:blip r:embed="rId3"/>
          <a:stretch/>
        </p:blipFill>
        <p:spPr>
          <a:xfrm>
            <a:off x="-2919240" y="2171880"/>
            <a:ext cx="822240" cy="982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25" name="HTMLPassword1" descr=""/>
          <p:cNvPicPr/>
          <p:nvPr/>
        </p:nvPicPr>
        <p:blipFill>
          <a:blip r:embed="rId4"/>
          <a:stretch/>
        </p:blipFill>
        <p:spPr>
          <a:xfrm>
            <a:off x="-2919240" y="2171880"/>
            <a:ext cx="822240" cy="982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26" name="HTMLHidden1" descr=""/>
          <p:cNvPicPr/>
          <p:nvPr/>
        </p:nvPicPr>
        <p:blipFill>
          <a:blip r:embed="rId5"/>
          <a:stretch/>
        </p:blipFill>
        <p:spPr>
          <a:xfrm>
            <a:off x="-2919240" y="2171880"/>
            <a:ext cx="393480" cy="982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27" name="HTMLImage1" descr=""/>
          <p:cNvPicPr/>
          <p:nvPr/>
        </p:nvPicPr>
        <p:blipFill>
          <a:blip r:embed="rId6"/>
          <a:stretch/>
        </p:blipFill>
        <p:spPr>
          <a:xfrm>
            <a:off x="6324480" y="3446640"/>
            <a:ext cx="666720" cy="117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grpSp>
        <p:nvGrpSpPr>
          <p:cNvPr id="128" name=""/>
          <p:cNvGrpSpPr/>
          <p:nvPr/>
        </p:nvGrpSpPr>
        <p:grpSpPr>
          <a:xfrm>
            <a:off x="5867280" y="2620800"/>
            <a:ext cx="1544760" cy="1290600"/>
            <a:chOff x="5867280" y="2620800"/>
            <a:chExt cx="1544760" cy="1290600"/>
          </a:xfrm>
        </p:grpSpPr>
        <p:grpSp>
          <p:nvGrpSpPr>
            <p:cNvPr id="129" name=""/>
            <p:cNvGrpSpPr/>
            <p:nvPr/>
          </p:nvGrpSpPr>
          <p:grpSpPr>
            <a:xfrm>
              <a:off x="5867640" y="2620800"/>
              <a:ext cx="1544040" cy="1289160"/>
              <a:chOff x="5867640" y="2620800"/>
              <a:chExt cx="1544040" cy="1289160"/>
            </a:xfrm>
          </p:grpSpPr>
          <p:grpSp>
            <p:nvGrpSpPr>
              <p:cNvPr id="130" name=""/>
              <p:cNvGrpSpPr/>
              <p:nvPr/>
            </p:nvGrpSpPr>
            <p:grpSpPr>
              <a:xfrm>
                <a:off x="5867640" y="2620800"/>
                <a:ext cx="612360" cy="256320"/>
                <a:chOff x="5867640" y="2620800"/>
                <a:chExt cx="612360" cy="256320"/>
              </a:xfrm>
            </p:grpSpPr>
            <p:grpSp>
              <p:nvGrpSpPr>
                <p:cNvPr id="131" name=""/>
                <p:cNvGrpSpPr/>
                <p:nvPr/>
              </p:nvGrpSpPr>
              <p:grpSpPr>
                <a:xfrm>
                  <a:off x="5867640" y="2620800"/>
                  <a:ext cx="612360" cy="256320"/>
                  <a:chOff x="5867640" y="2620800"/>
                  <a:chExt cx="612360" cy="256320"/>
                </a:xfrm>
              </p:grpSpPr>
              <p:grpSp>
                <p:nvGrpSpPr>
                  <p:cNvPr id="132" name=""/>
                  <p:cNvGrpSpPr/>
                  <p:nvPr/>
                </p:nvGrpSpPr>
                <p:grpSpPr>
                  <a:xfrm>
                    <a:off x="5868000" y="2620800"/>
                    <a:ext cx="612000" cy="256320"/>
                    <a:chOff x="5868000" y="2620800"/>
                    <a:chExt cx="612000" cy="256320"/>
                  </a:xfrm>
                </p:grpSpPr>
                <p:grpSp>
                  <p:nvGrpSpPr>
                    <p:cNvPr id="133" name=""/>
                    <p:cNvGrpSpPr/>
                    <p:nvPr/>
                  </p:nvGrpSpPr>
                  <p:grpSpPr>
                    <a:xfrm>
                      <a:off x="5868000" y="2620800"/>
                      <a:ext cx="612000" cy="256320"/>
                      <a:chOff x="5868000" y="2620800"/>
                      <a:chExt cx="612000" cy="256320"/>
                    </a:xfrm>
                  </p:grpSpPr>
                  <p:grpSp>
                    <p:nvGrpSpPr>
                      <p:cNvPr id="134" name=""/>
                      <p:cNvGrpSpPr/>
                      <p:nvPr/>
                    </p:nvGrpSpPr>
                    <p:grpSpPr>
                      <a:xfrm>
                        <a:off x="5868000" y="2683080"/>
                        <a:ext cx="498240" cy="127080"/>
                        <a:chOff x="5868000" y="2683080"/>
                        <a:chExt cx="498240" cy="127080"/>
                      </a:xfrm>
                    </p:grpSpPr>
                    <p:sp>
                      <p:nvSpPr>
                        <p:cNvPr id="135" name=""/>
                        <p:cNvSpPr/>
                        <p:nvPr/>
                      </p:nvSpPr>
                      <p:spPr>
                        <a:xfrm>
                          <a:off x="5868000" y="2683080"/>
                          <a:ext cx="498240" cy="12708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36" name=""/>
                        <p:cNvSpPr/>
                        <p:nvPr/>
                      </p:nvSpPr>
                      <p:spPr>
                        <a:xfrm>
                          <a:off x="5868000" y="2683080"/>
                          <a:ext cx="498240" cy="12708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762120"/>
                              <a:tab algn="l" pos="1523880"/>
                              <a:tab algn="l" pos="2286000"/>
                              <a:tab algn="l" pos="3048120"/>
                              <a:tab algn="l" pos="3809880"/>
                              <a:tab algn="l" pos="4572000"/>
                              <a:tab algn="l" pos="5334120"/>
                              <a:tab algn="l" pos="6095880"/>
                              <a:tab algn="l" pos="6858000"/>
                              <a:tab algn="l" pos="7620120"/>
                              <a:tab algn="l" pos="8381880"/>
                              <a:tab algn="l" pos="9144000"/>
                              <a:tab algn="l" pos="9906120"/>
                              <a:tab algn="l" pos="10667880"/>
                            </a:tabLst>
                          </a:pPr>
                          <a:r>
                            <a:rPr b="0" lang="en-US" sz="400" spc="-1" strike="noStrike">
                              <a:solidFill>
                                <a:srgbClr val="000000"/>
                              </a:solidFill>
                              <a:latin typeface="Arial"/>
                              <a:ea typeface="Arial"/>
                            </a:rPr>
                            <a:t>10/17/02 GMT12:20 </a:t>
                          </a:r>
                          <a:endParaRPr b="0" lang="en-US" sz="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37" name=""/>
                      <p:cNvGrpSpPr/>
                      <p:nvPr/>
                    </p:nvGrpSpPr>
                    <p:grpSpPr>
                      <a:xfrm>
                        <a:off x="6276960" y="2620800"/>
                        <a:ext cx="203040" cy="256320"/>
                        <a:chOff x="6276960" y="2620800"/>
                        <a:chExt cx="203040" cy="256320"/>
                      </a:xfrm>
                    </p:grpSpPr>
                    <p:sp>
                      <p:nvSpPr>
                        <p:cNvPr id="138" name=""/>
                        <p:cNvSpPr/>
                        <p:nvPr/>
                      </p:nvSpPr>
                      <p:spPr>
                        <a:xfrm>
                          <a:off x="6366240" y="2683080"/>
                          <a:ext cx="42840" cy="12708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grpSp>
                      <p:nvGrpSpPr>
                        <p:cNvPr id="139" name=""/>
                        <p:cNvGrpSpPr/>
                        <p:nvPr/>
                      </p:nvGrpSpPr>
                      <p:grpSpPr>
                        <a:xfrm>
                          <a:off x="6276960" y="2620800"/>
                          <a:ext cx="203040" cy="256320"/>
                          <a:chOff x="6276960" y="2620800"/>
                          <a:chExt cx="203040" cy="256320"/>
                        </a:xfrm>
                      </p:grpSpPr>
                      <p:sp>
                        <p:nvSpPr>
                          <p:cNvPr id="140" name=""/>
                          <p:cNvSpPr/>
                          <p:nvPr/>
                        </p:nvSpPr>
                        <p:spPr>
                          <a:xfrm>
                            <a:off x="6296040" y="2620800"/>
                            <a:ext cx="183960" cy="215640"/>
                          </a:xfrm>
                          <a:prstGeom prst="rect">
                            <a:avLst/>
                          </a:prstGeom>
                          <a:solidFill>
                            <a:srgbClr val="c0c0c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ctr">
                            <a:sp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762120"/>
                                <a:tab algn="l" pos="1523880"/>
                                <a:tab algn="l" pos="2286000"/>
                                <a:tab algn="l" pos="3048120"/>
                                <a:tab algn="l" pos="3809880"/>
                                <a:tab algn="l" pos="4572000"/>
                                <a:tab algn="l" pos="5334120"/>
                                <a:tab algn="l" pos="6095880"/>
                                <a:tab algn="l" pos="6858000"/>
                                <a:tab algn="l" pos="7620120"/>
                                <a:tab algn="l" pos="8381880"/>
                                <a:tab algn="l" pos="9144000"/>
                                <a:tab algn="l" pos="9906120"/>
                                <a:tab algn="l" pos="10667880"/>
                              </a:tabLst>
                            </a:pPr>
                            <a:r>
                              <a:rPr b="0" lang="en-US" sz="800" spc="-1" strike="noStrike" u="sng">
                                <a:solidFill>
                                  <a:srgbClr val="0000ff"/>
                                </a:solidFill>
                                <a:uFillTx/>
                                <a:latin typeface="Arial"/>
                                <a:ea typeface="Arial"/>
                                <a:hlinkClick r:id="rId7"/>
                              </a:rPr>
                              <a:t>Home</a:t>
                            </a:r>
                            <a:endParaRPr b="0" lang="en-US" sz="8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41" name=""/>
                          <p:cNvSpPr/>
                          <p:nvPr/>
                        </p:nvSpPr>
                        <p:spPr>
                          <a:xfrm>
                            <a:off x="6276960" y="2661480"/>
                            <a:ext cx="184320" cy="215640"/>
                          </a:xfrm>
                          <a:prstGeom prst="rect">
                            <a:avLst/>
                          </a:prstGeom>
                          <a:solidFill>
                            <a:srgbClr val="c0c0c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ctr">
                            <a:sp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762120"/>
                                <a:tab algn="l" pos="1523880"/>
                                <a:tab algn="l" pos="2286000"/>
                                <a:tab algn="l" pos="3048120"/>
                                <a:tab algn="l" pos="3809880"/>
                                <a:tab algn="l" pos="4572000"/>
                                <a:tab algn="l" pos="5334120"/>
                                <a:tab algn="l" pos="6095880"/>
                                <a:tab algn="l" pos="6858000"/>
                                <a:tab algn="l" pos="7620120"/>
                                <a:tab algn="l" pos="8381880"/>
                                <a:tab algn="l" pos="9144000"/>
                                <a:tab algn="l" pos="9906120"/>
                                <a:tab algn="l" pos="10667880"/>
                              </a:tabLst>
                            </a:pPr>
                            <a:r>
                              <a:rPr b="1" lang="en-US" sz="800" spc="-1" strike="noStrike">
                                <a:solidFill>
                                  <a:srgbClr val="000000"/>
                                </a:solidFill>
                                <a:latin typeface="Arial"/>
                                <a:ea typeface="Arial"/>
                              </a:rPr>
                              <a:t> </a:t>
                            </a:r>
                            <a:endParaRPr b="0" lang="en-US" sz="8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</p:grpSp>
                <p:sp>
                  <p:nvSpPr>
                    <p:cNvPr id="142" name=""/>
                    <p:cNvSpPr/>
                    <p:nvPr/>
                  </p:nvSpPr>
                  <p:spPr>
                    <a:xfrm>
                      <a:off x="5868000" y="2683080"/>
                      <a:ext cx="541440" cy="127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43" name=""/>
                  <p:cNvSpPr/>
                  <p:nvPr/>
                </p:nvSpPr>
                <p:spPr>
                  <a:xfrm>
                    <a:off x="5867640" y="2680920"/>
                    <a:ext cx="542160" cy="131040"/>
                  </a:xfrm>
                  <a:prstGeom prst="rect">
                    <a:avLst/>
                  </a:prstGeom>
                  <a:noFill/>
                  <a:ln w="11160">
                    <a:solidFill>
                      <a:srgbClr val="a0a0a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4" name=""/>
                <p:cNvSpPr/>
                <p:nvPr/>
              </p:nvSpPr>
              <p:spPr>
                <a:xfrm>
                  <a:off x="5867640" y="2680920"/>
                  <a:ext cx="542160" cy="131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5" name=""/>
              <p:cNvGrpSpPr/>
              <p:nvPr/>
            </p:nvGrpSpPr>
            <p:grpSpPr>
              <a:xfrm>
                <a:off x="5867640" y="2812320"/>
                <a:ext cx="1544040" cy="1097640"/>
                <a:chOff x="5867640" y="2812320"/>
                <a:chExt cx="1544040" cy="1097640"/>
              </a:xfrm>
            </p:grpSpPr>
            <p:grpSp>
              <p:nvGrpSpPr>
                <p:cNvPr id="146" name=""/>
                <p:cNvGrpSpPr/>
                <p:nvPr/>
              </p:nvGrpSpPr>
              <p:grpSpPr>
                <a:xfrm>
                  <a:off x="5867640" y="2812320"/>
                  <a:ext cx="1544040" cy="1097280"/>
                  <a:chOff x="5867640" y="2812320"/>
                  <a:chExt cx="1544040" cy="1097280"/>
                </a:xfrm>
              </p:grpSpPr>
              <p:sp>
                <p:nvSpPr>
                  <p:cNvPr id="147" name=""/>
                  <p:cNvSpPr/>
                  <p:nvPr/>
                </p:nvSpPr>
                <p:spPr>
                  <a:xfrm>
                    <a:off x="5867640" y="2812320"/>
                    <a:ext cx="705600" cy="84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800" bIns="37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762120"/>
                        <a:tab algn="l" pos="1523880"/>
                        <a:tab algn="l" pos="2286000"/>
                        <a:tab algn="l" pos="3048120"/>
                        <a:tab algn="l" pos="3809880"/>
                        <a:tab algn="l" pos="4572000"/>
                        <a:tab algn="l" pos="5334120"/>
                        <a:tab algn="l" pos="6095880"/>
                        <a:tab algn="l" pos="6858000"/>
                        <a:tab algn="l" pos="7620120"/>
                        <a:tab algn="l" pos="8381880"/>
                        <a:tab algn="l" pos="9144000"/>
                        <a:tab algn="l" pos="9906120"/>
                        <a:tab algn="l" pos="1066788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  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48" name=""/>
                  <p:cNvGrpSpPr/>
                  <p:nvPr/>
                </p:nvGrpSpPr>
                <p:grpSpPr>
                  <a:xfrm>
                    <a:off x="5867640" y="2896920"/>
                    <a:ext cx="1544040" cy="433080"/>
                    <a:chOff x="5867640" y="2896920"/>
                    <a:chExt cx="1544040" cy="433080"/>
                  </a:xfrm>
                </p:grpSpPr>
                <p:grpSp>
                  <p:nvGrpSpPr>
                    <p:cNvPr id="149" name=""/>
                    <p:cNvGrpSpPr/>
                    <p:nvPr/>
                  </p:nvGrpSpPr>
                  <p:grpSpPr>
                    <a:xfrm>
                      <a:off x="5868000" y="2898720"/>
                      <a:ext cx="1543320" cy="429840"/>
                      <a:chOff x="5868000" y="2898720"/>
                      <a:chExt cx="1543320" cy="429840"/>
                    </a:xfrm>
                  </p:grpSpPr>
                  <p:grpSp>
                    <p:nvGrpSpPr>
                      <p:cNvPr id="150" name=""/>
                      <p:cNvGrpSpPr/>
                      <p:nvPr/>
                    </p:nvGrpSpPr>
                    <p:grpSpPr>
                      <a:xfrm>
                        <a:off x="5868000" y="2898720"/>
                        <a:ext cx="1543320" cy="429840"/>
                        <a:chOff x="5868000" y="2898720"/>
                        <a:chExt cx="1543320" cy="429840"/>
                      </a:xfrm>
                    </p:grpSpPr>
                    <p:sp>
                      <p:nvSpPr>
                        <p:cNvPr id="151" name=""/>
                        <p:cNvSpPr/>
                        <p:nvPr/>
                      </p:nvSpPr>
                      <p:spPr>
                        <a:xfrm>
                          <a:off x="5868000" y="2989080"/>
                          <a:ext cx="1543320" cy="8460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37800" bIns="37800" anchor="ctr">
                          <a:noAutofit/>
                        </a:bodyPr>
                        <a:p>
                          <a:pPr algn="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762120"/>
                              <a:tab algn="l" pos="1523880"/>
                              <a:tab algn="l" pos="2286000"/>
                              <a:tab algn="l" pos="3048120"/>
                              <a:tab algn="l" pos="3809880"/>
                              <a:tab algn="l" pos="4572000"/>
                              <a:tab algn="l" pos="5334120"/>
                              <a:tab algn="l" pos="6095880"/>
                              <a:tab algn="l" pos="6858000"/>
                              <a:tab algn="l" pos="7620120"/>
                              <a:tab algn="l" pos="8381880"/>
                              <a:tab algn="l" pos="9144000"/>
                              <a:tab algn="l" pos="9906120"/>
                              <a:tab algn="l" pos="10667880"/>
                            </a:tabLst>
                          </a:pPr>
                          <a:r>
                            <a:rPr b="0" lang="en-US" sz="800" spc="-1" strike="noStrike">
                              <a:solidFill>
                                <a:srgbClr val="000000"/>
                              </a:solidFill>
                              <a:latin typeface="Arial"/>
                              <a:ea typeface="Arial"/>
                            </a:rPr>
                            <a:t>  </a:t>
                          </a:r>
                          <a:endParaRPr b="0" lang="en-US" sz="8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52" name=""/>
                        <p:cNvSpPr/>
                        <p:nvPr/>
                      </p:nvSpPr>
                      <p:spPr>
                        <a:xfrm>
                          <a:off x="5868000" y="3073680"/>
                          <a:ext cx="704520" cy="8460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37800" bIns="37800" anchor="ctr">
                          <a:noAutofit/>
                        </a:bodyPr>
                        <a:p>
                          <a:pPr algn="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762120"/>
                              <a:tab algn="l" pos="1523880"/>
                              <a:tab algn="l" pos="2286000"/>
                              <a:tab algn="l" pos="3048120"/>
                              <a:tab algn="l" pos="3809880"/>
                              <a:tab algn="l" pos="4572000"/>
                              <a:tab algn="l" pos="5334120"/>
                              <a:tab algn="l" pos="6095880"/>
                              <a:tab algn="l" pos="6858000"/>
                              <a:tab algn="l" pos="7620120"/>
                              <a:tab algn="l" pos="8381880"/>
                              <a:tab algn="l" pos="9144000"/>
                              <a:tab algn="l" pos="9906120"/>
                              <a:tab algn="l" pos="10667880"/>
                            </a:tabLst>
                          </a:pPr>
                          <a:r>
                            <a:rPr b="0" lang="en-US" sz="800" spc="-1" strike="noStrike">
                              <a:solidFill>
                                <a:srgbClr val="000000"/>
                              </a:solidFill>
                              <a:latin typeface="Arial"/>
                              <a:ea typeface="Arial"/>
                            </a:rPr>
                            <a:t>Username:</a:t>
                          </a:r>
                          <a:endParaRPr b="0" lang="en-US" sz="8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53" name=""/>
                        <p:cNvSpPr/>
                        <p:nvPr/>
                      </p:nvSpPr>
                      <p:spPr>
                        <a:xfrm>
                          <a:off x="6572520" y="3073680"/>
                          <a:ext cx="838800" cy="8460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37800" bIns="37800" anchor="t">
                          <a:sp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54" name=""/>
                        <p:cNvSpPr/>
                        <p:nvPr/>
                      </p:nvSpPr>
                      <p:spPr>
                        <a:xfrm>
                          <a:off x="5868000" y="3158640"/>
                          <a:ext cx="704520" cy="8460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37800" bIns="37800" anchor="ctr">
                          <a:noAutofit/>
                        </a:bodyPr>
                        <a:p>
                          <a:pPr algn="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762120"/>
                              <a:tab algn="l" pos="1523880"/>
                              <a:tab algn="l" pos="2286000"/>
                              <a:tab algn="l" pos="3048120"/>
                              <a:tab algn="l" pos="3809880"/>
                              <a:tab algn="l" pos="4572000"/>
                              <a:tab algn="l" pos="5334120"/>
                              <a:tab algn="l" pos="6095880"/>
                              <a:tab algn="l" pos="6858000"/>
                              <a:tab algn="l" pos="7620120"/>
                              <a:tab algn="l" pos="8381880"/>
                              <a:tab algn="l" pos="9144000"/>
                              <a:tab algn="l" pos="9906120"/>
                              <a:tab algn="l" pos="10667880"/>
                            </a:tabLst>
                          </a:pPr>
                          <a:r>
                            <a:rPr b="0" lang="en-US" sz="800" spc="-1" strike="noStrike">
                              <a:solidFill>
                                <a:srgbClr val="000000"/>
                              </a:solidFill>
                              <a:latin typeface="Arial"/>
                              <a:ea typeface="Arial"/>
                            </a:rPr>
                            <a:t>Password:</a:t>
                          </a:r>
                          <a:endParaRPr b="0" lang="en-US" sz="8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55" name=""/>
                        <p:cNvSpPr/>
                        <p:nvPr/>
                      </p:nvSpPr>
                      <p:spPr>
                        <a:xfrm>
                          <a:off x="6572520" y="3158640"/>
                          <a:ext cx="838800" cy="8460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37800" bIns="37800" anchor="t">
                          <a:sp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56" name=""/>
                        <p:cNvSpPr/>
                        <p:nvPr/>
                      </p:nvSpPr>
                      <p:spPr>
                        <a:xfrm>
                          <a:off x="5868000" y="3243600"/>
                          <a:ext cx="1543320" cy="8460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37800" bIns="37800" anchor="ctr">
                          <a:noAutofit/>
                        </a:bodyPr>
                        <a:p>
                          <a:pPr algn="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762120"/>
                              <a:tab algn="l" pos="1523880"/>
                              <a:tab algn="l" pos="2286000"/>
                              <a:tab algn="l" pos="3048120"/>
                              <a:tab algn="l" pos="3809880"/>
                              <a:tab algn="l" pos="4572000"/>
                              <a:tab algn="l" pos="5334120"/>
                              <a:tab algn="l" pos="6095880"/>
                              <a:tab algn="l" pos="6858000"/>
                              <a:tab algn="l" pos="7620120"/>
                              <a:tab algn="l" pos="8381880"/>
                              <a:tab algn="l" pos="9144000"/>
                              <a:tab algn="l" pos="9906120"/>
                              <a:tab algn="l" pos="10667880"/>
                            </a:tabLst>
                          </a:pPr>
                          <a:r>
                            <a:rPr b="0" lang="en-US" sz="800" spc="-1" strike="noStrike">
                              <a:solidFill>
                                <a:srgbClr val="000000"/>
                              </a:solidFill>
                              <a:latin typeface="Arial"/>
                              <a:ea typeface="Arial"/>
                            </a:rPr>
                            <a:t>  </a:t>
                          </a:r>
                          <a:endParaRPr b="0" lang="en-US" sz="8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57" name=""/>
                        <p:cNvSpPr/>
                        <p:nvPr/>
                      </p:nvSpPr>
                      <p:spPr>
                        <a:xfrm>
                          <a:off x="5868000" y="3328200"/>
                          <a:ext cx="1543320" cy="36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440" bIns="-46440" anchor="t">
                          <a:sp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grpSp>
                      <p:nvGrpSpPr>
                        <p:cNvPr id="158" name=""/>
                        <p:cNvGrpSpPr/>
                        <p:nvPr/>
                      </p:nvGrpSpPr>
                      <p:grpSpPr>
                        <a:xfrm>
                          <a:off x="5868000" y="2898720"/>
                          <a:ext cx="1543320" cy="90360"/>
                          <a:chOff x="5868000" y="2898720"/>
                          <a:chExt cx="1543320" cy="90360"/>
                        </a:xfrm>
                      </p:grpSpPr>
                      <p:sp>
                        <p:nvSpPr>
                          <p:cNvPr id="159" name=""/>
                          <p:cNvSpPr/>
                          <p:nvPr/>
                        </p:nvSpPr>
                        <p:spPr>
                          <a:xfrm>
                            <a:off x="5868000" y="2898720"/>
                            <a:ext cx="1543320" cy="90360"/>
                          </a:xfrm>
                          <a:prstGeom prst="rect">
                            <a:avLst/>
                          </a:prstGeom>
                          <a:solidFill>
                            <a:srgbClr val="ededde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3560" bIns="435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grpSp>
                        <p:nvGrpSpPr>
                          <p:cNvPr id="160" name=""/>
                          <p:cNvGrpSpPr/>
                          <p:nvPr/>
                        </p:nvGrpSpPr>
                        <p:grpSpPr>
                          <a:xfrm>
                            <a:off x="5868000" y="2898720"/>
                            <a:ext cx="1543320" cy="90360"/>
                            <a:chOff x="5868000" y="2898720"/>
                            <a:chExt cx="1543320" cy="90360"/>
                          </a:xfrm>
                        </p:grpSpPr>
                        <p:sp>
                          <p:nvSpPr>
                            <p:cNvPr id="161" name=""/>
                            <p:cNvSpPr/>
                            <p:nvPr/>
                          </p:nvSpPr>
                          <p:spPr>
                            <a:xfrm>
                              <a:off x="5868000" y="2898720"/>
                              <a:ext cx="1543320" cy="90360"/>
                            </a:xfrm>
                            <a:prstGeom prst="rect">
                              <a:avLst/>
                            </a:prstGeom>
                            <a:solidFill>
                              <a:srgbClr val="ededde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3560" bIns="43560" anchor="ctr">
                              <a:noAutofit/>
                            </a:bodyPr>
                            <a:p>
                              <a:pPr algn="ctr"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762120"/>
                                  <a:tab algn="l" pos="1523880"/>
                                  <a:tab algn="l" pos="2286000"/>
                                  <a:tab algn="l" pos="3048120"/>
                                  <a:tab algn="l" pos="3809880"/>
                                  <a:tab algn="l" pos="4572000"/>
                                  <a:tab algn="l" pos="5334120"/>
                                  <a:tab algn="l" pos="6095880"/>
                                  <a:tab algn="l" pos="6858000"/>
                                  <a:tab algn="l" pos="7620120"/>
                                  <a:tab algn="l" pos="8381880"/>
                                  <a:tab algn="l" pos="9144000"/>
                                  <a:tab algn="l" pos="9906120"/>
                                  <a:tab algn="l" pos="10667880"/>
                                </a:tabLst>
                              </a:pPr>
                              <a:r>
                                <a:rPr b="1" lang="en-US" sz="900" spc="-1" strike="noStrike">
                                  <a:solidFill>
                                    <a:srgbClr val="000066"/>
                                  </a:solidFill>
                                  <a:latin typeface="Arial"/>
                                  <a:ea typeface="Arial"/>
                                </a:rPr>
                                <a:t>Login to the Portal</a:t>
                              </a:r>
                              <a:r>
                                <a:rPr b="0" lang="en-US" sz="900" spc="-1" strike="noStrike">
                                  <a:solidFill>
                                    <a:srgbClr val="000066"/>
                                  </a:solidFill>
                                  <a:latin typeface="Arial"/>
                                  <a:ea typeface="Arial"/>
                                </a:rPr>
                                <a:t> </a:t>
                              </a:r>
                              <a:endParaRPr b="0" lang="en-US" sz="9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62" name=""/>
                            <p:cNvSpPr/>
                            <p:nvPr/>
                          </p:nvSpPr>
                          <p:spPr>
                            <a:xfrm>
                              <a:off x="5868000" y="2898720"/>
                              <a:ext cx="1543320" cy="9036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solidFill>
                                <a:srgbClr val="a0a0a0"/>
                              </a:solidFill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3560" bIns="4356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</p:grpSp>
                  <p:sp>
                    <p:nvSpPr>
                      <p:cNvPr id="163" name=""/>
                      <p:cNvSpPr/>
                      <p:nvPr/>
                    </p:nvSpPr>
                    <p:spPr>
                      <a:xfrm>
                        <a:off x="5868000" y="2898720"/>
                        <a:ext cx="1543320" cy="429480"/>
                      </a:xfrm>
                      <a:prstGeom prst="rect">
                        <a:avLst/>
                      </a:prstGeom>
                      <a:noFill/>
                      <a:ln w="0">
                        <a:solidFill>
                          <a:srgbClr val="a0a0a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64" name=""/>
                    <p:cNvSpPr/>
                    <p:nvPr/>
                  </p:nvSpPr>
                  <p:spPr>
                    <a:xfrm>
                      <a:off x="5867640" y="2896920"/>
                      <a:ext cx="1544040" cy="433080"/>
                    </a:xfrm>
                    <a:prstGeom prst="rect">
                      <a:avLst/>
                    </a:prstGeom>
                    <a:noFill/>
                    <a:ln w="11160">
                      <a:solidFill>
                        <a:srgbClr val="a0a0a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65" name=""/>
                  <p:cNvSpPr/>
                  <p:nvPr/>
                </p:nvSpPr>
                <p:spPr>
                  <a:xfrm>
                    <a:off x="5867640" y="3330000"/>
                    <a:ext cx="705600" cy="84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800" bIns="37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762120"/>
                        <a:tab algn="l" pos="1523880"/>
                        <a:tab algn="l" pos="2286000"/>
                        <a:tab algn="l" pos="3048120"/>
                        <a:tab algn="l" pos="3809880"/>
                        <a:tab algn="l" pos="4572000"/>
                        <a:tab algn="l" pos="5334120"/>
                        <a:tab algn="l" pos="6095880"/>
                        <a:tab algn="l" pos="6858000"/>
                        <a:tab algn="l" pos="7620120"/>
                        <a:tab algn="l" pos="8381880"/>
                        <a:tab algn="l" pos="9144000"/>
                        <a:tab algn="l" pos="9906120"/>
                        <a:tab algn="l" pos="1066788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    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6" name=""/>
                  <p:cNvSpPr/>
                  <p:nvPr/>
                </p:nvSpPr>
                <p:spPr>
                  <a:xfrm>
                    <a:off x="5867640" y="3414600"/>
                    <a:ext cx="705600" cy="84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800" bIns="37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762120"/>
                        <a:tab algn="l" pos="1523880"/>
                        <a:tab algn="l" pos="2286000"/>
                        <a:tab algn="l" pos="3048120"/>
                        <a:tab algn="l" pos="3809880"/>
                        <a:tab algn="l" pos="4572000"/>
                        <a:tab algn="l" pos="5334120"/>
                        <a:tab algn="l" pos="6095880"/>
                        <a:tab algn="l" pos="6858000"/>
                        <a:tab algn="l" pos="7620120"/>
                        <a:tab algn="l" pos="8381880"/>
                        <a:tab algn="l" pos="9144000"/>
                        <a:tab algn="l" pos="9906120"/>
                        <a:tab algn="l" pos="1066788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    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7" name=""/>
                  <p:cNvSpPr/>
                  <p:nvPr/>
                </p:nvSpPr>
                <p:spPr>
                  <a:xfrm>
                    <a:off x="5867640" y="3499560"/>
                    <a:ext cx="705600" cy="325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762120"/>
                        <a:tab algn="l" pos="1523880"/>
                        <a:tab algn="l" pos="2286000"/>
                        <a:tab algn="l" pos="3048120"/>
                        <a:tab algn="l" pos="3809880"/>
                        <a:tab algn="l" pos="4572000"/>
                        <a:tab algn="l" pos="5334120"/>
                        <a:tab algn="l" pos="6095880"/>
                        <a:tab algn="l" pos="6858000"/>
                        <a:tab algn="l" pos="7620120"/>
                        <a:tab algn="l" pos="8381880"/>
                        <a:tab algn="l" pos="9144000"/>
                        <a:tab algn="l" pos="9906120"/>
                        <a:tab algn="l" pos="1066788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 </a:t>
                    </a:r>
                    <a:br>
                      <a:rPr sz="800"/>
                    </a:br>
                    <a:br>
                      <a:rPr sz="800"/>
                    </a:br>
                    <a:br>
                      <a:rPr sz="800"/>
                    </a:b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68" name=""/>
                  <p:cNvGrpSpPr/>
                  <p:nvPr/>
                </p:nvGrpSpPr>
                <p:grpSpPr>
                  <a:xfrm>
                    <a:off x="5867640" y="3825000"/>
                    <a:ext cx="705600" cy="84600"/>
                    <a:chOff x="5867640" y="3825000"/>
                    <a:chExt cx="705600" cy="84600"/>
                  </a:xfrm>
                </p:grpSpPr>
                <p:sp>
                  <p:nvSpPr>
                    <p:cNvPr id="169" name=""/>
                    <p:cNvSpPr/>
                    <p:nvPr/>
                  </p:nvSpPr>
                  <p:spPr>
                    <a:xfrm>
                      <a:off x="5867640" y="3825000"/>
                      <a:ext cx="705600" cy="84600"/>
                    </a:xfrm>
                    <a:prstGeom prst="rect">
                      <a:avLst/>
                    </a:pr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7800" bIns="37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0" name=""/>
                    <p:cNvSpPr/>
                    <p:nvPr/>
                  </p:nvSpPr>
                  <p:spPr>
                    <a:xfrm>
                      <a:off x="5867640" y="3825000"/>
                      <a:ext cx="705600" cy="84600"/>
                    </a:xfrm>
                    <a:prstGeom prst="rect">
                      <a:avLst/>
                    </a:pr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7800" bIns="37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171" name=""/>
                <p:cNvSpPr/>
                <p:nvPr/>
              </p:nvSpPr>
              <p:spPr>
                <a:xfrm>
                  <a:off x="5867640" y="2812320"/>
                  <a:ext cx="1544040" cy="1097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72" name=""/>
            <p:cNvSpPr/>
            <p:nvPr/>
          </p:nvSpPr>
          <p:spPr>
            <a:xfrm>
              <a:off x="5867280" y="2679120"/>
              <a:ext cx="1544760" cy="123228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73" name="fist" descr=""/>
          <p:cNvPicPr/>
          <p:nvPr/>
        </p:nvPicPr>
        <p:blipFill>
          <a:blip r:embed="rId8"/>
          <a:stretch/>
        </p:blipFill>
        <p:spPr>
          <a:xfrm>
            <a:off x="5791320" y="2438280"/>
            <a:ext cx="1600200" cy="24156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7543800" y="3200400"/>
            <a:ext cx="914400" cy="609480"/>
          </a:xfrm>
          <a:prstGeom prst="rect">
            <a:avLst/>
          </a:prstGeom>
          <a:solidFill>
            <a:srgbClr val="ffffff"/>
          </a:solidFill>
          <a:ln w="19080">
            <a:solidFill>
              <a:srgbClr val="5490a8"/>
            </a:solidFill>
            <a:miter/>
          </a:ln>
          <a:effectLst>
            <a:outerShdw dist="17819" dir="2700000" blurRad="0" rotWithShape="0">
              <a:srgbClr val="efa9e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pplic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019920" y="2286000"/>
            <a:ext cx="160020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 u="sng">
                <a:solidFill>
                  <a:srgbClr val="0000ff"/>
                </a:solidFill>
                <a:uFillTx/>
                <a:latin typeface="Times New Roman"/>
                <a:hlinkClick r:id="rId9"/>
              </a:rPr>
              <a:t>http://SAIGPortal.ed.gov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34 -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68A0F2-AB0C-4D90-A05E-5F38CD8BE2EA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228600" y="2590920"/>
            <a:ext cx="8686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800080"/>
                </a:solidFill>
                <a:latin typeface="Arial"/>
              </a:rPr>
              <a:t>Open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800080"/>
                </a:solidFill>
                <a:latin typeface="Arial"/>
              </a:rPr>
              <a:t>Discuss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9" name="hurr_anm" descr=""/>
          <p:cNvPicPr/>
          <p:nvPr/>
        </p:nvPicPr>
        <p:blipFill>
          <a:blip r:embed="rId1"/>
          <a:stretch/>
        </p:blipFill>
        <p:spPr>
          <a:xfrm>
            <a:off x="6400800" y="1752480"/>
            <a:ext cx="1349280" cy="1040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34 -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F67CDA-F931-4AC1-803E-E0087E45855E}" type="slidenum">
              <a:t>40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590920" y="45684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800080"/>
                </a:solidFill>
                <a:latin typeface="Arial"/>
              </a:rPr>
              <a:t>SAIG Suite Components</a:t>
            </a:r>
            <a:endParaRPr b="1" i="1" lang="en-US" sz="36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-360" y="1752480"/>
            <a:ext cx="88390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99"/>
                </a:solidFill>
                <a:latin typeface="Arial"/>
              </a:rPr>
              <a:t>EDconnect v5.2 -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C softwar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99"/>
                </a:solidFill>
                <a:latin typeface="Arial"/>
              </a:rPr>
              <a:t>EasyAccess (soon to be TDClient)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Mainframe and Mid-Range Client software used to send and receive data.  Upgrade coming in Spring 2003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99"/>
                </a:solidFill>
                <a:latin typeface="Arial"/>
              </a:rPr>
              <a:t>TDCommunity Manager (TDCM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Web tool used for tracking data sent and received on SAI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34 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29A60A-BB99-4DEE-8678-14EDDEB9692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743200" y="533160"/>
            <a:ext cx="4114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EDconnect 5.2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86868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nhanc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ssword expiration popup &amp; gu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tailed transmission error messag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575"/>
              </a:spcBef>
              <a:buClr>
                <a:srgbClr val="823c8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://www.fsadownload.ed.gov/softedconnect.htm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34 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219B63-46FC-4643-93D9-C58DC2E79F84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590560" y="762120"/>
            <a:ext cx="4267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Security Setup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914400" y="1981080"/>
            <a:ext cx="5486400" cy="25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Dconnect passwor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8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ser Password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800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Dconnect 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8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twork Passwo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800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IG mailbo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keys" descr=""/>
          <p:cNvPicPr/>
          <p:nvPr/>
        </p:nvPicPr>
        <p:blipFill>
          <a:blip r:embed="rId1"/>
          <a:stretch/>
        </p:blipFill>
        <p:spPr>
          <a:xfrm>
            <a:off x="6019920" y="2590920"/>
            <a:ext cx="307800" cy="285480"/>
          </a:xfrm>
          <a:prstGeom prst="rect">
            <a:avLst/>
          </a:prstGeom>
          <a:ln w="0">
            <a:noFill/>
          </a:ln>
        </p:spPr>
      </p:pic>
      <p:pic>
        <p:nvPicPr>
          <p:cNvPr id="183" name="locks" descr=""/>
          <p:cNvPicPr/>
          <p:nvPr/>
        </p:nvPicPr>
        <p:blipFill>
          <a:blip r:embed="rId2"/>
          <a:stretch/>
        </p:blipFill>
        <p:spPr>
          <a:xfrm>
            <a:off x="457200" y="4800600"/>
            <a:ext cx="3809880" cy="1041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34 -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48CCAF-6664-4397-A4EC-840029C0A9FE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Changing the EDconnect User Password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904760"/>
            <a:ext cx="4114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ecurity View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right-click on your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User I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selec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roper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e new password in new &amp; verify fiel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-8 characters in length (case-sensitiv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4495680" y="1676520"/>
          <a:ext cx="403884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95680" y="1676520"/>
                    <a:ext cx="4038840" cy="41148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34 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1DC9B6-E17E-4272-AD01-6B2DE72DE67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981080" y="457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713474"/>
                </a:solidFill>
                <a:latin typeface="Arial"/>
              </a:rPr>
              <a:t>Changing the SAIG Mailbox Network Password</a:t>
            </a:r>
            <a:endParaRPr b="1" i="1" lang="en-US" sz="36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495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ecurity View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right-click Group ID selec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roperties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etwork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ect “Network and Local” for Change Ty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er new password in new &amp; verify fiel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ransmiss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nu selec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4876920" y="1523880"/>
            <a:ext cx="3857400" cy="4343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34 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19629B-CE1F-491A-8DBF-567F80243232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4T17:44:14Z</dcterms:created>
  <dc:creator>NCS</dc:creator>
  <dc:description/>
  <dc:language>en-US</dc:language>
  <cp:lastModifiedBy>Dept. of Education</cp:lastModifiedBy>
  <cp:lastPrinted>2001-02-14T21:13:01Z</cp:lastPrinted>
  <dcterms:modified xsi:type="dcterms:W3CDTF">2002-12-12T16:31:02Z</dcterms:modified>
  <cp:revision>224</cp:revision>
  <dc:subject/>
  <dc:title>No Slide Title</dc:title>
</cp:coreProperties>
</file>