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4.wmf" ContentType="image/x-wmf"/>
  <Override PartName="/ppt/media/image1.jpeg" ContentType="image/jpeg"/>
  <Override PartName="/ppt/media/image14.png" ContentType="image/png"/>
  <Override PartName="/ppt/media/image28.gif" ContentType="image/gif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28680" y="719280"/>
            <a:ext cx="473256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FDCD444E-D1C9-47F0-BFFA-1544BABCAC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F19BC81A-366A-4D4D-96D4-215EC12F7A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9A51D20D-3F6A-4444-B697-31C16562D4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5AA6926B-3876-4ED9-8E50-0351CC7282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DC684513-F68A-4BF7-8FA4-AEB5F29CF5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A0CAA11D-C521-478D-B342-FCE9BE14F4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B0CC7533-4033-401E-85D0-47633B5394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8C95100B-D75D-4171-86E3-B1345F4D91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E32A56AF-DC55-44D4-B9C4-4307B2658F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11D7F643-4C8A-4FC8-9950-35B378BCEA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1740BF9C-2A91-4C6A-A347-296A116FD7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648AB169-A0DE-49C0-9486-7F153884DF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05D32E1D-1CDC-42BF-9732-DB9EE8D918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ECA96DC4-691E-47C2-99EC-6361D2C6CD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58320" y="4511520"/>
            <a:ext cx="527076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fld id="{8E741084-6C34-4068-9AE7-85B14475D0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17520" y="712800"/>
            <a:ext cx="4753080" cy="3564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7FB2-8591-40CA-81BD-5146522EE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3EB4-4CAF-4DEF-8458-03413E3AF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76E7-40F0-4E1C-AC34-59D35C52C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1AF4-525E-4113-B945-92A08A814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4DCF-A273-4600-A6E6-AA43372D1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BBF1-0151-4D18-AD74-935AA9381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96C4-B835-4CCF-B700-4DFB86C4F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73E3-13DF-4644-BADC-4B4B6EAF8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050E-2617-426A-99A8-2E648B642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159E-2329-4F17-992D-116F1FF1F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8742-187C-4770-8B93-3F68EF0E5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9906-1F7B-426C-A8DB-7A30EA49B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028-E25F-4229-ADEA-0BE500D1C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cpswan@ncs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hyperlink" Target="http://www.saigportal.sfa.ed.gov/saigprod/index.jsp" TargetMode="External"/><Relationship Id="rId8" Type="http://schemas.openxmlformats.org/officeDocument/2006/relationships/image" Target="../media/image9.png"/><Relationship Id="rId9" Type="http://schemas.openxmlformats.org/officeDocument/2006/relationships/hyperlink" Target="http://saigportal.ed.gov/" TargetMode="External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sadownload.ed.gov/softedconnec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View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curity Grou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same TGID and password to access SAIG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customers w/in group using EDconnect must have a unique User ID and password for accessing the EDconnec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77467" b="68748"/>
          <a:stretch/>
        </p:blipFill>
        <p:spPr>
          <a:xfrm>
            <a:off x="4343400" y="160020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1176-825A-435D-BC37-38FFD943C1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View - User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 displays location of EDconnec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rectories default to C:\iam\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irectories should match your EDExpress or other software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3498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D5FA-6655-4358-ABF0-3FD036DF19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nection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connect - internet connection for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for configuring interne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(Local Area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L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 -  dial-up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B745-D843-472E-B2BC-3C0D63888A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: Firewalls 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barrier between computer &amp; external source (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or softw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event EDconnect from communicating with SA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irewall is present the technical staff will need to op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rt 265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low outbound TCP/I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0BD8-6DB4-4A32-A9C2-297F1B33BE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ansmission Queu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by clic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tems in T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9480" y="1827360"/>
          <a:ext cx="8096400" cy="24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7360"/>
                    <a:ext cx="8096400" cy="24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2133720" cy="6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10080" y="541008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BA62-397D-4B4B-8DFF-56954CECAE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4080" y="53316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nding from TQ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4419360"/>
            <a:ext cx="8336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ilename when s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erisk indicates TQ is not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2666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BBF3-E730-40A2-82B6-54548AD6D5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800" y="6854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ctivity Log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audit trail for data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width adj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1981080"/>
          <a:ext cx="838224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8224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0C97-A3A6-4010-9252-960DC5BB9F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42840" y="6091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ilbox Que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your mailb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lect files for downloading f/ mai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TQ” colum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3498" r="0" b="63171"/>
          <a:stretch/>
        </p:blipFill>
        <p:spPr>
          <a:xfrm>
            <a:off x="228600" y="1676520"/>
            <a:ext cx="8686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A6A3-BBC4-45EE-B9C2-485F47A4E5E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4495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ve 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37335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files within ten days of 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tem Number in Activity Log and Archiv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600200"/>
          <a:ext cx="85341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213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6A50-5F5E-429A-88A6-D7C9CD6C95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0" y="609480"/>
            <a:ext cx="579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EasyAccess 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6765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est software via CPS/WAN Technical Support - FTP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Communication Guid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ttp://fsadownload.ed.go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JCL/Scripts to execute EA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ipt problems? Visit PC lab or contact CPS/WAN Technic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2E2A-8A22-4987-AB8A-E16926CA04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676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tudent Aid Internet Gateway (SAIG) Software</a:t>
            </a:r>
            <a:br>
              <a:rPr sz="4400"/>
            </a:b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 for Title IV Transmissions</a:t>
            </a:r>
            <a:br>
              <a:rPr sz="4400"/>
            </a:b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162000" y="15840"/>
            <a:ext cx="193680" cy="9352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L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out EasyAccess/TD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Session #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A3A4-290A-499A-8C59-28BAE8ACE56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743200" y="53352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upported Plat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9051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VS OS/390 2.6+ &amp; LE 1.9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/400 4.2+ (Compiler Level 3.7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X 4.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 Solaris 2.6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 Open VMS 7.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UX 10.2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C7D8-529B-480D-BA7F-2A847A4F72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057400" y="380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EasyAccess Client Ba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057400"/>
            <a:ext cx="48765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word 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List &amp; Audit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998A-3E99-4664-A81B-881CC3E268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Password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fc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4479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TPPASSWD=PASSWORD/newpassword/new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 SENDUSERID=TG50000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=DD:SENDFIL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_COMP_PARMS='SECFILE=DD:SECFILEX'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EE00-EC37-4646-91AF-95591D496D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Query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98108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_LIST QUERY_FILE=DD: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_STATUS=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EIVED, AVAILABLE or DE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6A7E-3E50-4017-93FF-4411A5F571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Audit L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98108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EIVE_AUDIT_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BCB2-E380-4D59-90D7-CA085303E8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ending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600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8098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 SENDUSERID=TG50000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=DD:SENDFILE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_COMP_PARMS='SECFILE=DD:SECFILEX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2470-67FC-4C66-B312-54E22BD24AA1}" type="slidenum">
              <a:t>2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7524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EC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981080"/>
            <a:ext cx="8686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(TG50000);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LITERAL(O*N05) HEADERSTART(1) RECEIVERSTART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LENGTH(14) CLASSSTART(25) CLASSLENGTH(8);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LERLITERAL(O*N95) TRAILERSTART(1);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AL(O*N01) LITERALSTART(1) DROP(Y);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AL(O*N99) LITERALSTART(1) DROP(Y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636E-C170-4FE1-A7B6-905AF69157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Receiv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1600200"/>
            <a:ext cx="81532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=SAIGPOR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USERID=TG50000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PASSWD=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352680"/>
            <a:ext cx="80773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1       RECEIVECLASS=SARA02OP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=DD:SARA02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724280"/>
            <a:ext cx="80773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=(NAME=anythin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=DD:ALL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2950-53B0-46ED-B54F-C134FCFC5018}" type="slidenum">
              <a:t>27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16765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rly referred to as O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tool - view network traffic in your SAIG mail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address: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ttp://www.saigportal.fsa.ed.go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the TDCM User’s Guide a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ttp://fsadownload.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3049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DCommunity Mana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E864-12CD-4486-8DB5-FF9E8E458E1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7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DCM Featur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ent and received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ilter and sor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dvanced search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restor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error detail to troubleshoot transmission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EB38-7AF6-4662-BE41-7932A487F7E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genda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Aid Internet Gateway(SA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Access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 CommunityManager (formerly O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coming Changes for SAIG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6138-BD80-4C35-9AF0-5220E9347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42840" y="6858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asics for TDC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45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wich Mean Time (GMT) Military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Explorer V5.0 displays screens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Netscape versions will not display 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871F-BA4D-4CC6-900E-33CD219A735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ogin Screen for TDC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: enter TG Number, including “T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enter your SAIG Network 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access following ta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, Participants, Messages &amp; 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tabs reserved for CPS/WAN or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371600"/>
          <a:ext cx="8458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6312-3E2C-4958-B910-D816B619D81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articipants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rticipants Tab only make change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Password” &amp; “Verify Password”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ing other fields may corrupt your school’s setup in OSM &amp; prevent the sending and receiving of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" y="1447920"/>
          <a:ext cx="86788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788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6356-EF13-429B-8A1C-3EBF3EB990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essages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819520"/>
            <a:ext cx="1143000" cy="3045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200400"/>
            <a:ext cx="9907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7440" y="1371600"/>
          <a:ext cx="86216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371600"/>
                    <a:ext cx="86216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A83D-24B5-4F73-8918-FD42511D2B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anded 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320040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93760" y="1447920"/>
          <a:ext cx="85453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447920"/>
                    <a:ext cx="85453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5AEA-1216-47D4-9F17-3F1C3A732A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620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d Searc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07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filter the fields and create a specif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which can be filtere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d by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d in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il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ed from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New Messag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estored to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ch #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2DE7-319B-4A23-BC26-248990C600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vanced Search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or Mess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371600"/>
          <a:ext cx="8458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1E6D-70EC-49CF-AF5A-79A3601E52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5440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rchived Messa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46483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5410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1371600"/>
          <a:ext cx="8381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581280" y="32004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C1D9-A350-45D0-ABE7-973AE67239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ing Change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Password expiration period will be changed from 120 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90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release of EDconnect &amp; EasyAccess client (TDClient) – Summer 2003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new4a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6540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41CB-4121-4A1B-9E3A-129BC56C93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PS/WAN Technic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1-800-330-59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99"/>
              </a:spcBef>
              <a:buClr>
                <a:srgbClr val="80008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Email: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pswan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249"/>
              </a:spcBef>
              <a:buClr>
                <a:srgbClr val="6efc42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-mail: fsatech@inet.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gn-up information: 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28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43BB-1ECF-4647-AE10-86D645C9A714}" type="slidenum">
              <a:t>39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248520" y="4038480"/>
            <a:ext cx="990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D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box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 S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02120" y="442908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EDconnect v 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3114720"/>
            <a:ext cx="1428840" cy="11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Easy 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038480"/>
            <a:ext cx="3049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648320"/>
            <a:ext cx="990360" cy="0"/>
          </a:xfrm>
          <a:prstGeom prst="line">
            <a:avLst/>
          </a:prstGeom>
          <a:ln w="9360">
            <a:solidFill>
              <a:srgbClr val="efa9e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57880" y="4686480"/>
            <a:ext cx="142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381560"/>
            <a:ext cx="111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752480"/>
            <a:ext cx="2743200" cy="533520"/>
          </a:xfrm>
          <a:prstGeom prst="rect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irtual Data Center (VD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209680"/>
            <a:ext cx="2743200" cy="3048120"/>
          </a:xfrm>
          <a:prstGeom prst="rect">
            <a:avLst/>
          </a:prstGeom>
          <a:noFill/>
          <a:ln w="32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125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80060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3720" y="4797360"/>
            <a:ext cx="1180800" cy="0"/>
          </a:xfrm>
          <a:prstGeom prst="line">
            <a:avLst/>
          </a:prstGeom>
          <a:ln w="9360">
            <a:solidFill>
              <a:srgbClr val="5490a8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24480" y="3743280"/>
            <a:ext cx="1143000" cy="0"/>
          </a:xfrm>
          <a:prstGeom prst="line">
            <a:avLst/>
          </a:prstGeom>
          <a:ln w="9360">
            <a:solidFill>
              <a:srgbClr val="5490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592200">
            <a:off x="609120" y="373248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98800">
            <a:off x="609480" y="415944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57400">
            <a:off x="837720" y="479916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SAIG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800600"/>
            <a:ext cx="1143000" cy="0"/>
          </a:xfrm>
          <a:prstGeom prst="line">
            <a:avLst/>
          </a:prstGeom>
          <a:ln w="9360">
            <a:solidFill>
              <a:srgbClr val="5490a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2971800"/>
          <a:ext cx="11430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1143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>
            <a:off x="731484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733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1240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71200">
            <a:off x="533160" y="3352320"/>
            <a:ext cx="147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5490a8"/>
                </a:solidFill>
                <a:latin typeface="Arial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TMLText1" descr=""/>
          <p:cNvPicPr/>
          <p:nvPr/>
        </p:nvPicPr>
        <p:blipFill>
          <a:blip r:embed="rId3"/>
          <a:stretch/>
        </p:blipFill>
        <p:spPr>
          <a:xfrm>
            <a:off x="-2919240" y="2171880"/>
            <a:ext cx="82224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5" name="HTMLPassword1" descr=""/>
          <p:cNvPicPr/>
          <p:nvPr/>
        </p:nvPicPr>
        <p:blipFill>
          <a:blip r:embed="rId4"/>
          <a:stretch/>
        </p:blipFill>
        <p:spPr>
          <a:xfrm>
            <a:off x="-2919240" y="2171880"/>
            <a:ext cx="82224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6" name="HTMLHidden1" descr=""/>
          <p:cNvPicPr/>
          <p:nvPr/>
        </p:nvPicPr>
        <p:blipFill>
          <a:blip r:embed="rId5"/>
          <a:stretch/>
        </p:blipFill>
        <p:spPr>
          <a:xfrm>
            <a:off x="-2919240" y="2171880"/>
            <a:ext cx="393480" cy="9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7" name="HTMLImage1" descr=""/>
          <p:cNvPicPr/>
          <p:nvPr/>
        </p:nvPicPr>
        <p:blipFill>
          <a:blip r:embed="rId6"/>
          <a:stretch/>
        </p:blipFill>
        <p:spPr>
          <a:xfrm>
            <a:off x="6324480" y="3446640"/>
            <a:ext cx="666720" cy="11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28" name=""/>
          <p:cNvGrpSpPr/>
          <p:nvPr/>
        </p:nvGrpSpPr>
        <p:grpSpPr>
          <a:xfrm>
            <a:off x="5867280" y="2620800"/>
            <a:ext cx="1544760" cy="1290600"/>
            <a:chOff x="5867280" y="2620800"/>
            <a:chExt cx="1544760" cy="1290600"/>
          </a:xfrm>
        </p:grpSpPr>
        <p:grpSp>
          <p:nvGrpSpPr>
            <p:cNvPr id="129" name=""/>
            <p:cNvGrpSpPr/>
            <p:nvPr/>
          </p:nvGrpSpPr>
          <p:grpSpPr>
            <a:xfrm>
              <a:off x="5867640" y="2620800"/>
              <a:ext cx="1544040" cy="1289160"/>
              <a:chOff x="5867640" y="2620800"/>
              <a:chExt cx="1544040" cy="1289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867640" y="2620800"/>
                <a:ext cx="612360" cy="256320"/>
                <a:chOff x="5867640" y="2620800"/>
                <a:chExt cx="612360" cy="2563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867640" y="2620800"/>
                  <a:ext cx="612360" cy="256320"/>
                  <a:chOff x="5867640" y="2620800"/>
                  <a:chExt cx="612360" cy="256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5868000" y="2620800"/>
                    <a:ext cx="612000" cy="256320"/>
                    <a:chOff x="5868000" y="2620800"/>
                    <a:chExt cx="612000" cy="25632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5868000" y="2620800"/>
                      <a:ext cx="612000" cy="256320"/>
                      <a:chOff x="5868000" y="2620800"/>
                      <a:chExt cx="612000" cy="256320"/>
                    </a:xfrm>
                  </p:grpSpPr>
                  <p:grpSp>
                    <p:nvGrpSpPr>
                      <p:cNvPr id="134" name=""/>
                      <p:cNvGrpSpPr/>
                      <p:nvPr/>
                    </p:nvGrpSpPr>
                    <p:grpSpPr>
                      <a:xfrm>
                        <a:off x="5868000" y="2683080"/>
                        <a:ext cx="498240" cy="127080"/>
                        <a:chOff x="5868000" y="2683080"/>
                        <a:chExt cx="498240" cy="127080"/>
                      </a:xfrm>
                    </p:grpSpPr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5868000" y="2683080"/>
                          <a:ext cx="4982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5868000" y="2683080"/>
                          <a:ext cx="4982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4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10/17/02 GMT12:20 </a:t>
                          </a:r>
                          <a:endParaRPr b="0" lang="en-US" sz="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37" name=""/>
                      <p:cNvGrpSpPr/>
                      <p:nvPr/>
                    </p:nvGrpSpPr>
                    <p:grpSpPr>
                      <a:xfrm>
                        <a:off x="6276960" y="2620800"/>
                        <a:ext cx="203040" cy="256320"/>
                        <a:chOff x="6276960" y="2620800"/>
                        <a:chExt cx="203040" cy="256320"/>
                      </a:xfrm>
                    </p:grpSpPr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6366240" y="2683080"/>
                          <a:ext cx="42840" cy="12708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9" name=""/>
                        <p:cNvGrpSpPr/>
                        <p:nvPr/>
                      </p:nvGrpSpPr>
                      <p:grpSpPr>
                        <a:xfrm>
                          <a:off x="6276960" y="2620800"/>
                          <a:ext cx="203040" cy="256320"/>
                          <a:chOff x="6276960" y="2620800"/>
                          <a:chExt cx="203040" cy="256320"/>
                        </a:xfrm>
                      </p:grpSpPr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>
                            <a:off x="6296040" y="2620800"/>
                            <a:ext cx="183960" cy="21564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762120"/>
                                <a:tab algn="l" pos="1523880"/>
                                <a:tab algn="l" pos="2286000"/>
                                <a:tab algn="l" pos="3048120"/>
                                <a:tab algn="l" pos="3809880"/>
                                <a:tab algn="l" pos="4572000"/>
                                <a:tab algn="l" pos="5334120"/>
                                <a:tab algn="l" pos="6095880"/>
                                <a:tab algn="l" pos="6858000"/>
                                <a:tab algn="l" pos="7620120"/>
                                <a:tab algn="l" pos="8381880"/>
                                <a:tab algn="l" pos="9144000"/>
                                <a:tab algn="l" pos="9906120"/>
                                <a:tab algn="l" pos="10667880"/>
                              </a:tabLst>
                            </a:pPr>
                            <a:r>
                              <a:rPr b="0" lang="en-US" sz="800" spc="-1" strike="noStrike" u="sng">
                                <a:solidFill>
                                  <a:srgbClr val="0000ff"/>
                                </a:solidFill>
                                <a:uFillTx/>
                                <a:latin typeface="Arial"/>
                                <a:ea typeface="Arial"/>
                                <a:hlinkClick r:id="rId7"/>
                              </a:rPr>
                              <a:t>Home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>
                            <a:off x="6276960" y="2661480"/>
                            <a:ext cx="184320" cy="21564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762120"/>
                                <a:tab algn="l" pos="1523880"/>
                                <a:tab algn="l" pos="2286000"/>
                                <a:tab algn="l" pos="3048120"/>
                                <a:tab algn="l" pos="3809880"/>
                                <a:tab algn="l" pos="4572000"/>
                                <a:tab algn="l" pos="5334120"/>
                                <a:tab algn="l" pos="6095880"/>
                                <a:tab algn="l" pos="6858000"/>
                                <a:tab algn="l" pos="7620120"/>
                                <a:tab algn="l" pos="8381880"/>
                                <a:tab algn="l" pos="9144000"/>
                                <a:tab algn="l" pos="9906120"/>
                                <a:tab algn="l" pos="1066788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  <a:ea typeface="Arial"/>
                              </a:rPr>
                              <a:t> 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5868000" y="2683080"/>
                      <a:ext cx="541440" cy="127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" name=""/>
                  <p:cNvSpPr/>
                  <p:nvPr/>
                </p:nvSpPr>
                <p:spPr>
                  <a:xfrm>
                    <a:off x="5867640" y="2680920"/>
                    <a:ext cx="542160" cy="131040"/>
                  </a:xfrm>
                  <a:prstGeom prst="rect">
                    <a:avLst/>
                  </a:prstGeom>
                  <a:noFill/>
                  <a:ln w="111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5867640" y="2680920"/>
                  <a:ext cx="542160" cy="13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867640" y="2812320"/>
                <a:ext cx="1544040" cy="1097640"/>
                <a:chOff x="5867640" y="2812320"/>
                <a:chExt cx="1544040" cy="109764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5867640" y="2812320"/>
                  <a:ext cx="1544040" cy="1097280"/>
                  <a:chOff x="5867640" y="2812320"/>
                  <a:chExt cx="1544040" cy="1097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5867640" y="281232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867640" y="2896920"/>
                    <a:ext cx="1544040" cy="433080"/>
                    <a:chOff x="5867640" y="2896920"/>
                    <a:chExt cx="1544040" cy="43308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5868000" y="2898720"/>
                      <a:ext cx="1543320" cy="429840"/>
                      <a:chOff x="5868000" y="2898720"/>
                      <a:chExt cx="1543320" cy="429840"/>
                    </a:xfrm>
                  </p:grpSpPr>
                  <p:grpSp>
                    <p:nvGrpSpPr>
                      <p:cNvPr id="150" name=""/>
                      <p:cNvGrpSpPr/>
                      <p:nvPr/>
                    </p:nvGrpSpPr>
                    <p:grpSpPr>
                      <a:xfrm>
                        <a:off x="5868000" y="2898720"/>
                        <a:ext cx="1543320" cy="429840"/>
                        <a:chOff x="5868000" y="2898720"/>
                        <a:chExt cx="1543320" cy="429840"/>
                      </a:xfrm>
                    </p:grpSpPr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5868000" y="2989080"/>
                          <a:ext cx="15433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  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5868000" y="3073680"/>
                          <a:ext cx="7045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Username: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6572520" y="3073680"/>
                          <a:ext cx="83880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5868000" y="3158640"/>
                          <a:ext cx="7045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Password: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6572520" y="3158640"/>
                          <a:ext cx="83880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5868000" y="3243600"/>
                          <a:ext cx="1543320" cy="84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800" bIns="37800" anchor="ctr">
                          <a:noAutofit/>
                        </a:bodyPr>
                        <a:p>
                          <a:pPr algn="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762120"/>
                              <a:tab algn="l" pos="1523880"/>
                              <a:tab algn="l" pos="2286000"/>
                              <a:tab algn="l" pos="3048120"/>
                              <a:tab algn="l" pos="3809880"/>
                              <a:tab algn="l" pos="4572000"/>
                              <a:tab algn="l" pos="5334120"/>
                              <a:tab algn="l" pos="6095880"/>
                              <a:tab algn="l" pos="6858000"/>
                              <a:tab algn="l" pos="7620120"/>
                              <a:tab algn="l" pos="8381880"/>
                              <a:tab algn="l" pos="9144000"/>
                              <a:tab algn="l" pos="9906120"/>
                              <a:tab algn="l" pos="10667880"/>
                            </a:tabLst>
                          </a:pPr>
                          <a:r>
                            <a: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Arial"/>
                            </a:rPr>
                            <a:t>  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5868000" y="3328200"/>
                          <a:ext cx="15433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sp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8" name=""/>
                        <p:cNvGrpSpPr/>
                        <p:nvPr/>
                      </p:nvGrpSpPr>
                      <p:grpSpPr>
                        <a:xfrm>
                          <a:off x="5868000" y="2898720"/>
                          <a:ext cx="1543320" cy="90360"/>
                          <a:chOff x="5868000" y="2898720"/>
                          <a:chExt cx="1543320" cy="90360"/>
                        </a:xfrm>
                      </p:grpSpPr>
                      <p:sp>
                        <p:nvSpPr>
                          <p:cNvPr id="159" name=""/>
                          <p:cNvSpPr/>
                          <p:nvPr/>
                        </p:nvSpPr>
                        <p:spPr>
                          <a:xfrm>
                            <a:off x="5868000" y="2898720"/>
                            <a:ext cx="1543320" cy="90360"/>
                          </a:xfrm>
                          <a:prstGeom prst="rect">
                            <a:avLst/>
                          </a:prstGeom>
                          <a:solidFill>
                            <a:srgbClr val="ededde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560" bIns="43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0" name=""/>
                          <p:cNvGrpSpPr/>
                          <p:nvPr/>
                        </p:nvGrpSpPr>
                        <p:grpSpPr>
                          <a:xfrm>
                            <a:off x="5868000" y="2898720"/>
                            <a:ext cx="1543320" cy="90360"/>
                            <a:chOff x="5868000" y="2898720"/>
                            <a:chExt cx="1543320" cy="90360"/>
                          </a:xfrm>
                        </p:grpSpPr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>
                              <a:off x="5868000" y="2898720"/>
                              <a:ext cx="1543320" cy="90360"/>
                            </a:xfrm>
                            <a:prstGeom prst="rect">
                              <a:avLst/>
                            </a:prstGeom>
                            <a:solidFill>
                              <a:srgbClr val="ededde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3560" bIns="4356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762120"/>
                                  <a:tab algn="l" pos="1523880"/>
                                  <a:tab algn="l" pos="2286000"/>
                                  <a:tab algn="l" pos="3048120"/>
                                  <a:tab algn="l" pos="3809880"/>
                                  <a:tab algn="l" pos="4572000"/>
                                  <a:tab algn="l" pos="5334120"/>
                                  <a:tab algn="l" pos="6095880"/>
                                  <a:tab algn="l" pos="6858000"/>
                                  <a:tab algn="l" pos="7620120"/>
                                  <a:tab algn="l" pos="8381880"/>
                                  <a:tab algn="l" pos="9144000"/>
                                  <a:tab algn="l" pos="9906120"/>
                                  <a:tab algn="l" pos="10667880"/>
                                </a:tabLst>
                              </a:pPr>
                              <a:r>
                                <a:rPr b="1" lang="en-US" sz="900" spc="-1" strike="noStrike">
                                  <a:solidFill>
                                    <a:srgbClr val="000066"/>
                                  </a:solidFill>
                                  <a:latin typeface="Arial"/>
                                  <a:ea typeface="Arial"/>
                                </a:rPr>
                                <a:t>Login to the Portal</a:t>
                              </a:r>
                              <a:r>
                                <a:rPr b="0" lang="en-US" sz="900" spc="-1" strike="noStrike">
                                  <a:solidFill>
                                    <a:srgbClr val="000066"/>
                                  </a:solidFill>
                                  <a:latin typeface="Arial"/>
                                  <a:ea typeface="Arial"/>
                                </a:rPr>
                                <a:t> 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2" name=""/>
                            <p:cNvSpPr/>
                            <p:nvPr/>
                          </p:nvSpPr>
                          <p:spPr>
                            <a:xfrm>
                              <a:off x="5868000" y="2898720"/>
                              <a:ext cx="1543320" cy="90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solidFill>
                                <a:srgbClr val="a0a0a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3560" bIns="43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5868000" y="2898720"/>
                        <a:ext cx="1543320" cy="42948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867640" y="2896920"/>
                      <a:ext cx="1544040" cy="433080"/>
                    </a:xfrm>
                    <a:prstGeom prst="rect">
                      <a:avLst/>
                    </a:prstGeom>
                    <a:noFill/>
                    <a:ln w="1116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5" name=""/>
                  <p:cNvSpPr/>
                  <p:nvPr/>
                </p:nvSpPr>
                <p:spPr>
                  <a:xfrm>
                    <a:off x="5867640" y="333000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867640" y="3414600"/>
                    <a:ext cx="705600" cy="8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  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867640" y="3499560"/>
                    <a:ext cx="705600" cy="32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br>
                      <a:rPr sz="800"/>
                    </a:br>
                    <a:br>
                      <a:rPr sz="800"/>
                    </a:br>
                    <a:br>
                      <a:rPr sz="800"/>
                    </a:b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5867640" y="3825000"/>
                    <a:ext cx="705600" cy="84600"/>
                    <a:chOff x="5867640" y="3825000"/>
                    <a:chExt cx="705600" cy="846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867640" y="3825000"/>
                      <a:ext cx="705600" cy="84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867640" y="3825000"/>
                      <a:ext cx="705600" cy="84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1" name=""/>
                <p:cNvSpPr/>
                <p:nvPr/>
              </p:nvSpPr>
              <p:spPr>
                <a:xfrm>
                  <a:off x="5867640" y="2812320"/>
                  <a:ext cx="1544040" cy="109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5867280" y="2679120"/>
              <a:ext cx="1544760" cy="12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fist" descr=""/>
          <p:cNvPicPr/>
          <p:nvPr/>
        </p:nvPicPr>
        <p:blipFill>
          <a:blip r:embed="rId8"/>
          <a:stretch/>
        </p:blipFill>
        <p:spPr>
          <a:xfrm>
            <a:off x="5791320" y="2438280"/>
            <a:ext cx="1600200" cy="241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43800" y="3200400"/>
            <a:ext cx="9144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5490a8"/>
            </a:solidFill>
            <a:miter/>
          </a:ln>
          <a:effectLst>
            <a:outerShdw dist="17819" dir="2700000" blurRad="0" rotWithShape="0">
              <a:srgbClr val="efa9e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286000"/>
            <a:ext cx="1600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SAIGPortal.ed.go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AA91-DCDF-4509-ADFF-BD7633003CD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8600" y="25909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Op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hurr_anm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349280" cy="104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C4A9-C7DB-4CFA-9F02-F70778D8A069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SAIG Suite Compon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839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Dconnect v5.2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softw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syAccess (soon to be TDClient)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ainframe and Mid-Range Client software used to send and receive data.  Upgrade coming in Spring 2003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DCommunity Manager (TDC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eb tool used for tracking data sent and received on SA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6B33-9B05-43A8-BD59-4C21C4B4A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5331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Dconnect 5.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 expiration popup &amp;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ed transmission error mess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fsadownload.ed.gov/softedconnect.ht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411D-CF45-4946-A8C5-4E0BF70025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0560" y="7621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curity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81080"/>
            <a:ext cx="5486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connect pass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Pass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connec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IG 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keys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307800" cy="285480"/>
          </a:xfrm>
          <a:prstGeom prst="rect">
            <a:avLst/>
          </a:prstGeom>
          <a:ln w="0">
            <a:noFill/>
          </a:ln>
        </p:spPr>
      </p:pic>
      <p:pic>
        <p:nvPicPr>
          <p:cNvPr id="183" name="locks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3809880" cy="10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8C23-45E1-4561-8249-F5A4C3FB9E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anging the EDconnect User Passwor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urity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ght-click on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r 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new password in new &amp; verify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8 characters in length (case-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495680" y="1676520"/>
          <a:ext cx="4038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76520"/>
                    <a:ext cx="4038840" cy="4114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8BFD-B954-4BCB-BEEF-008B758D1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hanging the SAIG Mailbox Network Passwor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urity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ght-click Group ID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ert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“Network and Local” for Chang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password in new &amp; verif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mi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sel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574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BC98-6DF3-4876-AD02-4175E55CB20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4T17:44:14Z</dcterms:created>
  <dc:creator>NCS</dc:creator>
  <dc:description/>
  <dc:language>en-US</dc:language>
  <cp:lastModifiedBy>Dept. of Education</cp:lastModifiedBy>
  <cp:lastPrinted>2001-02-14T21:13:01Z</cp:lastPrinted>
  <dcterms:modified xsi:type="dcterms:W3CDTF">2002-12-12T16:31:02Z</dcterms:modified>
  <cp:revision>224</cp:revision>
  <dc:subject/>
  <dc:title>No Slide Title</dc:title>
</cp:coreProperties>
</file>