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CASHREG.WAV" ContentType="audio/x-wav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997B4-0B68-46D5-B03C-D0A735C79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6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2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students with no dependents other than spouse do not qualify for automatic zero EFC cal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19659-AD13-470F-B70C-344039F0E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EE3-5656-48E7-BB15-C768420C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0332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A62-3BF2-46DE-AFA2-EDA4C96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0332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70332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C88-CE16-4B12-9D5C-0E073E2A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43460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43460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0332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70332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70332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4E4-DC38-4461-99B2-4F742FF2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F0E-67A2-4C1F-BECA-ADB13E91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C2E-4F15-4AF7-A180-2506248C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FD2-0FCB-4F6E-9CDA-E88B93BC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487-9515-4399-97BF-618ECC9A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965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E01-A6D8-4247-886A-FD738203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0332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19D-EAC0-4409-9607-132EAA6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70332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4B8-FCAE-41EA-9978-CC0FB3A4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43460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0332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158-24B0-4D89-BFBF-0C0AA26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64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641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D869-CCCA-451D-934D-EC5E75169CD2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32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EFC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pected Family Contribu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ianna Deek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aire Micki Roem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gular Formul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versions of regular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students without dependents other than a spo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ependent students with dependents other than a spo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BE6-9871-430B-B3F1-92354C6CB85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lternate EFC Formula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ified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ts are not considered in the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atic Zero EFC formu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taxed income and assets are not considered in the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991-DF78-44D8-9097-CAEB3D573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Formula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dependent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s’ AGI or earnings from work &lt; $50,000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s  are no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file IRS form 10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641-2B45-4300-ACB4-87F31E87CE3B}" type="slidenum">
              <a:t>1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Formul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ll in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AGI or earnings from work &lt; $50,000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59B-1718-4BE7-8363-F62AB5DA1E2A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utomatic Zero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dependent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’ AGI or income earned from work is $20,000 or l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 are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5E7-606A-4DEC-83D0-B976CA8F73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utomatic Zero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independent students with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s other than a spo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’s (and spouse’s) AGI or income earned from work is $20,000 or 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(and spouse) not required to file IRS form 1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of FAFSA household received federal means-test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C4D-6185-439C-8A05-CCE7B5F9FB90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NT &amp; Auto 0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Means-Tested Benefit Pro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emental Security Income (SS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orary Assistance for Needy Families (TAN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Supplemental Nutrition Program for Women, Infants, and Children (W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ta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 or Reduced Price Lun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798-94A0-4410-8AA7-3C6275A43307}" type="slidenum">
              <a:t>16</a:t>
            </a:fld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Web Famil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parents with one wor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hildren in fami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hild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ve in Illino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lder parent is age 4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8DA-A06F-4E6A-AC97-41B5AEC232A7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Income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Income (TI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 year income from all taxab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untaxable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xclusions on FAFSA Worksheet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5BE-972C-4F1C-B463-28EFAE099AD5}" type="slidenum">
              <a:t>1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Income 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ailable Income (AI) is portion o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ome remaining for discretionar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n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Total Allow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Available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3FD-21D4-4C6B-A01E-6BE10DEB6999}" type="slidenum">
              <a:t>1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ected Family Contribu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of what the student and family can be expected to contribute to student’s cost of edu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bd19689_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027160" cy="19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CDC-D445-4AB0-ACC7-2A19F731C32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llow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ances for tax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 S. Income tax p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imate of state and other tax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of resid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ount of total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46560" y="2895480"/>
            <a:ext cx="399744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13C-7C59-4B46-A659-F345EF3B6133}" type="slidenum">
              <a:t>2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llow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ome Protection Allowance (IP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imates amount needed for basic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Bureau of Labor Statistics lower budget expenditures adjusted for CP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with each household me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reases with each member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445-6BD7-489B-8BFC-B6D09EF3E4E9}" type="slidenum">
              <a:t>2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otal Allowance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347688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ment expense allow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dditional costs when both parents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to working single parent fami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4080" y="2590920"/>
            <a:ext cx="31845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242-BB70-4E75-86DC-6D47CDAB5FC6}" type="slidenum">
              <a:t>2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Asset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ts def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ments and tru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l estate equ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siness/farm equity (not family own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ects first 60% of equity up to $105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reases protection percentage after $105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BB3-EA5A-4C55-9DDC-D6BF1A5E58EA}" type="slidenum">
              <a:t>2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988920" cy="23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Asse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Net worth of real estate and invest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djusted net worth of business/fa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3429000" cy="15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78F-CAC7-4017-A8D9-F474A3DE14CD}" type="slidenum">
              <a:t>2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Parents’ Asse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ucation Savings and Ass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rotection Allow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Discretionary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3600" y="3809880"/>
            <a:ext cx="180828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CA5-9C6F-4A55-8490-30A26016DFF2}" type="slidenum">
              <a:t>2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Parents’ Assets 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ucation Savings and Asset Protection Allow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ects assets for retirement and future education co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es &gt; age 2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s with 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ed for marital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protection for dependent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52B-58A6-44DC-9874-096A37B77188}" type="slidenum">
              <a:t>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eatment of Parents’ Asset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retionary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12% asset conversion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Contribution from Ass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816-9FF3-4ED7-A9C7-85E7D5B957B2}" type="slidenum">
              <a:t>2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justed Available Inco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s’ Available Income (+/-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arents’ contribution from assets (+/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Adjusted Available Income (+/-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9ED-C83D-40E9-8622-3D5B6580329E}" type="slidenum">
              <a:t>2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termining Parents’ Contribu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income increases, amount needed for basic household expenses decre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retionary income incre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ome available for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ed Available Income (AAI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AI contribution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Parents’ Contribution from AA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534-C62A-4404-AA93-79A48C398E55}" type="slidenum">
              <a:t>2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xpected Family Contribution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d from data collected on the FAF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ula is in statu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ed to measure the family’s financial str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 publishes updated tables each year in the Federal Regis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547-3E54-4D58-B296-C4608CE1D2DB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ing Parents’ Contribu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contribution from AAI is divided evenly among all household members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PC from AAI / Number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9 month PC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A0E-BDAD-43E9-9695-C63EDC11D827}" type="slidenum">
              <a:t>3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ing Student’s Contribu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of student taxable + unta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nd federal ta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3,000 I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11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owance for parents’ negative A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Available income (A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50% assessment of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Student contribution from 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AD8-BE1E-4D55-989F-5060A37C91C6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ing Student’s Contribu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h, savings, chec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Net worth of real estate and invest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djusted net worth of business/fa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Total Net Wo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Student contribution from ass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49528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C3E-CFD0-45B6-B5FE-35C2DFB8805C}" type="slidenum">
              <a:t>3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ing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s’ Contrib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Student’s contribution from A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tudent’s contribution from ass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9 month EF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1292400" cy="1906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10080" y="4876920"/>
            <a:ext cx="10558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ECD-A9A4-4EA6-A321-A977E8099587}" type="slidenum">
              <a:t>3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f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there were two in the household in colleg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PA is $20,5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tal allowances are $28,01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AI is $14,71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PC is $3,27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EFC is 328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B24-8738-4A94-854C-FDD34D3F602E}" type="slidenum">
              <a:t>34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7-2008 FSA Handbook, Application &amp; Verification Guide, Chapter 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C Formula Guide on IFA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D92-CD3F-49AD-9030-B128947DE1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ire Micki Roe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 202-377-345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claire.roemer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295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971800"/>
            <a:ext cx="655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ianna De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206) 615-258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marianna.deeken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402-0D29-4E3C-B711-4760BFD3AC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provide any comments regarding this training or the trainer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 Ann Bor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Training Supervi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ann.borel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2-377-39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8E3-6384-419F-98BB-CA751BE327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inciples of Need Analysi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mily has primary responsibility to pay for educational co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and parents are expected to contribute to the extent they are 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milies should be evaluated in an equitable and consistent man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60F-042D-4B40-BA11-15955F307EA0}" type="slidenum">
              <a:t>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ed Analysis Concep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 funds are available to assist with educational costs that exceed the family’s ability to p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es strength at the time of appl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mily resources are devoted first to basic subsis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7B2-B321-4814-86F0-3FC98FA7E1F3}" type="slidenum">
              <a:t>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ed Analysis Concep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399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measures discretionary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resources needed for basic li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s a portion available for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17960" y="1646280"/>
            <a:ext cx="3997440" cy="39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287-0A86-4E19-B9A1-CB4B3F837A43}" type="slidenum">
              <a:t>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actors that affect EF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xable and untaxed in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xes p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in Househo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in Colle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 of the older par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of wage earn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26622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16A-E2F0-4D22-B766-3CE65260B4E5}" type="slidenum">
              <a:t>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FC Calcul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434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C result on ISIR reflects a 9 month EF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w specifies how an EFC must be calculated for periods of other than nine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show on ISIR by number of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 month EFC must be used for Pell Grant elig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92D-19A3-4E10-BA17-389203F4E34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9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is EFC Determined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960" y="1434600"/>
            <a:ext cx="399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ree distinct FM formul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ifi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atic ze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208240"/>
            <a:ext cx="3997080" cy="27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68D-CA83-4E85-894C-F8C1C7A4D5F7}" type="slidenum">
              <a:t>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7:13:24Z</dcterms:created>
  <dc:creator>EPMDEEKEN</dc:creator>
  <dc:description/>
  <dc:language>en-US</dc:language>
  <cp:lastModifiedBy>yvette.payne</cp:lastModifiedBy>
  <dcterms:modified xsi:type="dcterms:W3CDTF">2007-12-05T18:18:29Z</dcterms:modified>
  <cp:revision>37</cp:revision>
  <dc:subject/>
  <dc:title>Need Analysis in Special Circumstances</dc:title>
</cp:coreProperties>
</file>