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CASHREG.WAV" ContentType="audio/x-wav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05384-AFB2-441E-93D1-D73DF8947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/6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2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students with no dependents other than spouse do not qualify for automatic zero EFC calc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4E2B1-CAE0-4EAE-A34F-F30C8A827F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416-35E7-4858-830F-C0D383AE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70332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C26-E1A4-4BA2-921C-DED93EA5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43460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70332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70332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C3C-CBC5-431F-9240-9CF33320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43460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43460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70332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70332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70332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BB6-D443-49E3-9AA0-D76D7132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923-82F8-4857-8C08-D67ADC45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E81-CB34-433A-A985-28433D95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43460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BA0-B9D3-4976-8DDE-322FB45C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2A8-EF3D-4035-AF5E-F7905F79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9652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72A-2EA6-4C7C-BFB7-9BBEF057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43460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70332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165-F38D-428F-9C90-752D499D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43460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70332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DB6-20D7-45B1-AC5B-F606BBC2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43460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70332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37A-EC04-4A8B-8BED-12A2FA36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641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641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040B-78B4-4D35-B2FB-123D427ABBA2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32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EFC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xpected Family Contribu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rianna Deek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aire Micki Roem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gular Formul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ee versions of regular formu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endent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ependent students without dependents other than a spo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ependent students with dependents other than a spo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34F-A84C-4FAB-A7E5-18F822E68BE5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lternate EFC Formula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ified formu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ts are not considered in the calc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omatic Zero EFC formu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taxed income and assets are not considered in the calc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F6D-3871-4E6F-98D6-255D08CFD0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implified Formula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dependent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ents’ AGI or earnings from work &lt; $50,000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ents  are not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file IRS form 10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mber of FAFSA household received federal means-test benef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006-A554-4E75-A6C7-7F8CB94F9A0F}" type="slidenum">
              <a:t>12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implified Formul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ll independent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(and spouse) AGI or earnings from work &lt; $50,000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(and spouse) not required to file IRS form 10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FAFSA household received federal means-test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141-AD82-41B9-B5F5-B4219CFFE7A0}" type="slidenum">
              <a:t>13</a:t>
            </a:fld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utomatic Zero EFC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dependent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’ AGI or income earned from work is $20,000 or le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 are not required to file IRS form 10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FAFSA household received federal means-test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56E-E022-4AA0-9262-6905A85F27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utomatic Zero EFC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independent students with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endents other than a spo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’s (and spouse’s) AGI or income earned from work is $20,000 or 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(and spouse) not required to file IRS form 10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FAFSA household received federal means-test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3CC-13FF-44CC-9C29-A9B90A664D38}" type="slidenum">
              <a:t>15</a:t>
            </a:fld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NT &amp; Auto 0 EFC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Means-Tested Benefit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emental Security Income (SS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orary Assistance for Needy Families (TANF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Supplemental Nutrition Program for Women, Infants, and Children (WI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d Sta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e or Reduced Price Lun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85A-6A7F-4A97-BD43-98CF0C3F437F}" type="slidenum">
              <a:t>16</a:t>
            </a:fld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Web Famil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parents with one wor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hildren in fami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hild in colle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ve in Illino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lder parent is age 4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081-313E-4F3C-89CB-1340B06AEADA}" type="slidenum">
              <a:t>17</a:t>
            </a:fld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eatment of Income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Income (TI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 year income from all taxab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untaxable 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xclusions on FAFSA Worksheet 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Total Inc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BE7-A376-4C0F-B5BF-86F57222626C}" type="slidenum">
              <a:t>1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eatment of Income 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ailable Income (AI) is portion o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ome remaining for discretionar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n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inc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Total Allowa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Available Inc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2CB-BDD4-432C-AF08-73EC4BE8D051}" type="slidenum">
              <a:t>1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FC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ected Family Contribu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of what the student and family can be expected to contribute to student’s cost of edu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bd19689_" descr=""/>
          <p:cNvPicPr/>
          <p:nvPr/>
        </p:nvPicPr>
        <p:blipFill>
          <a:blip r:embed="rId1"/>
          <a:stretch/>
        </p:blipFill>
        <p:spPr>
          <a:xfrm>
            <a:off x="5791320" y="3809880"/>
            <a:ext cx="2027160" cy="198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5CC-2550-4EB6-9863-A269733FE06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otal Allowan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wances for tax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. S. Income tax p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timate of state and other tax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 of resid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mount of total inc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146560" y="2895480"/>
            <a:ext cx="3997440" cy="278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7DF-B304-4A87-812B-E0F98D117885}" type="slidenum">
              <a:t>20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otal Allowan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ome Protection Allowance (IPA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timates amount needed for basic n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Bureau of Labor Statistics lower budget expenditures adjusted for CP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s with each household me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reases with each member in colle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21B-FFA1-4839-A85A-933582AC0F50}" type="slidenum">
              <a:t>21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otal Allowance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3476880" cy="39621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ment expense allow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dditional costs when both parents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es to working single parent fami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4080" y="2590920"/>
            <a:ext cx="31845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4D3-9CB7-4084-B2E3-87670868938A}" type="slidenum">
              <a:t>22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eatment of Asset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ts defin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sh, savings, chec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ments and tru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l estate equ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siness/farm equity (not family owne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tects first 60% of equity up to $105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reases protection percentage after $105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9EE-4C3D-403B-88E3-BF06FBDA4296}" type="slidenum">
              <a:t>23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988920" cy="2305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eatment of Asse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sh, savings, chec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Net worth of real estate and invest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Adjusted net worth of business/far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Total Net Wo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3429000" cy="157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1D9-1AE2-4917-B1F3-2FABFF15D2B1}" type="slidenum">
              <a:t>2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eatment of Parents’ Asse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Net Wo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ucation Savings and Ass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rotection Allow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Discretionary Net Wo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943600" y="3809880"/>
            <a:ext cx="1808280" cy="195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850-F9EC-4651-9E84-740034B757DB}" type="slidenum">
              <a:t>2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eatment of Parents’ Assets 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ucation Savings and Asset Protection Allow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tects assets for retirement and future education co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es &gt; age 2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s with 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ed for marital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protection for dependent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E33-04A0-4FA2-A4E9-87FA0D0FC012}" type="slidenum">
              <a:t>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eatment of Parents’ Asset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retionary Net Wo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12% asset conversion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Contribution from Ass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6E6-03A5-492A-AF88-3256B8C8A8E2}" type="slidenum">
              <a:t>27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djusted Available Inco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ents’ Available Income (+/-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’ contribution from assets (+/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Total Adjusted Available Income (+/-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3F5-EB21-45D2-8591-C69498D5E95D}" type="slidenum">
              <a:t>2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termining Parents’ Contribu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income increases, amount needed for basic household expenses decre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retionary income incre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ome available for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ed Available Income (AAI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AAI contribution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Total Parents’ Contribution from AA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B4B-7DDE-4E96-A59E-FEE7098E2664}" type="slidenum">
              <a:t>2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xpected Family Contribution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d from data collected on the FAF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ula is in statu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igned to measure the family’s financial str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 publishes updated tables each year in the Federal Regis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210-3F42-490D-B6DA-2D7B624377C4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termining Parents’ Contribu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contribution from AAI is divided evenly among all household members in colle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PC from AAI / Number in Colle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9 month PC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39A-B876-468B-9C44-08E8C2B4D223}" type="slidenum">
              <a:t>30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termining Student’s Contribu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of student taxable + untax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and federal tax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3,000 I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llowance for parents’ negative A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Available income (A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50% assessment of 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Student contribution from 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375-A666-4A38-B85F-97E13B0496AB}" type="slidenum">
              <a:t>31</a:t>
            </a:fld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termining Student’s Contribu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sh, savings, chec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Net worth of real estate and invest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Adjusted net worth of business/far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Total Net Wo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2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Student contribution from ass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49528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DA4E-1A00-4AD3-8045-C1454E3CD96A}" type="slidenum">
              <a:t>32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termining EFC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ents’ Contrib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Student’s contribution from A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Student’s contribution from ass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 9 month EF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1292400" cy="1906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10080" y="4876920"/>
            <a:ext cx="10558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C5D-9785-457A-BF23-6608A9BA18B0}" type="slidenum">
              <a:t>33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f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f there were two in the household in colleg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PA is $20,51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tal allowances are $28,01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w AI is $14,71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w PC is $3,27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w EFC is 328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B1D-86A5-44B9-B49A-D605EB949D0B}" type="slidenum">
              <a:t>34</a:t>
            </a:fld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our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7-2008 FSA Handbook, Application &amp; Verification Guide, Chapter 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FC Formula Guide on IFA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81C-A376-4EB4-AF48-BB3D7FB29E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44953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aire Micki Roem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ne:  202-377-345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il: claire.roemer@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29528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2971800"/>
            <a:ext cx="6553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ianna De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ne: (206) 615-258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il: marianna.deeken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36F-0A02-42DA-86F0-D9B89C698D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ease provide any comments regarding this training or the trainers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 Ann Bor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tle IV Training Supervis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ann.borel@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2-377-39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ACC-1B0A-49B8-A271-1C7A22349E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inciples of Need Analysi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mily has primary responsibility to pay for educational co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and parents are expected to contribute to the extent they are 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milies should be evaluated in an equitable and consistent man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869-AB6D-43EB-9D3F-9CF1E890467B}" type="slidenum">
              <a:t>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eed Analysis Concep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-based funds are available to assist with educational costs that exceed the family’s ability to p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es strength at the time of appl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mily resources are devoted first to basic subsist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786-B2EF-4D7B-B84E-B1478094CC07}" type="slidenum">
              <a:t>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eed Analysis Concep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399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M measures discretionary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ects resources needed for basic liv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es a portion available for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17960" y="1646280"/>
            <a:ext cx="3997440" cy="39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C8D-090F-49DC-801D-054CD0D8309A}" type="slidenum">
              <a:t>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actors that affect EFC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xable and untaxed inc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xes p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mber in Househo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mber in Colle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 of the older par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mber of wage earn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791320" y="2666880"/>
            <a:ext cx="26622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4F0-AD97-4197-BBA5-12C3F35270A7}" type="slidenum">
              <a:t>7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FC Calcul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C result on ISIR reflects a 9 month EF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w specifies how an EFC must be calculated for periods of other than nine month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show on ISIR by number of month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 month EFC must be used for Pell Grant elig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D2C-D8AA-4713-9C01-614EC6F5B32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ow is EFC Determined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960" y="1434600"/>
            <a:ext cx="3997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ee distinct FM formul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ifi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omatic zer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2208240"/>
            <a:ext cx="3997080" cy="27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EB7-0C08-425C-A41B-FD9D1FED0E9D}" type="slidenum">
              <a:t>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07:13:24Z</dcterms:created>
  <dc:creator>EPMDEEKEN</dc:creator>
  <dc:description/>
  <dc:language>en-US</dc:language>
  <cp:lastModifiedBy>yvette.payne</cp:lastModifiedBy>
  <dcterms:modified xsi:type="dcterms:W3CDTF">2007-12-05T18:18:29Z</dcterms:modified>
  <cp:revision>37</cp:revision>
  <dc:subject/>
  <dc:title>Need Analysis in Special Circumstances</dc:title>
</cp:coreProperties>
</file>