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B1A7-1AC8-4AD5-A7CF-236A467DC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25C3-6270-4CBB-BDC0-580348D4F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1323-DBBA-40A0-AD3F-6304B4E40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8CB1-A70A-4E04-A2E8-8F27BDECE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F9EB-86C9-4B9E-9039-FD4B6CB3B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811F-2E85-44FF-97BF-016691357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6FFB-16F1-4B71-95CA-4B20AEC6F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AC20-3B5C-434D-8F5B-0615CB395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49BE-48F8-4B9B-8ECF-4CB69BD20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4E96-164A-43C5-81B0-5716B377E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C3EA-F7C6-48BC-AB13-0EE049CB2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833A-EEA9-4607-A488-6144506A9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240" y="63241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3A3FB2-0298-444F-87E9-01F38AD51F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ur the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our%201" descr=""/>
          <p:cNvPicPr/>
          <p:nvPr/>
        </p:nvPicPr>
        <p:blipFill>
          <a:blip r:embed="rId1"/>
          <a:srcRect l="0" t="0" r="39850" b="37510"/>
          <a:stretch/>
        </p:blipFill>
        <p:spPr>
          <a:xfrm>
            <a:off x="2286000" y="914400"/>
            <a:ext cx="6477120" cy="50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BBB2-E3CC-4720-ACDB-3147B3B9A2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724800" y="1047600"/>
            <a:ext cx="2286000" cy="4486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ortant mess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ersonal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count balance(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rec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ymen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ccount%20Summary" descr=""/>
          <p:cNvPicPr/>
          <p:nvPr/>
        </p:nvPicPr>
        <p:blipFill>
          <a:blip r:embed="rId1"/>
          <a:stretch/>
        </p:blipFill>
        <p:spPr>
          <a:xfrm>
            <a:off x="76320" y="1409760"/>
            <a:ext cx="6476760" cy="40878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F21C-A1F5-4385-A085-1F7F5A846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43560" y="1276200"/>
            <a:ext cx="2552760" cy="4598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Accoun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ccount option from the left navigation b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a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1098-E tax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copies of electronic promissory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ummary%20of%20payments%20received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181480" cy="388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24" name="Your%20Account%20Nav%20Bar" descr=""/>
          <p:cNvPicPr/>
          <p:nvPr/>
        </p:nvPicPr>
        <p:blipFill>
          <a:blip r:embed="rId2"/>
          <a:srcRect l="0" t="0" r="75000" b="75008"/>
          <a:stretch/>
        </p:blipFill>
        <p:spPr>
          <a:xfrm>
            <a:off x="0" y="121932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387200">
            <a:off x="493200" y="2324880"/>
            <a:ext cx="381240" cy="606600"/>
          </a:xfrm>
          <a:custGeom>
            <a:avLst/>
            <a:gdLst>
              <a:gd name="textAreaLeft" fmla="*/ 0 w 381240"/>
              <a:gd name="textAreaRight" fmla="*/ 381600 w 3812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98" stAng="10800000" swAng="5400000"/>
                <a:lnTo>
                  <a:pt x="14555" y="4262"/>
                </a:lnTo>
                <a:lnTo>
                  <a:pt x="14555" y="0"/>
                </a:lnTo>
                <a:lnTo>
                  <a:pt x="21600" y="6079"/>
                </a:lnTo>
                <a:lnTo>
                  <a:pt x="14555" y="12158"/>
                </a:lnTo>
                <a:lnTo>
                  <a:pt x="14555" y="7896"/>
                </a:lnTo>
                <a:lnTo>
                  <a:pt x="12427" y="7896"/>
                </a:lnTo>
                <a:arcTo wR="8793" hR="4264" stAng="16200000" swAng="-5400000"/>
                <a:lnTo>
                  <a:pt x="363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F5F2-2632-41E2-8CB0-B574D7035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477120" y="1390680"/>
            <a:ext cx="2552760" cy="4417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Your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ccount option from the left navigation ba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personal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in electronic correspo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or deferment or forbea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your repayment plan or 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efermetn%20Request%20InSchool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4876560" cy="3657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29" name="Account%20Management%20NavBar" descr=""/>
          <p:cNvPicPr/>
          <p:nvPr/>
        </p:nvPicPr>
        <p:blipFill>
          <a:blip r:embed="rId2"/>
          <a:srcRect l="0" t="0" r="81332" b="84672"/>
          <a:stretch/>
        </p:blipFill>
        <p:spPr>
          <a:xfrm>
            <a:off x="0" y="123984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 rot="21558000">
            <a:off x="304560" y="2590560"/>
            <a:ext cx="761760" cy="606240"/>
          </a:xfrm>
          <a:custGeom>
            <a:avLst/>
            <a:gdLst>
              <a:gd name="textAreaLeft" fmla="*/ 0 w 761760"/>
              <a:gd name="textAreaRight" fmla="*/ 762120 w 761760"/>
              <a:gd name="textAreaTop" fmla="*/ 360 h 606240"/>
              <a:gd name="textAreaBottom" fmla="*/ 606960 h 606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7E9D-520D-45A3-AC87-8773936099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38920" y="1200240"/>
            <a:ext cx="2209680" cy="47026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s and Bill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online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to have payment automatically withdrawn from checking or savings account with 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 to receive and view bills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EDA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324840" cy="47448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4" name="Payments%20and%20Billing%20NavBar" descr=""/>
          <p:cNvPicPr/>
          <p:nvPr/>
        </p:nvPicPr>
        <p:blipFill>
          <a:blip r:embed="rId2"/>
          <a:srcRect l="0" t="0" r="81001" b="87337"/>
          <a:stretch/>
        </p:blipFill>
        <p:spPr>
          <a:xfrm>
            <a:off x="0" y="4495680"/>
            <a:ext cx="2514600" cy="1257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 rot="16174800">
            <a:off x="-343440" y="3695760"/>
            <a:ext cx="1067040" cy="38088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8D96-ADFE-4B9C-B5F4-58B839ECD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0" y="1219320"/>
            <a:ext cx="2286000" cy="45831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 and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rtant that your students understand their rights and responsibilit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Exit Counseling session on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C1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4630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9" name="Tools%20and%20Planning%20NavBar" descr=""/>
          <p:cNvPicPr/>
          <p:nvPr/>
        </p:nvPicPr>
        <p:blipFill>
          <a:blip r:embed="rId2"/>
          <a:srcRect l="0" t="0" r="84677" b="86008"/>
          <a:stretch/>
        </p:blipFill>
        <p:spPr>
          <a:xfrm>
            <a:off x="0" y="4572000"/>
            <a:ext cx="1905120" cy="130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 rot="16174800">
            <a:off x="19440" y="3942720"/>
            <a:ext cx="722520" cy="457200"/>
          </a:xfrm>
          <a:custGeom>
            <a:avLst/>
            <a:gdLst>
              <a:gd name="textAreaLeft" fmla="*/ -360 w 722520"/>
              <a:gd name="textAreaRight" fmla="*/ 722520 w 72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3B53-BEB8-4E63-B16B-16EB7AA135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nterest%20Cap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248520" cy="4687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781680" y="1333440"/>
            <a:ext cx="2286000" cy="4184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 and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Capitalization Estim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any one of the online calculators to aid in your students manage their student loan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Your Ac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6174800">
            <a:off x="-192600" y="4152960"/>
            <a:ext cx="838080" cy="4572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8" stAng="10800000" swAng="5400000"/>
                <a:lnTo>
                  <a:pt x="15940" y="4582"/>
                </a:lnTo>
                <a:lnTo>
                  <a:pt x="15940" y="0"/>
                </a:lnTo>
                <a:lnTo>
                  <a:pt x="21600" y="6079"/>
                </a:lnTo>
                <a:lnTo>
                  <a:pt x="15940" y="12158"/>
                </a:lnTo>
                <a:lnTo>
                  <a:pt x="15940" y="7576"/>
                </a:lnTo>
                <a:lnTo>
                  <a:pt x="12427" y="7576"/>
                </a:lnTo>
                <a:arcTo wR="9433" hR="4584" stAng="16200000" swAng="-5400000"/>
                <a:lnTo>
                  <a:pt x="2994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ools%20and%20Planning%20NavBar%20Cap%20Calc%20selected" descr=""/>
          <p:cNvPicPr/>
          <p:nvPr/>
        </p:nvPicPr>
        <p:blipFill>
          <a:blip r:embed="rId2"/>
          <a:srcRect l="0" t="0" r="84001" b="87337"/>
          <a:stretch/>
        </p:blipFill>
        <p:spPr>
          <a:xfrm>
            <a:off x="0" y="4800600"/>
            <a:ext cx="1981080" cy="117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8006-A8D0-4535-9B0D-6E7A85B37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267600" y="1447920"/>
            <a:ext cx="2876400" cy="39877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onveni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management online with ou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lectronic Servic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390d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bills and important correspondence electron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390d5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ayments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Bill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6018480" cy="4513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16D0-5502-4EE0-B8A8-68C6BDC2E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553080" y="1371600"/>
            <a:ext cx="2286000" cy="2775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payment any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payments up to six months in advance.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04920"/>
            <a:ext cx="6507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Make%20Online%20Payment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943600" cy="4459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C647-49D4-44CD-B2CC-F0174E6927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1219320"/>
            <a:ext cx="2971800" cy="4499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Entrance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249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Loan students will now take their online Entrance Counseling on the Direct Loan Web site for borrow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s wi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 a PIN to take Entrance Counseling, but will continue to use the PIN for Exit Counseling.</a:t>
            </a:r>
            <a:r>
              <a:rPr b="0" lang="en-US" sz="1600" spc="-1" strike="noStrike">
                <a:solidFill>
                  <a:srgbClr val="ff0000"/>
                </a:solidFill>
                <a:latin typeface="Palatino Linotyp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7000" y="533520"/>
            <a:ext cx="650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ntrance Counse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Coming in Dec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Entrance1" descr=""/>
          <p:cNvPicPr/>
          <p:nvPr/>
        </p:nvPicPr>
        <p:blipFill>
          <a:blip r:embed="rId1"/>
          <a:stretch/>
        </p:blipFill>
        <p:spPr>
          <a:xfrm>
            <a:off x="133200" y="1314360"/>
            <a:ext cx="5943600" cy="4459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5786-6298-49AE-ACF0-17F0986CB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3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3818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Direct Loan Servic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eb Si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 New Look with Added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oED2" descr=""/>
          <p:cNvPicPr/>
          <p:nvPr/>
        </p:nvPicPr>
        <p:blipFill>
          <a:blip r:embed="rId1"/>
          <a:srcRect l="0" t="37502" r="0" b="26225"/>
          <a:stretch/>
        </p:blipFill>
        <p:spPr>
          <a:xfrm>
            <a:off x="2286000" y="3581280"/>
            <a:ext cx="43434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4E8D-FA3F-4EF7-9CEA-4E9408C908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400800" y="1295280"/>
            <a:ext cx="2457360" cy="4432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s will be able to receive reports of students who have taken Online Entrance Counseling in three way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t the DL Servicing School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he SA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report available via 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37000" y="380880"/>
            <a:ext cx="650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ntrance Counseling Reports School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359600">
            <a:off x="193320" y="262908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0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chool%20Home%20showing%20Entrance%20Report" descr=""/>
          <p:cNvPicPr/>
          <p:nvPr/>
        </p:nvPicPr>
        <p:blipFill>
          <a:blip r:embed="rId1"/>
          <a:srcRect l="0" t="0" r="19783" b="53462"/>
          <a:stretch/>
        </p:blipFill>
        <p:spPr>
          <a:xfrm>
            <a:off x="0" y="1371600"/>
            <a:ext cx="6248520" cy="2209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59" name="School%20%20Entrance%20Menu" descr=""/>
          <p:cNvPicPr/>
          <p:nvPr/>
        </p:nvPicPr>
        <p:blipFill>
          <a:blip r:embed="rId2"/>
          <a:srcRect l="0" t="0" r="1218" b="62509"/>
          <a:stretch/>
        </p:blipFill>
        <p:spPr>
          <a:xfrm>
            <a:off x="95400" y="4172040"/>
            <a:ext cx="6134040" cy="17445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CD03-5197-436A-AB51-E4B89515EA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Com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048120"/>
            <a:ext cx="617220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5053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474"/>
                </a:solidFill>
                <a:latin typeface="Arial"/>
              </a:rPr>
              <a:t>Dan Hayw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3509-DD6F-4E40-BE49-1F76D0CDFF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 of Separatio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ective way of communicating with schools when changes occur (fast F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n using COD interface – estimated September 2003 (until then you will continue to use your LO log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unseling – high balance information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 Re-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bined bill / annual statement and new DL lo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0799-F9B9-4E54-90E1-343DCD7DE6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Letter Re-engineer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66" name="Paper%20bill%20and%20new%20logo" descr=""/>
          <p:cNvPicPr/>
          <p:nvPr/>
        </p:nvPicPr>
        <p:blipFill>
          <a:blip r:embed="rId1"/>
          <a:srcRect l="5095" t="0" r="4312" b="0"/>
          <a:stretch/>
        </p:blipFill>
        <p:spPr>
          <a:xfrm>
            <a:off x="1600200" y="1371600"/>
            <a:ext cx="6400800" cy="45784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3488-CC2C-444D-9557-39F5D522E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ming Soon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Letter Re-engineer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68" name="Bill%20%20%20Electronic" descr=""/>
          <p:cNvPicPr/>
          <p:nvPr/>
        </p:nvPicPr>
        <p:blipFill>
          <a:blip r:embed="rId1"/>
          <a:srcRect l="6350" t="0" r="4700" b="0"/>
          <a:stretch/>
        </p:blipFill>
        <p:spPr>
          <a:xfrm>
            <a:off x="1447920" y="1371600"/>
            <a:ext cx="6403680" cy="46576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1618-A6CE-4A2C-9E8C-0531BA6EA5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6583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 or Comment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377-32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Dan.Hayward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 B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377-3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Cynthia.Battle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F585-C442-4400-84D9-2306D4E0FE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95680" y="3049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sent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172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an Hayward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A, Students Chan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indy Battle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A, Students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1219320"/>
            <a:ext cx="58672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1214-709A-4CFF-BB07-FC5DC74658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New in 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er Site –  A New Look with Add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rvicing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Counseling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Horizon / What’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CB9B-6518-4AA8-A70A-FF3BC5CDC0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0" y="2362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New in Servic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429000"/>
            <a:ext cx="617220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j0289522" descr=""/>
          <p:cNvPicPr/>
          <p:nvPr/>
        </p:nvPicPr>
        <p:blipFill>
          <a:blip r:embed="rId1"/>
          <a:srcRect l="0" t="0" r="39931" b="0"/>
          <a:stretch/>
        </p:blipFill>
        <p:spPr>
          <a:xfrm>
            <a:off x="380880" y="266688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C8BF-B81D-4E0C-80CB-30CFAC5D64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’s New in Servicing</a:t>
            </a:r>
            <a:br>
              <a:rPr sz="3600"/>
            </a:b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As of September 30, 2002</a:t>
            </a: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3429000"/>
          <a:ext cx="7772400" cy="255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Borr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 Year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chool/Gr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02,5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y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4,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nq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,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rment/Forbea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,9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5,8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90720" y="1828800"/>
          <a:ext cx="7772400" cy="136512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s Boo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 Year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ub/Un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8,8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74,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Consol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3,3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E7C8-942B-4E4A-A45A-89106081C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14300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orrower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 New Look with Added Featur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666880"/>
            <a:ext cx="617220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choolbck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800600" cy="280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9DFE-065D-424C-941A-A7E2C75B3F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3852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147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884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Home - development" descr=""/>
          <p:cNvPicPr/>
          <p:nvPr/>
        </p:nvPicPr>
        <p:blipFill>
          <a:blip r:embed="rId1"/>
          <a:srcRect l="0" t="1462" r="28665" b="0"/>
          <a:stretch/>
        </p:blipFill>
        <p:spPr>
          <a:xfrm>
            <a:off x="152280" y="1676520"/>
            <a:ext cx="4453200" cy="460836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"/>
          <p:cNvPicPr/>
          <p:nvPr/>
        </p:nvPicPr>
        <p:blipFill>
          <a:blip r:embed="rId2"/>
          <a:srcRect l="0" t="0" r="30558" b="27419"/>
          <a:stretch/>
        </p:blipFill>
        <p:spPr>
          <a:xfrm>
            <a:off x="4114800" y="533520"/>
            <a:ext cx="487692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57800" y="4343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343400"/>
            <a:ext cx="1219320" cy="457200"/>
          </a:xfrm>
          <a:prstGeom prst="leftArrow">
            <a:avLst>
              <a:gd name="adj1" fmla="val 50000"/>
              <a:gd name="adj2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335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8380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7C80-D98C-460B-B58D-BE5F5130A8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07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ew Look for Borrower Site</a:t>
            </a:r>
            <a:br>
              <a:rPr sz="3600"/>
            </a:br>
            <a:r>
              <a:rPr b="1" i="1" lang="en-US" sz="2400" spc="-1" strike="noStrike">
                <a:solidFill>
                  <a:srgbClr val="713474"/>
                </a:solidFill>
                <a:latin typeface="Arial"/>
              </a:rPr>
              <a:t>www.dl.ed.gov</a:t>
            </a:r>
            <a:endParaRPr b="1" i="1" lang="en-US" sz="2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Homepage" descr=""/>
          <p:cNvPicPr/>
          <p:nvPr/>
        </p:nvPicPr>
        <p:blipFill>
          <a:blip r:embed="rId1"/>
          <a:srcRect l="0" t="0" r="0" b="9280"/>
          <a:stretch/>
        </p:blipFill>
        <p:spPr>
          <a:xfrm>
            <a:off x="1447920" y="1295280"/>
            <a:ext cx="6933960" cy="4719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64CC-84F5-4EFB-82D9-A47B05D82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6:15:47Z</dcterms:modified>
  <cp:revision>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