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8.png" ContentType="image/png"/>
  <Override PartName="/ppt/media/image1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C5D94-8641-415E-9AD7-B1D68CAF8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F057B-B1D3-45A8-8DA0-EACB0ED9C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72884-8E88-4B6C-BC57-7A46F4316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17604-1F71-42F9-9A5A-CA4E98D4E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984AE-6F38-45C3-AB83-60E0517E5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E09C1-6620-4DC1-87CF-D87705AFE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664FC-8870-4139-B68D-554DAFD21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EDB01-F0C3-44A4-BCDC-EF6A2052C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1F25D-CE2E-4805-964F-DB215E259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80C5F-EE78-4A5D-A774-435C06C96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ADE6D-3E6C-43C0-8174-0457AC96D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240B7-B760-4045-BC6A-DACEE24F8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58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657240" y="6324120"/>
            <a:ext cx="1066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C0326C-E9B6-4974-964D-53401EB5E8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438280" y="304920"/>
            <a:ext cx="6507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Tour the 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our%201" descr=""/>
          <p:cNvPicPr/>
          <p:nvPr/>
        </p:nvPicPr>
        <p:blipFill>
          <a:blip r:embed="rId1"/>
          <a:srcRect l="0" t="0" r="39850" b="37510"/>
          <a:stretch/>
        </p:blipFill>
        <p:spPr>
          <a:xfrm>
            <a:off x="2286000" y="914400"/>
            <a:ext cx="6477120" cy="504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27E02-DCF5-40F8-ABA5-85E6B39057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724800" y="1047600"/>
            <a:ext cx="2286000" cy="44863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>
            <a:spAutoFit/>
          </a:bodyPr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mportant messa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ersonal infor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ccount balance(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recen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ymen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304920"/>
            <a:ext cx="6507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Your Accou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Account%20Summary" descr=""/>
          <p:cNvPicPr/>
          <p:nvPr/>
        </p:nvPicPr>
        <p:blipFill>
          <a:blip r:embed="rId1"/>
          <a:stretch/>
        </p:blipFill>
        <p:spPr>
          <a:xfrm>
            <a:off x="76320" y="1409760"/>
            <a:ext cx="6476760" cy="40878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CDB24-5AEC-4777-AE8F-01EE696F40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343560" y="1276200"/>
            <a:ext cx="2552760" cy="45986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 Account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account option from the left navigation bar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 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ff amou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1098-E tax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copies of electronic promissory n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304920"/>
            <a:ext cx="6507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Your Accou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ummary%20of%20payments%20received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5181480" cy="38880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24" name="Your%20Account%20Nav%20Bar" descr=""/>
          <p:cNvPicPr/>
          <p:nvPr/>
        </p:nvPicPr>
        <p:blipFill>
          <a:blip r:embed="rId2"/>
          <a:srcRect l="0" t="0" r="75000" b="75008"/>
          <a:stretch/>
        </p:blipFill>
        <p:spPr>
          <a:xfrm>
            <a:off x="0" y="1219320"/>
            <a:ext cx="1676520" cy="1257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6387200">
            <a:off x="493200" y="2324880"/>
            <a:ext cx="381240" cy="606600"/>
          </a:xfrm>
          <a:custGeom>
            <a:avLst/>
            <a:gdLst>
              <a:gd name="textAreaLeft" fmla="*/ 0 w 381240"/>
              <a:gd name="textAreaRight" fmla="*/ 381600 w 381240"/>
              <a:gd name="textAreaTop" fmla="*/ 0 h 606600"/>
              <a:gd name="textAreaBottom" fmla="*/ 606960 h 606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98" stAng="10800000" swAng="5400000"/>
                <a:lnTo>
                  <a:pt x="14555" y="4262"/>
                </a:lnTo>
                <a:lnTo>
                  <a:pt x="14555" y="0"/>
                </a:lnTo>
                <a:lnTo>
                  <a:pt x="21600" y="6079"/>
                </a:lnTo>
                <a:lnTo>
                  <a:pt x="14555" y="12158"/>
                </a:lnTo>
                <a:lnTo>
                  <a:pt x="14555" y="7896"/>
                </a:lnTo>
                <a:lnTo>
                  <a:pt x="12427" y="7896"/>
                </a:lnTo>
                <a:arcTo wR="8793" hR="4264" stAng="16200000" swAng="-5400000"/>
                <a:lnTo>
                  <a:pt x="3634" y="21600"/>
                </a:lnTo>
                <a:close/>
              </a:path>
            </a:pathLst>
          </a:custGeom>
          <a:solidFill>
            <a:srgbClr val="390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E74EE-22E6-426E-8891-E468BEAC4C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477120" y="1390680"/>
            <a:ext cx="2552760" cy="44172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 Your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account option from the left navigation bar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personal 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ll in electronic correspo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for deferment or forbear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your repayment plan or payment due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304920"/>
            <a:ext cx="6507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Your Accou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Defermetn%20Request%20InSchool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4876560" cy="36576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29" name="Account%20Management%20NavBar" descr=""/>
          <p:cNvPicPr/>
          <p:nvPr/>
        </p:nvPicPr>
        <p:blipFill>
          <a:blip r:embed="rId2"/>
          <a:srcRect l="0" t="0" r="81332" b="84672"/>
          <a:stretch/>
        </p:blipFill>
        <p:spPr>
          <a:xfrm>
            <a:off x="0" y="1239840"/>
            <a:ext cx="2133720" cy="1314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V="1" rot="21558000">
            <a:off x="304560" y="2590560"/>
            <a:ext cx="761760" cy="606240"/>
          </a:xfrm>
          <a:custGeom>
            <a:avLst/>
            <a:gdLst>
              <a:gd name="textAreaLeft" fmla="*/ 0 w 761760"/>
              <a:gd name="textAreaRight" fmla="*/ 762120 w 761760"/>
              <a:gd name="textAreaTop" fmla="*/ 360 h 606240"/>
              <a:gd name="textAreaBottom" fmla="*/ 606960 h 606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90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F330F-2D16-4563-AAD7-8F6FA9D2E0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38920" y="1200240"/>
            <a:ext cx="2209680" cy="47026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yments and Billing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online pa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ll to have payment automatically withdrawn from checking or savings account with 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ll to receive and view bills on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304920"/>
            <a:ext cx="6507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Your Accou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EDA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6324840" cy="47448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34" name="Payments%20and%20Billing%20NavBar" descr=""/>
          <p:cNvPicPr/>
          <p:nvPr/>
        </p:nvPicPr>
        <p:blipFill>
          <a:blip r:embed="rId2"/>
          <a:srcRect l="0" t="0" r="81001" b="87337"/>
          <a:stretch/>
        </p:blipFill>
        <p:spPr>
          <a:xfrm>
            <a:off x="0" y="4495680"/>
            <a:ext cx="2514600" cy="1257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H="1" rot="16174800">
            <a:off x="-343440" y="3695760"/>
            <a:ext cx="1067040" cy="380880"/>
          </a:xfrm>
          <a:custGeom>
            <a:avLst/>
            <a:gdLst>
              <a:gd name="textAreaLeft" fmla="*/ 360 w 1067040"/>
              <a:gd name="textAreaRight" fmla="*/ 1067760 w 10670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578" stAng="10800000" swAng="5400000"/>
                <a:lnTo>
                  <a:pt x="15940" y="4582"/>
                </a:lnTo>
                <a:lnTo>
                  <a:pt x="15940" y="0"/>
                </a:lnTo>
                <a:lnTo>
                  <a:pt x="21600" y="6079"/>
                </a:lnTo>
                <a:lnTo>
                  <a:pt x="15940" y="12158"/>
                </a:lnTo>
                <a:lnTo>
                  <a:pt x="15940" y="7576"/>
                </a:lnTo>
                <a:lnTo>
                  <a:pt x="12427" y="7576"/>
                </a:lnTo>
                <a:arcTo wR="9433" hR="4584" stAng="16200000" swAng="-5400000"/>
                <a:lnTo>
                  <a:pt x="2994" y="21600"/>
                </a:lnTo>
                <a:close/>
              </a:path>
            </a:pathLst>
          </a:custGeom>
          <a:solidFill>
            <a:srgbClr val="390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E9695-F5D3-44C3-AACC-9F517098ED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0" y="1219320"/>
            <a:ext cx="2286000" cy="458316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s and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t Couns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mportant that your students understand their rights and responsibiliti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the Exit Counseling session on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Palatino Linotyp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04920"/>
            <a:ext cx="6507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Your Accou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EC1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6172200" cy="46306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39" name="Tools%20and%20Planning%20NavBar" descr=""/>
          <p:cNvPicPr/>
          <p:nvPr/>
        </p:nvPicPr>
        <p:blipFill>
          <a:blip r:embed="rId2"/>
          <a:srcRect l="0" t="0" r="84677" b="86008"/>
          <a:stretch/>
        </p:blipFill>
        <p:spPr>
          <a:xfrm>
            <a:off x="0" y="4572000"/>
            <a:ext cx="1905120" cy="1305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 rot="16174800">
            <a:off x="19440" y="3942720"/>
            <a:ext cx="722520" cy="457200"/>
          </a:xfrm>
          <a:custGeom>
            <a:avLst/>
            <a:gdLst>
              <a:gd name="textAreaLeft" fmla="*/ -360 w 722520"/>
              <a:gd name="textAreaRight" fmla="*/ 722520 w 72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578" stAng="10800000" swAng="5400000"/>
                <a:lnTo>
                  <a:pt x="15940" y="4582"/>
                </a:lnTo>
                <a:lnTo>
                  <a:pt x="15940" y="0"/>
                </a:lnTo>
                <a:lnTo>
                  <a:pt x="21600" y="6079"/>
                </a:lnTo>
                <a:lnTo>
                  <a:pt x="15940" y="12158"/>
                </a:lnTo>
                <a:lnTo>
                  <a:pt x="15940" y="7576"/>
                </a:lnTo>
                <a:lnTo>
                  <a:pt x="12427" y="7576"/>
                </a:lnTo>
                <a:arcTo wR="9433" hR="4584" stAng="16200000" swAng="-5400000"/>
                <a:lnTo>
                  <a:pt x="2994" y="21600"/>
                </a:lnTo>
                <a:close/>
              </a:path>
            </a:pathLst>
          </a:custGeom>
          <a:solidFill>
            <a:srgbClr val="390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AF21-CAC0-4D74-A2E7-055C6990D5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nterest%20Cap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6248520" cy="4687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781680" y="1333440"/>
            <a:ext cx="2286000" cy="41846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s and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est Capitalization Estim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 any one of the online calculators to aid in your students manage their student loan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304920"/>
            <a:ext cx="6507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Your Accou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16174800">
            <a:off x="-192600" y="4152960"/>
            <a:ext cx="838080" cy="4572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578" stAng="10800000" swAng="5400000"/>
                <a:lnTo>
                  <a:pt x="15940" y="4582"/>
                </a:lnTo>
                <a:lnTo>
                  <a:pt x="15940" y="0"/>
                </a:lnTo>
                <a:lnTo>
                  <a:pt x="21600" y="6079"/>
                </a:lnTo>
                <a:lnTo>
                  <a:pt x="15940" y="12158"/>
                </a:lnTo>
                <a:lnTo>
                  <a:pt x="15940" y="7576"/>
                </a:lnTo>
                <a:lnTo>
                  <a:pt x="12427" y="7576"/>
                </a:lnTo>
                <a:arcTo wR="9433" hR="4584" stAng="16200000" swAng="-5400000"/>
                <a:lnTo>
                  <a:pt x="2994" y="21600"/>
                </a:lnTo>
                <a:close/>
              </a:path>
            </a:pathLst>
          </a:custGeom>
          <a:solidFill>
            <a:srgbClr val="390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Tools%20and%20Planning%20NavBar%20Cap%20Calc%20selected" descr=""/>
          <p:cNvPicPr/>
          <p:nvPr/>
        </p:nvPicPr>
        <p:blipFill>
          <a:blip r:embed="rId2"/>
          <a:srcRect l="0" t="0" r="84001" b="87337"/>
          <a:stretch/>
        </p:blipFill>
        <p:spPr>
          <a:xfrm>
            <a:off x="0" y="4800600"/>
            <a:ext cx="1981080" cy="117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72A77-0C56-439C-91B7-06F0676D66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267600" y="1447920"/>
            <a:ext cx="2876400" cy="39877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e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,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Convenien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Se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 management online with ou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lectronic Servic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390d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bills and important correspondence electron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390d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payments o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304920"/>
            <a:ext cx="6507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Electronic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Bill" descr=""/>
          <p:cNvPicPr/>
          <p:nvPr/>
        </p:nvPicPr>
        <p:blipFill>
          <a:blip r:embed="rId1"/>
          <a:stretch/>
        </p:blipFill>
        <p:spPr>
          <a:xfrm>
            <a:off x="152280" y="1409760"/>
            <a:ext cx="6018480" cy="45133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5D6D-F3A3-4862-BAE8-FB34DDC79F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553080" y="1371600"/>
            <a:ext cx="2286000" cy="2775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ine Pa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spcAft>
                <a:spcPts val="624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 payment any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payments up to six months in advance.</a:t>
            </a: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304920"/>
            <a:ext cx="6507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Electronic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Make%20Online%20Payment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943600" cy="44593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2E4C0-D0E6-40DE-924C-0B479704D2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172200" y="1219320"/>
            <a:ext cx="2971800" cy="44996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ine Entrance Couns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249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Loan students will now take their online Entrance Counseling on the Direct Loan Web site for borrow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rowers wil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ed a PIN to take Entrance Counseling, but will continue to use the PIN for Exit Counseling.</a:t>
            </a: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37000" y="533520"/>
            <a:ext cx="6507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Entrance Counsel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13474"/>
                </a:solidFill>
                <a:latin typeface="Arial"/>
              </a:rPr>
              <a:t>Coming in Dec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Entrance1" descr=""/>
          <p:cNvPicPr/>
          <p:nvPr/>
        </p:nvPicPr>
        <p:blipFill>
          <a:blip r:embed="rId1"/>
          <a:stretch/>
        </p:blipFill>
        <p:spPr>
          <a:xfrm>
            <a:off x="133200" y="1314360"/>
            <a:ext cx="5943600" cy="44593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EC07-8CEB-4AFE-8E9E-5AAF3D57DD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32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371600"/>
            <a:ext cx="83818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Direct Loan Servic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Web Si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 New Look with Added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DoED2" descr=""/>
          <p:cNvPicPr/>
          <p:nvPr/>
        </p:nvPicPr>
        <p:blipFill>
          <a:blip r:embed="rId1"/>
          <a:srcRect l="0" t="37502" r="0" b="26225"/>
          <a:stretch/>
        </p:blipFill>
        <p:spPr>
          <a:xfrm>
            <a:off x="2286000" y="3581280"/>
            <a:ext cx="4343400" cy="23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F294C-536E-4A53-9BC8-5AF7A4691D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400800" y="1295280"/>
            <a:ext cx="2457360" cy="44323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s will be able to receive reports of students who have taken Online Entrance Counseling in three way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t the DL Servicing School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the SA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 report available via e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561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37000" y="380880"/>
            <a:ext cx="650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Entrance Counseling Reports School 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359600">
            <a:off x="193320" y="2629080"/>
            <a:ext cx="457200" cy="380880"/>
          </a:xfrm>
          <a:custGeom>
            <a:avLst/>
            <a:gdLst>
              <a:gd name="textAreaLeft" fmla="*/ 0 w 457200"/>
              <a:gd name="textAreaRight" fmla="*/ 457560 w 4572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90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School%20Home%20showing%20Entrance%20Report" descr=""/>
          <p:cNvPicPr/>
          <p:nvPr/>
        </p:nvPicPr>
        <p:blipFill>
          <a:blip r:embed="rId1"/>
          <a:srcRect l="0" t="0" r="19783" b="53462"/>
          <a:stretch/>
        </p:blipFill>
        <p:spPr>
          <a:xfrm>
            <a:off x="0" y="1371600"/>
            <a:ext cx="6248520" cy="22096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59" name="School%20%20Entrance%20Menu" descr=""/>
          <p:cNvPicPr/>
          <p:nvPr/>
        </p:nvPicPr>
        <p:blipFill>
          <a:blip r:embed="rId2"/>
          <a:srcRect l="0" t="0" r="1218" b="62509"/>
          <a:stretch/>
        </p:blipFill>
        <p:spPr>
          <a:xfrm>
            <a:off x="95400" y="4172040"/>
            <a:ext cx="6134040" cy="17445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508F7-07AF-4EED-9E8F-3151E7F318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66680" y="220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What’s Com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3048120"/>
            <a:ext cx="6172200" cy="7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35053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474"/>
                </a:solidFill>
                <a:latin typeface="Arial"/>
              </a:rPr>
              <a:t>Dan Haywar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8C46F-5E66-44B1-8BA8-6FFF6CCD983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oming Soon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uns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ing of Separation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ffective way of communicating with schools when changes occur (fast F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n using COD interface – estimated September 2003 (until then you will continue to use your LO log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unseling – high balance information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 f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ter Re-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bined bill / annual statement and new DL log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4F68A-A91C-457E-A676-5D234601BD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oming Soon</a:t>
            </a:r>
            <a:br>
              <a:rPr sz="3600"/>
            </a:b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Letter Re-engineering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66" name="Paper%20bill%20and%20new%20logo" descr=""/>
          <p:cNvPicPr/>
          <p:nvPr/>
        </p:nvPicPr>
        <p:blipFill>
          <a:blip r:embed="rId1"/>
          <a:srcRect l="5095" t="0" r="4312" b="0"/>
          <a:stretch/>
        </p:blipFill>
        <p:spPr>
          <a:xfrm>
            <a:off x="1600200" y="1371600"/>
            <a:ext cx="6400800" cy="45784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7DEAA-3990-4F55-8083-BB825C2599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oming Soon</a:t>
            </a:r>
            <a:br>
              <a:rPr sz="3600"/>
            </a:b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Letter Re-engineering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68" name="Bill%20%20%20Electronic" descr=""/>
          <p:cNvPicPr/>
          <p:nvPr/>
        </p:nvPicPr>
        <p:blipFill>
          <a:blip r:embed="rId1"/>
          <a:srcRect l="6350" t="0" r="4700" b="0"/>
          <a:stretch/>
        </p:blipFill>
        <p:spPr>
          <a:xfrm>
            <a:off x="1447920" y="1371600"/>
            <a:ext cx="6403680" cy="46576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8C8C-3D20-4381-B640-F337209255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1960" y="457200"/>
            <a:ext cx="6583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Questions or Comments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477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25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 Hay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 202-377-32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Dan.Hayward@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ndy B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 202-377-32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Cynthia.Battle@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4C5AF-3BF0-4867-A670-40F09C32E3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95680" y="30492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resenter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172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Dan Hayward</a:t>
            </a:r>
            <a:br>
              <a:rPr sz="36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SA, Students Chann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indy Battle</a:t>
            </a:r>
            <a:br>
              <a:rPr sz="36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SA, Students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1219320"/>
            <a:ext cx="5867280" cy="7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DDB0E-0F7F-435B-80F4-A0AA63B2CAB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genda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1347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’s New in Serv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71347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rower Site –  A New Look with Added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ervicing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ance Couns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71347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ance Counseling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71347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the Horizon / What’s 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FEA0F-5CC5-404D-871C-DD124AA3B6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0" y="23623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What’s New in Servic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3429000"/>
            <a:ext cx="6172200" cy="7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j0289522" descr=""/>
          <p:cNvPicPr/>
          <p:nvPr/>
        </p:nvPicPr>
        <p:blipFill>
          <a:blip r:embed="rId1"/>
          <a:srcRect l="0" t="0" r="39931" b="0"/>
          <a:stretch/>
        </p:blipFill>
        <p:spPr>
          <a:xfrm>
            <a:off x="380880" y="2666880"/>
            <a:ext cx="1714680" cy="19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73869-E976-43CE-89CF-2D65412F61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What’s New in Servicing</a:t>
            </a:r>
            <a:br>
              <a:rPr sz="3600"/>
            </a:br>
            <a:r>
              <a:rPr b="1" i="1" lang="en-US" sz="3200" spc="-1" strike="noStrike">
                <a:solidFill>
                  <a:srgbClr val="713474"/>
                </a:solidFill>
                <a:latin typeface="Arial"/>
              </a:rPr>
              <a:t>As of September 30, 2002</a:t>
            </a:r>
            <a:endParaRPr b="1" i="1" lang="en-US" sz="32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90720" y="3429000"/>
          <a:ext cx="7772400" cy="2556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Borro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cal Year to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School/Gr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02,5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ay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34,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nqu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,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rment/Forbea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8,9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65,8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990720" y="1828800"/>
          <a:ext cx="7772400" cy="136512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ns Boo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cal Year to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to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Sub/Un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08,8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974,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Consoli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7,8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83,3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330DC-B5E0-4B73-8BB4-5A901D406F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1143000"/>
            <a:ext cx="8077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Borrower 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 New Look with Added Feature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666880"/>
            <a:ext cx="6172200" cy="7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Schoolbck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800600" cy="280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5C0BA-E703-4832-8C59-5B2F6B0889D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73852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147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2884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Home - development" descr=""/>
          <p:cNvPicPr/>
          <p:nvPr/>
        </p:nvPicPr>
        <p:blipFill>
          <a:blip r:embed="rId1"/>
          <a:srcRect l="0" t="1462" r="28665" b="0"/>
          <a:stretch/>
        </p:blipFill>
        <p:spPr>
          <a:xfrm>
            <a:off x="152280" y="1676520"/>
            <a:ext cx="4453200" cy="4608360"/>
          </a:xfrm>
          <a:prstGeom prst="rect">
            <a:avLst/>
          </a:prstGeom>
          <a:ln w="0">
            <a:noFill/>
          </a:ln>
        </p:spPr>
      </p:pic>
      <p:pic>
        <p:nvPicPr>
          <p:cNvPr id="108" name="Home" descr=""/>
          <p:cNvPicPr/>
          <p:nvPr/>
        </p:nvPicPr>
        <p:blipFill>
          <a:blip r:embed="rId2"/>
          <a:srcRect l="0" t="0" r="30558" b="27419"/>
          <a:stretch/>
        </p:blipFill>
        <p:spPr>
          <a:xfrm>
            <a:off x="4114800" y="533520"/>
            <a:ext cx="4876920" cy="3828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57800" y="4343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rower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4343400"/>
            <a:ext cx="1219320" cy="457200"/>
          </a:xfrm>
          <a:prstGeom prst="leftArrow">
            <a:avLst>
              <a:gd name="adj1" fmla="val 50000"/>
              <a:gd name="adj2" fmla="val 6667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5335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83808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4043-DFEA-438E-89EC-496F27AF42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507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New Look for Borrower Site</a:t>
            </a:r>
            <a:br>
              <a:rPr sz="3600"/>
            </a:br>
            <a:r>
              <a:rPr b="1" i="1" lang="en-US" sz="2400" spc="-1" strike="noStrike">
                <a:solidFill>
                  <a:srgbClr val="713474"/>
                </a:solidFill>
                <a:latin typeface="Arial"/>
              </a:rPr>
              <a:t>www.dl.ed.gov</a:t>
            </a:r>
            <a:endParaRPr b="1" i="1" lang="en-US" sz="24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Homepage" descr=""/>
          <p:cNvPicPr/>
          <p:nvPr/>
        </p:nvPicPr>
        <p:blipFill>
          <a:blip r:embed="rId1"/>
          <a:srcRect l="0" t="0" r="0" b="9280"/>
          <a:stretch/>
        </p:blipFill>
        <p:spPr>
          <a:xfrm>
            <a:off x="1447920" y="1295280"/>
            <a:ext cx="6933960" cy="47196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A7789-6061-42E8-B44C-F53FE1449E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6:15:47Z</dcterms:modified>
  <cp:revision>4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