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D984E-D8E5-4FB5-87DA-2EDB99FD4A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361960" y="152280"/>
            <a:ext cx="6019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9222B-0CE4-4042-AA83-48CA44F214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361960" y="152280"/>
            <a:ext cx="6019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AE9EE-CB58-483F-B470-0DE4AA8835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361960" y="152280"/>
            <a:ext cx="6019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46BC2-C31D-4BB3-BA9B-3AA5477EFA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61960" y="152280"/>
            <a:ext cx="6019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94D2A-DBA9-4A8B-912D-2C5E347CE0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61960" y="152280"/>
            <a:ext cx="6019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3F48A-F833-46D6-BC3B-EA13641410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361960" y="152280"/>
            <a:ext cx="6019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29D91-8152-4A1C-90B6-93DF831B35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61960" y="152280"/>
            <a:ext cx="6019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D72A2-19E3-42FA-AA00-A5304FBB9E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361960" y="152280"/>
            <a:ext cx="60195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B4F51-42CF-4D81-BA05-B06065261F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361960" y="152280"/>
            <a:ext cx="6019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8523D-F309-4DA6-B145-A484CD066B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361960" y="152280"/>
            <a:ext cx="6019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430CE-BE90-4E57-8EF6-DD86DF34FF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361960" y="152280"/>
            <a:ext cx="6019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16C92-BCF7-48BB-8E2C-FA44CED319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2361960" y="152280"/>
            <a:ext cx="6019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80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419720" y="6248520"/>
            <a:ext cx="380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D0927-0A26-49C7-8F33-6E161B4B63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359080" cy="160020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rcRect l="0" t="31673" r="0" b="54484"/>
          <a:stretch/>
        </p:blipFill>
        <p:spPr>
          <a:xfrm>
            <a:off x="0" y="6546960"/>
            <a:ext cx="7696080" cy="304560"/>
          </a:xfrm>
          <a:prstGeom prst="rect">
            <a:avLst/>
          </a:prstGeom>
          <a:ln w="0">
            <a:noFill/>
          </a:ln>
        </p:spPr>
      </p:pic>
      <p:pic>
        <p:nvPicPr>
          <p:cNvPr id="5" name="0" descr="The U.S. Department of Education"/>
          <p:cNvPicPr/>
          <p:nvPr/>
        </p:nvPicPr>
        <p:blipFill>
          <a:blip r:embed="rId4"/>
          <a:stretch/>
        </p:blipFill>
        <p:spPr>
          <a:xfrm>
            <a:off x="5257800" y="6019920"/>
            <a:ext cx="369576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CODSupport@afsa.com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800080"/>
                </a:solidFill>
                <a:latin typeface="Arial"/>
              </a:rPr>
              <a:t>Session 25</a:t>
            </a:r>
            <a:endParaRPr b="1" i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705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Times New Roman"/>
              </a:rPr>
              <a:t>COD Customer Service</a:t>
            </a:r>
            <a:endParaRPr b="0" lang="en-US" sz="4400" spc="-1" strike="noStrike">
              <a:solidFill>
                <a:srgbClr val="800080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361960" y="152280"/>
            <a:ext cx="6019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80"/>
                </a:solidFill>
                <a:latin typeface="Arial"/>
              </a:rPr>
              <a:t>Source of Calls</a:t>
            </a:r>
            <a:endParaRPr b="1" i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1295280"/>
          <a:ext cx="8458200" cy="447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95280"/>
                    <a:ext cx="8458200" cy="44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05B4E-90E2-4554-82E0-6693D58C7AC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43200" y="1522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80"/>
                </a:solidFill>
                <a:latin typeface="Arial"/>
              </a:rPr>
              <a:t>Web User Requests</a:t>
            </a:r>
            <a:endParaRPr b="1" i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28600" y="1600200"/>
          <a:ext cx="86104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86104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3429000" y="579132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currently 21 Third Party Users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5791320"/>
            <a:ext cx="28954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21417-4670-4CDA-BA27-EB6C0E9E240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61960" y="152280"/>
            <a:ext cx="6019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80"/>
                </a:solidFill>
                <a:latin typeface="Arial"/>
              </a:rPr>
              <a:t>Current Initiatives</a:t>
            </a:r>
            <a:endParaRPr b="1" i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More direct access to Primary Rep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Reduce need to transfer to LOC regarding Promissory Note issues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Recurrent training developed for CSRs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raining of Support Specialist Team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DD0E6-A7F4-4BDF-8A77-7D2D8681FF4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61960" y="152280"/>
            <a:ext cx="6019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80"/>
                </a:solidFill>
                <a:latin typeface="Arial"/>
              </a:rPr>
              <a:t>Current Initiatives</a:t>
            </a:r>
            <a:endParaRPr b="1" i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School Testing: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Common Record Manual Verification – February 2003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Structured Application Testing – Mar. 2003 – Sept. 2003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School Testing Guides available on IFAP beginning in January 2003 and sign up sheet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Software Vendors supporting Common Record are encouraged to test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Full Participant Schools that use their own software product are encouraged to test with COD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Schools are encouraged to talk to their vendor about test plans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and testing results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CC80E-4680-4191-AFA6-59BBDFF2324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361960" y="152280"/>
            <a:ext cx="6019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80"/>
                </a:solidFill>
                <a:latin typeface="Arial"/>
              </a:rPr>
              <a:t>Current Initiatives</a:t>
            </a:r>
            <a:endParaRPr b="1" i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COD Support: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Buddy system to share lessons learned 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Revamp current FAQ process to ensure more dynamic information bringing attention to NEW postings 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Evaluate List Serves/Bulletin Boards to introduce a virtual COD Community for schools and vendors to post questions, concerns and feedback on COD 2003/2004 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Have an onsite team to provide technical support for XML, COD processing and School Testing.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Utilization of  Area Code Routing to get you to your representative eliminating the need to input school I.D. in the Voice Response Unit.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3AAEF-E44E-41DB-B905-1E3F0EEBDDC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361960" y="152280"/>
            <a:ext cx="6019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80"/>
                </a:solidFill>
                <a:latin typeface="Arial"/>
              </a:rPr>
              <a:t>Top Issues</a:t>
            </a:r>
            <a:endParaRPr b="1" i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52120" y="17524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Pell Year to Date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Promissory Notes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System Edits  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lvl="1" marL="1257480" indent="-53352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024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lvl="1" marL="1257480" indent="-53352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039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lvl="1" marL="1257480" indent="-53352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994/996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lvl="1" marL="1257480" indent="-53352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074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lvl="1" marL="1257480" indent="-53352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824/827 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Funding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A0363-0FA3-400A-BDDE-96E2E6DDD87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361960" y="152280"/>
            <a:ext cx="6019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80"/>
                </a:solidFill>
                <a:latin typeface="Arial"/>
              </a:rPr>
              <a:t>How do I become a COD Full Participant?</a:t>
            </a:r>
            <a:endParaRPr b="1" i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Schools must register with COD to become a Full Participant in Award Year 2003-2004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76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To register, contact COD School Relations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Email </a:t>
            </a:r>
            <a:r>
              <a:rPr b="0" lang="en-US" sz="2400" spc="-1" strike="noStrike" u="sng">
                <a:solidFill>
                  <a:srgbClr val="800080"/>
                </a:solidFill>
                <a:uFillTx/>
                <a:latin typeface="Times New Roman"/>
              </a:rPr>
              <a:t>CODSupport@afsa.com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Times New Roman"/>
              </a:rPr>
              <a:t>Indicate “2003-2004 Full Participant”  in Subject Line</a:t>
            </a:r>
            <a:endParaRPr b="0" lang="en-US" sz="20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Call COD School Relations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Times New Roman"/>
              </a:rPr>
              <a:t>Select Award Year 2002-2003 and express interest to COD CSR</a:t>
            </a:r>
            <a:endParaRPr b="0" lang="en-US" sz="20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76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All EDExpress Users must register as Full Participants for 2003-2004 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964D8-01EF-4663-B5BF-C3DE2098A52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361960" y="152280"/>
            <a:ext cx="6019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80"/>
                </a:solidFill>
                <a:latin typeface="Arial"/>
              </a:rPr>
              <a:t>How do I obtain access to the COD Web Site?</a:t>
            </a:r>
            <a:endParaRPr b="1" i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336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Submit a Security Administrator Request Letter on school or corporate letterhead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lvl="1" marL="728280" indent="-28476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Security Administrator is responsible for setting up additional users at your institution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lvl="1" marL="728280" indent="-28476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Reporting/Attending school relationships in COD will automatically allow access to other school codes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1749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Refer to announcements on IFAP for detailed instructions and mailing address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lvl="1" marL="728280" indent="-28476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6/3/02 - Updated: COD Website Access for Schools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lvl="1" marL="728280" indent="-28476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6/3/02 - COD Website Access for Vendors/3</a:t>
            </a:r>
            <a:r>
              <a:rPr b="0" lang="en-US" sz="2400" spc="-1" strike="noStrike" baseline="30000">
                <a:solidFill>
                  <a:srgbClr val="80008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 Party Servicers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481A0-F1BC-470F-B11A-171B6523169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361960" y="152280"/>
            <a:ext cx="6019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80"/>
                </a:solidFill>
                <a:latin typeface="Arial"/>
              </a:rPr>
              <a:t>How do I contact COD Customer Service?</a:t>
            </a:r>
            <a:endParaRPr b="1" i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Email  </a:t>
            </a:r>
            <a:r>
              <a:rPr b="0" lang="en-US" sz="2800" spc="-1" strike="noStrike" u="sng">
                <a:solidFill>
                  <a:srgbClr val="800080"/>
                </a:solidFill>
                <a:uFillTx/>
                <a:latin typeface="Times New Roman"/>
              </a:rPr>
              <a:t>CODSupport@afsa.com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Call COD School Relations Center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1-800-4-P-GRANT for Pell Grants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1-800-848-0978 for Direct Loans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Enter Award Year 2002-2003 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COD Web Site (www.cod.ed.gov)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E75C7-71F5-4C75-B5CC-B521CE956FB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361960" y="152280"/>
            <a:ext cx="6019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80"/>
                </a:solidFill>
                <a:latin typeface="Arial"/>
              </a:rPr>
              <a:t>Where can I get more information?</a:t>
            </a:r>
            <a:endParaRPr b="1" i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IFAP Web Site (www.IFAP.ed.gov)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Common Origination and Disbursement page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Announcements and FAQs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COD Technical Reference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COD Web Site (www.cod.ed.gov)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Daily Processing Updates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School Funding and Processing Information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Contact COD Customer Service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69916-04F9-4633-BC87-B1EB20141F7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152280"/>
            <a:ext cx="6781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80"/>
                </a:solidFill>
                <a:latin typeface="Arial"/>
              </a:rPr>
              <a:t>Customer Service</a:t>
            </a:r>
            <a:endParaRPr b="1" i="1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Agenda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Customer Service Overview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Statistics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Current Initiatives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COD Issues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42F54-3D83-45F1-95A4-CD697B97AA9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123720" y="38052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80"/>
                </a:solidFill>
                <a:latin typeface="Arial"/>
              </a:rPr>
              <a:t>Other COD Sessions</a:t>
            </a:r>
            <a:endParaRPr b="1" i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49"/>
              </a:spcBef>
              <a:buClr>
                <a:srgbClr val="800080"/>
              </a:buClr>
              <a:buFont typeface="Wingdings" charset="2"/>
              <a:buChar char=""/>
              <a:tabLst>
                <a:tab algn="l" pos="245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80"/>
                </a:solidFill>
                <a:latin typeface="Times New Roman"/>
              </a:rPr>
              <a:t>Session 21 – What’s New for Direct Loan </a:t>
            </a:r>
            <a:r>
              <a:rPr b="0" lang="en-US" sz="26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800080"/>
                </a:solidFill>
                <a:latin typeface="Times New Roman"/>
              </a:rPr>
              <a:t>Processing in 2003-2004?</a:t>
            </a:r>
            <a:endParaRPr b="0" lang="en-US" sz="2600" spc="-1" strike="noStrike">
              <a:solidFill>
                <a:srgbClr val="800080"/>
              </a:solidFill>
              <a:latin typeface="Times New Roman"/>
            </a:endParaRPr>
          </a:p>
          <a:p>
            <a:pPr marL="318960" indent="-318960">
              <a:spcBef>
                <a:spcPts val="1463"/>
              </a:spcBef>
              <a:buClr>
                <a:srgbClr val="800080"/>
              </a:buClr>
              <a:buFont typeface="Wingdings" charset="2"/>
              <a:buChar char=""/>
              <a:tabLst>
                <a:tab algn="l" pos="245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80"/>
                </a:solidFill>
                <a:latin typeface="Times New Roman"/>
              </a:rPr>
              <a:t>Session 22 – What’s New for Pell Grant </a:t>
            </a:r>
            <a:br>
              <a:rPr sz="2600"/>
            </a:br>
            <a:r>
              <a:rPr b="0" lang="en-US" sz="26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800080"/>
                </a:solidFill>
                <a:latin typeface="Times New Roman"/>
              </a:rPr>
              <a:t>Processing in 2003-2004?</a:t>
            </a:r>
            <a:endParaRPr b="0" lang="en-US" sz="2600" spc="-1" strike="noStrike">
              <a:solidFill>
                <a:srgbClr val="800080"/>
              </a:solidFill>
              <a:latin typeface="Times New Roman"/>
            </a:endParaRPr>
          </a:p>
          <a:p>
            <a:pPr marL="318960" indent="-318960">
              <a:spcBef>
                <a:spcPts val="1624"/>
              </a:spcBef>
              <a:buClr>
                <a:srgbClr val="800080"/>
              </a:buClr>
              <a:buFont typeface="Wingdings" charset="2"/>
              <a:buChar char=""/>
              <a:tabLst>
                <a:tab algn="l" pos="245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80"/>
                </a:solidFill>
                <a:latin typeface="Times New Roman"/>
              </a:rPr>
              <a:t>Session 23 – COD and Pell Grants: Updates to </a:t>
            </a:r>
            <a:r>
              <a:rPr b="0" lang="en-US" sz="2600" spc="-1" strike="noStrike">
                <a:solidFill>
                  <a:srgbClr val="800080"/>
                </a:solidFill>
                <a:latin typeface="Times New Roman"/>
              </a:rPr>
              <a:t>	</a:t>
            </a:r>
            <a:br>
              <a:rPr sz="2600"/>
            </a:br>
            <a:r>
              <a:rPr b="0" lang="en-US" sz="26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800080"/>
                </a:solidFill>
                <a:latin typeface="Times New Roman"/>
              </a:rPr>
              <a:t>Edits and Record Layouts for 2003-</a:t>
            </a:r>
            <a:r>
              <a:rPr b="0" lang="en-US" sz="26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800080"/>
                </a:solidFill>
                <a:latin typeface="Times New Roman"/>
              </a:rPr>
              <a:t>2004</a:t>
            </a:r>
            <a:endParaRPr b="0" lang="en-US" sz="2600" spc="-1" strike="noStrike">
              <a:solidFill>
                <a:srgbClr val="800080"/>
              </a:solidFill>
              <a:latin typeface="Times New Roman"/>
            </a:endParaRPr>
          </a:p>
          <a:p>
            <a:pPr marL="318960" indent="-318960">
              <a:spcBef>
                <a:spcPts val="1624"/>
              </a:spcBef>
              <a:buClr>
                <a:srgbClr val="800080"/>
              </a:buClr>
              <a:buFont typeface="Wingdings" charset="2"/>
              <a:buChar char=""/>
              <a:tabLst>
                <a:tab algn="l" pos="245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80"/>
                </a:solidFill>
                <a:latin typeface="Times New Roman"/>
              </a:rPr>
              <a:t>Session 24 – COD and Direct Loan: Updates to </a:t>
            </a:r>
            <a:r>
              <a:rPr b="0" lang="en-US" sz="2600" spc="-1" strike="noStrike">
                <a:solidFill>
                  <a:srgbClr val="800080"/>
                </a:solidFill>
                <a:latin typeface="Times New Roman"/>
              </a:rPr>
              <a:t>	</a:t>
            </a:r>
            <a:br>
              <a:rPr sz="2600"/>
            </a:br>
            <a:r>
              <a:rPr b="0" lang="en-US" sz="26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800080"/>
                </a:solidFill>
                <a:latin typeface="Times New Roman"/>
              </a:rPr>
              <a:t>Edits and Record Layouts for 2003-</a:t>
            </a:r>
            <a:r>
              <a:rPr b="0" lang="en-US" sz="26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800080"/>
                </a:solidFill>
                <a:latin typeface="Times New Roman"/>
              </a:rPr>
              <a:t>2004</a:t>
            </a:r>
            <a:endParaRPr b="0" lang="en-US" sz="2600" spc="-1" strike="noStrike">
              <a:solidFill>
                <a:srgbClr val="800080"/>
              </a:solidFill>
              <a:latin typeface="Times New Roman"/>
            </a:endParaRPr>
          </a:p>
          <a:p>
            <a:pPr marL="318960" indent="0">
              <a:spcBef>
                <a:spcPts val="649"/>
              </a:spcBef>
              <a:buNone/>
              <a:tabLst>
                <a:tab algn="l" pos="245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800080"/>
              </a:solidFill>
              <a:latin typeface="Times New Roman"/>
            </a:endParaRPr>
          </a:p>
          <a:p>
            <a:pPr marL="318960" indent="0">
              <a:spcBef>
                <a:spcPts val="649"/>
              </a:spcBef>
              <a:buNone/>
              <a:tabLst>
                <a:tab algn="l" pos="245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9EFC4-A6E9-46A2-BAD7-899F7D4A07D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123720" y="38052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80"/>
                </a:solidFill>
                <a:latin typeface="Arial"/>
              </a:rPr>
              <a:t>Other COD Sessions</a:t>
            </a:r>
            <a:endParaRPr b="1" i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3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800080"/>
              </a:buClr>
              <a:buFont typeface="Wingdings" charset="2"/>
              <a:buChar char=""/>
              <a:tabLst>
                <a:tab algn="l" pos="2509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80"/>
                </a:solidFill>
                <a:latin typeface="Times New Roman"/>
              </a:rPr>
              <a:t>Session 25 – Meet the COD Customer Service Team </a:t>
            </a:r>
            <a:br>
              <a:rPr sz="2600"/>
            </a:br>
            <a:r>
              <a:rPr b="0" lang="en-US" sz="26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800080"/>
                </a:solidFill>
                <a:latin typeface="Times New Roman"/>
              </a:rPr>
              <a:t>and Get Answers to Your COD Questions</a:t>
            </a:r>
            <a:endParaRPr b="0" lang="en-US" sz="26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>
              <a:spcBef>
                <a:spcPts val="1463"/>
              </a:spcBef>
              <a:buClr>
                <a:srgbClr val="800080"/>
              </a:buClr>
              <a:buFont typeface="Wingdings" charset="2"/>
              <a:buChar char=""/>
              <a:tabLst>
                <a:tab algn="l" pos="2509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80"/>
                </a:solidFill>
                <a:latin typeface="Times New Roman"/>
              </a:rPr>
              <a:t>Session 26 – COD: Using the New Web Site</a:t>
            </a:r>
            <a:endParaRPr b="0" lang="en-US" sz="26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>
              <a:spcBef>
                <a:spcPts val="1463"/>
              </a:spcBef>
              <a:buClr>
                <a:srgbClr val="800080"/>
              </a:buClr>
              <a:buFont typeface="Wingdings" charset="2"/>
              <a:buChar char=""/>
              <a:tabLst>
                <a:tab algn="l" pos="2509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80"/>
                </a:solidFill>
                <a:latin typeface="Times New Roman"/>
              </a:rPr>
              <a:t>Session 27 – COD Full Participants for 2003-2004</a:t>
            </a:r>
            <a:endParaRPr b="0" lang="en-US" sz="26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>
              <a:spcBef>
                <a:spcPts val="1463"/>
              </a:spcBef>
              <a:buClr>
                <a:srgbClr val="800080"/>
              </a:buClr>
              <a:buFont typeface="Wingdings" charset="2"/>
              <a:buChar char=""/>
              <a:tabLst>
                <a:tab algn="l" pos="2509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80"/>
                </a:solidFill>
                <a:latin typeface="Times New Roman"/>
              </a:rPr>
              <a:t>Session 28 – COD and Direct Loans: Balancing the Books</a:t>
            </a:r>
            <a:endParaRPr b="0" lang="en-US" sz="26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>
              <a:spcBef>
                <a:spcPts val="1463"/>
              </a:spcBef>
              <a:buClr>
                <a:srgbClr val="800080"/>
              </a:buClr>
              <a:buFont typeface="Wingdings" charset="2"/>
              <a:buChar char=""/>
              <a:tabLst>
                <a:tab algn="l" pos="2509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80"/>
                </a:solidFill>
                <a:latin typeface="Times New Roman"/>
              </a:rPr>
              <a:t>Session 29 – COD, Pell, and Direct Loans: </a:t>
            </a:r>
            <a:r>
              <a:rPr b="0" lang="en-US" sz="2600" spc="-1" strike="noStrike">
                <a:solidFill>
                  <a:srgbClr val="800080"/>
                </a:solidFill>
                <a:latin typeface="Times New Roman"/>
              </a:rPr>
              <a:t>	</a:t>
            </a:r>
            <a:br>
              <a:rPr sz="2600"/>
            </a:br>
            <a:r>
              <a:rPr b="0" lang="en-US" sz="26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800080"/>
                </a:solidFill>
                <a:latin typeface="Times New Roman"/>
              </a:rPr>
              <a:t>Funding for Schools</a:t>
            </a:r>
            <a:endParaRPr b="0" lang="en-US" sz="2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6064C-54C4-45EA-B5BE-39CA439835C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990720" y="1828800"/>
            <a:ext cx="7315200" cy="3048120"/>
          </a:xfrm>
          <a:prstGeom prst="rect">
            <a:avLst/>
          </a:prstGeom>
        </p:spPr>
        <p:txBody>
          <a:bodyPr wrap="none" lIns="90000" rIns="90000" tIns="46800" bIns="46800" anchor="t">
            <a:prstTxWarp prst="textSlantUp">
              <a:avLst>
                <a:gd name="adj" fmla="val 32056"/>
              </a:avLst>
            </a:prstTxWarp>
            <a:noAutofit/>
          </a:bodyPr>
          <a:p>
            <a:pPr marL="343080" indent="-343080">
              <a:spcBef>
                <a:spcPts val="3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648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EFA97-5A65-48D7-A84D-B591A4CCD19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62320" y="152280"/>
            <a:ext cx="6781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80"/>
                </a:solidFill>
                <a:latin typeface="Arial"/>
              </a:rPr>
              <a:t>Customer Service Overview</a:t>
            </a:r>
            <a:endParaRPr b="1" i="1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Calls routed by your school or vendor code to assigned teams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Teams are currently structured by process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Direct Loan and Pell schools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Pell only schools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Full Participants (includes vendors coding FP version)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Pell only schools with 3</a:t>
            </a:r>
            <a:r>
              <a:rPr b="0" lang="en-US" sz="2400" spc="-1" strike="noStrike" baseline="30000">
                <a:solidFill>
                  <a:srgbClr val="80008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 party servicer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Pell/Direct Loan schools with 3</a:t>
            </a:r>
            <a:r>
              <a:rPr b="0" lang="en-US" sz="2400" spc="-1" strike="noStrike" baseline="30000">
                <a:solidFill>
                  <a:srgbClr val="80008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 party servicer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3B27C-5430-41C5-97DD-34D586FD6C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61960" y="152280"/>
            <a:ext cx="6019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80"/>
                </a:solidFill>
                <a:latin typeface="Arial"/>
              </a:rPr>
              <a:t>Behind the Scenes</a:t>
            </a:r>
            <a:endParaRPr b="1" i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Calls are tracked on the COD system.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Issues are opened if school representative can not resolve the issue during the phone call.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Other resources are engaged to resolve the issue: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Support Specialists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Business Analysts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Technical Support Specialists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Customer Service will provide updates on a regular basis.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4C96C-90F0-4432-AC70-58DC4666E0B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61960" y="152280"/>
            <a:ext cx="6019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80"/>
                </a:solidFill>
                <a:latin typeface="Arial"/>
              </a:rPr>
              <a:t>Communication Methods</a:t>
            </a:r>
            <a:endParaRPr b="1" i="1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COD Web Site Postings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COD Daily Processing Updates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P-Messages (for Pell related issues)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Direct Loan Bulletins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E-mail via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CODSupport@afsa.com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Outreach campaigns (when necessary)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CF7E1-22EB-42E9-BC97-FBABC58F6D8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142640" y="2133720"/>
            <a:ext cx="6705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Times New Roman"/>
              </a:rPr>
              <a:t>COD Customer Service</a:t>
            </a:r>
            <a:endParaRPr b="0" lang="en-US" sz="44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Times New Roman"/>
              </a:rPr>
              <a:t>Statistics</a:t>
            </a:r>
            <a:endParaRPr b="0" lang="en-US" sz="44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1960" y="152280"/>
            <a:ext cx="6553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800080"/>
                </a:solidFill>
                <a:latin typeface="Arial"/>
              </a:rPr>
              <a:t>COD Inbound/Outbound Calls</a:t>
            </a:r>
            <a:endParaRPr b="1" i="1" lang="en-US" sz="3400" spc="-1" strike="noStrike">
              <a:solidFill>
                <a:srgbClr val="80008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65240" y="1371600"/>
          <a:ext cx="8978760" cy="47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240" y="1371600"/>
                    <a:ext cx="897876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24096-C1D7-493A-A1C4-CB4B23E8A9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5534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Average Speed of Answer (ASA)</a:t>
            </a:r>
            <a:endParaRPr b="1" i="1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04920" y="1828800"/>
          <a:ext cx="83818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828800"/>
                    <a:ext cx="8381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82AF3-F112-40DE-BE31-68B6E84F0C1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66880" y="22860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80"/>
                </a:solidFill>
                <a:latin typeface="Arial"/>
              </a:rPr>
              <a:t>Average Talk Times</a:t>
            </a:r>
            <a:endParaRPr b="1" i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0" y="1676520"/>
          <a:ext cx="9448920" cy="41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76520"/>
                    <a:ext cx="9448920" cy="41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1ED7E-30DC-4933-B0E4-BD012655CE3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13:56:14Z</dcterms:created>
  <dc:creator>venabc15</dc:creator>
  <dc:description/>
  <dc:language>en-US</dc:language>
  <cp:lastModifiedBy>Dept. of Education</cp:lastModifiedBy>
  <dcterms:modified xsi:type="dcterms:W3CDTF">2002-12-12T16:04:37Z</dcterms:modified>
  <cp:revision>103</cp:revision>
  <dc:subject/>
  <dc:title>MAY 2002 TRENDING REPORTS</dc:title>
</cp:coreProperties>
</file>