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1EFB-F388-4D9A-87A1-FED7CB574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9D08-5040-40F2-A7D7-C802E1AE9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F1E6-6E08-43B2-959E-83D1FCE83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CD4B-76C2-447E-AD4B-30F99D6FD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F882-2F54-45A4-A191-FE34BB70C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2953-8F47-4171-9AA5-D7F24559F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B9EE-D554-42AC-8B4B-5077F8B5C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91C8-4DB2-4CB1-94E9-C8C888241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152280"/>
            <a:ext cx="6019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A8E-EC50-471E-BBEA-9A1F0D1B2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A305-7AA5-4513-AB89-EE0F808D1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8B83-F8EC-4DAF-BBE9-D17E4BB1C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0623-3839-481D-BF31-5120AE368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419720" y="62485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79B-4562-4F16-AC4C-99F8DD39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46960"/>
            <a:ext cx="7696080" cy="304560"/>
          </a:xfrm>
          <a:prstGeom prst="rect">
            <a:avLst/>
          </a:prstGeom>
          <a:ln w="0">
            <a:noFill/>
          </a:ln>
        </p:spPr>
      </p:pic>
      <p:pic>
        <p:nvPicPr>
          <p:cNvPr id="5" name="0" descr="The U.S. Department of Education"/>
          <p:cNvPicPr/>
          <p:nvPr/>
        </p:nvPicPr>
        <p:blipFill>
          <a:blip r:embed="rId4"/>
          <a:stretch/>
        </p:blipFill>
        <p:spPr>
          <a:xfrm>
            <a:off x="5257800" y="6019920"/>
            <a:ext cx="36957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CODSupport@afsa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Session 25</a:t>
            </a:r>
            <a:endParaRPr b="1" i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D Customer Service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Source of Call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295280"/>
          <a:ext cx="845820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BBB8-E77F-45D1-829B-B7A8AFC104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eb User Request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60020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29000" y="5791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urrently 21 Third Party Use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791320"/>
            <a:ext cx="2895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FE21-E30B-43A0-894D-710C30D0A2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More direct access to Primary Rep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educe need to transfer to LOC regarding Promissory Note issues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Recurrent training developed for CSRs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raining of Support Specialist Team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0335-4EE0-48C3-9613-A886F87CF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chool Testing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mmon Record Manual Verification – February 2003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tructured Application Testing – Mar. 2003 – Sept. 2003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hool Testing Guides available on IFAP beginning in January 2003 and sign up shee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oftware Vendors supporting Common Record are encouraged to test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Full Participant Schools that use their own software product are encouraged to test with COD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Schools are encouraged to talk to their vendor about test plans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d testing resul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73ED-18E6-4BC2-BF3F-18CB64738C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Current Initiativ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OD Support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uddy system to share lessons learned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vamp current FAQ process to ensure more dynamic information bringing attention to NEW postings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valuate List Serves/Bulletin Boards to introduce a virtual COD Community for schools and vendors to post questions, concerns and feedback on COD 2003/2004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Have an onsite team to provide technical support for XML, COD processing and School Testing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Utilization of  Area Code Routing to get you to your representative eliminating the need to input school I.D. in the Voice Response Unit.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58CF-FA2A-4740-9A4C-669DF3FF55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Top Issu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ell Year to Dat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romissory Not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ystem Edits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24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39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994/996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074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824/827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D977-1B37-435D-973E-AB3CADF3B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become a COD Full Participant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chools must register with COD to become a Full Participant in Award Year 2003-2004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To register, contact COD School Relation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mail 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CODSupport@afsa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Indicate “2003-2004 Full Participant”  in Subject Line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all COD School Relation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Select Award Year 2002-2003 and express interest to COD CSR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All EDExpress Users must register as Full Participants for 2003-2004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153F-D10E-439C-9622-08E41399BA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obtain access to the COD Web Site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3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ecurity Administrator is responsible for setting up additional users at your institution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eporting/Attending school relationships in COD will automatically allow access to other school code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/3/02 - Updated: COD Website Access for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28280" indent="-28476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6/3/02 - COD Website Access for Vendors/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91F6-FEEA-43C1-AD08-23C4CD432B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How do I contact COD Customer Service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Email  </a:t>
            </a:r>
            <a:r>
              <a:rPr b="0" lang="en-US" sz="2800" spc="-1" strike="noStrike" u="sng">
                <a:solidFill>
                  <a:srgbClr val="800080"/>
                </a:solidFill>
                <a:uFillTx/>
                <a:latin typeface="Times New Roman"/>
              </a:rPr>
              <a:t>CODSupport@afsa.com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 COD School Relations Center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-800-4-P-GRANT for Pell Gran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-800-848-0978 for Direct Loan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nter Award Year 2002-2003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(www.cod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4674-BCB4-4415-99B1-3C8F287D2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here can I get more information?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FAP Web Site (www.IFAP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mmon Origination and Disbursement pag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nnouncements and FAQ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COD Technical Reference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(www.cod.ed.gov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aily Processing Update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chool Funding and Processing Information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ntact COD Customer Service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14E3-B57C-4618-AFD3-54AA9D830A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ustomer Service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stomer Service Overview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Statistic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rrent Initiativ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Issu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228C-9E36-4857-9121-B100EB8ADE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Other COD Session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1 – What’s New for Direct Loan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Processing in 2003-2004?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2 – What’s New for Pell Grant 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Processing in 2003-2004?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624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3 – COD and Pell Grants: Updates to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Edits and Record Layouts for 2003-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-318960">
              <a:spcBef>
                <a:spcPts val="1624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4 – COD and Direct Loan: Updates to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Edits and Record Layouts for 2003-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245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5524-57BE-40B5-8727-4FBA691651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Other COD Session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3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5 – Meet the COD Customer Service Team 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and Get Answers to Your COD Question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6 – COD: Using the New Web Site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7 – COD Full Participants for 2003-2004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8 – COD and Direct Loans: Balancing the Book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1463"/>
              </a:spcBef>
              <a:buClr>
                <a:srgbClr val="800080"/>
              </a:buClr>
              <a:buFont typeface="Wingdings" charset="2"/>
              <a:buChar char=""/>
              <a:tabLst>
                <a:tab algn="l" pos="250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Session 29 – COD, Pell, and Direct Loans: 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br>
              <a:rPr sz="2600"/>
            </a:b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800080"/>
                </a:solidFill>
                <a:latin typeface="Times New Roman"/>
              </a:rPr>
              <a:t>Funding for Schools</a:t>
            </a:r>
            <a:endParaRPr b="0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6170-98F2-40F1-AA22-3C86FB7EAD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704A-5945-4EB0-BF54-DDE5187297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ustomer Service Overview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s routed by your school or vendor code to assigned team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Teams are currently structured by proces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Direct Loan and Pell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 only school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Full Participants (includes vendors coding FP version)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 only schools with 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ell/Direct Loan schools with 3</a:t>
            </a:r>
            <a:r>
              <a:rPr b="0" lang="en-US" sz="2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party servicer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852D-F512-4961-B12E-83ED8B3FE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Behind the Scen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alls are tracked on the COD system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Issues are opened if school representative can not resolve the issue during the phone call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Other resources are engaged to resolve the issue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upport Speciali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Business Analy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Technical Support Specialists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ustomer Service will provide updates on a regular basis.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EA27-EEE1-49C4-B921-1AE020386A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Communication Methods</a:t>
            </a:r>
            <a:endParaRPr b="1" i="1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Web Site Posting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COD Daily Processing Update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P-Messages (for Pell related issues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Direct Loan Bulletins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E-mail via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DSupport@afsa.com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Outreach campaigns (when necessary)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E5C2-2A60-4E6F-B3C0-5EFABFFC8A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COD Customer Service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800080"/>
                </a:solidFill>
                <a:latin typeface="Arial"/>
              </a:rPr>
              <a:t>COD Inbound/Outbound Calls</a:t>
            </a:r>
            <a:endParaRPr b="1" i="1" lang="en-US" sz="3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5240" y="1371600"/>
          <a:ext cx="89787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371600"/>
                    <a:ext cx="89787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D3CE-4E67-4F40-BE44-78BD9AF0A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553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Average Speed of Answer (ASA)</a:t>
            </a:r>
            <a:endParaRPr b="1" i="1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828800"/>
          <a:ext cx="8381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381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9A80-DCE8-4C86-9929-368CBABD9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Average Talk Times</a:t>
            </a:r>
            <a:endParaRPr b="1" i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76520"/>
          <a:ext cx="9448920" cy="41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4489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89F2-3CEA-4A2F-9CC9-2D11CCDD8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13:56:14Z</dcterms:created>
  <dc:creator>venabc15</dc:creator>
  <dc:description/>
  <dc:language>en-US</dc:language>
  <cp:lastModifiedBy>Dept. of Education</cp:lastModifiedBy>
  <dcterms:modified xsi:type="dcterms:W3CDTF">2002-12-12T16:04:37Z</dcterms:modified>
  <cp:revision>103</cp:revision>
  <dc:subject/>
  <dc:title>MAY 2002 TRENDING REPORTS</dc:title>
</cp:coreProperties>
</file>