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6E20-9972-4478-993F-1D5A9912A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A24D-3005-4006-B25E-8C2ECF8BF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F7C0-75A2-4A25-B926-CD1E4F2BD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561A-7138-4E63-AD76-47F493A19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8C13-168C-4E4D-A391-411030DF2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683C-22B4-43F8-B7B5-DA5E2351C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5E44-11C0-4E4C-8598-48D013A38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FF24-747D-4310-BBB7-5BF4915F7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D97B-A5E3-44BE-88E9-DC0D1E256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442A-EAFC-4077-AFDF-E9BA0BDBB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D627-E5AD-46BD-949E-0407F808F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838B-F4BE-40AD-BBC7-7DCF88A0D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23c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23c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4651-A11D-4A3E-9F56-A7373A8C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76201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0" t="31673" r="0" b="54484"/>
          <a:stretch/>
        </p:blipFill>
        <p:spPr>
          <a:xfrm>
            <a:off x="0" y="6553080"/>
            <a:ext cx="7696080" cy="304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359080" cy="1600200"/>
          </a:xfrm>
          <a:prstGeom prst="rect">
            <a:avLst/>
          </a:prstGeom>
          <a:ln w="0">
            <a:noFill/>
          </a:ln>
        </p:spPr>
      </p:pic>
      <p:pic>
        <p:nvPicPr>
          <p:cNvPr id="7" name="0" descr="The U.S. Department of Education"/>
          <p:cNvPicPr/>
          <p:nvPr/>
        </p:nvPicPr>
        <p:blipFill>
          <a:blip r:embed="rId5"/>
          <a:stretch/>
        </p:blipFill>
        <p:spPr>
          <a:xfrm>
            <a:off x="5257800" y="5943600"/>
            <a:ext cx="3695760" cy="53352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76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5679" t="32004" r="0" b="61183"/>
          <a:stretch/>
        </p:blipFill>
        <p:spPr>
          <a:xfrm>
            <a:off x="0" y="6400800"/>
            <a:ext cx="678168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676520" y="1219320"/>
            <a:ext cx="5584680" cy="3789360"/>
          </a:xfrm>
          <a:prstGeom prst="rect">
            <a:avLst/>
          </a:prstGeom>
          <a:ln w="0">
            <a:noFill/>
          </a:ln>
        </p:spPr>
      </p:pic>
      <p:pic>
        <p:nvPicPr>
          <p:cNvPr id="48" name="0" descr="The U.S. Department of Education"/>
          <p:cNvPicPr/>
          <p:nvPr/>
        </p:nvPicPr>
        <p:blipFill>
          <a:blip r:embed="rId5"/>
          <a:stretch/>
        </p:blipFill>
        <p:spPr>
          <a:xfrm>
            <a:off x="5181480" y="5791320"/>
            <a:ext cx="3695760" cy="53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347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3c8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3c8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cord Layout Changes – New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Funded Disbursement Amount Accepted – the total amount of “actual” disbursement records accep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otalFundedDisbursementAccepted&gt;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Participants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Common Record Respons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only accepted disbursements with Disbursement Release Indicator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03A4-C70B-4B4F-8BD2-D677FEC3CD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cord Layout Changes – New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on-Funded Disbursement Amount Accepted – the total amount of “anticipated” disbursement records accep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otalNonFundedDisbursementAccepted&gt;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Participants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Common Record Respons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only accepted disbursements with Disbursement Release Indicator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0955-3F23-47E2-BBCB-C40CC079D9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cord Layout Changes – New Field Valu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sory Note Print Code on Common Record  (Full Participants only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23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‘V’ = COD Reprints and Sends to Sch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‘O’ = School Prints Onsite and Se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sory Note Print Indicator on Full Loan Origination Record and for Change Transmit #S083 (Phase-In Participants only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23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d ‘O’ = Onsite (EDExpres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23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‘V’ = COD Reprints and Sends to Sch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23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‘Z’ = COD Reprints and Sends to Borrow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B1CB-7D07-42FF-A106-199807C7D2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cord Layout Changes – New Field Valu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ure Statement Print Code on Common Record (Full Participants onl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‘S’ = School Prints and Provides to 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ure Statement Print Indicator on Full Loan Origination Record and for Change Transmit #S115 (Phase-In Participants only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‘Z’ = COD Repr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1922-4EAC-4F07-95FE-BF4DFCBB87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Record Layout Changes – New Field Value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N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‘N’ = PLUS to &lt;MPNID&gt; tag on the Common Record Layout (Full Participants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‘N’ = PLUS to MPNID field on the MPN Acknowledgement (Phase-In Participants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F4F5-7E34-4C57-B6EB-893FACD617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mmon Record Tag Name Chang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cord and Schema revised based on work with PESC to meet EBXM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ions eliminated from all tag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ag names changed al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BD05-F5C8-45D5-87B1-883B055881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Common Record Schema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Participants are required to use the new schema for all 03-04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Participants may either continue to use the old schema for 02-03 awards or may switch and use the new schema for both 02-03 and 03-04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1584-2A76-4D23-AE18-6B5F8248CB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2003-2004 COD School Testing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Testing Ph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Record Manual Verification – February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d Application Testing – Mar. 2003 – Sept.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must sign-up in advance to participate in school 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COD School Relations and request a school testing sign-up sheet (</a:t>
            </a:r>
            <a:r>
              <a:rPr b="1" lang="en-US" sz="2200" spc="-1" strike="noStrike">
                <a:solidFill>
                  <a:srgbClr val="713474"/>
                </a:solidFill>
                <a:latin typeface="Arial"/>
              </a:rPr>
              <a:t>codsupport@acs-inc.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Testing Guide available on IFAP beginning in Januar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31AB-8409-4266-80F2-CB61A6DA73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456840"/>
            <a:ext cx="65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o Should Participate in School Testing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Vendors modifying software to support the XML Common Record are encouraged to test with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Participant Schools that use their own software product are encouraged to test with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Express product is tested extensively with COD prior to being released to schools; therefore, EDExpress Users do NOT need to test with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most software vendors test with COD on their school’s behalf; schools utilizing a software vendor’s product do NOT need to test with C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25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are encouraged to talk to their vendor about test plans and testing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AC70-AD01-4C9E-8965-1A2CB8864F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chool Testing Lessons Learned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to participate in manual verification testing prior to participating in additional testing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good understanding of SAIG On-Line Screen Manager in order to see that files were sent and receiv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t least 2 weeks of setup time from sign-up prior to starting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and allow time for issue identification, error resolution and retesting with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send test files to the correct mailbox and with the correct testing messag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C778-7DE0-4E26-B7F1-8784D1F6D5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24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14600"/>
            <a:ext cx="838188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COD and Direct Loan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Updates to Edits and Record Layouts for 2003-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ABC0-128F-4BF8-A4E1-7624ACE32B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 I become a COD Full Participant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must register with COD to become a Full Participant in Award Year 2003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gister, contact COD Schoo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en-US" sz="2400" spc="-1" strike="noStrike">
                <a:solidFill>
                  <a:srgbClr val="25006e"/>
                </a:solidFill>
                <a:latin typeface="Arial"/>
              </a:rPr>
              <a:t>CODSupport@acs-in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“2003-2004 Full Participant”  in Subjec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COD Schoo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ward Year 2002-2003 and express interest to COD C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76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DExpress Users must register as Full Participants for 2003-20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2598-A46B-479A-9011-753AF3FAF0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 I obtain access to the COD Web Site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 Security Administrator Request Letter on school or corporate lett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700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Administrator is responsible for setting up additional users at your 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700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/Attending school relationships in COD will automatically allow access to other school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announcements on IFAP for detailed instructions and mail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700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3/02 - Updated: COD Website Access fo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7000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3/02 - COD Website Access for Vendors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y Serv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67DF-868B-44F6-AA90-4CA3A84BFE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How do I contact COD Customer Service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 </a:t>
            </a:r>
            <a:r>
              <a:rPr b="0" lang="en-US" sz="3200" spc="-1" strike="noStrike">
                <a:solidFill>
                  <a:srgbClr val="25006e"/>
                </a:solidFill>
                <a:latin typeface="Arial"/>
              </a:rPr>
              <a:t>CODSupport@acs-in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COD School Relations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4-P-GRANT for Pell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848-0978 for Direct L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ward Year 2002-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Web Site (</a:t>
            </a:r>
            <a:r>
              <a:rPr b="0" lang="en-US" sz="3200" spc="-1" strike="noStrike">
                <a:solidFill>
                  <a:srgbClr val="25006e"/>
                </a:solidFill>
                <a:latin typeface="Arial"/>
              </a:rPr>
              <a:t>www.cod.ed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F523-335E-410C-B8B0-0706BD1543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Where can I get more information?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AP Web Site (</a:t>
            </a:r>
            <a:r>
              <a:rPr b="0" lang="en-US" sz="2800" spc="-1" strike="noStrike">
                <a:solidFill>
                  <a:srgbClr val="25006e"/>
                </a:solidFill>
                <a:latin typeface="Arial"/>
              </a:rPr>
              <a:t>www.IFAP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Origination and Disbursemen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s and F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Technic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Web Site (</a:t>
            </a:r>
            <a:r>
              <a:rPr b="0" lang="en-US" sz="2800" spc="-1" strike="noStrike">
                <a:solidFill>
                  <a:srgbClr val="25006e"/>
                </a:solidFill>
                <a:latin typeface="Arial"/>
              </a:rPr>
              <a:t>www.cod.ed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Process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Funding and 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COD 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FDCF-55EE-48F9-8877-92BD7CEC74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41200" y="759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Sess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19 – Cash Management Overview A-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1 – What’s New for Direct Loan Processing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-200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2 – What’s New for Pell Grant Processing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-200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3 – COD and Pell Grants: Updates to Edit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Layouts for 2003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4 – COD and Direct Loan: Updates to Edits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Layouts for 2003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5 – Meet the COD Customer Service Team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nswers to Your CO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23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1521-BD7E-4BCB-AD71-83E54E04E3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1200" y="759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Session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6 – COD: Using the New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7 – COD Full Participants for 2003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8 – COD and Direct Loans: Balanc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9 – COD, Pell, and Direct Loans: Funding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58 – Tribally Controlled Colleges: Operating a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Participant in the CO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2179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 Customer Service Staff are available in the PC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C719-ACD5-4796-810C-DE47531F01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90720" y="18288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648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D780-C278-4545-BB0B-8B944B3A3B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520" y="1519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Session Objective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dit changes for 2003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new fields for 2003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modified common record tags for 2003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B0DD2-B0FA-4004-BB53-D514B929B7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3c8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chool’s “participant” status is determined by the method you use to transmit your data to C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that submit data using the COD Common Record Layout in XM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23c86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-In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3c8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s that submit data using Pell Grant/Direct Loan Record Layouts in fixed-length, flat 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COD Participation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3877-DB98-45B9-996E-72FD5ADB0E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13474"/>
                </a:solidFill>
                <a:latin typeface="Arial"/>
              </a:rPr>
              <a:t>Historical Perspective – Full Participant Schools</a:t>
            </a:r>
            <a:endParaRPr b="1" i="1" lang="en-US" sz="36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52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Full-Participant Reporting Schools in AY 02/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xpress Users and additional  Vendor Software and Custom Software schools become Full-Participant Schools AY 03/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CHOOLS will be Full-Participants by 04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59400" y="1944720"/>
            <a:ext cx="30844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59400" y="4076640"/>
            <a:ext cx="3084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59400" y="3544920"/>
            <a:ext cx="308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59400" y="3011400"/>
            <a:ext cx="3084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9400" y="2478240"/>
            <a:ext cx="308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59400" y="1944720"/>
            <a:ext cx="308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59400" y="1944720"/>
            <a:ext cx="308448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59400" y="1944720"/>
            <a:ext cx="144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3080" y="4610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3080" y="407664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83080" y="35449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3080" y="3011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83080" y="24782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83080" y="1944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59400" y="4610160"/>
            <a:ext cx="308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59400" y="46101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0880" y="46101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00920" y="46101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772400" y="46101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543880" y="461016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45120" y="4476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97800" y="3943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74320" y="34113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4960" y="1828800"/>
            <a:ext cx="890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03040" y="4829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74520" y="4829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44560" y="4829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16040" y="48290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4191120"/>
            <a:ext cx="228600" cy="223560"/>
          </a:xfrm>
          <a:prstGeom prst="ca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3429000"/>
            <a:ext cx="381240" cy="1062000"/>
          </a:xfrm>
          <a:prstGeom prst="can">
            <a:avLst>
              <a:gd name="adj" fmla="val 25000"/>
            </a:avLst>
          </a:prstGeom>
          <a:solidFill>
            <a:srgbClr val="f0f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1981080"/>
            <a:ext cx="380880" cy="2509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0F9F-A242-4B85-BAB4-0BCA1893DA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Edi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10 (*FP) – Disclosure Statement Warning on “anticipated”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11 (*FP) – Disclosure Statement Warning on “actual” dis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FP = Full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PI = Phase In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2B0B-D2E3-4783-83BF-D63CAEB7BA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759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New Edit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06 (FP*)/T (PI*) – Warning edit for disbursements accepted, but not funded due to missing M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113 (FP*)/25 (PI*) – PLUS Disbursement Reject (actual disbursements &gt; Endorser Am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FP = Full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PI = Phase In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2E81-DCA6-4E87-8CDD-7CF936A4CD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cord Layout Changes – New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rser Amount – for PLUS loans; the amount a PLUS Endorser has agreed to “guarantee”; sum of actual disbursements cannot exceed this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EndorserAmoun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Particip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Common Record Response document for Document Type =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rser Am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In Particip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PLUS Credit Decision Override Acknowledgement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FCF6-9F92-4930-9D8E-0C28F981AA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13474"/>
                </a:solidFill>
                <a:latin typeface="Arial"/>
              </a:rPr>
              <a:t>Record Layout Changes – New Fields</a:t>
            </a:r>
            <a:endParaRPr b="1" i="1" lang="en-US" sz="4000" spc="-1" strike="noStrike">
              <a:solidFill>
                <a:srgbClr val="71347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3474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bursement Amount Accepted – the total amount of disbursement records accep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otalFinancialDisbursementAccepted&gt;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Participants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ill be returned on the Common Record Respons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7134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both “anticipated” and “actual” disbur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0A25-1A7F-417E-B4C7-16C4AE7EFF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3:46Z</dcterms:created>
  <dc:creator>Jeanne Henderson</dc:creator>
  <dc:description/>
  <dc:language>en-US</dc:language>
  <cp:lastModifiedBy>Dept. of Education</cp:lastModifiedBy>
  <cp:lastPrinted>2002-09-20T18:59:28Z</cp:lastPrinted>
  <dcterms:modified xsi:type="dcterms:W3CDTF">2002-12-12T16:03:33Z</dcterms:modified>
  <cp:revision>3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3423804</vt:r8>
  </property>
  <property fmtid="{D5CDD505-2E9C-101B-9397-08002B2CF9AE}" pid="3" name="_AuthorEmail">
    <vt:lpwstr>sharon_barfield@ncs.com</vt:lpwstr>
  </property>
  <property fmtid="{D5CDD505-2E9C-101B-9397-08002B2CF9AE}" pid="4" name="_AuthorEmailDisplayName">
    <vt:lpwstr>Barfield, Sharon</vt:lpwstr>
  </property>
  <property fmtid="{D5CDD505-2E9C-101B-9397-08002B2CF9AE}" pid="5" name="_EmailSubject">
    <vt:lpwstr>presentations</vt:lpwstr>
  </property>
  <property fmtid="{D5CDD505-2E9C-101B-9397-08002B2CF9AE}" pid="6" name="_PreviousAdHocReviewCycleID">
    <vt:r8>-1909312546</vt:r8>
  </property>
</Properties>
</file>