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2F61C-DC05-44C6-BFA9-4A512780B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51269-119F-43C5-AD66-312576EDA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333F0-FF7C-445C-8B9B-59F33A7B5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2452E-B3EB-49D3-BF78-58B24CA3A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EB678-F6A4-40A2-96D4-43DA9840CE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22A16-7D65-43CB-9E34-E5A2815B8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36217-C5E9-45B7-99B2-28C1BF1B2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5A573-5AAE-4059-8C00-45A071CDBA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3719D-987A-4D17-8080-E6254CAD9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03B2F-2288-4E30-96BE-854A4F7AC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9C88D-F43E-42DC-A10D-74BA74A76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FD204-BB6D-44AB-8FE6-9F4D2EAB9A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5FBC-E65A-4215-8C3B-DB155B9EA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257800" y="5943600"/>
            <a:ext cx="3695760" cy="53352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pic>
        <p:nvPicPr>
          <p:cNvPr id="48" name="0" descr="The U.S. Department of Education"/>
          <p:cNvPicPr/>
          <p:nvPr/>
        </p:nvPicPr>
        <p:blipFill>
          <a:blip r:embed="rId5"/>
          <a:stretch/>
        </p:blipFill>
        <p:spPr>
          <a:xfrm>
            <a:off x="5181480" y="5791320"/>
            <a:ext cx="3695760" cy="533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cord Layout Changes – New Field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Funded Disbursement Amount Accepted – the total amount of “actual” disbursement records accep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otalFundedDisbursementAccepted&gt;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Participants on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will be returned on the Common Record Respons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only accepted disbursements with Disbursement Release Indicator =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60150-2864-4E33-805C-197BAA6AB9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95120" y="2282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cord Layout Changes – New Field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Non-Funded Disbursement Amount Accepted – the total amount of “anticipated” disbursement records accep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otalNonFundedDisbursementAccepted&gt;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Participants on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will be returned on the Common Record Respons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only accepted disbursements with Disbursement Release Indicator =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4A4B6-C6D4-4A14-9576-3643DF1439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Record Layout Changes – New Field Value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576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issory Note Print Code on Common Record  (Full Participants only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23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ed ‘V’ = COD Reprints and Sends to Schoo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34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ed ‘O’ = School Prints Onsite and Se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576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issory Note Print Indicator on Full Loan Origination Record and for Change Transmit #S083 (Phase-In Participants only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23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d ‘O’ = Onsite (EDExpres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23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ed ‘V’ = COD Reprints and Sends to Schoo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23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ed ‘Z’ = COD Reprints and Sends to Borrow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8BEE2-1D04-45A5-9A73-CCB4695DC3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Record Layout Changes – New Field Value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76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losure Statement Print Code on Common Record (Full Participants only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‘S’ = School Prints and Provides to Borr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losure Statement Print Indicator on Full Loan Origination Record and for Change Transmit #S115 (Phase-In Participants only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‘Z’ = COD Repr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A5A63-C092-4691-9B39-2BB2560C0D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Record Layout Changes – New Field Value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76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N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‘N’ = PLUS to &lt;MPNID&gt; tag on the Common Record Layout (Full Participants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‘N’ = PLUS to MPNID field on the MPN Acknowledgement (Phase-In Participants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53FB9-78E9-43A0-A683-4653533344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8120" y="2282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mmon Record Tag Name Chang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76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Record and Schema revised based on work with PESC to meet EBXML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breviations eliminated from all tag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tag names changed all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8E088-9F74-4518-BB83-A7008FC8AC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New Common Record Schema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Participants are required to use the new schema for all 03-04 a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Participants may either continue to use the old schema for 02-03 awards or may switch and use the new schema for both 02-03 and 03-04 a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F6E9D-5D2F-47B0-BAC8-BF6A81F637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2003-2004 COD School Testing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Testing Ph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 Record Manual Verification – February 20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ed Application Testing – Mar. 2003 – Sept. 20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must sign-up in advance to participate in school tes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ct COD School Relations and request a school testing sign-up sheet (</a:t>
            </a:r>
            <a:r>
              <a:rPr b="1" lang="en-US" sz="2200" spc="-1" strike="noStrike">
                <a:solidFill>
                  <a:srgbClr val="713474"/>
                </a:solidFill>
                <a:latin typeface="Arial"/>
              </a:rPr>
              <a:t>codsupport@acs-inc.co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Testing Guide available on IFAP beginning in January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E84B3-FA02-4C6D-A6DF-432D21FEEC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8280" y="456840"/>
            <a:ext cx="650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o Should Participate in School Testing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Vendors modifying software to support the XML Common Record are encouraged to test with C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Participant Schools that use their own software product are encouraged to test with C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DExpress product is tested extensively with COD prior to being released to schools; therefore, EDExpress Users do NOT need to test with C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most software vendors test with COD on their school’s behalf; schools utilizing a software vendor’s product do NOT need to test with C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1125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s are encouraged to talk to their vendor about test plans and testing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8596B-185C-4644-84D8-40A47C40D1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4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chool Testing Lessons Learned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to participate in manual verification testing prior to participating in additional testing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good understanding of SAIG On-Line Screen Manager in order to see that files were sent and received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t least 2 weeks of setup time from sign-up prior to starting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and allow time for issue identification, error resolution and retesting with C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to send test files to the correct mailbox and with the correct testing message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ED5A3-3BF4-4F1E-B916-7958E13F3E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3720" y="15192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24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14600"/>
            <a:ext cx="838188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COD and Direct Loan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Updates to Edits and Record Layouts for 2003-20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DF44E-56E7-411C-8151-6BE2B1361F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How do I become a COD Full Participant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must register with COD to become a Full Participant in Award Year 2003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576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gister, contact COD School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en-US" sz="2400" spc="-1" strike="noStrike">
                <a:solidFill>
                  <a:srgbClr val="25006e"/>
                </a:solidFill>
                <a:latin typeface="Arial"/>
              </a:rPr>
              <a:t>CODSupport@acs-in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“2003-2004 Full Participant”  in Subjec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COD School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ward Year 2002-2003 and express interest to COD C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576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EDExpress Users must register as Full Participants for 2003-200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6652D-1F6F-413E-B330-A7CE31ED59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95120" y="2282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How do I obtain access to the COD Web Site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a Security Administrator Request Letter on school or corporate lett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700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Administrator is responsible for setting up additional users at your 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700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/Attending school relationships in COD will automatically allow access to other school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 to announcements on IFAP for detailed instructions and mailing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700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/3/02 - Updated: COD Website Access for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700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/3/02 - COD Website Access for Vendors/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ty Serv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E641B-C905-4540-B875-4D7920C353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How do I contact COD Customer Service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 </a:t>
            </a:r>
            <a:r>
              <a:rPr b="0" lang="en-US" sz="3200" spc="-1" strike="noStrike">
                <a:solidFill>
                  <a:srgbClr val="25006e"/>
                </a:solidFill>
                <a:latin typeface="Arial"/>
              </a:rPr>
              <a:t>CODSupport@acs-inc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COD School Relations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800-4-P-GRANT for Pell 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800-848-0978 for Direct Lo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Award Year 2002-200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Web Site (</a:t>
            </a:r>
            <a:r>
              <a:rPr b="0" lang="en-US" sz="3200" spc="-1" strike="noStrike">
                <a:solidFill>
                  <a:srgbClr val="25006e"/>
                </a:solidFill>
                <a:latin typeface="Arial"/>
              </a:rPr>
              <a:t>www.cod.ed.go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82B16-B9C6-4A64-A2D9-7617B5304A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95120" y="2282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ere can I get more information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AP Web Site (</a:t>
            </a:r>
            <a:r>
              <a:rPr b="0" lang="en-US" sz="2800" spc="-1" strike="noStrike">
                <a:solidFill>
                  <a:srgbClr val="25006e"/>
                </a:solidFill>
                <a:latin typeface="Arial"/>
              </a:rPr>
              <a:t>www.IFAP.ed.go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Origination and Disbursemen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uncements and FAQ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 Technical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Web Site (</a:t>
            </a:r>
            <a:r>
              <a:rPr b="0" lang="en-US" sz="2800" spc="-1" strike="noStrike">
                <a:solidFill>
                  <a:srgbClr val="25006e"/>
                </a:solidFill>
                <a:latin typeface="Arial"/>
              </a:rPr>
              <a:t>www.cod.ed.go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Processing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Funding and Process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COD Custome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07B30-BBA4-485C-BDA2-A9F9F3FA43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41200" y="759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D Session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19 – Cash Management Overview A-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21 – What’s New for Direct Loan Processing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3-2004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22 – What’s New for Pell Grant Processing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3-2004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15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23 – COD and Pell Grants: Updates to Edits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Layouts for 2003-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15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24 – COD and Direct Loan: Updates to Edits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Layouts for 2003-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15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25 – Meet the COD Customer Service Team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Answers to Your CO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0A9F5-09B4-4A80-84EC-60FDAED0245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41200" y="759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D Session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179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26 – COD: Using the New Web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179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27 – COD Full Participants for 2003-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179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28 – COD and Direct Loans: Balancing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179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29 – COD, Pell, and Direct Loans: Funding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179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58 – Tribally Controlled Colleges: Operating as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Participant in the COD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179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 Customer Service Staff are available in the PC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5200A-68D7-4F7F-9A48-74BECB91736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990720" y="1828800"/>
            <a:ext cx="7315200" cy="304812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 marL="343080" indent="-343080">
              <a:spcBef>
                <a:spcPts val="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648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F3DA4-0A6F-4641-9A20-93CE5F7D349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520" y="15192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Objectiv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edit changes for 2003-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new fields for 2003-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modified common record tags for 2003-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DE2D2-C136-4710-A3BC-830915D8E2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school’s “participant” status is determined by the method you use to transmit your data to C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that submit data using the COD Common Record Layout in XML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-In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that submit data using Pell Grant/Direct Loan Record Layouts in fixed-length, flat fil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D Participa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2FB74-E316-4742-82DE-E2E2D358DD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Historical Perspective – Full Participant School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52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 Full-Participant Reporting Schools in AY 02/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xpress Users and additional  Vendor Software and Custom Software schools become Full-Participant Schools AY 03/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CHOOLS will be Full-Participants by 04/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59400" y="1944720"/>
            <a:ext cx="30844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59400" y="4076640"/>
            <a:ext cx="3084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59400" y="3544920"/>
            <a:ext cx="3084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59400" y="3011400"/>
            <a:ext cx="3084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59400" y="2478240"/>
            <a:ext cx="3084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59400" y="1944720"/>
            <a:ext cx="3084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59400" y="1944720"/>
            <a:ext cx="3084480" cy="26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59400" y="1944720"/>
            <a:ext cx="144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83080" y="4610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83080" y="407664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83080" y="354492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83080" y="301140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83080" y="24782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83080" y="194472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59400" y="4610160"/>
            <a:ext cx="3084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59400" y="4610160"/>
            <a:ext cx="14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230880" y="4610160"/>
            <a:ext cx="1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000920" y="4610160"/>
            <a:ext cx="14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772400" y="4610160"/>
            <a:ext cx="14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8543880" y="4610160"/>
            <a:ext cx="1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45120" y="44766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97800" y="394344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74320" y="34113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4960" y="1828800"/>
            <a:ext cx="890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03040" y="48290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74520" y="48290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44560" y="48290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16040" y="48290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4191120"/>
            <a:ext cx="228600" cy="223560"/>
          </a:xfrm>
          <a:prstGeom prst="can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3429000"/>
            <a:ext cx="381240" cy="1062000"/>
          </a:xfrm>
          <a:prstGeom prst="can">
            <a:avLst>
              <a:gd name="adj" fmla="val 25000"/>
            </a:avLst>
          </a:prstGeom>
          <a:solidFill>
            <a:srgbClr val="f0f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0120" y="1981080"/>
            <a:ext cx="380880" cy="2509920"/>
          </a:xfrm>
          <a:prstGeom prst="can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FE618-716F-4C92-BF84-543FBDAAFC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23720" y="15192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New Edit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 110 (*FP) – Disclosure Statement Warning on “anticipated” disbur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 111 (*FP) – Disclosure Statement Warning on “actual” disbur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*FP = Full Particip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*PI = Phase In Particip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46916-1800-415F-AC55-61F9B2A58E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71800" y="7596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New Edit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 106 (FP*)/T (PI*) – Warning edit for disbursements accepted, but not funded due to missing MP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 113 (FP*)/25 (PI*) – PLUS Disbursement Reject (actual disbursements &gt; Endorser Amou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*FP = Full Particip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*PI = Phase In Particip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9E427-DB32-41DF-BF27-1D6EB88116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cord Layout Changes – New Field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rser Amount – for PLUS loans; the amount a PLUS Endorser has agreed to “guarantee”; sum of actual disbursements cannot exceed this am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EndorserAmount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Particip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will be returned on the Common Record Response document for Document Type =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orser Am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 In Particip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will be returned on the PLUS Credit Decision Override Acknowledgement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E405E-E1B4-4AD4-9619-A32E2BD614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cord Layout Changes – New Field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bursement Amount Accepted – the total amount of disbursement records accep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otalFinancialDisbursementAccepted&gt;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Participants on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will be returned on the Common Record Respons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both “anticipated” and “actual” disbur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65D8D-BD45-40A3-B6CE-CB5C030D2A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Dept. of Education</cp:lastModifiedBy>
  <cp:lastPrinted>2002-09-20T18:59:28Z</cp:lastPrinted>
  <dcterms:modified xsi:type="dcterms:W3CDTF">2002-12-12T16:03:33Z</dcterms:modified>
  <cp:revision>3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03423804</vt:r8>
  </property>
  <property fmtid="{D5CDD505-2E9C-101B-9397-08002B2CF9AE}" pid="3" name="_AuthorEmail">
    <vt:lpwstr>sharon_barfield@ncs.com</vt:lpwstr>
  </property>
  <property fmtid="{D5CDD505-2E9C-101B-9397-08002B2CF9AE}" pid="4" name="_AuthorEmailDisplayName">
    <vt:lpwstr>Barfield, Sharon</vt:lpwstr>
  </property>
  <property fmtid="{D5CDD505-2E9C-101B-9397-08002B2CF9AE}" pid="5" name="_EmailSubject">
    <vt:lpwstr>presentations</vt:lpwstr>
  </property>
  <property fmtid="{D5CDD505-2E9C-101B-9397-08002B2CF9AE}" pid="6" name="_PreviousAdHocReviewCycleID">
    <vt:r8>-1909312546</vt:r8>
  </property>
</Properties>
</file>