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362C3F-25F8-4D9E-A046-01B625D94D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nd Feel” changes being made to other FAA Access applications for 2007-2008 have not yet been made to R2T4 but will be in the fu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least one Institutional Charge and one School Calendar Profile must be created prior to entering an R2T4 rec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differences between Clock hour and Credit hour en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stitutional Charges code links the 2 screens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etting up these screens look at all your school’s programs and budgets to devise a convention that makes sense for your total array of combination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-specified fields aren’t required but can be used to collect additional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in entering a Credit hour and a clock hour student rec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s for all the Status Screens are available from the Reports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fields are available – only fields stored in the database – most calculated values aren’t sto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A introduced the first major changes since web software released in 200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 software has been removed from main download page at FSA Download, but has been archived at FSA Download and can still be downloaded t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attend Session #11 -- Return of Title IV Funds: HERA Policy and Implementation Changes -- if you would like additional detail on the HERA changes as they relate to R2T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test TG &amp; School code numbers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89E0-99F0-403F-B91E-64EC922B0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BEEA-7084-4AC2-BBD1-0A7D36E6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83BD-5530-434B-955C-0921B2C09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900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55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900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55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8C95-D2E9-48F3-B50E-FCA3FBF8B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4E3F-DF9B-40BB-B66B-0DBB5B90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C021-A5C1-47A9-8E24-2F7BEB95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CBD9-A1CD-4C88-913B-AB7B5A76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B66B-4E59-44C7-B32F-F902D744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8394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A2AC-0398-484C-9946-C830088C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C41F-1A55-4BD1-AC7C-34136DC3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C58E-7B6E-4B3D-A25A-4FED7A72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6C77-994B-41F7-8DEC-ECA8AA6E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ckdrop2007" descr=""/>
          <p:cNvPicPr/>
          <p:nvPr/>
        </p:nvPicPr>
        <p:blipFill>
          <a:blip r:embed="rId2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1744-635F-4AF5-8B49-B7C172439A6D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22</a:t>
            </a:r>
            <a:br>
              <a:rPr sz="4000"/>
            </a:b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9320" y="144756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 Hands-On Tour of Return of Title IV Funds (R2T4) on the Web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3886200"/>
            <a:ext cx="8610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an Klock, U.S. Department of Edu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rek Kalm, Vangent, Inc.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9907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unctions – Home/Welcome Pag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op Navig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ft Navig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elp lin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ottom Navig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5DB1-45DB-49FC-9C29-DF978C7981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unctions – Setup Scree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itutional Charg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chool Calendar Profi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r-Specified Fiel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7AC8-AB67-49F2-B1F6-EC51121236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unctions –R2T4 Recor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reate New Recor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nd Existing Recor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FF1B-29AB-4396-A262-5A7AF58CD7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unctions – Status Scree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 Notifi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 Repayment Arrangements (2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hool Portion of Title IV Funds (2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s with a Post-withdrawal Disburs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 Records Referred to Dept. of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3ECB-D788-4553-BD12-EC510B4C62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unctions – Repor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 Lis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 Notifi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 Repayment Arrang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hool Portion of R2T4 Return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s With a Post-Withdrawal Disburs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 Records Referred to Dept. of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80AA-BDF7-4E17-9371-1AC8BC6E62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unctions – Data Expor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a-delimited text fi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rowse Dat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F01E-9586-4040-86BC-41B9168433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echnical Assistanc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e appreciate your feedback and comment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PS/SAIG Technical Support can be reached at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hone: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800-330-5947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ax: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319-665-766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PSSAIG@ed.gov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079B-E224-4E38-AD6B-302D55CCBD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Questions and Comm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more information while at the conferenc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ttend Session #25: Return of Title IV Aid: Problem Areas and Compliance Issu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e to the PC lab for assistanc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05F6-6B6E-4309-A388-42C3BB90E1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30481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Hands-On Exercis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4B9E-0DD1-4FCA-B798-11D97D549C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genda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 Brief History of Return of Title IV Funds (R2T4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at is R2T4 on the Web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ccessing R2T4 on the Web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2T4 on the Web functional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ands-on Exercis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24E1-10D5-4CA1-8FF3-8EFF62358E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 Brief History of R2T4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mply stated:  If a recipient of Title IV aid withdraws during a payment period or a period of enrollment, the institution must calculate the amount of Title IV aid the student earned.  Unearned Title IV funds must be returned to the Title IV program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3338-5E7A-4017-B13C-6B3EED0E38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 Brief History of R2T4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or to 1999/2000 called “Refunds and Repayments” (refund of unearned institutional charges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July 1, 2000, the 1998 Reauthorization of the HEA and Negotiated Rule Making changed this regulation to “the Treatment of Title IV, HEA program funds when a student withdraws from an institution”, AKA “Return to Title IV Fund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53D8-C9C6-4507-93AC-A1B21EDE5E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 Brief History of R2T4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2T4 PC Software became available on April 25, 20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2T4 on the Web was released on September 14, 200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2T4 on the Web with HERA updates became available on August 7, 200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E23F-FCAB-4EA3-9EB3-75EFADD709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What is R2T4 on the Web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b-based software that calculates and manages the return of Title IV fun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vailable through FAA Access to CPS Onl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be enrolled on SAIG Enrollment web site (https://www.fsawebenroll.ed.gov/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167A-42D7-4F9F-92D4-AB4C1F955E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he HERA of 2005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st year, The Higher Education Reconciliation Act (HERA) of 2005 (effective July 1, 2006) changed some steps in the Return of Title IV Funds calcul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not use the R2T4 PC software for students who withdrew on or after July 1, 2006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A5F0-5418-4986-9BB7-F48CFA8460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ccessing R2T4 on the Web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ess through FAA Access to CPS Onl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www.fafsa.ed.gov/FOTWWebApp/faa/faa.js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rming Your Identity” (SSN, Last Name, DOB, PI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A Main Menu – Select the “Return of Title IV Funds on the Web” op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ter TG# and Federal School Co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4862-7B10-4D01-A0DF-79C00C3C20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30481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2T4 on the Web</a:t>
            </a:r>
            <a:br>
              <a:rPr sz="4000"/>
            </a:b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unctionalit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4F83-06BA-4C9B-A644-4818FC49EE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yvette.payne</cp:lastModifiedBy>
  <dcterms:modified xsi:type="dcterms:W3CDTF">2007-12-05T18:15:52Z</dcterms:modified>
  <cp:revision>214</cp:revision>
  <dc:subject/>
  <dc:title>PowerPoint Presentation</dc:title>
</cp:coreProperties>
</file>