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CD64E9-8AA9-44F4-BE69-50F06AC65A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nd Feel” changes being made to other FAA Access applications for 2007-2008 have not yet been made to R2T4 but will be in the fu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least one Institutional Charge and one School Calendar Profile must be created prior to entering an R2T4 reco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differences between Clock hour and Credit hour en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stitutional Charges code links the 2 screens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setting up these screens look at all your school’s programs and budgets to devise a convention that makes sense for your total array of combination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r-specified fields aren’t required but can be used to collect additional da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in entering a Credit hour and a clock hour student reco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orts for all the Status Screens are available from the Reports fun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l fields are available – only fields stored in the database – most calculated values aren’t sto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RA introduced the first major changes since web software released in 200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C software has been removed from main download page at FSA Download, but has been archived at FSA Download and can still be downloaded t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ase attend Session #11 -- Return of Title IV Funds: HERA Policy and Implementation Changes -- if you would like additional detail on the HERA changes as they relate to R2T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test TG &amp; School code numbers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88F7-125B-4236-BC7D-0D6120F4B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2120" y="363996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821C-0A43-4389-9B18-F9DE0D6A1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4028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3FD9-E9A9-473D-A410-1C1B10438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1900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7552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212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1900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7552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348C-24B9-4665-BC47-3774961C6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5A19-023B-402F-893C-BC8B0E353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4A76-9A9E-4522-BBDE-3641E01FD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2AF1-6E29-40E8-BAD4-D7CB44850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356F-9879-404F-92E4-D286FE5AF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280" y="533520"/>
            <a:ext cx="88394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65C6-017F-45D3-8774-415AB5C39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889C-D97C-41F7-9837-432AE3C0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4028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C453-C241-4445-8D6F-4DD7C8044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38E5-13A4-4182-9A4D-34C950E86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ckdrop2007" descr=""/>
          <p:cNvPicPr/>
          <p:nvPr/>
        </p:nvPicPr>
        <p:blipFill>
          <a:blip r:embed="rId2"/>
          <a:stretch/>
        </p:blipFill>
        <p:spPr>
          <a:xfrm>
            <a:off x="0" y="-63360"/>
            <a:ext cx="9144000" cy="6984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17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36E6D-EB7A-4B19-B480-C5214D2C8A81}" type="slidenum">
              <a:rPr b="1" lang="en-US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ession 22</a:t>
            </a:r>
            <a:br>
              <a:rPr sz="4000"/>
            </a:b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19320" y="144756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 Hands-On Tour of Return of Title IV Funds (R2T4) on the Web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3886200"/>
            <a:ext cx="86104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an Klock, U.S. Department of Edu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rek Kalm, Vangent, Inc.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9907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Functions – Home/Welcome Pag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op Navig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ft Navig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Help lin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Bottom Navig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A6F3-B9C4-4BC7-BD6D-EAD2B369917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160" y="9144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Functions – Setup Screen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21333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stitutional Charg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chool Calendar Profi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er-Specified Fiel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6725-9300-47F8-8CB6-78FE147F0FC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Functions –R2T4 Record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1536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reate New Recor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nd Existing Recor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0A17-E471-4986-801E-1D074673210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Functions – Status Screen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udent Notifi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udent Repayment Arrangements (2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chool Portion of Title IV Funds (2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udents with a Post-withdrawal Disburs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udent Records Referred to Dept. of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B13E-B2E8-49D0-8665-F6EC8CE599A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Functions – Report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udent Lis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udent Notifi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udent Repayment Arrang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chool Portion of R2T4 Return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udents With a Post-Withdrawal Disburs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udent Records Referred to Dept. of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4436-19CF-4199-A228-5E25439550A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Functions – Data Expor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a-delimited text fi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Browse Dat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77F2-4E89-46BA-A1ED-28E6E07095C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Technical Assistanc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e appreciate your feedback and comments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PS/SAIG Technical Support can be reached at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hone: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800-330-5947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ax: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319-665-766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mail: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PSSAIG@ed.gov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10F8-66A4-4D02-963D-E42094EB8BF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Questions and Comment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 more information while at the conferenc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ttend Session #25: Return of Title IV Aid: Problem Areas and Compliance Issu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e to the PC lab for assistance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63B0-2099-4693-BF98-A412F5EAA50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30481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Hands-On Exercise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5CFB-A5E5-4BED-8D79-5EC98F5E9EB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Agenda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 Brief History of Return of Title IV Funds (R2T4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at is R2T4 on the Web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ccessing R2T4 on the Web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2T4 on the Web functionalit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Hands-on Exercis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FFCC-E8AB-476D-A732-6FC169447EC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A Brief History of R2T4 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mply stated:  If a recipient of Title IV aid withdraws during a payment period or a period of enrollment, the institution must calculate the amount of Title IV aid the student earned.  Unearned Title IV funds must be returned to the Title IV program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C6B6-F562-44F4-B20E-75ACE1CE967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A Brief History of R2T4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or to 1999/2000 called “Refunds and Repayments” (refund of unearned institutional charges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ective July 1, 2000, the 1998 Reauthorization of the HEA and Negotiated Rule Making changed this regulation to “the Treatment of Title IV, HEA program funds when a student withdraws from an institution”, AKA “Return to Title IV Funds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096B-F8CA-4C5C-86FD-B32CF7E335C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A Brief History of R2T4 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2T4 PC Software became available on April 25, 200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2T4 on the Web was released on September 14, 2004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2T4 on the Web with HERA updates became available on August 7, 2006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1516-0840-45F0-965D-98BFAA7A33B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What is R2T4 on the Web?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eb-based software that calculates and manages the return of Title IV fun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vailable through FAA Access to CPS Onli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be enrolled on SAIG Enrollment web site (https://www.fsawebenroll.ed.gov/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F9A3-CECF-49AC-BE73-C0F05BCC73F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The HERA of 2005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st year, The Higher Education Reconciliation Act (HERA) of 2005 (effective July 1, 2006) changed some steps in the Return of Title IV Funds calcul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 not use the R2T4 PC software for students who withdrew on or after July 1, 2006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1090-7B2C-4BAF-BB72-1FFF3A0A0A7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Accessing R2T4 on the Web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ess through FAA Access to CPS Onli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www.fafsa.ed.gov/FOTWWebApp/faa/faa.js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irming Your Identity” (SSN, Last Name, DOB, PI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A Main Menu – Select the “Return of Title IV Funds on the Web” op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ter TG# and Federal School Co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E4C2-F257-4D23-80FF-98F8709E7F4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30481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R2T4 on the Web</a:t>
            </a:r>
            <a:br>
              <a:rPr sz="4000"/>
            </a:b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Functionality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9FF1-85CF-4BE7-A7A7-5CA3E0F21A5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18:31:25Z</dcterms:created>
  <dc:creator>andrew.jones</dc:creator>
  <dc:description/>
  <dc:language>en-US</dc:language>
  <cp:lastModifiedBy>yvette.payne</cp:lastModifiedBy>
  <dcterms:modified xsi:type="dcterms:W3CDTF">2007-12-05T18:15:52Z</dcterms:modified>
  <cp:revision>214</cp:revision>
  <dc:subject/>
  <dc:title>PowerPoint Presentation</dc:title>
</cp:coreProperties>
</file>