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FECC-A4A2-48C1-905B-D396BEBC2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December, info from the SAIG enrollment site will rollover for 2008-09.  If an FAA user already has access rights setup, those rights will carry over for 08/09 FAA A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-2009 servic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Inquiry/Application and Correction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IR Analysis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of Title IV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IR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668-D4DD-4E1B-BCF5-019F7599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8FC-60DB-4066-BEBD-79193F4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BCC-3966-4013-B671-37111908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18C-4712-48A3-B9DC-EEECFDB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98E-EC3B-4EFF-B1C4-2CF779EC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C7A-8EB7-446B-ACE1-8E38B1D2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AB9-5D2B-4BE5-9D54-2423EEBA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5C9-0205-4E4E-964D-2A9C2D37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88F-D25A-48CA-826D-819DBBF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CF5-DC3E-407F-BEF7-CC76A59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3D9-7F84-4780-B44C-50954B1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B92-2BF9-4B35-A776-60835DC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C585-9882-4E01-A01E-26F99DE3F90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afsademo.test.ed.gov/" TargetMode="External"/><Relationship Id="rId2" Type="http://schemas.openxmlformats.org/officeDocument/2006/relationships/hyperlink" Target="http://www.fafsademo.test.ed.gov/" TargetMode="External"/><Relationship Id="rId3" Type="http://schemas.openxmlformats.org/officeDocument/2006/relationships/hyperlink" Target="http://www.fafsademo.test.ed.gov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sawebenroll.ed.gov/" TargetMode="External"/><Relationship Id="rId2" Type="http://schemas.openxmlformats.org/officeDocument/2006/relationships/hyperlink" Target="http://www.fsawebenroll.ed.gov/" TargetMode="External"/><Relationship Id="rId3" Type="http://schemas.openxmlformats.org/officeDocument/2006/relationships/hyperlink" Target="http://www.fsawebenroll.ed.gov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2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Access to CPS Online for New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ty Parki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84480" y="1752480"/>
            <a:ext cx="33591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new FAA User’s data, including Social Security Number and  Date of Bi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1111" r="27712" b="3174"/>
          <a:stretch/>
        </p:blipFill>
        <p:spPr>
          <a:xfrm>
            <a:off x="0" y="1752480"/>
            <a:ext cx="563868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73D-9885-48D0-9003-0D8E497C79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access rights differently for each school or the same for all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ccess rights of read, write, or blank for each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940" t="16822" r="9376" b="0"/>
          <a:stretch/>
        </p:blipFill>
        <p:spPr>
          <a:xfrm>
            <a:off x="0" y="1816200"/>
            <a:ext cx="5638680" cy="45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715-7292-4870-A1B9-8D1F82C55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0640" y="380880"/>
            <a:ext cx="879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38320" y="11426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&amp; sign required User 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FAA User now added to DPA’s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 sent to new FAA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5782" t="8602" r="25782" b="34412"/>
          <a:stretch/>
        </p:blipFill>
        <p:spPr>
          <a:xfrm>
            <a:off x="0" y="1467000"/>
            <a:ext cx="5715000" cy="48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50C-F775-49E6-9FA6-B2C55339E248}" type="slidenum">
              <a:t>12</a:t>
            </a:fld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14400" y="533520"/>
            <a:ext cx="7437600" cy="53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104-E7DB-404A-9DC0-6841CA888D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90720" y="533520"/>
            <a:ext cx="7391160" cy="52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D3C-9C47-42FC-AFA6-CFBC0D064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mo Site for FAA Access and FAFSA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 For FAAs to learn and to 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demo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test.ed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Name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d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fs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ed in the 2008-2009 CPS Test System User Gu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15A-01EC-4FD5-81A6-37A8E7B729FC}" type="slidenum">
              <a:t>15</a:t>
            </a:fld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19-665-76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059-272E-4047-B470-4ADD4D71A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/Comment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258-F153-4331-AC94-1D4A18832E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C53-8D27-4F14-B9E1-E39DD923C138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3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FAA Access to CPS Onli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id Internet Gateway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and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9CF-8814-4A03-A75E-C1A71BE8DEF1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 site which allows FAA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ew students’ SAR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FAFSA data and make corr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 ISIRs from the ISIR Datam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and the ISIR Analysis Tool are also available from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5FA-A0D1-4576-B8C7-55097E82ABCB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ere can I find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rl =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.ed.gov/FOTWWebApp/faa/faa.js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ust have a PIN and be enrolled in the Student Aid Internet Gateway to use the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629400" y="1828800"/>
            <a:ext cx="16207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DF-511B-4515-8934-4F10E379F53E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Aid Internet Gateway Enroll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416-03FB-4229-A75A-90E4BEEB5474}" type="slidenum">
              <a:t>5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4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Enrollment?                                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1371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IG enrollment capability that enables a Destination Point Administrator (DPA) to enroll additional FAA Users for FAA Access to CPS Online capab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for use by the DPA who is responsible for CPS data ex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DPA to control FAA Users’ access (full or limited acces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489-2799-4CCF-A0EB-4FC2BE523765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93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es the DPA Enroll FAA Users?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86400" y="12193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he Student Aid Internet Gateway online at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sawebenroll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ed.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“Enroll FAA Users for Online Services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1111" r="2573" b="4763"/>
          <a:stretch/>
        </p:blipFill>
        <p:spPr>
          <a:xfrm>
            <a:off x="0" y="1676520"/>
            <a:ext cx="5410080" cy="45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D67-8ACA-4080-88F1-068DFF7F9565}" type="slidenum">
              <a:t>7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793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1371600"/>
            <a:ext cx="251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, enter TG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, enter DPA’s SSN and DO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1702" r="22024" b="23139"/>
          <a:stretch/>
        </p:blipFill>
        <p:spPr>
          <a:xfrm>
            <a:off x="0" y="1676520"/>
            <a:ext cx="6629400" cy="46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08C-A1E8-4848-9D3F-6DD94C215AF1}" type="slidenum">
              <a:t>8</a:t>
            </a:fld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010280" y="2133360"/>
            <a:ext cx="2286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Add a new FAA User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0785" r="36000" b="34734"/>
          <a:stretch/>
        </p:blipFill>
        <p:spPr>
          <a:xfrm>
            <a:off x="0" y="1924200"/>
            <a:ext cx="7010280" cy="43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D92-5A5F-4618-B49C-75743565F6D6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34Z</dcterms:modified>
  <cp:revision>215</cp:revision>
  <dc:subject/>
  <dc:title>PowerPoint Presentation</dc:title>
</cp:coreProperties>
</file>