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3510A-02A0-4456-B059-9B1EF0C01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December, info from the SAIG enrollment site will rollover for 2008-09.  If an FAA user already has access rights setup, those rights will carry over for 08/09 FAA A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8-2009 service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 Inquiry/Application and Correction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IR Analysis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of Title IV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IR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8E7-0AF4-411E-B691-9EEAFB93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64F-E4CC-4794-AD83-FB400652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C64-E08C-41DC-A86C-2D21C04F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9A7-671E-4293-9C0D-CC15E63D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FD5-3FD0-45E3-BE84-E8FFA99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813-9D2B-47CC-A67F-B48EEAB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E39-681B-4E19-9ED3-8A686474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185-0385-4466-9D4F-B01320F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192-D553-47BF-B38D-2A102DE4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5CC-7BB3-47EC-80EC-567F89B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472-F1A4-4A60-8362-B387762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1B2-5181-4435-8539-48062BD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A3AF-2D29-4C67-8909-6D6B6AF3505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afsademo.test.ed.gov/" TargetMode="External"/><Relationship Id="rId2" Type="http://schemas.openxmlformats.org/officeDocument/2006/relationships/hyperlink" Target="http://www.fafsademo.test.ed.gov/" TargetMode="External"/><Relationship Id="rId3" Type="http://schemas.openxmlformats.org/officeDocument/2006/relationships/hyperlink" Target="http://www.fafsademo.test.ed.gov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fsa.ed.gov/FOTWWebApp/faa/faa.jsp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sawebenroll.ed.gov/" TargetMode="External"/><Relationship Id="rId2" Type="http://schemas.openxmlformats.org/officeDocument/2006/relationships/hyperlink" Target="http://www.fsawebenroll.ed.gov/" TargetMode="External"/><Relationship Id="rId3" Type="http://schemas.openxmlformats.org/officeDocument/2006/relationships/hyperlink" Target="http://www.fsawebenroll.ed.gov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2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A Access to CPS Online for New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ty Parki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nger Klo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84480" y="1752480"/>
            <a:ext cx="33591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new FAA User’s data, including Social Security Number and  Date of Bir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1111" r="27712" b="3174"/>
          <a:stretch/>
        </p:blipFill>
        <p:spPr>
          <a:xfrm>
            <a:off x="0" y="1752480"/>
            <a:ext cx="563868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4BF-4195-42D8-9C13-80040B9C4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access rights differently for each school or the same for all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access rights of read, write, or blank for each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940" t="16822" r="9376" b="0"/>
          <a:stretch/>
        </p:blipFill>
        <p:spPr>
          <a:xfrm>
            <a:off x="0" y="1816200"/>
            <a:ext cx="5638680" cy="45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8F3-F736-4E66-A58C-6D0B1B419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0640" y="380880"/>
            <a:ext cx="879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38320" y="11426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&amp; sign required User Sta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FAA User now added to DPA’s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 sent to new FAA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5782" t="8602" r="25782" b="34412"/>
          <a:stretch/>
        </p:blipFill>
        <p:spPr>
          <a:xfrm>
            <a:off x="0" y="1467000"/>
            <a:ext cx="5715000" cy="48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765-8546-4622-BDB0-9042B29082CB}" type="slidenum">
              <a:t>12</a:t>
            </a:fld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14400" y="533520"/>
            <a:ext cx="7437600" cy="53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971-AB55-449D-96B3-2876769CBE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4801" r="2400" b="2400"/>
          <a:stretch/>
        </p:blipFill>
        <p:spPr>
          <a:xfrm>
            <a:off x="990720" y="533520"/>
            <a:ext cx="7391160" cy="52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8CB-CEBD-4030-9877-5F4DBB957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mo Site for FAA Access and FAFSA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rpose: For FAAs to learn and to 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demo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test.ed.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Name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dde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fs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ed in the 2008-2009 CPS Test System User Gu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FC9-5502-4198-8E05-13D5455008D7}" type="slidenum">
              <a:t>15</a:t>
            </a:fld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19-665-766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5F1-AA0F-40DF-815B-D3CBD713F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/Comment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9EB-B18C-4DA5-B2F8-DDFC5C4D7B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182-F272-4E96-BC64-D1D22B2517F9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3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FAA Access to CPS Onli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id Internet Gateway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 and Com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8E4-1390-439B-9F73-E05C59EC8308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 site which allows FAA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ew students’ SAR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FAFSA data and make corr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 ISIRs from the ISIR Datam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and the ISIR Analysis Tool are also available from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3B1-1DC9-42EE-A8AA-9FD1FB8C6B94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ere can I find FAA Access to CPS Online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rl =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afsa.ed.gov/FOTWWebApp/faa/faa.js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ust have a PIN and be enrolled in the Student Aid Internet Gateway to use the Web s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629400" y="1828800"/>
            <a:ext cx="16207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05D-2787-480E-AAD9-D189A1B94FCA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Aid Internet Gateway Enroll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B2C-81A2-4BA8-8A47-3FEC60FC3500}" type="slidenum">
              <a:t>5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40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FAA Enrollment?                                 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137160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IG enrollment capability that enables a Destination Point Administrator (DPA) to enroll additional FAA Users for FAA Access to CPS Online capab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for use by the DPA who is responsible for CPS data ex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DPA to control FAA Users’ access (full or limited acces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B3E-F4B0-4E55-B024-337E63A84DC3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93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ow Does the DPA Enroll FAA Users?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86400" y="12193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he Student Aid Internet Gateway online at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fsawebenroll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.ed.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ose “Enroll FAA Users for Online Services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1111" r="2573" b="4763"/>
          <a:stretch/>
        </p:blipFill>
        <p:spPr>
          <a:xfrm>
            <a:off x="0" y="1676520"/>
            <a:ext cx="5410080" cy="45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8A1-F875-4288-AC3B-CB2A1A0B9187}" type="slidenum">
              <a:t>7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793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1371600"/>
            <a:ext cx="251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, enter TG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, enter DPA’s SSN and DO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1702" r="22024" b="23139"/>
          <a:stretch/>
        </p:blipFill>
        <p:spPr>
          <a:xfrm>
            <a:off x="0" y="1676520"/>
            <a:ext cx="6629400" cy="46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C1A-92DD-4966-8E33-8347CD0539F1}" type="slidenum">
              <a:t>8</a:t>
            </a:fld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010280" y="2133360"/>
            <a:ext cx="2286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Add a new FAA User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0785" r="36000" b="34734"/>
          <a:stretch/>
        </p:blipFill>
        <p:spPr>
          <a:xfrm>
            <a:off x="0" y="1924200"/>
            <a:ext cx="7010280" cy="43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ing New FAA Us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1D7-EFFA-4CA9-8396-84DD08BF651F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34Z</dcterms:modified>
  <cp:revision>215</cp:revision>
  <dc:subject/>
  <dc:title>PowerPoint Presentation</dc:title>
</cp:coreProperties>
</file>