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24D4-4E15-42EC-83A9-EAFA9A0CB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56D1-AA11-4CA9-87E2-3E99588E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BB21-0EC3-411D-9A36-56CC87E78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625D-9580-4C52-9090-B7C0CCAE5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75BC-80B8-4777-BC45-5A8F7596F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D8AA-DD79-4A17-B8C0-2C954E1DB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BB61-F59A-4EDC-B11E-C162084C9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2774-EC50-4974-9FCE-3CADD2743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5BD3-5893-4764-9180-11B169403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D562-D68D-4CE6-9C66-6C53EC2EB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6024-899D-4502-B970-0BF18243C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385-DF77-4ACA-943C-22ACFE70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F3C3-FDCE-4AEC-9DA2-61642CB37B1F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20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391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Mailbox Tool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Dconnect 7.2 and TDCommunityManager (TDCM) 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za Veneg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e Ra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8040" y="1827000"/>
            <a:ext cx="7690680" cy="3167640"/>
            <a:chOff x="608040" y="1827000"/>
            <a:chExt cx="7690680" cy="3167640"/>
          </a:xfrm>
        </p:grpSpPr>
        <p:sp>
          <p:nvSpPr>
            <p:cNvPr id="84" name=""/>
            <p:cNvSpPr/>
            <p:nvPr/>
          </p:nvSpPr>
          <p:spPr>
            <a:xfrm>
              <a:off x="3623760" y="1827000"/>
              <a:ext cx="1960200" cy="316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IG 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040" y="2883240"/>
              <a:ext cx="240624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EDconnect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ailbox Query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available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Received File View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ceived stat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86960" y="2883240"/>
              <a:ext cx="2111760" cy="13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74320" rIns="274320" tIns="137160" bIns="137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TDCM Web 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Messages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view onl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8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80"/>
                  </a:solidFill>
                  <a:latin typeface="Arial"/>
                </a:rPr>
                <a:t>Archive Tab </a:t>
              </a:r>
              <a:r>
                <a:rPr b="0" i="1" lang="en-US" sz="1400" spc="-1" strike="noStrike">
                  <a:solidFill>
                    <a:srgbClr val="000080"/>
                  </a:solidFill>
                  <a:latin typeface="Arial"/>
                </a:rPr>
                <a:t>(restore f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25080" y="243036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vailable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25080" y="3787920"/>
              <a:ext cx="135684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Archived Files 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281920" y="3787920"/>
              <a:ext cx="1055160" cy="6044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20400" y="333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69560" y="2731680"/>
              <a:ext cx="1055520" cy="60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869560" y="3184200"/>
              <a:ext cx="1055520" cy="603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281920" y="2882880"/>
              <a:ext cx="1055160" cy="45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0FF6-7F03-48D8-9497-292691710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nderstanding File Storage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vailable Files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Available statu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in Received status and &lt; 1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es Restored from Arch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0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rchive Files Databa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files =&gt; 10 days and &lt; 180 day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730A-EE07-45FB-A604-66EB010C4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eyond the Basic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tivity Lo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stigating transmission   err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ifying transmiss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eiving files to multiple fol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toring fil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A8A9-E4D5-429D-9E95-E775270901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Dconnect &amp; TDCM – Hands-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 View to change pass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ng the Transmission Que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and Receive file 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 Log 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age Tab to view files and change status of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chive Tab to restore files so they may be receiv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ps &amp; Tri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EDC5-8DDA-4CE5-9EC9-7DC9A29546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za.Venegas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0CFC-424F-4875-92AF-FD0B2FF43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uite Compon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G System Security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Mailbox Stor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0132-FDA1-4EE5-A0CC-41757CA11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Overvie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4584" t="23427" r="20834" b="47942"/>
          <a:stretch/>
        </p:blipFill>
        <p:spPr>
          <a:xfrm>
            <a:off x="5105520" y="2514600"/>
            <a:ext cx="2133360" cy="1501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434340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ED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048120"/>
            <a:ext cx="1428840" cy="114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a9"/>
                </a:solidFill>
                <a:latin typeface="Arial"/>
              </a:rPr>
              <a:t>TD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29280" y="4533840"/>
            <a:ext cx="142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229280"/>
            <a:ext cx="111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600200"/>
            <a:ext cx="259056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G 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2133720"/>
            <a:ext cx="2590560" cy="342900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4038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a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3429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720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581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76520" y="3124080"/>
          <a:ext cx="866520" cy="16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124080"/>
                    <a:ext cx="86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H="1">
            <a:off x="746712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153280" y="3962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666880"/>
            <a:ext cx="1218960" cy="152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133720"/>
            <a:ext cx="274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https://www.saigportal.ed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1557400">
            <a:off x="380520" y="449424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19051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92200">
            <a:off x="228240" y="342792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1598800">
            <a:off x="152280" y="385452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a9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4120" y="4114800"/>
            <a:ext cx="1447560" cy="132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5C04-DFCE-4B65-8787-961134FE3F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uite Compon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connect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C software used to send and receive d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Mainframe and Mid-Range Client software used to send and receiv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649-1BCD-4C3A-A132-0273F47B1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Dconnect v7.2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ows based software used to transmit TitleIV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upgrade to v7.2 by March 200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software at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4584" t="29067" r="24729" b="32975"/>
          <a:stretch/>
        </p:blipFill>
        <p:spPr>
          <a:xfrm>
            <a:off x="533520" y="2209680"/>
            <a:ext cx="3657600" cy="21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23DC-EE00-4975-9A80-95B76623B2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DCommunity Manager (TDCM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381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 - view network traffic in your SAIG mail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address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s://www.saigportal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TDCM User’s Guide at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softedconnect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7810" r="0" b="42734"/>
          <a:stretch/>
        </p:blipFill>
        <p:spPr>
          <a:xfrm>
            <a:off x="4915080" y="1943280"/>
            <a:ext cx="400032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AB30-7AE3-4660-96C0-23CC9F5E9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DCli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oad the Host Communication Gui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web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ttp://fsadownload.ed.gov/mainframeguide.h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 TDClient software via CPS/SAIG Technical Support at 800-330-59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JCL or Scripts to execute 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lation, setup questions? Contact CPS/SAIG Technica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094F-7386-487D-B1EC-75D06C78E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ting up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ynchronize network Password across multiple 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l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4B4-218E-4455-857E-97E1B791E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IG System Securit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twork Password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gin with an alpha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a minimum length of eight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contain at least one upper case and one lower case alpha character, plus one numeric charac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not be any of the last five pass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will be locked out after three failures (Call CPS/SAIG Technical Support to reset password or wait 30 minutes for lock to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contain special keyboard characters, such as @, #, $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F796-CA21-42B9-A17A-C9ADD75F13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5:12Z</dcterms:modified>
  <cp:revision>217</cp:revision>
  <dc:subject/>
  <dc:title>PowerPoint Presentation</dc:title>
</cp:coreProperties>
</file>