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A915-8E33-4381-AE41-460E4246B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8E46-CE57-416A-952C-6D2D9973E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9270-A99B-487E-9D8C-204788E8D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5ED2-2763-4E1F-ABF0-A1373EDE26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1101-C3AB-44C2-BD50-13739BA3E8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7454-184A-4186-9F40-89611B747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25D8-E596-4D46-B404-7B2C32F2B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51E8-64BC-4B1C-B3A3-EB8519B51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C394-113D-4C7D-826F-FE142951E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59DF-6C2D-4BD6-BA0A-D2ADE34BF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713B-50A1-4D18-9F2F-8348AF91C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C510-0B5D-483B-93DC-ADD26DDB8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039B-3F1F-45D4-87D0-6116AA45C7BD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cpssaig@ed.go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20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391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Mailbox Tool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Dconnect 7.2 and TDCommunityManager (TDCM) Hands-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za Veneg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e Rag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Understanding File Stor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08040" y="1827000"/>
            <a:ext cx="7690680" cy="3167640"/>
            <a:chOff x="608040" y="1827000"/>
            <a:chExt cx="7690680" cy="3167640"/>
          </a:xfrm>
        </p:grpSpPr>
        <p:sp>
          <p:nvSpPr>
            <p:cNvPr id="84" name=""/>
            <p:cNvSpPr/>
            <p:nvPr/>
          </p:nvSpPr>
          <p:spPr>
            <a:xfrm>
              <a:off x="3623760" y="1827000"/>
              <a:ext cx="1960200" cy="316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AIG Mailbox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040" y="2883240"/>
              <a:ext cx="2406240" cy="13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74320" rIns="274320" tIns="137160" bIns="13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EDconnect Soft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8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Mailbox Query View </a:t>
              </a:r>
              <a:r>
                <a:rPr b="0" i="1" lang="en-US" sz="1400" spc="-1" strike="noStrike">
                  <a:solidFill>
                    <a:srgbClr val="000080"/>
                  </a:solidFill>
                  <a:latin typeface="Arial"/>
                </a:rPr>
                <a:t>(available statu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8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Received File View </a:t>
              </a:r>
              <a:r>
                <a:rPr b="0" i="1" lang="en-US" sz="1400" spc="-1" strike="noStrike">
                  <a:solidFill>
                    <a:srgbClr val="000080"/>
                  </a:solidFill>
                  <a:latin typeface="Arial"/>
                </a:rPr>
                <a:t>(received statu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86960" y="2883240"/>
              <a:ext cx="2111760" cy="13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74320" rIns="274320" tIns="137160" bIns="13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TDCM Web 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8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Messages Tab </a:t>
              </a:r>
              <a:r>
                <a:rPr b="0" i="1" lang="en-US" sz="1400" spc="-1" strike="noStrike">
                  <a:solidFill>
                    <a:srgbClr val="000080"/>
                  </a:solidFill>
                  <a:latin typeface="Arial"/>
                </a:rPr>
                <a:t>(view onl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8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Archive Tab </a:t>
              </a:r>
              <a:r>
                <a:rPr b="0" i="1" lang="en-US" sz="1400" spc="-1" strike="noStrike">
                  <a:solidFill>
                    <a:srgbClr val="000080"/>
                  </a:solidFill>
                  <a:latin typeface="Arial"/>
                </a:rPr>
                <a:t>(restore fil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25080" y="2430360"/>
              <a:ext cx="1356840" cy="90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Available Files 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25080" y="3787920"/>
              <a:ext cx="1356840" cy="90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Archived Files 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281920" y="3787920"/>
              <a:ext cx="1055160" cy="604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20400" y="3335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869560" y="2731680"/>
              <a:ext cx="1055520" cy="60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869560" y="3184200"/>
              <a:ext cx="1055520" cy="603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281920" y="2882880"/>
              <a:ext cx="1055160" cy="451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2041-3DC2-41C9-BEA5-203F81B18A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Understanding File Storage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00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vailable Files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es in Available status and &lt; 180 days 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es in Received status and &lt; 10 days 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es Restored from Arch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400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rchive Files Databa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files =&gt; 10 days and &lt; 180 days 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99EF-BD0D-41D2-B8D9-DFA87B6EA8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Beyond the Basic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tivity Lo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vestigating transmission   err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ifying transmis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ceiving files to multiple fol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toring fil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B7EB-A1AB-47D5-BDDE-0480AF8492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Dconnect &amp; TDCM – Hands-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conn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 View to change pass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ng the Transmission Que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ry and Receive file Vie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ity Log 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DC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ssage Tab to view files and change status of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chive Tab to restore files so they may be received ag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ps &amp; Tri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0C41-FE90-42A1-AF52-A5D2F3B447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PS/SAIG Technical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00-330-59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cpssaig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za.Venegas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BA1B-591C-4A9F-AB06-8AA96448A5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System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Suite Compon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System Security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standing Mailbox Storag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ands-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723C-786D-4587-985D-E9FB68C727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ystem Overview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4584" t="23427" r="20834" b="47942"/>
          <a:stretch/>
        </p:blipFill>
        <p:spPr>
          <a:xfrm>
            <a:off x="5105520" y="2514600"/>
            <a:ext cx="2133360" cy="1501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0" y="4343400"/>
            <a:ext cx="1371600" cy="105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a9"/>
                </a:solidFill>
                <a:latin typeface="Arial"/>
              </a:rPr>
              <a:t>ED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3048120"/>
            <a:ext cx="1428840" cy="114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frame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dr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a9"/>
                </a:solidFill>
                <a:latin typeface="Arial"/>
              </a:rPr>
              <a:t>TD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29280" y="4533840"/>
            <a:ext cx="142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4229280"/>
            <a:ext cx="1117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1600200"/>
            <a:ext cx="259056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IG 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2133720"/>
            <a:ext cx="2590560" cy="3429000"/>
          </a:xfrm>
          <a:prstGeom prst="rect">
            <a:avLst/>
          </a:prstGeom>
          <a:noFill/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4038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a9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342900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57200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581280"/>
            <a:ext cx="114300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4724280"/>
            <a:ext cx="121932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76520" y="3124080"/>
          <a:ext cx="866520" cy="1676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3124080"/>
                    <a:ext cx="86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 flipH="1">
            <a:off x="746712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153280" y="3962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2666880"/>
            <a:ext cx="1218960" cy="152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S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2133720"/>
            <a:ext cx="2743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https://www.saigportal.ed.g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21557400">
            <a:off x="380520" y="4494240"/>
            <a:ext cx="118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3rd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ervic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190512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F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Appli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1592200">
            <a:off x="228240" y="3427920"/>
            <a:ext cx="15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Postsecond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Instit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21598800">
            <a:off x="152280" y="3854520"/>
            <a:ext cx="173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tate Scholarship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Guaranty 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34120" y="4114800"/>
            <a:ext cx="1447560" cy="132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AF56-F3AC-45A4-B211-DB021E2663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uite Compon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EDconnect 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C software used to send and receive dat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DCommunity Manager (TDCM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Web tool used for tracking data sent and received on SA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DCl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Mainframe and Mid-Range Client software used to send and receive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330A-205E-4577-B16A-CD33851556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Dconnect v7.2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648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ndows based software used to transmit TitleIV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d upgrade to v7.2 by March 2008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oad software at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ttp://fsadownload.ed.gov/softedconnect.ht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24584" t="29067" r="24729" b="32975"/>
          <a:stretch/>
        </p:blipFill>
        <p:spPr>
          <a:xfrm>
            <a:off x="533520" y="2209680"/>
            <a:ext cx="3657600" cy="218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561F-E473-45E5-A95F-5E566E0280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DCommunity Manager (TDCM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381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CM - view network traffic in your SAIG mailbo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et address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ttps://www.saigportal.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oad the TDCM User’s Guide at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ttp://fsadownload.ed.gov/softedconnect.ht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7810" r="0" b="42734"/>
          <a:stretch/>
        </p:blipFill>
        <p:spPr>
          <a:xfrm>
            <a:off x="4915080" y="1943280"/>
            <a:ext cx="400032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736C-0952-4F51-8799-798D7F77D3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DCli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oad the Host Communication Gui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the web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ttp://fsadownload.ed.gov/mainframeguide.ht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est TDClient software via CPS/SAIG Technical Support at 800-330-59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JCL or Scripts to execute TDCl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llation, setup questions? Contact CPS/SAIG Technical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AB8A-2ADE-47C0-BA05-4C4E66496F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ystem Secur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Dconn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word chang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ting up multiple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ynchronize network Password across multiple plat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conn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Cl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C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98A1-25A3-409D-989C-8EF711248C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ystem Secur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twork Password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begin with an alpha charac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be a minimum length of eight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contain at least one upper case and one lower case alpha character, plus one numeric charac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not be any of the last five passwords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will be locked out after three failures (Call CPS/SAIG Technical Support to reset password or wait 30 minutes for lock to cle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contain special keyboard characters, such as @, #, 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83C7-F742-4993-BAEB-60166B34E3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15:12Z</dcterms:modified>
  <cp:revision>217</cp:revision>
  <dc:subject/>
  <dc:title>PowerPoint Presentation</dc:title>
</cp:coreProperties>
</file>