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8889-F9CB-40E5-9EE9-2A5D30A53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0F89-DC1E-4B01-91C4-9D0FA4CE6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1969-03F3-4480-86C6-BEC8965ED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EB92-5137-4052-AE78-D9810023D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619E-17D2-4346-BDD9-5D292503B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84E0-1F9E-45E9-B147-7FD5ECF0E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B189-DB9A-4865-8F6E-39245A32E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836E-5869-4098-A46B-08D2437F6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B181-5CF9-4B54-8594-513467E58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95DF0-BC81-4761-B5D2-86F5D75E2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1DE0-9231-4DA8-9478-CD3D7B476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AD00-B8A1-44B3-8044-601DA1961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44C-0976-4B76-A3E5-8771D967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ANK OR  INVESTMENT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ly ins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d by col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that Title IV funds are in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Funds” in nam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Bank or I.A. and retain record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UCC-1 and maintain copy (except for a public institu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8968-6538-4650-BD54-DD8557312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PARATE BANK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will require on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 he deter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a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 failed to comply with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anagement ru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keeping / Reporting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ble program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F5AE-A5E4-4CE4-93AE-CE528671A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EREST-BEARING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OR INVESTMENT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kins Fu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4.8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 Loan, Pell, FSEOG, &amp; FW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gram f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drew dow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 $3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rior and current award ye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will not ear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 $2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us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st-In-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in an Investment Account must be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 risk, income producing 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E02F-D656-4C2B-95D0-37B1BD469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OUNTING &amp; INTERNAL CONTROL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SYSTEMS AND FINANCIAL RECO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6880" y="2168640"/>
            <a:ext cx="8283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sh Bal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s if in separate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Rec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each Title IV program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ledger control accounts &amp; related subsidiar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AC2D-7233-456D-8C02-3BA4AB339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CESS CAS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amount not disbursed by end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usiness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 for Perk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 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intain excess cash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vious award year, the excess cash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peak enroll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 3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s total prior year drawdow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other peri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 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s total prior year drawdown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 excess cash is disburs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in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2DF3-AB7E-4DEA-9E59-A831E54C5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BURSING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12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ds from 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ent’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stitution credits account early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stitution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isbursement is considered to be made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ing check from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institutional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ing student that check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T to student’s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(with signed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EEDB-73C0-41AC-8827-E5DB7D8308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REDITING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’S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thout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uition and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oom &amp; board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th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urrent (educational)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year charges (&lt;$100 or amount that does not prevent payment of current char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167A-C6ED-4B73-99FE-F3B15F050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REDIT BAL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credit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tle IV f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ceed authorized institutional char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ater th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balance occur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first day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1ED2-5340-4AC6-A16D-7118A0A047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ATE DISBURS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ligibl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FEL and 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longer ½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ll, SEOG, &amp; Perk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longer en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 if, before the student was inelig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AR/ISIR with official EFC processed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EL &amp; 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an certified /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kins &amp; FSE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de the a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F0DE-2699-4540-9362-1611701DB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KING LATE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DISBURS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680" y="167652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withdr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quired post-withdrawal disbursemen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ent comple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dit, pay, or offer the amount the student was eligible for while en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FEL and D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student &lt; ½ tim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burse for costs incurred while student was eligi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2633-A2AB-42F8-AA19-00CBA35D9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9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Arial"/>
                <a:ea typeface="Times New Roman"/>
              </a:rPr>
              <a:t>Cash Management Over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Arial"/>
                <a:ea typeface="Times New Roman"/>
              </a:rPr>
              <a:t>A -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FC7A-D9C3-42A3-8FA5-6809B2B80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IMIT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in 120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institution determined student withd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the student otherwise became in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the approval of the Secreta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mak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 12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t was not student’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FEL / 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 disbursements, unless student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te disbursements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r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students, unless 30 day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4611-9C7D-4F24-9D13-7D8EDC9C47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OTICES &amp; AUTHORIZ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06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disburs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, how, and when to be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s Subsidized and Unsubsi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crediting account with loan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amount of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’s right to cancel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dures and timeframe for canc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sent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arli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days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lat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days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ing th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84F1-DBD0-4E01-9131-F864D3688B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’S  NOTIFICATION RE: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CANCELLATION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 loan proceeds/cancel loan if it receives a cancellati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date institution sent notice regarding student’s right to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day of the payment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nstitutional notice is sent more than 14 days prior to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 of the payment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loan proceeds/cancel loan if student requests cancellation afte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 the student of the out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2277-AF48-4E85-B1EB-67D88BCB8B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UTHORIZ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thorize the institutio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 funds to student’s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for charges other than tuition &amp; fees, and room &amp;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cash bal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 authorization for entire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’s modification of auth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ffective on date institution receives such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C4F8-637A-4A45-A32F-482D2EAE0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UTHORIZATIONS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 or coerce the student to g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the student to cancel or modif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how it will carry out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 funds to pay for “other” charges incurred after the student cancels an authorization to pay for such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y the stud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soon as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no later th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student cancels an authorization to hold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F83B-9F32-4D23-B609-0BA16A26C9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LDING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CASH BAL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mount of funds in a subsidiary ledg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cash in its bank account = the amount of funds it is holding for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loan funds by the end of the loan period and pay other funds by the end of the last payment period in the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655C-DFEE-4B72-9F43-C5F37D0132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S TO THE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LEND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T or Master Ch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o earli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days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ds by check to borr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before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 or Master Check - 13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by check to the borrower – 30 days before the first day of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B781-0388-441F-AEB6-414AE3C502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TURNING FUNDS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disbur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3 business days (EFT / Master Check) or w/n 30 days, if check payable to borrow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10 extra days for clock hour completion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10 extra days to become eligibl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n 30 extra days for reimburse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, institution must return 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ptly, but within anothe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, institution can disburse 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above time frame if it determines that the student is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1A6B-A215-436B-A850-BDB0DF3A4F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IM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rove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ohibite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ay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mit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y 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 endorsement of Master Check or borrowers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eparate bank account for EFT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 school from certifying lo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chool in only in the FFELP, same restriction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chool is on Cash Monitoring, dit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0F48-1022-4397-8DD6-2590B315B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mon Origination and Dis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696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 supports cash management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DD85-F84E-412D-B005-8BBAA40250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ANAGEMENT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URPO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 Sound Cas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 Costs to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 (Loan) Costs to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002B-F265-4710-8447-C51DD4175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verview of C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fines aid origination and disbursement processes for Pell Grants and Direct Loans, and provides optional common reporting opportunities for campus-base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s a common process with a system designed to support originatio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burs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accountability and program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D90F-9938-4AB8-903D-1D24B0C54C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draw down in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sh  they will need to disb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the next 3 business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choose to have COD initiate drawdowns on the school’s behalf based on accepted actual disbursement recor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553080" y="838080"/>
            <a:ext cx="23385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FC6B-9097-40EE-8A11-FB64015758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ayment -- Pel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Sp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not draw cash in GAPS that exceeds their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ubmit disbursement records to COD that adjusts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EAFB-F56E-4D1A-B8DE-92EFDF43DC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 Payment Method –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at Beginning of Program Year (Fe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increases as a school submits disbursement records to C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draw down their current cash needs in G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C117-3577-4D0D-BDE9-021920A68B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in Time/Pushed Cas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driven by actual disbursement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” = 7 day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ing (FDL) is Generated by COD (under development for Pe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sent electronically to school’s bank ac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3B00-648D-47ED-9D1F-BD0DA57A95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are available based on actual disbursement rec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are accepted 30 days out for 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L is increased 7 day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26E2-3F2A-4F07-8457-B64DD2E48A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ding in 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ened Cash Monitoring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mbursement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y students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records accepted on or after disbursemen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64B0-3AA4-4A36-9275-C0E0F64648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ash Management Requirement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-Day Reporting Requi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301(d)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83 Pell (and annual deadline no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ay Cash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68.162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85.102(b)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7750-CCEA-4F3E-959C-3037248F58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oseou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02 = 12/31/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03 = 7/31/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02 = 9/30/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03 = 9/30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Based AY (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ccommodate new reg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C120-A857-4268-B611-9B117CA450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p to date information about funds drawn b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easy comparison of accepted student level disbursement records to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asy view of Current Funding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GAP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self-assessment of cash management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A17F-3975-4577-9D67-2B38D03CF9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BPART K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ANAGEMENT 34 CFR 668.161 - 167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itle IV HEA Progr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In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181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95480" y="42670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42670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7339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EFDB-6E05-4B10-924C-9164ACF0A2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8400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3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of Draw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rawdown is aged to see how long it takes to “substantiate” the d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a school know at any point how much funds have not been sub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re available based on actual disbursement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are accepted 30 day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L is increased 7 day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94B6-6E41-446B-8114-AEDCA765B6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09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Service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epresentative for each School/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outreach activities including for funding issues (calls &amp; warning me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unds Management Support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ccess to GAP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804C-E254-4F10-A075-84287CC392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Web P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umm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ummary Financi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s of Cash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8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ly To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5D48-CC0A-4DB0-A8FA-CD12600014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Cash Management Tool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p to date information about funds drawn b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easy comparison of accepted student level disbursement records to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asy view of Current Funding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GAPS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self-assessment of cash management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7815-EA55-4905-8946-68833DB715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ubRRectCallout"/>
          <p:cNvSpPr/>
          <p:nvPr/>
        </p:nvSpPr>
        <p:spPr>
          <a:xfrm flipV="1">
            <a:off x="914400" y="4114080"/>
            <a:ext cx="3809880" cy="685800"/>
          </a:xfrm>
          <a:custGeom>
            <a:avLst/>
            <a:gdLst>
              <a:gd name="textAreaLeft" fmla="*/ 25560 w 3809880"/>
              <a:gd name="textAreaRight" fmla="*/ 3776400 w 380988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in conta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ubRRectCallout"/>
          <p:cNvSpPr/>
          <p:nvPr/>
        </p:nvSpPr>
        <p:spPr>
          <a:xfrm flipH="1">
            <a:off x="6095880" y="1523880"/>
            <a:ext cx="1828800" cy="167652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1160 h 1676520"/>
              <a:gd name="textAreaBottom" fmla="*/ 1327680 h 16765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mmary of financ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29EF-5D10-4E48-BFA2-61D97563086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ubRRectCallout"/>
          <p:cNvSpPr/>
          <p:nvPr/>
        </p:nvSpPr>
        <p:spPr>
          <a:xfrm flipH="1">
            <a:off x="5943600" y="1295280"/>
            <a:ext cx="1828800" cy="221004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4760 h 2210040"/>
              <a:gd name="textAreaBottom" fmla="*/ 1750320 h 22100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fund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11F8-9392-4E49-8143-F8583389D5D4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ubRRectCallout"/>
          <p:cNvSpPr/>
          <p:nvPr/>
        </p:nvSpPr>
        <p:spPr>
          <a:xfrm flipH="1">
            <a:off x="5943600" y="1295280"/>
            <a:ext cx="1828800" cy="2210040"/>
          </a:xfrm>
          <a:custGeom>
            <a:avLst/>
            <a:gdLst>
              <a:gd name="textAreaLeft" fmla="*/ 12240 w 1828800"/>
              <a:gd name="textAreaRight" fmla="*/ 1812960 w 1828800"/>
              <a:gd name="textAreaTop" fmla="*/ 14760 h 2210040"/>
              <a:gd name="textAreaBottom" fmla="*/ 1750320 h 22100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detailed funding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CD03-F919-4323-BF8E-6B825641D328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ubRRectCallout"/>
          <p:cNvSpPr/>
          <p:nvPr/>
        </p:nvSpPr>
        <p:spPr>
          <a:xfrm flipH="1">
            <a:off x="5942880" y="1295280"/>
            <a:ext cx="2133720" cy="2362320"/>
          </a:xfrm>
          <a:custGeom>
            <a:avLst/>
            <a:gdLst>
              <a:gd name="textAreaLeft" fmla="*/ 13680 w 2133720"/>
              <a:gd name="textAreaRight" fmla="*/ 2114640 w 2133720"/>
              <a:gd name="textAreaTop" fmla="*/ 15840 h 2362320"/>
              <a:gd name="textAreaBottom" fmla="*/ 1870920 h 23623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draw downs and any cash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AB53-94C5-4C57-B3C8-7D3DBF446F7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0062-9D1E-4377-867F-D8B90D274F2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ubRRectCallout"/>
          <p:cNvSpPr/>
          <p:nvPr/>
        </p:nvSpPr>
        <p:spPr>
          <a:xfrm flipH="1" flipV="1">
            <a:off x="608400" y="3733920"/>
            <a:ext cx="8077320" cy="2666880"/>
          </a:xfrm>
          <a:custGeom>
            <a:avLst/>
            <a:gdLst>
              <a:gd name="textAreaLeft" fmla="*/ 54000 w 8077320"/>
              <a:gd name="textAreaRight" fmla="*/ 8006040 w 8077320"/>
              <a:gd name="textAreaTop" fmla="*/ 17640 h 2666880"/>
              <a:gd name="textAreaBottom" fmla="*/ 2112120 h 2666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hows by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dollar amount for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dollar amount for actual disbur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tal number of recipients for the select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9501-9B25-4B16-96E1-A1744E120F13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ING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ary has Sole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-in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7501-1BC9-43EE-9145-DDA671DEE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You can reach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 Kerrigan       Kathy W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02) 377-4291     (202) 377-3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02) 275-4552     (202) 275-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an.Kerrigan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leen.Wick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4613-63AB-41A4-A081-338462E96A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 PAYMENT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itution requ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ds from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mount nee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isbursements made or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initiat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ool disburses within 3 business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8D77-B6A0-4C1F-8441-FC5DB8132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JUST-IN-TIME 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AY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electronically transmits program award informa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 each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&amp; Amount of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or before that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based on informati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time of record transmission to 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repor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ABB0-AEC1-4BFD-A625-B993629C8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IMBURSEMENT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bursements made fir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student’s account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to student with institution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funds from the 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cu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ing eligibility and that student has been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0D71-E557-49E5-87D7-C96768B45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ASH MONITORING    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PAY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bursements made first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tit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amount of funds needed to cover those disbursement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reimbursement 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retary m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ify documentation requirements and review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B498-F337-4568-A921-A147B5663C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55:09Z</dcterms:modified>
  <cp:revision>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