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B4AA-4ABC-4DE5-A959-041DF0F32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3592-175B-4406-89A9-48D4DEF26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E022-73AF-4D66-AB35-787EA129E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06B9-E384-4647-B0ED-36EE3DD52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AD75-35CC-4411-9E8C-8098A1CB0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5C0D-5E59-4588-9BA7-BB3BE7FE1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1DB2-0A7C-4EF8-B2C0-D689EE6E8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CEEB-7DC3-4F50-91C5-71591728A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8811-0545-48A2-A984-141D120AC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0D8B-5778-4283-8C5A-9468432C5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6889-DB0C-4D83-963C-4C15B5743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11CB-6C7B-4C0F-93B1-DF65F98EF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6D98-3A08-490D-A3DF-CF01B9E6F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BANK OR  INVESTMENT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    ACCOU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erally ins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d by colla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hat Title IV funds are in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Funds” in nam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Bank or I.A. and retain record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UCC-1 and maintain copy (except for a public institu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DBC5-6D20-4076-BC9D-EC13CE8148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PARATE BANK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ACCOU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retary will require on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f he deter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a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ion failed to comply with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Management rul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keeping / Reporting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ble program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0DDA-FCA5-460C-A72F-0DA61816D4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TEREST-BEARING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OR INVESTMENT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ACCOU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kins Fu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4.8(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 Loan, Pell, FSEOG, &amp; FW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gram f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drew dow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lt; $3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rior and current award ye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will not ear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 $2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st-In-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in an Investment Account must be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 risk, income producing 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9F2C-0EB5-44DE-80A9-BAD6B31CAC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520" y="6854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CCOUNTING &amp; INTERNAL CONTROL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SYSTEMS AND FINANCIAL RECOR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6880" y="2168640"/>
            <a:ext cx="8283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Cash Bal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s if in separate accou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E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Rec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8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each Title IV program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ledger control accounts &amp; related subsidiary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5559-9A4F-426F-B95F-3054A6AE21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CESS CASH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amount not disbursed by end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business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 for Perk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titution m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intain excess cash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evious award year, the excess cash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peak enroll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 3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its total prior year drawdow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other peri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 1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its total prior year drawdowns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 excess cash is disburs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in 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AEB8-28E0-4CAE-9E81-567B37B242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SBURSING FUN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12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unds from 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d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udent’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stitution credits account early 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stitution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isbursement is considered to be made o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day 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day 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ing check from l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institutional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ying student that check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T to student’s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(with signed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B50D-DB55-4812-8671-7A69C31665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REDITING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’S ACCOU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thout 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uition and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oom &amp; board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th 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current (educational)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year charges (&lt;$100 or amount that does not prevent payment of current char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313B-A5B8-4BFC-9F71-B4E7CB6D0B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REDIT BALAN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when credit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tle IV fu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ceed authorized institutional char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ater th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balance occur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first day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D04B-45FE-4E8E-A3C4-690469FA69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LATE DISBURSEM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ligibl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FEL and 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o longer ½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ll, SEOG, &amp; Perk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o longer en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fy if, before the student was ineligi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 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AR/ISIR with official EFC processed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FEL &amp; 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an certified / orig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kins &amp; FSE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ade the a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F352-DB1B-4D82-AA0B-82FA20046D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AKING LATE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DISBURSEM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4680" y="167652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ent withdra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quired post-withdrawal disbursemen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ent comple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dit, pay, or offer the amount the student was eligible for while en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FEL and D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student &lt; ½ tim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burse for costs incurred while student was eligi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C405-B1F3-43CD-867D-25FBACFCDF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19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90d5d"/>
                </a:solidFill>
                <a:latin typeface="Arial"/>
                <a:ea typeface="Times New Roman"/>
              </a:rPr>
              <a:t>Cash Management Overvie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90d5d"/>
                </a:solidFill>
                <a:latin typeface="Arial"/>
                <a:ea typeface="Times New Roman"/>
              </a:rPr>
              <a:t>A -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D72D-6C3E-40CE-AE2B-7FC9BAC23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LIMITA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in 120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institution determined student withd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the student otherwise became ine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the approval of the Secreta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mak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ter 120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it was not student’s 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FEL / 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te disbursements, unless student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te disbursements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r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students, unless 30 days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D85E-2686-43E6-83D0-F0C8438A2F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OTICES &amp; AUTHORIZA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064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 disburs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, how, and when to be disbu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s Subsidized and Unsubsid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en crediting account with loan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amount of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’s right to cancel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dures and timeframe for canc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sent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arlier th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 days 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later th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 days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ing th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0AD5-9D30-4120-B80D-339FDC7665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’S  NOTIFICATION RE:   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CANCELLATION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 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 loan proceeds/cancel loan if it receives a cancellatio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4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ate institution sent notice regarding student’s right to 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day of the payment 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institutional notice is sent more than 14 days prior to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y of the payment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loan proceeds/cancel loan if student requests cancellation after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 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 the student of the outc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1C7A-E934-44F7-A33C-1DCEB6B011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UTHORIZA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 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thorize the institution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 funds to student’s bank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for charges other than tuition &amp; fees, and room &amp;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cash bal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 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authorization for entire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’s modification of auth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ffective on date institution receives such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F3584-E78A-430D-A0D4-BE3C2AE8AE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UTHORIZATIONS   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(CONTINUE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 or coerce the student to gi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the student to cancel or modify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how it will carry out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funds to pay for “other” charges incurred after the student cancels an authorization to pay for such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y the stud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soon as pos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no later th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4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the student cancels an authorization to hold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A7E3-629B-45EE-A6E4-8969D2F041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LDING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CASH BALAN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titution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mount of funds in a subsidiary ledger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cash in its bank account = the amount of funds it is holding for th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loan funds by the end of the loan period and pay other funds by the end of the last payment period in the award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61B8-549F-45AE-9FD6-744BFCE8CA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QUESTS TO THE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   LENDER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T or Master 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o earli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 days aft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days before the first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ds by check to borr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before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T or Master Check - 13 days before the first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by check to the borrower – 30 days before the first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C14D-9F14-4427-9EBD-A72938B7F6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TURNING FUNDS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disbur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n 3 business days (EFT / Master Check) or w/n 30 days, if check payable to borrower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n 10 extra days for clock hour completion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n 10 extra days to become eligibl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n 30 extra days for reimburse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, institution must return 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mptly, but within another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, institution can disburse 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above time frame if it determines that the student is 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92987-BA08-4368-8F43-D47CD8C347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IMBURSE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ary 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ve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ohibite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may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r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mit docu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ary 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hibit endorsement of Master Check or borrowers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eparate bank account for EFT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hibit school from certifying lo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chool in only in the FFELP, same restriction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chool is on Cash Monitoring, dit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0F50-1120-49C9-B310-195A6ABC2E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mmon Origination and Disburse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6960" y="13716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 supports cash management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8925-2F21-4566-8413-1FD916630F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ASH MANAGEMENT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PURPOS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88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ote Sound Cash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ize Costs to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ize (Loan) Costs to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4C8A-2483-4D47-886A-F36A018D80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4320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verview of C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fines aid origination and disbursement processes for Pell Grants and Direct Loans, and provides optional common reporting opportunities for campus-base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s a common process with a system designed to support origination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bursemen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accountability and program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5BC9-119D-461A-8595-9554E2D4C5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65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 draw down in G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sh  they will need to disb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the next 3 business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 choose to have COD initiate drawdowns on the school’s behalf based on accepted actual disbursement record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553080" y="838080"/>
            <a:ext cx="233856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0B43-5320-42D3-8EB0-8E99784E3A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 Payment -- Pell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created in Sp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not draw cash in GAPS that exceeds their CF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submit disbursement records to COD that adjusts CF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level in  GAPS is not increased until initial CFL has been exc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A9B3-A8B3-4EBB-ABF8-6E4382E4B5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 Payment Method –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created at Beginning of Program Year (Feb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increases as a school submits disbursement records to C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draw down their current cash needs in G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396D-678E-4CC9-A97D-27F656A961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in Time/Pushed Cash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driven by actual disbursement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” = 7 days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ed Disbursement Listing (FDL) is Generated by COD (under development for Pe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sent electronically to school’s bank ac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D6DC-F520-4006-A801-8832B82E61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3716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s are available based on actual disbursement rec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 are accepted 30 days out for P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L is increased 7 day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7F19-DC33-47BC-8746-CA27990473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ened Cash Monitoring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mbursement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ay students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records accepted on or after disbursement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1B261-973D-4316-BADF-B5E4BB1CB5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Cash Management Requirements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-Day Reporting Requi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85.301(d)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85.83 Pell (and annual deadline no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Day Cash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68.162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85.102(b)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AA04-52DB-4809-90A1-6DEBC201470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oseou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02 = 12/31/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03 = 7/31/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02 = 9/30/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03 = 9/30/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Based AY (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ccommodate new regu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6FE5-AD41-4FCC-8F8F-8A2F1E2412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Cash Management Tool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up to date information about funds drawn b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easy comparison of accepted student level disbursement records to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easy view of Current Funding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GAPS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or self-assessment of cash management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B5BA-3E7D-482E-8B8B-8E7DCC28CB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UBPART K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ASH MANAGEMENT 34 CFR 668.161 - 167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itle IV HEA Progra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Instit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bu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5181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4267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895480" y="4267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95480" y="426708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7339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7A1E-66A2-422F-BE68-7E2C03C3D6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84000" y="304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Cash Management Tool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3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ng of Drawd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rawdown is aged to see how long it takes to “substantiate” the dr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a school know at any point how much funds have not been substan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are available based on actual disbursement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are accepted 30 day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L is increased 7 day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0752-5CC6-4044-8520-F5003226DA7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Cash Management Tool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Service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epresentative for each School/Serv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outreach activities including for funding issues (calls &amp; warning mess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unds Management Support to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ccess to GAP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6223-966F-4A40-908B-0049754DF54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Web Pag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umma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Funding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ummary Financi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nds of Cash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ly To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387D-BA11-47CD-9F82-D328A041976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Cash Management Tool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up to date information about funds drawn b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easy comparison of accepted student level disbursement records to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easy view of Current Funding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GAPS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or self-assessment of cash management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158C-C2FD-43E8-A33C-0FFC594ADA1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ubRRectCallout"/>
          <p:cNvSpPr/>
          <p:nvPr/>
        </p:nvSpPr>
        <p:spPr>
          <a:xfrm flipV="1">
            <a:off x="914400" y="4114080"/>
            <a:ext cx="3809880" cy="685800"/>
          </a:xfrm>
          <a:custGeom>
            <a:avLst/>
            <a:gdLst>
              <a:gd name="textAreaLeft" fmla="*/ 25560 w 3809880"/>
              <a:gd name="textAreaRight" fmla="*/ 3776400 w 380988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in 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ubRRectCallout"/>
          <p:cNvSpPr/>
          <p:nvPr/>
        </p:nvSpPr>
        <p:spPr>
          <a:xfrm flipH="1">
            <a:off x="6095880" y="1523880"/>
            <a:ext cx="1828800" cy="1676520"/>
          </a:xfrm>
          <a:custGeom>
            <a:avLst/>
            <a:gdLst>
              <a:gd name="textAreaLeft" fmla="*/ 12240 w 1828800"/>
              <a:gd name="textAreaRight" fmla="*/ 1812960 w 1828800"/>
              <a:gd name="textAreaTop" fmla="*/ 11160 h 1676520"/>
              <a:gd name="textAreaBottom" fmla="*/ 1327680 h 16765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mmary of financi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774F-803A-4F24-8EC7-10CE84670DEB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ubRRectCallout"/>
          <p:cNvSpPr/>
          <p:nvPr/>
        </p:nvSpPr>
        <p:spPr>
          <a:xfrm flipH="1">
            <a:off x="5943600" y="1295280"/>
            <a:ext cx="1828800" cy="2210040"/>
          </a:xfrm>
          <a:custGeom>
            <a:avLst/>
            <a:gdLst>
              <a:gd name="textAreaLeft" fmla="*/ 12240 w 1828800"/>
              <a:gd name="textAreaRight" fmla="*/ 1812960 w 1828800"/>
              <a:gd name="textAreaTop" fmla="*/ 14760 h 2210040"/>
              <a:gd name="textAreaBottom" fmla="*/ 1750320 h 22100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hows fund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071F-6FD8-475A-9145-829B99E0ED08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ubRRectCallout"/>
          <p:cNvSpPr/>
          <p:nvPr/>
        </p:nvSpPr>
        <p:spPr>
          <a:xfrm flipH="1">
            <a:off x="5943600" y="1295280"/>
            <a:ext cx="1828800" cy="2210040"/>
          </a:xfrm>
          <a:custGeom>
            <a:avLst/>
            <a:gdLst>
              <a:gd name="textAreaLeft" fmla="*/ 12240 w 1828800"/>
              <a:gd name="textAreaRight" fmla="*/ 1812960 w 1828800"/>
              <a:gd name="textAreaTop" fmla="*/ 14760 h 2210040"/>
              <a:gd name="textAreaBottom" fmla="*/ 1750320 h 22100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re detailed funding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33E6-47E3-4750-AC37-C8A6DB7C75CC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ubRRectCallout"/>
          <p:cNvSpPr/>
          <p:nvPr/>
        </p:nvSpPr>
        <p:spPr>
          <a:xfrm flipH="1">
            <a:off x="5942880" y="1295280"/>
            <a:ext cx="2133720" cy="2362320"/>
          </a:xfrm>
          <a:custGeom>
            <a:avLst/>
            <a:gdLst>
              <a:gd name="textAreaLeft" fmla="*/ 13680 w 2133720"/>
              <a:gd name="textAreaRight" fmla="*/ 2114640 w 2133720"/>
              <a:gd name="textAreaTop" fmla="*/ 15840 h 2362320"/>
              <a:gd name="textAreaBottom" fmla="*/ 1870920 h 23623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hows draw downs and any cash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C9D4-51A0-40C8-9D98-37765847382B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9760-9797-4FD3-A796-B5D4160E559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ubRRectCallout"/>
          <p:cNvSpPr/>
          <p:nvPr/>
        </p:nvSpPr>
        <p:spPr>
          <a:xfrm flipH="1" flipV="1">
            <a:off x="608400" y="3733920"/>
            <a:ext cx="8077320" cy="2666880"/>
          </a:xfrm>
          <a:custGeom>
            <a:avLst/>
            <a:gdLst>
              <a:gd name="textAreaLeft" fmla="*/ 54000 w 8077320"/>
              <a:gd name="textAreaRight" fmla="*/ 8006040 w 8077320"/>
              <a:gd name="textAreaTop" fmla="*/ 17640 h 2666880"/>
              <a:gd name="textAreaBottom" fmla="*/ 2112120 h 2666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hows by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otal dollar amount for 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otal dollar amount for actual disbur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otal number of recipients for the selected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AC3E-0C14-4AED-9EA8-A893E0BCA97F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QUESTING FUN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88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retary has Sole Dis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-in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9546-872C-47C5-B83C-7AFBA402EB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QUES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You can reach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an Kerrigan       Kathy W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02) 377-4291     (202) 377-31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02) 275-4552     (202) 275-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-m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an.Kerrigan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leen.Wicks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DF4F-6FC2-4084-B243-A9B98DBAEAA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VANCE PAYMENT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 reque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ds from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mount nee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isbursements made or t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retary initiat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ool disburses within 3 business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2635-D648-4CAE-A16F-96EC9BBBC6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JUST-IN-TIME  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PAY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electronically transmits program award informatio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 each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&amp; Amount of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or before that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based on informatio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time of record transmission to 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repor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6DC9-0DEF-45B3-B9CA-DC2FDB108C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IMBURSEMENT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bursements made fir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y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to student’s account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to student with institution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qu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funds from the 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cum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ing eligibility and that student has been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122D-F275-47C3-8663-EA599E1C93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ASH MONITORING   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PAY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bursements made first by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titu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amount of funds needed to cover those disbursement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s reimbursement 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retary ma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ify documentation requirements and review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6C97-3141-490A-B562-269F195D13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55:09Z</dcterms:modified>
  <cp:revision>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