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96396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2040" y="440676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96396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23AB24-8E87-4575-9406-843F03790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2040" y="440676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FE88-895A-4A6C-B027-1A09250F8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F496D-7702-4F7F-AD46-6F3C423B7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E4BD2-853D-4ADB-95FF-0ACD4DA40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B415E-C1B2-49A4-8811-215B2C82B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BED5-FBFE-4ACA-B230-5E983F246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509D5-D4BE-4CA9-8B12-2353EFF88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40B6-8C44-4921-9C22-A22E9FD7C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9460-2E89-4943-AB80-0CD3AD93A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EC96F-9E00-4705-9BCA-F82D6F31F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DDA0-F244-495A-8885-D9D06AE75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B67AC-B80B-40F6-A015-05A4708FE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5F22C-9840-46B2-A2DC-3B1A245F8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EC83-BE4D-42F1-BE1A-2DBA6EF42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62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Examples of transactions conducted electronically</a:t>
            </a:r>
            <a:br>
              <a:rPr sz="4000"/>
            </a:b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ompletes and signs a verification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notifies a student that loan funds were credited to her account by sending e-mail message or posting the message on its webs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7E45-15BC-47E4-BC40-BB3B06207E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62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Web sess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y online session where a student wishes to conduct a verification or authorization transaction, the entire session must be sec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ssion must be designed to produce a complete and accurate record of the transaction or activity condu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08A5C-83D1-4DD5-A034-23FA3A163C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62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Electronic recor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retention requirements in 668.24 apply equally to paper and electronic rec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for ensuring the accuracy, integrity, and accessibility of electronic rec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E01B6-65A3-47E0-B05F-B1B6DF8883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ech Slid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 202-377-4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: 202-275-45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john.kolotos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34399-F9B8-4BA8-A8BB-59CDDA278F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18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819520"/>
            <a:ext cx="83818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Conducting Title IV program Transactions Electron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AEACA-605D-4D0F-A4EC-7599D35194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Backgroun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Signatures in Global and National Commerce Act (E-Sig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equivalence between paper records and electronic records and with pen and ink signatures and electronic sign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ance for conducting Title IV loan transactions electronically: GEN-01-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E36E5-2849-4F98-9835-0C3685786E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E-Sign and </a:t>
            </a:r>
            <a:br>
              <a:rPr sz="4000"/>
            </a:b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the Title IV program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hool may use electronic records and signatures for any provision that requi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hool to provide or make available written information to a student or par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 or parent to authorize, certify, or sign a docu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2AF62-DE85-4B64-9D4A-B957A7F814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Consumer Consent under E-Sig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hool must obtain a student’s consent before conducting transactions electronic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nt, or confirmation of consent, must be obtained electron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0448-B9F2-4926-B04A-0D94543608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Overview of Electronic Proces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ing an identity credential (password or PIN) to a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ating and using the credential to conduct a transaction electron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an electronic signatur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D0101-E095-4148-9751-BF797BAB6C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Identity Credential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the student’s identity through an independent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 the credential by mail or in another secur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steps to protect the crede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B6856-441A-4AD0-A248-F439F245AF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Authenticating and using a credential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information entered by a student with information maintained in the school’s syste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ential may be used to obtain access to a secure website (or page) to get  information or complete a transaction electronic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020D4-AA66-4CDF-A416-8EA9E89C71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Electronic Signature Proces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/Password is part of the process – its used to identify and authenticate the student as the source of the rec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also establish that the student intended to sign a particular rec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EFB5-D8E1-4AB1-A310-99DCFE880F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5:49:37Z</dcterms:modified>
  <cp:revision>6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