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3"/>
          </p:nvPr>
        </p:nvSpPr>
        <p:spPr>
          <a:xfrm>
            <a:off x="396396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3474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32040" y="440676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4"/>
          </p:nvPr>
        </p:nvSpPr>
        <p:spPr>
          <a:xfrm>
            <a:off x="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5"/>
          </p:nvPr>
        </p:nvSpPr>
        <p:spPr>
          <a:xfrm>
            <a:off x="396396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A83295A-FE12-4B07-9C82-9A6313CBB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32040" y="440676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57F12-42FD-462D-9CE5-415332C20F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B21EC-C8A8-42F1-A036-830167CC61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6AF4D-0E23-4874-8B9A-D376265E3A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A6275-F894-41A0-B2F0-3F1EEC847C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CEBE0-BD28-435E-8BFE-44BFA0EE42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F1E18-9A25-4733-9980-4717272CBB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5F056-84CA-469A-9898-675A3B4406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EBB51-435F-441B-892D-B949F75E54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9C418-4717-4C18-9ED4-B64869F05A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AD70E-4E79-4A34-A312-8943D55316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BEE61-B748-4A82-805E-4405096F2B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F8132-F8B0-494C-B8DD-9CBF690B42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23c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6708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6C79-804E-4AD3-A3AC-5506BA539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7620120" cy="5335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rcRect l="0" t="31673" r="0" b="54484"/>
          <a:stretch/>
        </p:blipFill>
        <p:spPr>
          <a:xfrm>
            <a:off x="0" y="6553080"/>
            <a:ext cx="7696080" cy="3049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359080" cy="1600200"/>
          </a:xfrm>
          <a:prstGeom prst="rect">
            <a:avLst/>
          </a:prstGeom>
          <a:ln w="0">
            <a:noFill/>
          </a:ln>
        </p:spPr>
      </p:pic>
      <p:pic>
        <p:nvPicPr>
          <p:cNvPr id="7" name="0" descr="The U.S. Department of Education"/>
          <p:cNvPicPr/>
          <p:nvPr/>
        </p:nvPicPr>
        <p:blipFill>
          <a:blip r:embed="rId5"/>
          <a:stretch/>
        </p:blipFill>
        <p:spPr>
          <a:xfrm>
            <a:off x="5257800" y="5943600"/>
            <a:ext cx="369576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39080" cy="76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rcRect l="5679" t="32004" r="0" b="61183"/>
          <a:stretch/>
        </p:blipFill>
        <p:spPr>
          <a:xfrm>
            <a:off x="0" y="6400800"/>
            <a:ext cx="678168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676520" y="1219320"/>
            <a:ext cx="5584680" cy="3789360"/>
          </a:xfrm>
          <a:prstGeom prst="rect">
            <a:avLst/>
          </a:prstGeom>
          <a:ln w="0">
            <a:noFill/>
          </a:ln>
        </p:spPr>
      </p:pic>
      <p:pic>
        <p:nvPicPr>
          <p:cNvPr id="47" name="0" descr="The U.S. Department of Education"/>
          <p:cNvPicPr/>
          <p:nvPr/>
        </p:nvPicPr>
        <p:blipFill>
          <a:blip r:embed="rId5"/>
          <a:stretch/>
        </p:blipFill>
        <p:spPr>
          <a:xfrm>
            <a:off x="5181480" y="5791320"/>
            <a:ext cx="3695760" cy="533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23c8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666520" y="456840"/>
            <a:ext cx="627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390d5d"/>
                </a:solidFill>
                <a:latin typeface="Arial"/>
              </a:rPr>
              <a:t>Examples of transactions conducted electronically</a:t>
            </a:r>
            <a:br>
              <a:rPr sz="4000"/>
            </a:b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completes and signs a verification worksh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notifies a student that loan funds were credited to her account by sending e-mail message or posting the message on its websi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0F38E-98DE-4AD3-A7C9-67EFBD9DD5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66520" y="456840"/>
            <a:ext cx="627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90d5d"/>
                </a:solidFill>
                <a:latin typeface="Arial"/>
              </a:rPr>
              <a:t>Web session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ny online session where a student wishes to conduct a verification or authorization transaction, the entire session must be sec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ssion must be designed to produce a complete and accurate record of the transaction or activity condu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B6FCD-0FCA-4893-A4FB-F13B900AC4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666520" y="456840"/>
            <a:ext cx="627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90d5d"/>
                </a:solidFill>
                <a:latin typeface="Arial"/>
              </a:rPr>
              <a:t>Electronic record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retention requirements in 668.24 apply equally to paper and electronic rec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s for ensuring the accuracy, integrity, and accessibility of electronic rec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B42D4-B1A9-40DD-B68B-487A51947D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Tech Slide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47560" y="190476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ppreciate your feedback and comments.  We can be reach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ne: 202-377-40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x: 202-275-45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: john.kolotos@ed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09281-94A9-42E0-9124-B85FFBC648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ession 18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2819520"/>
            <a:ext cx="838188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13474"/>
                </a:solidFill>
                <a:latin typeface="Arial"/>
              </a:rPr>
              <a:t>Conducting Title IV program Transactions Electronical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D0718-B0E0-453C-BF6E-DE89DD5D50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90d5d"/>
                </a:solidFill>
                <a:latin typeface="Arial"/>
              </a:rPr>
              <a:t>Background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Signatures in Global and National Commerce Act (E-Sig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al equivalence between paper records and electronic records and with pen and ink signatures and electronic sign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dance for conducting Title IV loan transactions electronically: GEN-01-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B7A8D-F351-4185-8B4A-DCDB7F5497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90d5d"/>
                </a:solidFill>
                <a:latin typeface="Arial"/>
              </a:rPr>
              <a:t>E-Sign and </a:t>
            </a:r>
            <a:br>
              <a:rPr sz="4000"/>
            </a:br>
            <a:r>
              <a:rPr b="1" i="1" lang="en-US" sz="4000" spc="-1" strike="noStrike">
                <a:solidFill>
                  <a:srgbClr val="390d5d"/>
                </a:solidFill>
                <a:latin typeface="Arial"/>
              </a:rPr>
              <a:t>the Title IV program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chool may use electronic records and signatures for any provision that requi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chool to provide or make available written information to a student or par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udent or parent to authorize, certify, or sign a docu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61EA3-3D8A-4EB3-B7AC-69D92D1AFB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90d5d"/>
                </a:solidFill>
                <a:latin typeface="Arial"/>
              </a:rPr>
              <a:t>Consumer Consent under E-Sign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chool must obtain a student’s consent before conducting transactions electronical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nt, or confirmation of consent, must be obtained electronic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67BBC-9A64-4C5E-8A3A-514F941F74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90d5d"/>
                </a:solidFill>
                <a:latin typeface="Arial"/>
              </a:rPr>
              <a:t>Overview of Electronic Proces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ing an identity credential (password or PIN) to a stu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enticating and using the credential to conduct a transaction electronic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ing an electronic signature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30516-AA4C-4914-BF75-8DCD824B57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90d5d"/>
                </a:solidFill>
                <a:latin typeface="Arial"/>
              </a:rPr>
              <a:t>Identity Credential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rm the student’s identity through an independent sou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ver the credential by mail or in another secur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steps to protect the credent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B0A73-E41E-4A37-BF00-04A03F7362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90d5d"/>
                </a:solidFill>
                <a:latin typeface="Arial"/>
              </a:rPr>
              <a:t>Authenticating and using a credential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information entered by a student with information maintained in the school’s system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dential may be used to obtain access to a secure website (or page) to get  information or complete a transaction electronical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1E7EF-340B-46E3-B8DC-AD9EBCE78C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90d5d"/>
                </a:solidFill>
                <a:latin typeface="Arial"/>
              </a:rPr>
              <a:t>Electronic Signature Proces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N/Password is part of the process – its used to identify and authenticate the student as the source of the recor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also establish that the student intended to sign a particular recor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E6423-B7C9-428A-9374-5368843402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18:53:46Z</dcterms:created>
  <dc:creator>Jeanne Henderson</dc:creator>
  <dc:description/>
  <dc:language>en-US</dc:language>
  <cp:lastModifiedBy>Dept. of Education</cp:lastModifiedBy>
  <cp:lastPrinted>2002-09-20T18:59:28Z</cp:lastPrinted>
  <dcterms:modified xsi:type="dcterms:W3CDTF">2002-12-12T15:49:37Z</dcterms:modified>
  <cp:revision>6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09312546</vt:r8>
  </property>
  <property fmtid="{D5CDD505-2E9C-101B-9397-08002B2CF9AE}" pid="3" name="_AuthorEmail">
    <vt:lpwstr>WideGa@ncs.com</vt:lpwstr>
  </property>
  <property fmtid="{D5CDD505-2E9C-101B-9397-08002B2CF9AE}" pid="4" name="_AuthorEmailDisplayName">
    <vt:lpwstr>Widel, Gary</vt:lpwstr>
  </property>
  <property fmtid="{D5CDD505-2E9C-101B-9397-08002B2CF9AE}" pid="5" name="_EmailSubject">
    <vt:lpwstr>2002 Presentation and Instructions</vt:lpwstr>
  </property>
  <property fmtid="{D5CDD505-2E9C-101B-9397-08002B2CF9AE}" pid="6" name="_PreviousAdHocReviewCycleID">
    <vt:r8>2074826488</vt:r8>
  </property>
</Properties>
</file>