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62DA-865B-4A13-8B9E-1E67C29C0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4967-7321-4A9C-B48B-90A162D5A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BD3E-A42E-4F6A-92F7-5B9E935CE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B289-DB85-4B3E-83D2-4E013E09A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6BBB-BFA7-46BB-A1FB-967D18843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ADA1-0A8E-4637-A1B1-620F562EF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3547-530B-4EE2-B19F-E8B93291D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3009-3066-4185-9CC9-C679ECAD8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8B96-902E-4D34-AB55-ABC074C9C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CD42-3E5C-4DE3-BC8D-880C38A9E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AD8A-7C54-4F50-BB87-7131624A5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6739-9B96-421E-B61F-00A519D4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 17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turn of Unearned Aid – Institu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mount disbur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ount 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al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ercentage not 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AE14-B5B4-4CDF-B127-B918DF9381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742680"/>
            <a:ext cx="5821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turn of Title IV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85680"/>
            <a:ext cx="833616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amount of unearned title IV aid - Amount institution is required to return = Amount for which the student is respon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turns his or her share to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IV loan programs in accordance with the terms of the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IV grant programs as an overpayment (only up to 50% of the amount of the overpay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65E1-1786-4CA9-B8EC-267AA6B33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58215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turn of Title IV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sponsibility,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IV grant over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mains title IV elig. thru 45 days, if the stud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ys the overpayment in full to the institu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repayment arrangements satisfactory to the institution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 repayment agreement w/ the Secretary which will include terms that permit continued elig. while in repa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E771-D13D-4C32-B92E-709F3F9A9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turn of Title IV fun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) Loans                    2.) Grants (&amp;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ed. Unsubsidized              -F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ed. Subsidized                   -FSE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Perkins                         -Other titl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 must return the funds AS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t no later than 30 days after th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itution determines withdrawal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7931-D9D6-4D43-A231-E12D41A2F6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turn of funds (con’t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must determine the withdrawal date (for a student who does not provide notification)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no later than 30 days after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expiration of the earlier of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P or P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he academic year,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he educational progra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BC4F-10D4-4949-8AC3-4C90220048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Post-Withdrawal Dis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redit for institutional char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an funds to be credited - notify borrower because borrower can cancel or reduce lo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credited - offer to student (with written notification) within 30 days of institution’s determination of withdraw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int has 14 days to ac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chool can choose to make disbursement after that, if there is a late accep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8A02-E73A-4589-8256-B52338EBA6F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Post-Withdrawal Disburs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tten notification --                                - identifies the title IV funds not credited to account,                                                          - explains the ability of the student to accept or decline, and                                                               - advises about the 14 day deadline for the student to respond. (Then 120 days to disb. – up from 90 day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or written notification regarding the outcome of a post-withdrawal disbursement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3502-34AC-4DEC-BC0E-071553CA99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Crediting the student’s accou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. may credit the student’s acct., without permission, to satisfy charges (prior to the WD) f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&amp;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- if contracted with the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m - if contracted with the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obtaining authorization - may cre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harges for educationally relat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prior yr.. charges that are either less than $100, or if paid, will not prevent the payment of current education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D98B-2541-43D5-B6EB-41305638C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Rescinding withdrawal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notice required of student that          - he is continuing in academic activities,       - and intends to complete the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ed if student subsequently ceases to attend prior to the end of                                          -- the payment period or                                -- the period of enroll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5887-A905-4D1E-8E76-0C9D06F8CF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Approved leave of absence (LOA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, 2002 final regulations – the sum of the total number of days in an approved LOA cannot exceed 180 days within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. must collect the student’s reason for the requested L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policy that the student and institution fo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39E0-C78E-44B3-B27C-F30FC0FA5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1752480"/>
            <a:ext cx="708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RETURN OF TITLE IV F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- back to th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A650-4575-4AF3-B70A-9C2F804DE08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Leave of absence (con’t)</a:t>
            </a: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e expectation that the student will be able to return (and the student must return by the end of the leave of absence or the student is treated as a withdrawa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institutional charges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is permitted to complete the  cours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tell Title IV loan recipient that failure to return will affect grac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D20A-6309-49C9-9CCE-9AFAE6704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Institutional Char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non-term program, where the treatment of title IV aid is calculated on a PP basi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nstitutional charges are for a period longer than the PP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the amount of institutional charges incurred for the PP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the pro rated amount of the charges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the amount of title IV aid retain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char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AEE1-2176-4E86-92CA-3EEE2B71A1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tudent’s Overpayment (con’t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n overpay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ains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(generally) for 45 d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ntil he fails to meet term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epayment agre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yond the 45days, if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pays in full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ters into repayment agre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ither the inst or the secretary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7F5B-7125-495B-BCC8-0E676BFE29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Consumer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 must provide information about the return of title IV funds when a student withdraws per S 668.44 (.43 in new re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668.43 requires information abou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ny refund policy with which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 is required to comp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requirements for officially withdraw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summary of requirements of S 668.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9E37-ADEC-4E02-9FD9-03E287B751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have been disbursed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disbursement provisions of 668.164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ceived SAR/ISIR w/ EFC changed to “the Secretary processed a SAR/ISIR w/ an official EFC”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FEL/DL loan was certified/orig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erkins/FSEOG aid was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 of enrollment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cademic period for which charges are assessed, i.e., the program or academic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9E1D-3C5D-4C76-BF55-78D28B44BA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Definitions con’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 institution determines withdraw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or a student whose rescission of his notification to withdraw is negated by the fact that he subsequently stops attending the institu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the date the institution becomes aware that the student did not or will not complete the PP or PO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5FAC-30F1-496D-88BE-FCC3D9BA91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Definitions con’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 institution determines withdraw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when student does not return from leave of absenc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earlier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--the expiration of the le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the date the student notifies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institution that he w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t be retu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3F48-0ACA-44E5-A3FB-801DA2B518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Definitions con’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 institution determines withdraw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or a student whose rescission of his notification to withdraw is negated by the fact that he subsequently stops attending the institu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the date the institution becomes aware that the student did not or will not complete the PP or PO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8012-4965-4E7D-B7B1-9D0834C223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mple calcul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ome examples in your hando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: Credit-hour - Bella Do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Clock-hour – Wanna Go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8E14-EF73-4A94-992F-ED64C73D9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 ??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BE09-96D1-47C4-897D-47F09CFD48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When is R2T4 applicable?</a:t>
            </a: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tudent begins class &amp; then ceases enrollment prior to the scheduled end of the payment period or period of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udent never established eligibility, all the TIV funds must be returned (see 34 CFR 668.21, 682.604(d)(3) or (4), &amp; 685.303(b)(3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73B6-D67A-489A-A480-D51AD802DA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Your presenter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Klock, Acting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ovisions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-377-40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.klock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69A1-45B5-4A8B-9B1B-19DAFD5C07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What happens when a student withdraws?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the “required to take attendance” or “NOT required to take attendance” rules are appli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ithdrawal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mount student earned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n’t include FWS or the non-Federal share of FSEOG.) (Include amounts that w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have been disburse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I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unearned funds to Title IV program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student post-withdrawal disbur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E922-C14B-4470-95AB-E128AE517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Withdrawal date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(inst. req’d to take attendance –668.22(b)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W! If an outside entity has a requirement, as determined by the entity, that the institution must take attend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ate as determined by attendance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must document withdrawal 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 those who cease attendanc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 return from leave of abs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85CB-7626-41B3-B742-EDF810701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Withdrawal date </a:t>
            </a:r>
            <a:br>
              <a:rPr sz="4000"/>
            </a:b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(attendance taking not required 668.22(c)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tudent began withdrawal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student otherwise provided official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point of PP or Period Of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institution determines illness, accident grievous personal loss, etc.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leave of absen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date at an academically relate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4D5B-A8EF-4D33-8E7F-8EBA5BAA4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PP or PO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 based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payment period (P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term based or non-standard term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period or period of enrollment (PO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term or non-standard term based program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itution must consistently use either a PP or POE for all students (in a category) in a particular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5CA1-7176-44AA-906B-53AB6C844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% Earned</a:t>
            </a: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dit hour programs, 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endar days* comple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* except inst. scheduled breaks of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 days* in the perio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5 consecutive days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lock hour programs, 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ck hours completed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hours in the period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ock hours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hours in the period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f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70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Excused absences are NOT counted in the 70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DAA7-87BE-49A1-8501-8A7B6DEE2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Calculation of amount of aid to be retur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he % of the payment period or period of enrollment completed (or 100% once the student completes &gt;60%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id that was disbursed or could have been disbursed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earned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earned amount from the aid disbursed as of the date of the institution’s determination that the student withd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17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59F4-ACD8-4972-950F-365075FB8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45:05Z</dcterms:modified>
  <cp:revision>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51562301</vt:r8>
  </property>
  <property fmtid="{D5CDD505-2E9C-101B-9397-08002B2CF9AE}" pid="3" name="_AuthorEmail">
    <vt:lpwstr>Tammy_Martin@ncs.com</vt:lpwstr>
  </property>
  <property fmtid="{D5CDD505-2E9C-101B-9397-08002B2CF9AE}" pid="4" name="_AuthorEmailDisplayName">
    <vt:lpwstr>Martin, Tammy</vt:lpwstr>
  </property>
  <property fmtid="{D5CDD505-2E9C-101B-9397-08002B2CF9AE}" pid="5" name="_EmailSubject">
    <vt:lpwstr>R2T4 EAC Session</vt:lpwstr>
  </property>
</Properties>
</file>