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FD2-F525-4968-9003-E045BE45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532-F9C4-4813-BC40-12168DD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61B-850E-491F-B795-A9F1343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6E8-83B7-48CF-A76A-EE08D18D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97F-B373-482D-9B8D-80A9825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C04-69A5-4958-9D86-7DD3CB2E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2D1-C75E-477C-92B3-DC0734D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6B4-D3CA-4F47-B7C5-22FD091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0FB-2ECA-4884-A0D5-8C2BFD95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2A1-9077-461F-962F-33C3AF7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8FA-17D2-465A-AD2C-06093830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4D5-B1C2-4D88-9BB1-5126670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CF4-5B9E-41E3-BF44-697E0132E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mbudsman.ed.gov/consolidation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mbudsman.ed.gov/" TargetMode="External"/><Relationship Id="rId2" Type="http://schemas.openxmlformats.org/officeDocument/2006/relationships/hyperlink" Target="http://www.ombudsman.ed.gov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1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ing the Student Loan Ombudsman Cauc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ilitating Creative Solutions for Student Loan Problems and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ce Bartini, American Student Assistance Corp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ra Wiley, Federal Student Aid, U.S. Department of Edu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 Benefi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cus Members Commit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ng as a voice for fair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ing with student loan stakeholders and the government to promote positive change in the student loan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from complaints and problems that impact student loan borrowers, and prevent them when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F0D-E131-45DE-83BC-2C53A33043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838080"/>
            <a:ext cx="937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.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600200"/>
            <a:ext cx="876312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provide an in-agency escalation process fo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roblems remain, students call Federal Student Aid Ombudsman at 1-(877) 557-25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Student Aid Ombudsman will work with the studen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Student Aid Ombudsman and Caucus member will use the situation to inform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A13-322C-49A1-BE1C-8FE5A23FCE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chools Benefi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resources to assist borrowers during enrollment, or after they leave your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, student, agency and Federal Student Aid Ombudsman work together to research and resolve an individual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 on the individual situation informs the whole.   For exampl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5CD-DE90-41E9-A86E-1EFF580C9D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se Analysis and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s Identification and Reporting = Collaborative Resolution =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Student Aid Ombudsman groups cases in 16 basic issue categ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and Individual Agency Reports Are Produced Annu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Loan Ombudsman Caucus can concentrate on select issue categories, and compare agency experiences to Federal Student Aid Ombudsma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122-8F02-4F25-9676-566FAB2D8D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9480" y="8380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d Sch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i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rment/Forbear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905120"/>
            <a:ext cx="4572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A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n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S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ayment Plans/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Eli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 Refund/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5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or Example…..The Basic Categories Help Define Where Difficulties Aris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A6A-C20F-42CC-AB2F-2B30A0FEE7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04920"/>
            <a:ext cx="761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 5 Research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193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ly, the top 5 issues accounted for about 60% of the Federal Student Ombudsman research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, the top 5 issues account for about 70% of research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n Cancellation/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ayment Plans/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100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6E0-39AA-470E-9E05-5B76793E4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685800" y="611280"/>
          <a:ext cx="7848720" cy="52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1280"/>
                    <a:ext cx="7848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B63-513F-486A-AE22-11F3325CD1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he Caucus Can Concentrate An Issue Review………….For Exampl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olidation Is The Number One Issue for Federal Student Aid Ombudsman Cases in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Assist in Resolving Questions About Consolidation at Their Agen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ve Information Promotes Compliance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and Federal Student Aid Ombudsman Use Case Questions To Inform Student Consumer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ombudsman.ed.gov/consolidatio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981-C6A7-489A-8668-AA1A1E0EF6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aucus Can Commit to Effective Problem Resolut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ucus commitment promotes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, and consistent customer ser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on-sense appro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ve sol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ve review of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786-C5D7-4C04-9263-FDE8DFD30F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the customer tell the full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understand the customer’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the customer your undivided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circumstances in context of the customer’s specif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realistic time frames for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information to check internal systems and escala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6094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or Example…….Reminders From a Caucu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382-ED2A-4CA9-A2A5-DA82CD0A3A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ackground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Ombudsm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8 - Federal Student Aid Ombudsman established by HEA Amend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9 – First case accepted (erroneous defaul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– More than 17,000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BDC-3B2A-42C4-A8E6-D91D99E55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5257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25909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5407"/>
                </a:solidFill>
                <a:latin typeface="Verdana"/>
              </a:rPr>
              <a:t>Shall We Try It?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oup Resolution of c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2A-1E5B-4E32-A098-A76E27AC7E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251460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5407"/>
                </a:solidFill>
                <a:latin typeface="Verdana"/>
              </a:rPr>
              <a:t>What’s Next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882-F21C-453F-9661-4D242054A2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648400" y="21574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5400" y="2311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3960" y="2479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8640" y="13716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9760" y="497664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1160" y="497988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69600" y="5468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8280" y="54738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4880" y="5468760"/>
            <a:ext cx="317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223344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27800" y="3686040"/>
            <a:ext cx="175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4440" y="1596960"/>
            <a:ext cx="3819600" cy="33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37240" y="251604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Lo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960" y="2781360"/>
            <a:ext cx="204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94200" y="3027240"/>
            <a:ext cx="1527120" cy="297000"/>
            <a:chOff x="3994200" y="3027240"/>
            <a:chExt cx="1527120" cy="297000"/>
          </a:xfrm>
        </p:grpSpPr>
        <p:sp>
          <p:nvSpPr>
            <p:cNvPr id="253" name=""/>
            <p:cNvSpPr/>
            <p:nvPr/>
          </p:nvSpPr>
          <p:spPr>
            <a:xfrm>
              <a:off x="399420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26120" y="302724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12880" y="1393920"/>
            <a:ext cx="7508880" cy="445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68560" y="3027240"/>
            <a:ext cx="1525680" cy="297000"/>
            <a:chOff x="3868560" y="3027240"/>
            <a:chExt cx="1525680" cy="297000"/>
          </a:xfrm>
        </p:grpSpPr>
        <p:sp>
          <p:nvSpPr>
            <p:cNvPr id="257" name=""/>
            <p:cNvSpPr/>
            <p:nvPr/>
          </p:nvSpPr>
          <p:spPr>
            <a:xfrm>
              <a:off x="415908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68560" y="302724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884840" y="1647720"/>
            <a:ext cx="8920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91840" y="18032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0400" y="196992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02200" y="350676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9560" y="36608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120" y="382896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4840" y="38116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91840" y="3965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90400" y="41338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483080" y="2997360"/>
            <a:ext cx="297000" cy="1909440"/>
            <a:chOff x="4483080" y="2997360"/>
            <a:chExt cx="297000" cy="1909440"/>
          </a:xfrm>
        </p:grpSpPr>
        <p:sp>
          <p:nvSpPr>
            <p:cNvPr id="272" name=""/>
            <p:cNvSpPr/>
            <p:nvPr/>
          </p:nvSpPr>
          <p:spPr>
            <a:xfrm>
              <a:off x="4587840" y="299736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83080" y="461016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56000" y="533520"/>
            <a:ext cx="517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aucus In A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69C-CE6F-4CBD-A92D-F05F89BE3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8380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676520"/>
            <a:ext cx="9220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rong problem identification, resolution, and change recomme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ill help encourage and promo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ution versu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on instead of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ＭＳ Ｐゴシック"/>
              </a:rPr>
              <a:t>Benefits Predicted from Caucus Activities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54E-CB6F-435B-B688-384ED431D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ppreciate your feedback and comments. Contact 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ce Bartini, Ombuds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erican Student Assistance Corp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800) 999-9080 , ext 45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artini@ams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ra Wiley, Ombudsman, Federal Student Aid, U.S. Department of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:  (202) 377-3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simile:  (202) 275-054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site: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ombudsman.ed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g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mail:  debra.wiley@ed.g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6CC-583F-44DA-BB0B-F9DDFD862C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1999 - 200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Ombudsman and Agency Conta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9 - Designated High Level Contacts at Guarantor and Lender Agencies Assist With Case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1 – First Annual Meeting of Ombudsman Conta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6 –Student Loan Ombudsman Caucus Char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–Caucus Oper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A9D-640A-461F-8D07-1B69078B9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6680" y="853920"/>
            <a:ext cx="5924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aucus Emerg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5440" y="18241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9360" y="211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9360" y="23083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360" y="250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698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2894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9360" y="30877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9360" y="328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9360" y="34783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367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38685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4064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9360" y="42591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4454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9360" y="46497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360" y="48448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8640" y="504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9200" y="5303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60040" y="5303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42840" y="5303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54040" y="5310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9360" y="55926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9360" y="3395520"/>
            <a:ext cx="1782720" cy="152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17080" y="3660840"/>
            <a:ext cx="71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32040" y="3887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 A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1360" y="412128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mbuds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9360" y="4121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76480" y="2936880"/>
            <a:ext cx="763560" cy="635040"/>
            <a:chOff x="2976480" y="2936880"/>
            <a:chExt cx="763560" cy="635040"/>
          </a:xfrm>
        </p:grpSpPr>
        <p:sp>
          <p:nvSpPr>
            <p:cNvPr id="77" name=""/>
            <p:cNvSpPr/>
            <p:nvPr/>
          </p:nvSpPr>
          <p:spPr>
            <a:xfrm>
              <a:off x="3173400" y="3090960"/>
              <a:ext cx="371520" cy="328680"/>
            </a:xfrm>
            <a:custGeom>
              <a:avLst/>
              <a:gdLst/>
              <a:ahLst/>
              <a:rect l="l" t="t" r="r" b="b"/>
              <a:pathLst>
                <a:path w="234" h="207">
                  <a:moveTo>
                    <a:pt x="0" y="166"/>
                  </a:moveTo>
                  <a:lnTo>
                    <a:pt x="34" y="207"/>
                  </a:lnTo>
                  <a:lnTo>
                    <a:pt x="234" y="40"/>
                  </a:lnTo>
                  <a:lnTo>
                    <a:pt x="20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6480" y="3268800"/>
              <a:ext cx="324000" cy="303120"/>
            </a:xfrm>
            <a:custGeom>
              <a:avLst/>
              <a:gdLst/>
              <a:ahLst/>
              <a:rect l="l" t="t" r="r" b="b"/>
              <a:pathLst>
                <a:path w="204" h="191">
                  <a:moveTo>
                    <a:pt x="84" y="0"/>
                  </a:moveTo>
                  <a:lnTo>
                    <a:pt x="0" y="191"/>
                  </a:lnTo>
                  <a:lnTo>
                    <a:pt x="204" y="14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17840" y="2936880"/>
              <a:ext cx="322200" cy="304920"/>
            </a:xfrm>
            <a:custGeom>
              <a:avLst/>
              <a:gdLst/>
              <a:ahLst/>
              <a:rect l="l" t="t" r="r" b="b"/>
              <a:pathLst>
                <a:path w="203" h="192">
                  <a:moveTo>
                    <a:pt x="120" y="192"/>
                  </a:moveTo>
                  <a:lnTo>
                    <a:pt x="203" y="0"/>
                  </a:lnTo>
                  <a:lnTo>
                    <a:pt x="0" y="48"/>
                  </a:lnTo>
                  <a:lnTo>
                    <a:pt x="12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359160" y="3867120"/>
            <a:ext cx="1273320" cy="428760"/>
            <a:chOff x="3359160" y="3867120"/>
            <a:chExt cx="1273320" cy="428760"/>
          </a:xfrm>
        </p:grpSpPr>
        <p:sp>
          <p:nvSpPr>
            <p:cNvPr id="81" name=""/>
            <p:cNvSpPr/>
            <p:nvPr/>
          </p:nvSpPr>
          <p:spPr>
            <a:xfrm>
              <a:off x="3637080" y="3970440"/>
              <a:ext cx="715680" cy="222120"/>
            </a:xfrm>
            <a:custGeom>
              <a:avLst/>
              <a:gdLst/>
              <a:ahLst/>
              <a:rect l="l" t="t" r="r" b="b"/>
              <a:pathLst>
                <a:path w="451" h="140">
                  <a:moveTo>
                    <a:pt x="0" y="88"/>
                  </a:moveTo>
                  <a:lnTo>
                    <a:pt x="10" y="140"/>
                  </a:lnTo>
                  <a:lnTo>
                    <a:pt x="451" y="53"/>
                  </a:lnTo>
                  <a:lnTo>
                    <a:pt x="44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9160" y="4006800"/>
              <a:ext cx="318960" cy="289080"/>
            </a:xfrm>
            <a:custGeom>
              <a:avLst/>
              <a:gdLst/>
              <a:ahLst/>
              <a:rect l="l" t="t" r="r" b="b"/>
              <a:pathLst>
                <a:path w="201" h="182">
                  <a:moveTo>
                    <a:pt x="165" y="0"/>
                  </a:moveTo>
                  <a:lnTo>
                    <a:pt x="0" y="128"/>
                  </a:lnTo>
                  <a:lnTo>
                    <a:pt x="201" y="182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11720" y="3867120"/>
              <a:ext cx="320760" cy="2905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36" y="183"/>
                  </a:moveTo>
                  <a:lnTo>
                    <a:pt x="202" y="56"/>
                  </a:lnTo>
                  <a:lnTo>
                    <a:pt x="0" y="0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30640" y="4464000"/>
            <a:ext cx="1655640" cy="380520"/>
            <a:chOff x="3230640" y="4464000"/>
            <a:chExt cx="1655640" cy="380520"/>
          </a:xfrm>
        </p:grpSpPr>
        <p:sp>
          <p:nvSpPr>
            <p:cNvPr id="85" name=""/>
            <p:cNvSpPr/>
            <p:nvPr/>
          </p:nvSpPr>
          <p:spPr>
            <a:xfrm>
              <a:off x="3517920" y="4570200"/>
              <a:ext cx="1081080" cy="166320"/>
            </a:xfrm>
            <a:custGeom>
              <a:avLst/>
              <a:gdLst/>
              <a:ahLst/>
              <a:rect l="l" t="t" r="r" b="b"/>
              <a:pathLst>
                <a:path w="681" h="105">
                  <a:moveTo>
                    <a:pt x="0" y="52"/>
                  </a:moveTo>
                  <a:lnTo>
                    <a:pt x="4" y="105"/>
                  </a:lnTo>
                  <a:lnTo>
                    <a:pt x="681" y="53"/>
                  </a:lnTo>
                  <a:lnTo>
                    <a:pt x="67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30640" y="4547880"/>
              <a:ext cx="309600" cy="29664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180" y="0"/>
                  </a:moveTo>
                  <a:lnTo>
                    <a:pt x="0" y="108"/>
                  </a:lnTo>
                  <a:lnTo>
                    <a:pt x="195" y="187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8480" y="4464000"/>
              <a:ext cx="307800" cy="2966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15" y="187"/>
                  </a:moveTo>
                  <a:lnTo>
                    <a:pt x="194" y="79"/>
                  </a:lnTo>
                  <a:lnTo>
                    <a:pt x="0" y="0"/>
                  </a:lnTo>
                  <a:lnTo>
                    <a:pt x="1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30640" y="3301920"/>
            <a:ext cx="1147680" cy="540000"/>
            <a:chOff x="3230640" y="3301920"/>
            <a:chExt cx="1147680" cy="540000"/>
          </a:xfrm>
        </p:grpSpPr>
        <p:sp>
          <p:nvSpPr>
            <p:cNvPr id="89" name=""/>
            <p:cNvSpPr/>
            <p:nvPr/>
          </p:nvSpPr>
          <p:spPr>
            <a:xfrm>
              <a:off x="3483000" y="3397320"/>
              <a:ext cx="641160" cy="349200"/>
            </a:xfrm>
            <a:custGeom>
              <a:avLst/>
              <a:gdLst/>
              <a:ahLst/>
              <a:rect l="l" t="t" r="r" b="b"/>
              <a:pathLst>
                <a:path w="404" h="220">
                  <a:moveTo>
                    <a:pt x="0" y="170"/>
                  </a:moveTo>
                  <a:lnTo>
                    <a:pt x="19" y="220"/>
                  </a:lnTo>
                  <a:lnTo>
                    <a:pt x="404" y="50"/>
                  </a:lnTo>
                  <a:lnTo>
                    <a:pt x="386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30640" y="3570480"/>
              <a:ext cx="333360" cy="271440"/>
            </a:xfrm>
            <a:custGeom>
              <a:avLst/>
              <a:gdLst/>
              <a:ahLst/>
              <a:rect l="l" t="t" r="r" b="b"/>
              <a:pathLst>
                <a:path w="210" h="171">
                  <a:moveTo>
                    <a:pt x="134" y="0"/>
                  </a:moveTo>
                  <a:lnTo>
                    <a:pt x="0" y="161"/>
                  </a:lnTo>
                  <a:lnTo>
                    <a:pt x="210" y="17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4960" y="3301920"/>
              <a:ext cx="333360" cy="271800"/>
            </a:xfrm>
            <a:custGeom>
              <a:avLst/>
              <a:gdLst/>
              <a:ahLst/>
              <a:rect l="l" t="t" r="r" b="b"/>
              <a:pathLst>
                <a:path w="210" h="171">
                  <a:moveTo>
                    <a:pt x="76" y="171"/>
                  </a:moveTo>
                  <a:lnTo>
                    <a:pt x="210" y="10"/>
                  </a:lnTo>
                  <a:lnTo>
                    <a:pt x="0" y="0"/>
                  </a:lnTo>
                  <a:lnTo>
                    <a:pt x="7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40040" y="2300400"/>
            <a:ext cx="892440" cy="76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5960" y="245412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4160" y="26226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4440" y="262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0680" y="255600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6240" y="27082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4800" y="2876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5080" y="28764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7760" y="344664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63320" y="359892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880" y="376704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800" y="3767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1560" y="433692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8920" y="4489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7480" y="4657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5960" y="4657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880" y="2200320"/>
            <a:ext cx="7508880" cy="34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FAF-145D-4AE2-96A4-9812E70CA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48400" y="21574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55400" y="2311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3960" y="2479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13716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9760" y="497664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1160" y="497988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9600" y="5468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8280" y="54738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24880" y="5468760"/>
            <a:ext cx="317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3344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7800" y="3686040"/>
            <a:ext cx="175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4440" y="1596960"/>
            <a:ext cx="3819600" cy="33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251604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Lo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6960" y="2781360"/>
            <a:ext cx="204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94200" y="3027240"/>
            <a:ext cx="1527120" cy="297000"/>
            <a:chOff x="3994200" y="3027240"/>
            <a:chExt cx="1527120" cy="297000"/>
          </a:xfrm>
        </p:grpSpPr>
        <p:sp>
          <p:nvSpPr>
            <p:cNvPr id="153" name=""/>
            <p:cNvSpPr/>
            <p:nvPr/>
          </p:nvSpPr>
          <p:spPr>
            <a:xfrm>
              <a:off x="399420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6120" y="302724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2880" y="1393920"/>
            <a:ext cx="7508880" cy="445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868560" y="3027240"/>
            <a:ext cx="1525680" cy="297000"/>
            <a:chOff x="3868560" y="3027240"/>
            <a:chExt cx="1525680" cy="297000"/>
          </a:xfrm>
        </p:grpSpPr>
        <p:sp>
          <p:nvSpPr>
            <p:cNvPr id="157" name=""/>
            <p:cNvSpPr/>
            <p:nvPr/>
          </p:nvSpPr>
          <p:spPr>
            <a:xfrm>
              <a:off x="415908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8560" y="302724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884840" y="1647720"/>
            <a:ext cx="8920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1840" y="18032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0400" y="196992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2200" y="350676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9560" y="36608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120" y="382896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84840" y="38116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3965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0400" y="41338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83080" y="2997360"/>
            <a:ext cx="297000" cy="1909440"/>
            <a:chOff x="4483080" y="2997360"/>
            <a:chExt cx="297000" cy="1909440"/>
          </a:xfrm>
        </p:grpSpPr>
        <p:sp>
          <p:nvSpPr>
            <p:cNvPr id="172" name=""/>
            <p:cNvSpPr/>
            <p:nvPr/>
          </p:nvSpPr>
          <p:spPr>
            <a:xfrm>
              <a:off x="4587840" y="299736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3080" y="461016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6000" y="533520"/>
            <a:ext cx="517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aucus In A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4AD-58B5-44BF-AD83-CA0A2483D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y a Caucu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ed Student Aid Problem Resolution Networ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s Consistent Use of Ombudsman “Best Practices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ed Training and Men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Trends Identification, Analysis and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C12-871D-4C4E-941D-B12B982CA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erly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ittee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s’ ListSer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4AC-ED1D-4F88-A5C2-36257DE1DA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cus Member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ll available information to recommend and promote areas of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e membership on areas of  mutual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individual and collective reports to analyze potential for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BAD-A342-4CBC-968D-3DAFE130C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gency ombudsman works to resolve problems identified through the Federal Student Aid Ombudsman or from within the ag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Caucus member, the agency ombudsman participates in the discussion of student loan issues, feedback on student aid legislation, case trend analysis and recommendations for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218-BB8D-4BB8-9704-B348FD85B9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3:35Z</dcterms:modified>
  <cp:revision>243</cp:revision>
  <dc:subject/>
  <dc:title>PowerPoint Presentation</dc:title>
</cp:coreProperties>
</file>