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617-9BFD-44E0-A83C-6ECDF890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95E-CEA8-41DB-95B7-4FDE7C1C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F21-712F-41E6-9218-F5843F2A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AEE-CAB4-478E-B386-5B95BC50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8E6-B1B3-43BD-BFAE-06D03CEF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C83-D41E-4EC4-A1A2-557F0E44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0BB-E9A7-4AFD-9523-0FD4F90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056-2C20-426F-9CDE-5F950E5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312-C0BE-4AAF-8207-76C6F505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D04-41EE-4F1F-AA23-E23676D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03F-D75F-4DFD-BAAA-5B405B1F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C91-3BD4-4D7A-8BA3-7DDCE68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E29F-1DE7-4239-A437-2218FBC9D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mbudsman.ed.gov/consolidation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mbudsman.ed.gov/" TargetMode="External"/><Relationship Id="rId2" Type="http://schemas.openxmlformats.org/officeDocument/2006/relationships/hyperlink" Target="http://www.ombudsman.ed.gov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1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ing the Student Loan Ombudsman Caucu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ilitating Creative Solutions for Student Loan Problems and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ce Bartini, American Student Assistance Corp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ra Wiley, Federal Student Aid, U.S. Department of Edu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tudents Benefi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ucus Members Commit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ng as a voice for fair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ing with student loan stakeholders and the government to promote positive change in the student loan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 from complaints and problems that impact student loan borrowers, and prevent them when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F5A-C6F4-4687-88D7-8137775E9E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838080"/>
            <a:ext cx="9372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…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.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tudents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600200"/>
            <a:ext cx="876312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cus members provide an in-agency escalation process fo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roblems remain, students call Federal Student Aid Ombudsman at 1-(877) 557-25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Student Aid Ombudsman will work with the studen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Student Aid Ombudsman and Caucus member will use the situation to inform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639-14B0-4E0D-9BC9-FC237E437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 Schools Benefi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resources to assist borrowers during enrollment, or after they leave your camp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, student, agency and Federal Student Aid Ombudsman work together to research and resolve an individual qu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come on the individual situation informs the whole.   For example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574-BFE3-4CDD-9FE4-C366F67E69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ase Analysis and Report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s Identification and Reporting = Collaborative Resolution =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deral Student Aid Ombudsman groups cases in 16 basic issue categ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and Individual Agency Reports Are Produced Annu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Loan Ombudsman Caucus can concentrate on select issue categories, and compare agency experiences to Federal Student Aid Ombudsman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5D3-774F-4919-8494-19FA95C6C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09480" y="8380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unt Bal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rupt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d Sch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ion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oli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dit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rment/Forbear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905120"/>
            <a:ext cx="4572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SA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n Canc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S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ayment Plans/Am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Elig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x Refund/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304560" y="9907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or Example…..The Basic Categories Help Define Where Difficulties Aris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F8B-8FB8-4F3F-98CA-3F27D4F0A3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304920"/>
            <a:ext cx="7619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p 5 Research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2193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ly, the top 5 issues accounted for about 60% of the Federal Student Ombudsman research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, the top 5 issues account for about 70% of research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n Cancellation/Dis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oun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ayment Plans/Am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100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9C4-64EC-4B16-A225-DAF06157F9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685800" y="611280"/>
          <a:ext cx="7848720" cy="52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1280"/>
                    <a:ext cx="7848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AA5-40F7-4DAA-9565-184D9F5501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he Caucus Can Concentrate An Issue Review………….For Exampl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olidation Is The Number One Issue for Federal Student Aid Ombudsman Cases in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cus Members Assist in Resolving Questions About Consolidation at Their Agen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ve Information Promotes Compliance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cus Members and Federal Student Aid Ombudsman Use Case Questions To Inform Student Consumer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www.ombudsman.ed.gov/consolidation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A30-2A4A-42C2-AE59-9EDFE7DF8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aucus Can Commit to Effective Problem Resolut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ucus commitment promotes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, and consistent customer ser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on-sense approa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ve sol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ive review of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C6F-E951-463B-B937-1D4899B832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 the customer tell the full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y to understand the customer’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the customer your undivided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circumstances in context of the customer’s specific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 realistic time frames for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information to check internal systems and escalatio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6094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or Example…….Reminders From a Caucu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8B9-495D-4D05-9980-017452AA1E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ackground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Ombudsm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8 - Federal Student Aid Ombudsman established by HEA Amend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9 – First case accepted (erroneous defaul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 – More than 17,000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249-E68C-4735-AC50-C5099BABB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5257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25909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5407"/>
                </a:solidFill>
                <a:latin typeface="Verdana"/>
              </a:rPr>
              <a:t>Shall We Try It?</a:t>
            </a:r>
            <a:br>
              <a:rPr sz="5400"/>
            </a:b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oup Resolution of ca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6A3-DA80-4F24-8923-66CFC01943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251460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5407"/>
                </a:solidFill>
                <a:latin typeface="Verdana"/>
              </a:rPr>
              <a:t>What’s Next…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989-647D-4A84-A463-4141A14169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648400" y="21574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55400" y="23115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53960" y="24796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92440" y="247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8640" y="13716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9360" y="166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9360" y="185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9360" y="205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9360" y="224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9360" y="24400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360" y="2635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9360" y="283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9360" y="302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9360" y="322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9360" y="341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9360" y="361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3807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40021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9360" y="419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9360" y="439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9360" y="458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9360" y="478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9760" y="497664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udent Aid Industry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1160" y="4979880"/>
            <a:ext cx="386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Trends, Issues, Training, Outreach, and Commun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29520" y="4976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8640" y="517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69600" y="5468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8280" y="54738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4880" y="5468760"/>
            <a:ext cx="317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 Directional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5120" y="5468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2233440"/>
            <a:ext cx="2801880" cy="247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6720" y="26384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26720" y="2900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6720" y="3160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26720" y="34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27800" y="3686040"/>
            <a:ext cx="175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SA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66600" y="3686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84440" y="1596960"/>
            <a:ext cx="3819600" cy="33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4240" y="2124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0920" y="2317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37240" y="251604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Lo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6960" y="2781360"/>
            <a:ext cx="204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mbudsman Ca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3320" y="27813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94200" y="3027240"/>
            <a:ext cx="1527120" cy="297000"/>
            <a:chOff x="3994200" y="3027240"/>
            <a:chExt cx="1527120" cy="297000"/>
          </a:xfrm>
        </p:grpSpPr>
        <p:sp>
          <p:nvSpPr>
            <p:cNvPr id="253" name=""/>
            <p:cNvSpPr/>
            <p:nvPr/>
          </p:nvSpPr>
          <p:spPr>
            <a:xfrm>
              <a:off x="399420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26120" y="302724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0" y="187"/>
                  </a:moveTo>
                  <a:lnTo>
                    <a:pt x="186" y="94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12880" y="1393920"/>
            <a:ext cx="7508880" cy="445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68560" y="3027240"/>
            <a:ext cx="1525680" cy="297000"/>
            <a:chOff x="3868560" y="3027240"/>
            <a:chExt cx="1525680" cy="297000"/>
          </a:xfrm>
        </p:grpSpPr>
        <p:sp>
          <p:nvSpPr>
            <p:cNvPr id="257" name=""/>
            <p:cNvSpPr/>
            <p:nvPr/>
          </p:nvSpPr>
          <p:spPr>
            <a:xfrm>
              <a:off x="415908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68560" y="3027240"/>
              <a:ext cx="29556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86" y="0"/>
                  </a:moveTo>
                  <a:lnTo>
                    <a:pt x="0" y="94"/>
                  </a:lnTo>
                  <a:lnTo>
                    <a:pt x="186" y="187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884840" y="1647720"/>
            <a:ext cx="8920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91840" y="18032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0400" y="196992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28880" y="1969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02200" y="3506760"/>
            <a:ext cx="8938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9560" y="36608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120" y="382896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48040" y="382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84840" y="38116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91840" y="39654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90400" y="41338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28880" y="4133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483080" y="2997360"/>
            <a:ext cx="297000" cy="1909440"/>
            <a:chOff x="4483080" y="2997360"/>
            <a:chExt cx="297000" cy="1909440"/>
          </a:xfrm>
        </p:grpSpPr>
        <p:sp>
          <p:nvSpPr>
            <p:cNvPr id="272" name=""/>
            <p:cNvSpPr/>
            <p:nvPr/>
          </p:nvSpPr>
          <p:spPr>
            <a:xfrm>
              <a:off x="4587840" y="2997360"/>
              <a:ext cx="85680" cy="161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83080" y="4610160"/>
              <a:ext cx="29700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94" y="187"/>
                  </a:lnTo>
                  <a:lnTo>
                    <a:pt x="1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56000" y="533520"/>
            <a:ext cx="517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A Student Loan Ombuds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aucus In Ac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757-6EC7-4D20-8FD2-4D8DBB948F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3000" y="83808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1676520"/>
            <a:ext cx="9220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-prong problem identification, resolution, and change recomme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ill help encourage and promo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ution versus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on instead of cor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  <a:ea typeface="ＭＳ Ｐゴシック"/>
              </a:rPr>
              <a:t>Benefits Predicted from Caucus Activities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F27-CEAF-401A-BC2B-4267E2311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ppreciate your feedback and comments. Contact 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ce Bartini, Ombuds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erican Student Assistance Corp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800) 999-9080 , ext 45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artini@ams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ra Wiley, Ombudsman, Federal Student Aid, U.S. Department of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:  (202) 377-38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simile:  (202) 275-054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site: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ombudsman.ed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g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mail:  debra.wiley@ed.g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745-BEE9-4E21-A17A-331CF6D188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1999 - 200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Student Aid Ombudsman and Agency Conta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9 - Designated High Level Contacts at Guarantor and Lender Agencies Assist With Case Re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1 – First Annual Meeting of Ombudsman Contac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6 –Student Loan Ombudsman Caucus Char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 –Caucus Oper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68E-CD38-479C-9ABF-44715D6B72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6680" y="853920"/>
            <a:ext cx="5924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A Student Loan Ombuds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aucus Emerg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5440" y="18241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9360" y="21128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9360" y="23083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9360" y="25034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9360" y="2698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28940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9360" y="30877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9360" y="32828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9360" y="34783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9360" y="36734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38685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9360" y="40640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9360" y="42591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9360" y="4454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9360" y="46497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9360" y="48448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8640" y="50436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9200" y="5303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60040" y="5303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42840" y="5303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54040" y="5310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9360" y="55926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9360" y="3395520"/>
            <a:ext cx="1782720" cy="152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17080" y="3660840"/>
            <a:ext cx="71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32040" y="3887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ent A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1360" y="412128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mbuds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9360" y="4121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76480" y="2936880"/>
            <a:ext cx="763560" cy="635040"/>
            <a:chOff x="2976480" y="2936880"/>
            <a:chExt cx="763560" cy="635040"/>
          </a:xfrm>
        </p:grpSpPr>
        <p:sp>
          <p:nvSpPr>
            <p:cNvPr id="77" name=""/>
            <p:cNvSpPr/>
            <p:nvPr/>
          </p:nvSpPr>
          <p:spPr>
            <a:xfrm>
              <a:off x="3173400" y="3090960"/>
              <a:ext cx="371520" cy="328680"/>
            </a:xfrm>
            <a:custGeom>
              <a:avLst/>
              <a:gdLst/>
              <a:ahLst/>
              <a:rect l="l" t="t" r="r" b="b"/>
              <a:pathLst>
                <a:path w="234" h="207">
                  <a:moveTo>
                    <a:pt x="0" y="166"/>
                  </a:moveTo>
                  <a:lnTo>
                    <a:pt x="34" y="207"/>
                  </a:lnTo>
                  <a:lnTo>
                    <a:pt x="234" y="40"/>
                  </a:lnTo>
                  <a:lnTo>
                    <a:pt x="200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76480" y="3268800"/>
              <a:ext cx="324000" cy="303120"/>
            </a:xfrm>
            <a:custGeom>
              <a:avLst/>
              <a:gdLst/>
              <a:ahLst/>
              <a:rect l="l" t="t" r="r" b="b"/>
              <a:pathLst>
                <a:path w="204" h="191">
                  <a:moveTo>
                    <a:pt x="84" y="0"/>
                  </a:moveTo>
                  <a:lnTo>
                    <a:pt x="0" y="191"/>
                  </a:lnTo>
                  <a:lnTo>
                    <a:pt x="204" y="14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17840" y="2936880"/>
              <a:ext cx="322200" cy="304920"/>
            </a:xfrm>
            <a:custGeom>
              <a:avLst/>
              <a:gdLst/>
              <a:ahLst/>
              <a:rect l="l" t="t" r="r" b="b"/>
              <a:pathLst>
                <a:path w="203" h="192">
                  <a:moveTo>
                    <a:pt x="120" y="192"/>
                  </a:moveTo>
                  <a:lnTo>
                    <a:pt x="203" y="0"/>
                  </a:lnTo>
                  <a:lnTo>
                    <a:pt x="0" y="48"/>
                  </a:lnTo>
                  <a:lnTo>
                    <a:pt x="12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359160" y="3867120"/>
            <a:ext cx="1273320" cy="428760"/>
            <a:chOff x="3359160" y="3867120"/>
            <a:chExt cx="1273320" cy="428760"/>
          </a:xfrm>
        </p:grpSpPr>
        <p:sp>
          <p:nvSpPr>
            <p:cNvPr id="81" name=""/>
            <p:cNvSpPr/>
            <p:nvPr/>
          </p:nvSpPr>
          <p:spPr>
            <a:xfrm>
              <a:off x="3637080" y="3970440"/>
              <a:ext cx="715680" cy="222120"/>
            </a:xfrm>
            <a:custGeom>
              <a:avLst/>
              <a:gdLst/>
              <a:ahLst/>
              <a:rect l="l" t="t" r="r" b="b"/>
              <a:pathLst>
                <a:path w="451" h="140">
                  <a:moveTo>
                    <a:pt x="0" y="88"/>
                  </a:moveTo>
                  <a:lnTo>
                    <a:pt x="10" y="140"/>
                  </a:lnTo>
                  <a:lnTo>
                    <a:pt x="451" y="53"/>
                  </a:lnTo>
                  <a:lnTo>
                    <a:pt x="44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9160" y="4006800"/>
              <a:ext cx="318960" cy="289080"/>
            </a:xfrm>
            <a:custGeom>
              <a:avLst/>
              <a:gdLst/>
              <a:ahLst/>
              <a:rect l="l" t="t" r="r" b="b"/>
              <a:pathLst>
                <a:path w="201" h="182">
                  <a:moveTo>
                    <a:pt x="165" y="0"/>
                  </a:moveTo>
                  <a:lnTo>
                    <a:pt x="0" y="128"/>
                  </a:lnTo>
                  <a:lnTo>
                    <a:pt x="201" y="182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11720" y="3867120"/>
              <a:ext cx="320760" cy="2905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36" y="183"/>
                  </a:moveTo>
                  <a:lnTo>
                    <a:pt x="202" y="56"/>
                  </a:lnTo>
                  <a:lnTo>
                    <a:pt x="0" y="0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230640" y="4464000"/>
            <a:ext cx="1655640" cy="380520"/>
            <a:chOff x="3230640" y="4464000"/>
            <a:chExt cx="1655640" cy="380520"/>
          </a:xfrm>
        </p:grpSpPr>
        <p:sp>
          <p:nvSpPr>
            <p:cNvPr id="85" name=""/>
            <p:cNvSpPr/>
            <p:nvPr/>
          </p:nvSpPr>
          <p:spPr>
            <a:xfrm>
              <a:off x="3517920" y="4570200"/>
              <a:ext cx="1081080" cy="166320"/>
            </a:xfrm>
            <a:custGeom>
              <a:avLst/>
              <a:gdLst/>
              <a:ahLst/>
              <a:rect l="l" t="t" r="r" b="b"/>
              <a:pathLst>
                <a:path w="681" h="105">
                  <a:moveTo>
                    <a:pt x="0" y="52"/>
                  </a:moveTo>
                  <a:lnTo>
                    <a:pt x="4" y="105"/>
                  </a:lnTo>
                  <a:lnTo>
                    <a:pt x="681" y="53"/>
                  </a:lnTo>
                  <a:lnTo>
                    <a:pt x="67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30640" y="4547880"/>
              <a:ext cx="309600" cy="29664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180" y="0"/>
                  </a:moveTo>
                  <a:lnTo>
                    <a:pt x="0" y="108"/>
                  </a:lnTo>
                  <a:lnTo>
                    <a:pt x="195" y="187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8480" y="4464000"/>
              <a:ext cx="307800" cy="2966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15" y="187"/>
                  </a:moveTo>
                  <a:lnTo>
                    <a:pt x="194" y="79"/>
                  </a:lnTo>
                  <a:lnTo>
                    <a:pt x="0" y="0"/>
                  </a:lnTo>
                  <a:lnTo>
                    <a:pt x="1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230640" y="3301920"/>
            <a:ext cx="1147680" cy="540000"/>
            <a:chOff x="3230640" y="3301920"/>
            <a:chExt cx="1147680" cy="540000"/>
          </a:xfrm>
        </p:grpSpPr>
        <p:sp>
          <p:nvSpPr>
            <p:cNvPr id="89" name=""/>
            <p:cNvSpPr/>
            <p:nvPr/>
          </p:nvSpPr>
          <p:spPr>
            <a:xfrm>
              <a:off x="3483000" y="3397320"/>
              <a:ext cx="641160" cy="349200"/>
            </a:xfrm>
            <a:custGeom>
              <a:avLst/>
              <a:gdLst/>
              <a:ahLst/>
              <a:rect l="l" t="t" r="r" b="b"/>
              <a:pathLst>
                <a:path w="404" h="220">
                  <a:moveTo>
                    <a:pt x="0" y="170"/>
                  </a:moveTo>
                  <a:lnTo>
                    <a:pt x="19" y="220"/>
                  </a:lnTo>
                  <a:lnTo>
                    <a:pt x="404" y="50"/>
                  </a:lnTo>
                  <a:lnTo>
                    <a:pt x="386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30640" y="3570480"/>
              <a:ext cx="333360" cy="271440"/>
            </a:xfrm>
            <a:custGeom>
              <a:avLst/>
              <a:gdLst/>
              <a:ahLst/>
              <a:rect l="l" t="t" r="r" b="b"/>
              <a:pathLst>
                <a:path w="210" h="171">
                  <a:moveTo>
                    <a:pt x="134" y="0"/>
                  </a:moveTo>
                  <a:lnTo>
                    <a:pt x="0" y="161"/>
                  </a:lnTo>
                  <a:lnTo>
                    <a:pt x="210" y="17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4960" y="3301920"/>
              <a:ext cx="333360" cy="271800"/>
            </a:xfrm>
            <a:custGeom>
              <a:avLst/>
              <a:gdLst/>
              <a:ahLst/>
              <a:rect l="l" t="t" r="r" b="b"/>
              <a:pathLst>
                <a:path w="210" h="171">
                  <a:moveTo>
                    <a:pt x="76" y="171"/>
                  </a:moveTo>
                  <a:lnTo>
                    <a:pt x="210" y="10"/>
                  </a:lnTo>
                  <a:lnTo>
                    <a:pt x="0" y="0"/>
                  </a:lnTo>
                  <a:lnTo>
                    <a:pt x="7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740040" y="2300400"/>
            <a:ext cx="892440" cy="766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5960" y="245412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4160" y="26226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84440" y="2622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30680" y="255600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6240" y="270828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34800" y="28764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5080" y="28764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7760" y="344664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63320" y="359892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1880" y="376704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800" y="3767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11560" y="4336920"/>
            <a:ext cx="8938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8920" y="44895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7480" y="46576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5960" y="4657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2880" y="2200320"/>
            <a:ext cx="7508880" cy="34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C60-4FFC-463A-A650-C2C8C55971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48400" y="21574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55400" y="23115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3960" y="24796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92440" y="247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13716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9360" y="166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9360" y="185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9360" y="205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9360" y="224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9360" y="24400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9360" y="2635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9360" y="2830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9360" y="302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9360" y="322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360" y="341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360" y="361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9360" y="3807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9360" y="40021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9360" y="41958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9360" y="4390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9360" y="45864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9360" y="47815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9760" y="497664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tudent Aid Industry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51160" y="4979880"/>
            <a:ext cx="386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Trends, Issues, Training, Outreach, and Commun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29520" y="497664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8640" y="517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69600" y="54687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8280" y="54738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24880" y="5468760"/>
            <a:ext cx="317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 Directional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5120" y="54687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33440"/>
            <a:ext cx="2801880" cy="247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6720" y="26384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26720" y="2900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26720" y="3160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6720" y="34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7800" y="3686040"/>
            <a:ext cx="175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SA Ombu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66600" y="3686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4440" y="1596960"/>
            <a:ext cx="3819600" cy="33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4240" y="2124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0920" y="2317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251604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Lo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6960" y="2781360"/>
            <a:ext cx="204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mbudsman Ca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3320" y="27813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994200" y="3027240"/>
            <a:ext cx="1527120" cy="297000"/>
            <a:chOff x="3994200" y="3027240"/>
            <a:chExt cx="1527120" cy="297000"/>
          </a:xfrm>
        </p:grpSpPr>
        <p:sp>
          <p:nvSpPr>
            <p:cNvPr id="153" name=""/>
            <p:cNvSpPr/>
            <p:nvPr/>
          </p:nvSpPr>
          <p:spPr>
            <a:xfrm>
              <a:off x="399420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6120" y="302724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0" y="187"/>
                  </a:moveTo>
                  <a:lnTo>
                    <a:pt x="186" y="94"/>
                  </a:lnTo>
                  <a:lnTo>
                    <a:pt x="0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12880" y="1393920"/>
            <a:ext cx="7508880" cy="445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868560" y="3027240"/>
            <a:ext cx="1525680" cy="297000"/>
            <a:chOff x="3868560" y="3027240"/>
            <a:chExt cx="1525680" cy="297000"/>
          </a:xfrm>
        </p:grpSpPr>
        <p:sp>
          <p:nvSpPr>
            <p:cNvPr id="157" name=""/>
            <p:cNvSpPr/>
            <p:nvPr/>
          </p:nvSpPr>
          <p:spPr>
            <a:xfrm>
              <a:off x="4159080" y="3132000"/>
              <a:ext cx="12351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8560" y="3027240"/>
              <a:ext cx="29556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86" y="0"/>
                  </a:moveTo>
                  <a:lnTo>
                    <a:pt x="0" y="94"/>
                  </a:lnTo>
                  <a:lnTo>
                    <a:pt x="186" y="187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884840" y="1647720"/>
            <a:ext cx="8920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1840" y="18032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90400" y="196992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28880" y="1969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2200" y="3506760"/>
            <a:ext cx="893880" cy="76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9560" y="36608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120" y="382896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48040" y="382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84840" y="3811680"/>
            <a:ext cx="89208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39654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90400" y="413388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8880" y="4133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83080" y="2997360"/>
            <a:ext cx="297000" cy="1909440"/>
            <a:chOff x="4483080" y="2997360"/>
            <a:chExt cx="297000" cy="1909440"/>
          </a:xfrm>
        </p:grpSpPr>
        <p:sp>
          <p:nvSpPr>
            <p:cNvPr id="172" name=""/>
            <p:cNvSpPr/>
            <p:nvPr/>
          </p:nvSpPr>
          <p:spPr>
            <a:xfrm>
              <a:off x="4587840" y="2997360"/>
              <a:ext cx="85680" cy="161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3080" y="4610160"/>
              <a:ext cx="29700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94" y="187"/>
                  </a:lnTo>
                  <a:lnTo>
                    <a:pt x="18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6000" y="533520"/>
            <a:ext cx="517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A Student Loan Ombuds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aucus In Ac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AB6-B8BB-47D0-BEBA-F39AFDF0ED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y a Caucu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hanced Student Aid Problem Resolution Networ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es Consistent Use of Ombudsman “Best Practices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geted Training and Men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Trends Identification, Analysis and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6B5-9B38-438A-B0A2-A46AACDCF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The Caucus Operat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terly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ittee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bers’ ListSer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A75-EEF2-4AAA-855B-5EAAAEC35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960" y="762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the Caucus Operat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ucus Member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ll available information to recommend and promote areas of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se membership on areas of  mutual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individual and collective reports to analyze potential for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719-0D7E-444F-9FA6-E44D8AA85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…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the Caucus Operat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gency ombudsman works to resolve problems identified through the Federal Student Aid Ombudsman or from within the ag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Caucus member, the agency ombudsman participates in the discussion of student loan issues, feedback on student aid legislation, case trend analysis and recommendations for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EBE-6102-4F99-B718-8E2E629C14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13:35Z</dcterms:modified>
  <cp:revision>243</cp:revision>
  <dc:subject/>
  <dc:title>PowerPoint Presentation</dc:title>
</cp:coreProperties>
</file>