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51A03-B0E6-4F0A-8AB3-2599C420EE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72432-D9F6-4C9A-AFE5-53D6F842CA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09B87-5F4F-400E-A2F5-0FCAF95024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B105B-B264-4356-B6E3-3EAB79C88C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B9067-448A-4758-B578-2444664DD8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42720-99E2-4333-A0A0-1F3FB8537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23B1E-20E5-4F30-AA10-98DA160556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B0E60-BE0B-4F71-A7A8-509C918D36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789AD-49AA-47C4-B036-7C02EECED2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2D628-30C0-47AF-BC07-D90708121E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E1995-954F-4CBA-B4D2-773156A005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E3F41-2E9A-4857-B4A0-128C57251E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23c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C7F8-4A35-44EC-966A-C217C275E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7620120" cy="533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rcRect l="0" t="31673" r="0" b="54484"/>
          <a:stretch/>
        </p:blipFill>
        <p:spPr>
          <a:xfrm>
            <a:off x="0" y="6553080"/>
            <a:ext cx="7696080" cy="3049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59080" cy="1600200"/>
          </a:xfrm>
          <a:prstGeom prst="rect">
            <a:avLst/>
          </a:prstGeom>
          <a:ln w="0">
            <a:noFill/>
          </a:ln>
        </p:spPr>
      </p:pic>
      <p:pic>
        <p:nvPicPr>
          <p:cNvPr id="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257800" y="5943600"/>
            <a:ext cx="369576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76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5679" t="32004" r="0" b="61183"/>
          <a:stretch/>
        </p:blipFill>
        <p:spPr>
          <a:xfrm>
            <a:off x="0" y="6400800"/>
            <a:ext cx="678168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676520" y="1219320"/>
            <a:ext cx="5584680" cy="3789360"/>
          </a:xfrm>
          <a:prstGeom prst="rect">
            <a:avLst/>
          </a:prstGeom>
          <a:ln w="0">
            <a:noFill/>
          </a:ln>
        </p:spPr>
      </p:pic>
      <p:pic>
        <p:nvPicPr>
          <p:cNvPr id="4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181480" y="5791320"/>
            <a:ext cx="3695760" cy="533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3c8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742840" y="22824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at should you do next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320" y="129528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 thinking about who you would like to be your eZ-Audit Institution Administra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 discussions with your aud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the possibility of your auditor completing the data entry in eZ-Aud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the possibility of your auditor providing you with your audit electronically, in non-editable pdf forma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y posted to IFAP for registration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ecurity purposes, you will be asked to mail in registration information on your school’s letterhead.  The information requested will inclu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13474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and email address of your eZ-Audit Institution Administ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13474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13474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 and Fax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13474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scal Year End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13474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 eZ-Audit in the PC Lab and review the FAQ document distributed to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7D0F7-1B28-47BE-870A-FD86A5DC61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Questions/Comment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ppreciate your feedback and comments.  If we did not address all of your questions in this session, please visit us in the lab or contact Ti Baker 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: Ti Baker at 202-377-31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: fsaezaudit@ed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57C80-7A84-4E7C-A4DC-6D02611F30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ssion 16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2819520"/>
            <a:ext cx="8381880" cy="23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13474"/>
                </a:solidFill>
                <a:latin typeface="Arial"/>
              </a:rPr>
              <a:t>eZ-Audit – Electronic Submission of Financial Statements and Compliance Aud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0425E-C988-40A2-B185-4185830A42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3720" y="53316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at is eZ-Audit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0773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w, web-based, single point of submission for financial statements and compliance au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designee from each school will simply sign on to eZ-Audit, enter summary audit and financial data into a web form, attach an electronic version of the report, and hit the submit butt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3809880"/>
            <a:ext cx="8153280" cy="15242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67080" y="30481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713474"/>
          </a:solidFill>
          <a:ln w="9360">
            <a:solidFill>
              <a:srgbClr val="713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82EF1-134B-4D52-91A8-717EA334F5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23720" y="15192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y eZ-Audit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you know that FSA receives over 13,000 financial statements and compliance audits annually (that’s over 1 million individual pieces of paper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you ever been told that your financial statement and/or compliance audit has been lo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you ever just wanted to know the status of your repor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56272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13474"/>
                </a:solidFill>
                <a:latin typeface="Times New Roman"/>
              </a:rPr>
              <a:t>- eZ-Audit will finally create an easy to use, efficient process for submission!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9947D-34DD-4184-B830-3881D1DC22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How does eZ-Audit work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basics steps to eZ-Aud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s submit their compliance audit data and summary financial data, via an internet web-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s also attach an electronic copy of their financial statement and compliance audit in a non-editable pdf format (using Adobe Acroba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Z-Audit system automatically forwards flagged financials and deficient audits to FSA’s Case Management Teams for re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Teams communicate with schools to reach re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desired, Schools periodically check eZ-Audit for the status of their rep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76766-7FF3-495B-9261-00880355C4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at are the benefits to eZ-Audit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75248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forms will contain pre-populated fiel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ew reporting requirements, data entry will be limited to the same data already contained in the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-line form completion should take less than 1 ho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will provide automatic error checking prior to submi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nt acknowledgement of receipt – no more lost report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pying and mailing cost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ility to remediate findings prior to next year’s submission, thus reducing the possibility of repeat find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 of submissions accessible online 24/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Desk available to provide as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E35F5-344E-4C0F-A37A-AB8C5FB3B6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23720" y="15192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at is the timeline for eZ-Audit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914400" y="1295280"/>
            <a:ext cx="7513200" cy="4647960"/>
            <a:chOff x="914400" y="1295280"/>
            <a:chExt cx="7513200" cy="4647960"/>
          </a:xfrm>
        </p:grpSpPr>
        <p:sp>
          <p:nvSpPr>
            <p:cNvPr id="102" name=""/>
            <p:cNvSpPr/>
            <p:nvPr/>
          </p:nvSpPr>
          <p:spPr>
            <a:xfrm>
              <a:off x="7629120" y="1886040"/>
              <a:ext cx="479160" cy="4044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64320" y="1904400"/>
              <a:ext cx="479160" cy="40266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198120" y="1910520"/>
              <a:ext cx="479160" cy="40266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20000" y="1910520"/>
              <a:ext cx="479160" cy="40266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261680" y="1898280"/>
              <a:ext cx="479160" cy="4044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93560" y="1923120"/>
              <a:ext cx="479160" cy="3989520"/>
            </a:xfrm>
            <a:prstGeom prst="rect">
              <a:avLst/>
            </a:prstGeom>
            <a:noFill/>
            <a:ln w="648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51880" y="1923120"/>
              <a:ext cx="479160" cy="3989520"/>
            </a:xfrm>
            <a:prstGeom prst="rect">
              <a:avLst/>
            </a:prstGeom>
            <a:noFill/>
            <a:ln w="648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10200" y="1923120"/>
              <a:ext cx="479160" cy="3989520"/>
            </a:xfrm>
            <a:prstGeom prst="rect">
              <a:avLst/>
            </a:prstGeom>
            <a:noFill/>
            <a:ln w="648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14400" y="1516680"/>
              <a:ext cx="1437480" cy="2030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Q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719720"/>
              <a:ext cx="479160" cy="2030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93560" y="1719720"/>
              <a:ext cx="479160" cy="2030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72720" y="1719720"/>
              <a:ext cx="479160" cy="2030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351880" y="1516680"/>
              <a:ext cx="1437480" cy="2030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Q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51880" y="1719720"/>
              <a:ext cx="479160" cy="2030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31040" y="1719720"/>
              <a:ext cx="479160" cy="2030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10200" y="1719720"/>
              <a:ext cx="479160" cy="2030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89360" y="1516680"/>
              <a:ext cx="1437480" cy="2030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Q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89360" y="1719720"/>
              <a:ext cx="479160" cy="2030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68520" y="1719720"/>
              <a:ext cx="479160" cy="2030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47680" y="1719720"/>
              <a:ext cx="479160" cy="2030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26840" y="1516680"/>
              <a:ext cx="1437480" cy="2030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Q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26840" y="1719720"/>
              <a:ext cx="479160" cy="2030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06000" y="1719720"/>
              <a:ext cx="479160" cy="2030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85160" y="1719720"/>
              <a:ext cx="479160" cy="2030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20520" y="1295280"/>
              <a:ext cx="5749920" cy="2214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6200000">
              <a:off x="-767160" y="3757680"/>
              <a:ext cx="38419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46800" bIns="46800" anchor="t" vert="eaVert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1055880" y="1960200"/>
              <a:ext cx="23940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2093760" y="2329200"/>
              <a:ext cx="239400" cy="20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039040" y="2337120"/>
              <a:ext cx="239580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buClr>
                  <a:srgbClr val="99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Times New Roman"/>
                </a:rPr>
                <a:t>Requirements 3/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>
              <a:off x="2990520" y="3097080"/>
              <a:ext cx="2394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3156840" y="3068280"/>
              <a:ext cx="232236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buClr>
                  <a:srgbClr val="ff00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reliminary Design 5/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95080" y="3290040"/>
              <a:ext cx="223560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0000"/>
                </a:lnSpc>
                <a:buClr>
                  <a:srgbClr val="ff00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Functional Design 7/1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14400" y="3629880"/>
              <a:ext cx="391320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0000"/>
                </a:lnSpc>
                <a:buClr>
                  <a:srgbClr val="ff00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Tech Arch Design &amp; HTML Prototype </a:t>
              </a:r>
              <a:r>
                <a:rPr b="1" i="1" lang="en-US" sz="1400" spc="-1" strike="noStrike">
                  <a:solidFill>
                    <a:srgbClr val="ff0066"/>
                  </a:solidFill>
                  <a:latin typeface="Times New Roman"/>
                </a:rPr>
                <a:t>8/1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8028720" y="5190840"/>
              <a:ext cx="239400" cy="20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393160" y="5212080"/>
              <a:ext cx="287496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efa9ef"/>
                  </a:solidFill>
                  <a:latin typeface="Times New Roman"/>
                </a:rPr>
                <a:t>Application Delivery 4/1/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14000" y="4317840"/>
              <a:ext cx="21560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00cc00"/>
                  </a:solidFill>
                  <a:uFillTx/>
                  <a:latin typeface="Arial"/>
                </a:rPr>
                <a:t>Application Develop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53800" y="1960200"/>
              <a:ext cx="160380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buClr>
                  <a:srgbClr val="0033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Times New Roman"/>
                </a:rPr>
                <a:t>Kickoff  1/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5"/>
            <a:stretch/>
          </p:blipFill>
          <p:spPr>
            <a:xfrm>
              <a:off x="3948840" y="3299040"/>
              <a:ext cx="23940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6"/>
            <a:stretch/>
          </p:blipFill>
          <p:spPr>
            <a:xfrm>
              <a:off x="4416480" y="3599280"/>
              <a:ext cx="23940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7"/>
            <a:stretch/>
          </p:blipFill>
          <p:spPr>
            <a:xfrm>
              <a:off x="2511360" y="2550960"/>
              <a:ext cx="239400" cy="20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2278440" y="2577240"/>
              <a:ext cx="296136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buClr>
                  <a:srgbClr val="99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Times New Roman"/>
                </a:rPr>
                <a:t>Reqts Baselined 4/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51920" y="5578560"/>
              <a:ext cx="2995920" cy="2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80000"/>
                </a:lnSpc>
                <a:buClr>
                  <a:srgbClr val="0033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i="1" lang="en-US" sz="1100" spc="-1" strike="noStrike">
                  <a:solidFill>
                    <a:srgbClr val="003366"/>
                  </a:solidFill>
                  <a:latin typeface="Arial"/>
                </a:rPr>
                <a:t>- Indicates on schedule task comple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8"/>
            <a:stretch/>
          </p:blipFill>
          <p:spPr>
            <a:xfrm>
              <a:off x="5073480" y="3917880"/>
              <a:ext cx="239400" cy="20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5313240" y="3954960"/>
              <a:ext cx="223596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0000"/>
                </a:lnSpc>
                <a:buClr>
                  <a:srgbClr val="ff00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Master Test Plan  9/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6670800" y="1516680"/>
              <a:ext cx="1437120" cy="406080"/>
              <a:chOff x="6670800" y="1516680"/>
              <a:chExt cx="1437120" cy="406080"/>
            </a:xfrm>
          </p:grpSpPr>
          <p:sp>
            <p:nvSpPr>
              <p:cNvPr id="147" name=""/>
              <p:cNvSpPr/>
              <p:nvPr/>
            </p:nvSpPr>
            <p:spPr>
              <a:xfrm>
                <a:off x="6670800" y="1516680"/>
                <a:ext cx="1437120" cy="20304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Q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670800" y="1719720"/>
                <a:ext cx="478800" cy="20304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149600" y="1719720"/>
                <a:ext cx="478800" cy="20304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628760" y="1719720"/>
                <a:ext cx="478800" cy="20304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6670800" y="1295280"/>
              <a:ext cx="1437480" cy="2214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18600" y="2175480"/>
              <a:ext cx="20764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990000"/>
                  </a:solidFill>
                  <a:uFillTx/>
                  <a:latin typeface="Arial"/>
                </a:rPr>
                <a:t>Requirements Defini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917440" y="2914200"/>
              <a:ext cx="16768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ff0066"/>
                  </a:solidFill>
                  <a:uFillTx/>
                  <a:latin typeface="Arial"/>
                </a:rPr>
                <a:t>Application Desig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9"/>
            <a:stretch/>
          </p:blipFill>
          <p:spPr>
            <a:xfrm>
              <a:off x="6510960" y="4545720"/>
              <a:ext cx="239400" cy="20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4993560" y="4576680"/>
              <a:ext cx="167688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Times New Roman"/>
                </a:rPr>
                <a:t>Build 9/4 – 12/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10"/>
            <a:stretch/>
          </p:blipFill>
          <p:spPr>
            <a:xfrm>
              <a:off x="7469280" y="4841640"/>
              <a:ext cx="239400" cy="20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6111720" y="4841640"/>
              <a:ext cx="143748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efa9ef"/>
                  </a:solidFill>
                  <a:latin typeface="Times New Roman"/>
                </a:rPr>
                <a:t>Test 1/1 – 2/2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20520" y="5931360"/>
              <a:ext cx="718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14400" y="1935360"/>
              <a:ext cx="479160" cy="3989520"/>
            </a:xfrm>
            <a:prstGeom prst="rect">
              <a:avLst/>
            </a:prstGeom>
            <a:noFill/>
            <a:ln w="648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EBC3E-246B-4CDB-81A5-6B976F1D27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at does eZ-Audit look like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43920" y="2849400"/>
            <a:ext cx="622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Z-Audit Prototype Demonstrati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1B248-36D4-4708-A90F-137B4CEA4F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at will ez-Audit Self Service look like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320" y="1295280"/>
            <a:ext cx="914400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mission Statu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23920">
              <a:lnSpc>
                <a:spcPct val="90000"/>
              </a:lnSpc>
              <a:spcBef>
                <a:spcPts val="4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ual submission due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23920">
              <a:lnSpc>
                <a:spcPct val="90000"/>
              </a:lnSpc>
              <a:spcBef>
                <a:spcPts val="4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ual submission receipt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23920">
              <a:lnSpc>
                <a:spcPct val="90000"/>
              </a:lnSpc>
              <a:spcBef>
                <a:spcPts val="4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due no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23920">
              <a:lnSpc>
                <a:spcPct val="90000"/>
              </a:lnSpc>
              <a:spcBef>
                <a:spcPts val="4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SA Review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23920">
              <a:lnSpc>
                <a:spcPct val="90000"/>
              </a:lnSpc>
              <a:spcBef>
                <a:spcPts val="4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ncial Statement Revie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23920">
              <a:lnSpc>
                <a:spcPct val="90000"/>
              </a:lnSpc>
              <a:spcBef>
                <a:spcPts val="4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iance Audit 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23920">
              <a:lnSpc>
                <a:spcPct val="90000"/>
              </a:lnSpc>
              <a:spcBef>
                <a:spcPts val="4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ual Submission Completeness / Incomplete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Messages, to inclu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23920">
              <a:lnSpc>
                <a:spcPct val="90000"/>
              </a:lnSpc>
              <a:spcBef>
                <a:spcPts val="4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Audit Determination was sent on mm/dd/yyy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23920">
              <a:lnSpc>
                <a:spcPct val="90000"/>
              </a:lnSpc>
              <a:spcBef>
                <a:spcPts val="4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Request for a Letter of Credit has been sent to your institution.  The letter of Credit is due by mm/dd/yyy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23920">
              <a:lnSpc>
                <a:spcPct val="90000"/>
              </a:lnSpc>
              <a:spcBef>
                <a:spcPts val="4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Letter of Credit was received on mm/dd/yyy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23920">
              <a:lnSpc>
                <a:spcPct val="90000"/>
              </a:lnSpc>
              <a:spcBef>
                <a:spcPts val="4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(Merger/Change in Ownership, Reinstatement Submission, Initial Submission, Waiver Request, Stub Audit Submission, Change in Fiscal Year End Date, Closeout Audit) was received on mm/dd/yyy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1FE71-F5C7-432E-9907-0B287204B5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8:53:46Z</dcterms:created>
  <dc:creator>Jeanne Henderson</dc:creator>
  <dc:description/>
  <dc:language>en-US</dc:language>
  <cp:lastModifiedBy>Dept. of Education</cp:lastModifiedBy>
  <cp:lastPrinted>2002-09-20T18:59:28Z</cp:lastPrinted>
  <dcterms:modified xsi:type="dcterms:W3CDTF">2002-12-12T15:43:29Z</dcterms:modified>
  <cp:revision>3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09312546</vt:r8>
  </property>
  <property fmtid="{D5CDD505-2E9C-101B-9397-08002B2CF9AE}" pid="3" name="_AuthorEmail">
    <vt:lpwstr>WideGa@ncs.com</vt:lpwstr>
  </property>
  <property fmtid="{D5CDD505-2E9C-101B-9397-08002B2CF9AE}" pid="4" name="_AuthorEmailDisplayName">
    <vt:lpwstr>Widel, Gary</vt:lpwstr>
  </property>
  <property fmtid="{D5CDD505-2E9C-101B-9397-08002B2CF9AE}" pid="5" name="_EmailSubject">
    <vt:lpwstr>2002 Presentation and Instructions</vt:lpwstr>
  </property>
  <property fmtid="{D5CDD505-2E9C-101B-9397-08002B2CF9AE}" pid="6" name="_PreviousAdHocReviewCycleID">
    <vt:r8>2074826488</vt:r8>
  </property>
</Properties>
</file>