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15BC-6657-4942-AAE2-DAA38B05C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539F-DA6B-443C-BFA2-3F2EF1DB1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8823-B4BD-47AF-BD90-7FCA4C6C4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DEC3-FCF8-4FD7-BE60-CE50C8AEF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0A00-2857-4460-B7BF-68E3113A5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47BE-6CDB-463E-B9F9-CE3EB6861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4D32-B9D5-46A8-A832-674450C58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7029-247A-45E3-886B-0AE15985A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C0C0-6E68-4FB1-A5F0-416E5E7FE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0D9E-8C63-4C39-BD4C-E043258B9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11D2-7344-4A2F-A800-65FE03F18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06B7-0BB8-4A14-93CE-F4E06B014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16D-6D32-4AD0-A9F7-F5B6D524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should you do nex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thinking about who you would like to be your eZ-Audit Institution Administr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discussions with your au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ossibility of your auditor completing the data entry in eZ-Aud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ossibility of your auditor providing you with your audit electronically, in non-editable pdf form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posted to IFAP for registrat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curity purposes, you will be asked to mail in registration information on your school’s letterhead.  The information requested will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nd email address of your eZ-Audit Institution Administ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and Fax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cal Year En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eZ-Audit in the PC Lab and review the FAQ document distributed 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6E37-453A-4375-8593-F4A39EB6E2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/Com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If we did not address all of your questions in this session, please visit us in the lab or contact Ti Baker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Ti Baker at 202-377-31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fsaezaudit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85E6-4439-4324-9F4F-1EC5829E2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6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eZ-Audit – Electronic Submission of Financial Statements and Compliance Au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8747-9892-471F-9F83-820AB8476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, web-based, single point of submission for financial statements and compliance 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designee from each school will simply sign on to eZ-Audit, enter summary audit and financial data into a web form, attach an electronic version of the report, and hit the submit bu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9880"/>
            <a:ext cx="815328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30481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713474"/>
          </a:solidFill>
          <a:ln w="9360">
            <a:solidFill>
              <a:srgbClr val="7134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2C6A-FAD8-4342-A089-CD93C14AC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y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know that FSA receives over 13,000 financial statements and compliance audits annually (that’s over 1 million individual pieces of paper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been told that your financial statement and/or compliance audit has been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just wanted to know the status of your re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5627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13474"/>
                </a:solidFill>
                <a:latin typeface="Times New Roman"/>
              </a:rPr>
              <a:t>- eZ-Audit will finally create an easy to use, efficient process for submission!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5EA8-7069-412C-A0FC-DE99D76007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es eZ-Audit work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basics steps to eZ-Aud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submit their compliance audit data and summary financial data, via an internet web-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also attach an electronic copy of their financial statement and compliance audit in a non-editable pdf format (using Adobe Acroba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Z-Audit system automatically forwards flagged financials and deficient audits to FSA’s Case Management Teams for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eams communicate with schools to reach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esired, Schools periodically check eZ-Audit for the status of their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FF45-F5E4-4516-A0C4-F88426A5C1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are the benefits to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forms will contain pre-populated fiel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reporting requirements, data entry will be limited to the same data already contained in the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form completion should take less than 1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will provide automatic error checking prior to sub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acknowledgement of receipt – no more lost re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pying and mailing cos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remediate findings prior to next year’s submission, thus reducing the possibility of repeat fin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submissions accessible online 24/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available to provide as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E2B9-E101-49D7-BBD3-E1E8AD45B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the timeline for eZ-Audi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14400" y="1295280"/>
            <a:ext cx="7513200" cy="4647960"/>
            <a:chOff x="914400" y="1295280"/>
            <a:chExt cx="7513200" cy="4647960"/>
          </a:xfrm>
        </p:grpSpPr>
        <p:sp>
          <p:nvSpPr>
            <p:cNvPr id="102" name=""/>
            <p:cNvSpPr/>
            <p:nvPr/>
          </p:nvSpPr>
          <p:spPr>
            <a:xfrm>
              <a:off x="7629120" y="1886040"/>
              <a:ext cx="479160" cy="4044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4320" y="190440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98120" y="191052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20000" y="1910520"/>
              <a:ext cx="479160" cy="4026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61680" y="1898280"/>
              <a:ext cx="479160" cy="4044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356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5188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10200" y="192312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35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7272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5188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188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3104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102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936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93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852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4768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6840" y="1516680"/>
              <a:ext cx="143748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2684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0600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85160" y="1719720"/>
              <a:ext cx="479160" cy="203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0520" y="1295280"/>
              <a:ext cx="5749920" cy="22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-767160" y="3757680"/>
              <a:ext cx="3841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 vert="eaVert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055880" y="196020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093760" y="232920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039040" y="2337120"/>
              <a:ext cx="2395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Requirements 3/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2990520" y="3097080"/>
              <a:ext cx="2394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56840" y="3068280"/>
              <a:ext cx="2322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reliminary Design 5/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080" y="3290040"/>
              <a:ext cx="22356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Functional Design 7/1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14400" y="3629880"/>
              <a:ext cx="39132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Tech Arch Design &amp; HTML Prototype </a:t>
              </a:r>
              <a:r>
                <a:rPr b="1" i="1" lang="en-US" sz="1400" spc="-1" strike="noStrike">
                  <a:solidFill>
                    <a:srgbClr val="ff0066"/>
                  </a:solidFill>
                  <a:latin typeface="Times New Roman"/>
                </a:rPr>
                <a:t>8/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028720" y="51908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393160" y="5212080"/>
              <a:ext cx="2874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efa9ef"/>
                  </a:solidFill>
                  <a:latin typeface="Times New Roman"/>
                </a:rPr>
                <a:t>Application Delivery 4/1/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4000" y="4317840"/>
              <a:ext cx="2156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cc00"/>
                  </a:solidFill>
                  <a:uFillTx/>
                  <a:latin typeface="Arial"/>
                </a:rPr>
                <a:t>Application 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3800" y="1960200"/>
              <a:ext cx="1603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0033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Kickoff  1/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3948840" y="32990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4416480" y="359928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2511360" y="255096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78440" y="2577240"/>
              <a:ext cx="2961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buClr>
                  <a:srgbClr val="99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Reqts Baselined 4/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1920" y="5578560"/>
              <a:ext cx="299592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buClr>
                  <a:srgbClr val="0033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3366"/>
                  </a:solidFill>
                  <a:latin typeface="Arial"/>
                </a:rPr>
                <a:t>- Indicates on schedule task comple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073480" y="391788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313240" y="3954960"/>
              <a:ext cx="2235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aster Test Plan  9/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670800" y="1516680"/>
              <a:ext cx="1437120" cy="406080"/>
              <a:chOff x="6670800" y="1516680"/>
              <a:chExt cx="1437120" cy="406080"/>
            </a:xfrm>
          </p:grpSpPr>
          <p:sp>
            <p:nvSpPr>
              <p:cNvPr id="147" name=""/>
              <p:cNvSpPr/>
              <p:nvPr/>
            </p:nvSpPr>
            <p:spPr>
              <a:xfrm>
                <a:off x="6670800" y="1516680"/>
                <a:ext cx="143712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7080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960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8760" y="1719720"/>
                <a:ext cx="478800" cy="2030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6670800" y="1295280"/>
              <a:ext cx="1437480" cy="22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8600" y="2175480"/>
              <a:ext cx="20764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990000"/>
                  </a:solidFill>
                  <a:uFillTx/>
                  <a:latin typeface="Arial"/>
                </a:rPr>
                <a:t>Requirement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17440" y="2914200"/>
              <a:ext cx="1676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ff0066"/>
                  </a:solidFill>
                  <a:uFillTx/>
                  <a:latin typeface="Arial"/>
                </a:rPr>
                <a:t>Application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9"/>
            <a:stretch/>
          </p:blipFill>
          <p:spPr>
            <a:xfrm>
              <a:off x="6510960" y="454572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993560" y="4576680"/>
              <a:ext cx="1676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Times New Roman"/>
                </a:rPr>
                <a:t>Build 9/4 – 12/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0"/>
            <a:stretch/>
          </p:blipFill>
          <p:spPr>
            <a:xfrm>
              <a:off x="7469280" y="4841640"/>
              <a:ext cx="239400" cy="2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111720" y="4841640"/>
              <a:ext cx="1437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efa9ef"/>
                  </a:solidFill>
                  <a:latin typeface="Times New Roman"/>
                </a:rPr>
                <a:t>Test 1/1 – 2/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0520" y="5931360"/>
              <a:ext cx="718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935360"/>
              <a:ext cx="479160" cy="3989520"/>
            </a:xfrm>
            <a:prstGeom prst="rect">
              <a:avLst/>
            </a:prstGeom>
            <a:noFill/>
            <a:ln w="6480">
              <a:solidFill>
                <a:srgbClr val="b2b2b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D39C-3C60-4E34-AB65-C7064EEAA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does eZ-Audit look lik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43920" y="284940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Z-Audit Prototype Demonstr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77B2-9215-4AB3-97DB-7050B242A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will ez-Audit Self Service look lik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1295280"/>
            <a:ext cx="91440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 Stat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due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receipt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due 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A Review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Statement Revi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ance Audit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Submission Completeness / In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Messages, to incl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udit Determination was sent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quest for a Letter of Credit has been sent to your institution.  The letter of Credit is due by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Letter of Credit was received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23920">
              <a:lnSpc>
                <a:spcPct val="90000"/>
              </a:lnSpc>
              <a:spcBef>
                <a:spcPts val="4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(Merger/Change in Ownership, Reinstatement Submission, Initial Submission, Waiver Request, Stub Audit Submission, Change in Fiscal Year End Date, Closeout Audit) was received on mm/dd/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7BE0-CDA9-4DF7-AA5E-0098B5991D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43:29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