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2277-E8B4-4A7F-AE57-2EA53FAE9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5B19-C5E3-411E-8657-2C7168434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6E3D-A3F5-4215-B7A9-4251214F7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73E4-3EDA-4776-BBD1-249A2FD15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371B-7BE1-4476-9BE0-AA7822CEF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23A8F-6D96-434B-AEB8-EFB4F9216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E5DA-52F0-468F-A5CE-9CE8DD4FC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28B7C-3D47-4E1A-9444-B7A4BDFA4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28D9-5C80-4825-946F-8EA75C97A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BBB6-B5E6-4F84-BA2E-1447B1813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36A9-79FA-4E21-8026-D833DB790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19DB-0130-4471-A455-CE085F310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9A35-7C1A-46C0-BDC9-4A2D8A6C3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L - Tolerances Set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06" name="tolerance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17220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07CB-D9F1-4E7E-AA5F-07EA5E629B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228600"/>
            <a:ext cx="582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L - System Set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08" name="system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4572000" cy="4943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09680" y="4876920"/>
            <a:ext cx="57150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2F3D2-642E-4A82-9FAD-AA995C1994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irect Loan Ta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Loan Amount Requested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CPS Transaction Number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all “Batch ID” or “Batch #” field labels to “Document 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all “Promissory Note Status” field labels to “MPN Stat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d Disclosure Statement Print Indicator and Printed Field for PLUS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78F9-5E9D-4428-A986-55634D6761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irect Loan Ta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8336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Prom Note Information fields for PLUS Lo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Accepted Note ID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9BC67-5DD9-4B80-8F18-8E67BD8202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isbursement Ta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“Disbursement Release Indicator” (DRI) field to Edit-Only Disbursement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values from an Edit-Only Disbursement record to the Actual Disbursement grid when the DRI is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he First Disbursement flag from the Action Fields to the Edit-Only Disbursement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FA0F-112B-4060-BF02-43FB08A7E2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isbursement Ta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3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“Anticipated Disbursement” grid to “Edit-Only Disburse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dit-Only Disbursement is disabled when the Disbursement Release Indicator (DRI) is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“D” and “U” from the Action Typ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“Disbursement Confirmed”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FA11-F527-4F63-A0A9-3EB700F2B5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isbursement Ta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19" name="disb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392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383FE-4290-4BEC-9A61-E6E405356F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ultiple Entry</a:t>
            </a:r>
            <a:br>
              <a:rPr sz="4000"/>
            </a:b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523520"/>
            <a:ext cx="833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“MPN/Promissory Note Status” references to “MPN Stat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Direct Loan Confirma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losure Printed field can now b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responding Edit-Only Disbursement Release Indicator (DRI) flag will be checked (set to true) if a Disbursement Type of “D”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” changes from “Use Anticipated Disbursement” to “Update DRI to Tru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57C3-B3BF-4227-9F0A-C9CC103FB3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mport from EDExpress Modul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s to ISIR imports from Application Processing module to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s to Packaging loan data imports to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E6A0-98B9-45AE-BBA8-E2928080CD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50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mport/Export between EDExpress &amp; Mainfram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dd—Origination and Disbursement data will remain in the flat ASCII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hange—Origination and Disbursement data will also remain in the flat ASCII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Format (export to mainframe) remains in the flat ASCII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made to the record layouts to accommodate adding and deleting of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DA80-1C8A-447F-8F58-2ADD45FDDD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14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819520"/>
            <a:ext cx="83822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What’s New in EDExpress 9.1 Direct Loan for 2003-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5F27-9E5F-4E21-9D70-CE2D78292D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L - Combin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315200" cy="27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424C-44C1-40B7-8752-2288E0E5F5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812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ports—COD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tion, Change and Disbursement data exports have been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mmon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Record combines both Origination and Disbursem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ile is in the new XML format and sent to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Record messag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RECIN (EDExpress to C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1F19-0E3C-4320-A9BC-F5E9A15156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71800" y="228600"/>
            <a:ext cx="5821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ports—CO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IDs have new 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YY-MM-DDTHH:mm:ss.ff99999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YY-MM-DD (Century, Year, Month, D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(Constant “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:mm:ss.ff (Hours, minutes, seconds, thousand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999 (Source Entity ID from set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E08F-EF54-47D5-A8F7-39408850DB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57240" y="304560"/>
            <a:ext cx="52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ports—CO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Common Record the user can choose to export both Direct Loan and Pell data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will be able to regenerate Common Record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5A55-446E-48AC-B35A-E2BD342C23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821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L - Expor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35" name="export" descr=""/>
          <p:cNvPicPr/>
          <p:nvPr/>
        </p:nvPicPr>
        <p:blipFill>
          <a:blip r:embed="rId1"/>
          <a:stretch/>
        </p:blipFill>
        <p:spPr>
          <a:xfrm>
            <a:off x="2205000" y="1357200"/>
            <a:ext cx="4734000" cy="41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73A0-B49C-410E-8ED8-355A99E0D1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L - Expor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37" name="export2" descr=""/>
          <p:cNvPicPr/>
          <p:nvPr/>
        </p:nvPicPr>
        <p:blipFill>
          <a:blip r:embed="rId1"/>
          <a:stretch/>
        </p:blipFill>
        <p:spPr>
          <a:xfrm>
            <a:off x="2195640" y="1362240"/>
            <a:ext cx="4752720" cy="41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C63E-FAE2-46C1-8297-5907FDC3E4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812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ports—CO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-Only is basically the origination information with anticipated disbursement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DRI is set to false (unchecked), COD treats the Disbursement data as an Anticipated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DRI is set to true (checked), COD treats the Disbursement data as an Actual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7C72-BE00-42CF-9AF9-2A4A4A4F51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mports—COD</a:t>
            </a:r>
            <a:br>
              <a:rPr sz="4000"/>
            </a:b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of data received from COD will be in the new XML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remain fixed-length, flat ASCII file for EDExpress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Origination, Change and Disbursement 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 have been replaced with COD Common Record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RECOP (COD to EDExp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E59F-8AA8-4349-AB4E-255D8986E5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L - Impor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43" name="import" descr=""/>
          <p:cNvPicPr/>
          <p:nvPr/>
        </p:nvPicPr>
        <p:blipFill>
          <a:blip r:embed="rId1"/>
          <a:stretch/>
        </p:blipFill>
        <p:spPr>
          <a:xfrm>
            <a:off x="1600200" y="1314360"/>
            <a:ext cx="5943600" cy="46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C3B3B-8A33-4C11-8AEA-40A65CC765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mports—COD</a:t>
            </a:r>
            <a:br>
              <a:rPr sz="4000"/>
            </a:b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ing Disbursement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ed Disbursement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Day Warnin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Ini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23920" y="2057040"/>
            <a:ext cx="4092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t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Student Borrow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ctive Loan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N/Name/DOB Chang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523880"/>
            <a:ext cx="815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imports remaining in flat ASCII file 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022F-9EF4-42C2-90CF-FA42080F9A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833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2003-2004 changes to the Direct Loan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EDExpress Direct Loan processing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6BFC-E4F6-4655-83B2-BC905C5C4A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812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por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now print to a file from within a student’s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now e-mail User-Defined Letters to thei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ed version does not have S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tudent Summary report—This is a summary of all student data, including both Direct Loan and Pel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6F40-9B33-42AD-A7BB-7CDDDB5686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812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por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US Disclosure Statement—Schools can print this report if a PLUS Award record has a positive credit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ports will be displayed with updated COD terminology and lay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5175-5186-4899-B306-FBB99A2E5B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irect Loan Processing Tip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BD04924_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3135240" cy="31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4B46-BC6A-400A-8D27-6478552E3A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ip #1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| Export | Direct Loan | Combine Direct Loan and Pell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combine the Direct Loan and Pell “ready-to-go” data into one file for transmission to 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of only having to export one file and to transmit on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C7E4-2362-4FE0-AE3B-18C02950A6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ip #2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36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| Setup | Global | Security Users | Export to EDconnect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electing this option, each time a user exports files that are to be sent to COD, the exported files will automatically populate the EDconnect transmissio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E722-62B6-4D70-B601-61398F0369F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ip #3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| File Format |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wo formats to get the basic origination and disbursement data out of ED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tion format could include the following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, Origination ID, Amount (award)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could be done for Disburse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reate one format that contains all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0276-38CE-41A0-931C-68924E69342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ip #4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336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using EDExpress Direct Loan or Pell modules in 2003-2004, please remember to sign up as a Full Participant with C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done in the PC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8BF0-8496-4733-B565-5E374C816E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ip #5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336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attend Direct Loan EDExpress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dates will be announced in the near future on IF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7E2E8-CC72-4DF3-942F-6C24861A1A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tact Inform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PS/WAN Tech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1 800 330 59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 cpswan@nc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SATech Lis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 fsatech@inet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-up information: http://www.ed.gov/offices/OSFAP/sfatech/listserv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E6CD-93FE-4AE5-AB7F-2EF33FA116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55760" y="2057040"/>
            <a:ext cx="6888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 CPSWAN@NC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l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ich function interested i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Re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bility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-360" y="4952880"/>
            <a:ext cx="5257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in body text what module/     application as well as the type of system setup you have if you’ve indicated Beta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428480" cy="1143000"/>
          </a:xfrm>
          <a:prstGeom prst="rect">
            <a:avLst/>
          </a:prstGeom>
          <a:ln w="9360">
            <a:solidFill>
              <a:srgbClr val="9966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4B1E-33EA-4118-AA6E-14B4D7C1747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Particip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336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ing in 2003-2004 EDExpress users will be full participants in C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F40B9-B158-477C-89E5-08133194D9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Terminolog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78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LD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d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76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-Only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B9EF-9287-4252-9F36-18D6E831EF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Global Chang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rect Loan and Pell only, Batch ID has been replaced by Document ID on the screens and the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the FSA Schools Portal has been added to the Help pull-down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FAA Access to CPS Online has been added to the View pull-down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0F36-7386-43AE-9A85-BA4F140CB1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t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School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Funding Method column to each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Reporting Entity ID and Attended Entity I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entry for al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ield is similar to P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88B40-8570-4DB1-A2B6-82DDD203D8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L - School Set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01" name="school" descr=""/>
          <p:cNvPicPr/>
          <p:nvPr/>
        </p:nvPicPr>
        <p:blipFill>
          <a:blip r:embed="rId1"/>
          <a:stretch/>
        </p:blipFill>
        <p:spPr>
          <a:xfrm>
            <a:off x="533520" y="1690560"/>
            <a:ext cx="8229600" cy="3864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3880" y="1752480"/>
            <a:ext cx="55627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FDAE-E617-4D24-92E3-483E0B3857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t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Tolerances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Document Activity (COD Common Record)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all Batch Activity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System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Source Entity ID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entry for al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hird Party Servicer check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AEA4-B6AE-45CA-9143-DD87B4F6C2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Robert Wilson</dc:creator>
  <dc:description/>
  <dc:language>en-US</dc:language>
  <cp:lastModifiedBy>Dept. of Education</cp:lastModifiedBy>
  <cp:lastPrinted>2002-09-20T18:59:28Z</cp:lastPrinted>
  <dcterms:modified xsi:type="dcterms:W3CDTF">2002-12-12T15:39:41Z</dcterms:modified>
  <cp:revision>131</cp:revision>
  <dc:subject/>
  <dc:title>14-What's New for Direct Lo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