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2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_rels/notesSlide4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4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3.png" ContentType="image/png"/>
  <Override PartName="/ppt/media/image26.png" ContentType="image/png"/>
  <Override PartName="/ppt/media/image27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2.png" ContentType="image/png"/>
  <Override PartName="/ppt/media/image19.jpeg" ContentType="image/jpe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18.png" ContentType="image/png"/>
  <Override PartName="/ppt/media/image20.png" ContentType="image/png"/>
  <Override PartName="/ppt/media/image2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260000" y="720360"/>
            <a:ext cx="4799160" cy="359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lick to move the slide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4"/>
          </p:nvPr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BEE318D5-7D2C-4179-97CE-0C92B414D71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26036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26036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50880" y="4560480"/>
            <a:ext cx="60134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26036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26036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26036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26036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62550-5982-40BB-AB4C-8C3BBD218F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62120" y="3639960"/>
            <a:ext cx="81532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1BAD7-00C6-41C6-972C-3DBBBE7D22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40280" y="137124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62120" y="363996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40280" y="363996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55D6D-F2A5-44C3-9D71-567F346B09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262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19000" y="1371240"/>
            <a:ext cx="262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75520" y="1371240"/>
            <a:ext cx="262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762120" y="3639960"/>
            <a:ext cx="262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19000" y="3639960"/>
            <a:ext cx="262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75520" y="3639960"/>
            <a:ext cx="262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8FA32-17B4-4742-BC5F-75AB0CE6E29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C1B82-B450-4010-B01F-3E3EC7E437A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74AC8-14B5-4890-B445-3D795EB988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397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40280" y="1371240"/>
            <a:ext cx="397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C8C2E-0EC0-4B4C-8F80-76FD0C6C5D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88018-8AB0-45AD-A468-B998B6323C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52280" y="533520"/>
            <a:ext cx="883944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F1A96-B753-457B-8CAF-35EF2136C4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40280" y="1371240"/>
            <a:ext cx="397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762120" y="363996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02A41-E2DF-425C-AAA0-3C17893832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397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40280" y="137124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40280" y="363996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26059-C3E0-426A-98DC-70EFD896DC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40280" y="137124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62120" y="3639960"/>
            <a:ext cx="81532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542B9-00A8-48E6-AD28-BE652D8B47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backdrop2007" descr=""/>
          <p:cNvPicPr/>
          <p:nvPr/>
        </p:nvPicPr>
        <p:blipFill>
          <a:blip r:embed="rId2"/>
          <a:stretch/>
        </p:blipFill>
        <p:spPr>
          <a:xfrm>
            <a:off x="0" y="-63360"/>
            <a:ext cx="9144000" cy="6984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162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B90A4-E80C-4585-9431-CEA318CD8D85}" type="slidenum">
              <a:rPr b="1" lang="en-US" sz="2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fap.ed.gov/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hyperlink" Target="http://fsa4schools.ed.gov/" TargetMode="Externa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fap.ed.gov/" TargetMode="External"/><Relationship Id="rId2" Type="http://schemas.openxmlformats.org/officeDocument/2006/relationships/image" Target="../media/image4.png"/><Relationship Id="rId3" Type="http://schemas.openxmlformats.org/officeDocument/2006/relationships/slide" Target="slide16.xm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ifap.ed.gov/qahome/fsaassessment.html" TargetMode="External"/><Relationship Id="rId2" Type="http://schemas.openxmlformats.org/officeDocument/2006/relationships/image" Target="../media/image4.png"/><Relationship Id="rId3" Type="http://schemas.openxmlformats.org/officeDocument/2006/relationships/slide" Target="slide24.xm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ifap.ed.gov/qahome/fsaassessment.html" TargetMode="External"/><Relationship Id="rId2" Type="http://schemas.openxmlformats.org/officeDocument/2006/relationships/image" Target="../media/image4.png"/><Relationship Id="rId3" Type="http://schemas.openxmlformats.org/officeDocument/2006/relationships/slide" Target="slide31.xm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hyperlink" Target="http://ifap.ed.gov/qahome/fsaassessment.html" TargetMode="External"/><Relationship Id="rId3" Type="http://schemas.openxmlformats.org/officeDocument/2006/relationships/image" Target="../media/image4.png"/><Relationship Id="rId4" Type="http://schemas.openxmlformats.org/officeDocument/2006/relationships/slide" Target="slide37.xml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ifap.ed.gov/qahome/qaassessments/fiscalmanagement.html" TargetMode="External"/><Relationship Id="rId2" Type="http://schemas.openxmlformats.org/officeDocument/2006/relationships/image" Target="../media/image4.png"/><Relationship Id="rId3" Type="http://schemas.openxmlformats.org/officeDocument/2006/relationships/slide" Target="slide40.xm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http://ifap.ed.gov/qahome/fsaassessment.html" TargetMode="External"/><Relationship Id="rId2" Type="http://schemas.openxmlformats.org/officeDocument/2006/relationships/image" Target="../media/image4.png"/><Relationship Id="rId3" Type="http://schemas.openxmlformats.org/officeDocument/2006/relationships/slide" Target="slide44.xm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28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Session #13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3160" y="1752120"/>
            <a:ext cx="8001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FSA Assessments: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Tahoma"/>
              </a:rPr>
              <a:t>An Opportunity to Improve Complianc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Julie Arthu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vid Bartlet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228600" y="2209320"/>
            <a:ext cx="49528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IFAP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99"/>
                </a:solidFill>
                <a:uFillTx/>
                <a:latin typeface="Verdana"/>
                <a:hlinkClick r:id="rId1"/>
              </a:rPr>
              <a:t>http://ifap.ed.gov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Where to find the Federal Student Aid Assessment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rcRect l="25004" t="35337" r="45165" b="24879"/>
          <a:stretch/>
        </p:blipFill>
        <p:spPr>
          <a:xfrm>
            <a:off x="5181480" y="1905120"/>
            <a:ext cx="3962520" cy="39621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4191120" y="4419720"/>
            <a:ext cx="1066680" cy="0"/>
          </a:xfrm>
          <a:prstGeom prst="line">
            <a:avLst/>
          </a:prstGeom>
          <a:ln w="63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43057-9BF6-4214-8EAE-9E280918BEB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"/>
          <p:cNvGraphicFramePr/>
          <p:nvPr/>
        </p:nvGraphicFramePr>
        <p:xfrm>
          <a:off x="3733920" y="2971800"/>
          <a:ext cx="4038480" cy="26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33920" y="2971800"/>
                    <a:ext cx="4038480" cy="26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"/>
          <p:cNvSpPr txBox="1"/>
          <p:nvPr/>
        </p:nvSpPr>
        <p:spPr>
          <a:xfrm>
            <a:off x="837720" y="1294920"/>
            <a:ext cx="7239240" cy="20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School Porta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99"/>
                </a:solidFill>
                <a:uFillTx/>
                <a:latin typeface="Verdana"/>
                <a:hlinkClick r:id="rId3"/>
              </a:rPr>
              <a:t>http://FSA4schools.ed.gov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Where to find the Federal Student Aid Assessment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45" name=""/>
          <p:cNvSpPr/>
          <p:nvPr/>
        </p:nvSpPr>
        <p:spPr>
          <a:xfrm>
            <a:off x="2514600" y="4495680"/>
            <a:ext cx="1066680" cy="0"/>
          </a:xfrm>
          <a:prstGeom prst="line">
            <a:avLst/>
          </a:prstGeom>
          <a:ln w="63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4"/>
          <a:srcRect l="57003" t="66005" r="8002" b="23335"/>
          <a:stretch/>
        </p:blipFill>
        <p:spPr>
          <a:xfrm>
            <a:off x="7315200" y="5867280"/>
            <a:ext cx="1752480" cy="400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8ECFC-1A3B-4DF6-881D-2D7874B8901A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4800600" y="1897200"/>
            <a:ext cx="3657600" cy="3360600"/>
          </a:xfrm>
          <a:prstGeom prst="roundRect">
            <a:avLst>
              <a:gd name="adj" fmla="val 4722"/>
            </a:avLst>
          </a:prstGeom>
          <a:solidFill>
            <a:srgbClr val="f463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62120" y="1897200"/>
            <a:ext cx="3657600" cy="3360600"/>
          </a:xfrm>
          <a:prstGeom prst="roundRect">
            <a:avLst>
              <a:gd name="adj" fmla="val 4722"/>
            </a:avLst>
          </a:prstGeom>
          <a:solidFill>
            <a:srgbClr val="b4d0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-360" y="685440"/>
            <a:ext cx="8839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The Redesign of the Assessments</a:t>
            </a: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 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50" name=""/>
          <p:cNvSpPr/>
          <p:nvPr/>
        </p:nvSpPr>
        <p:spPr>
          <a:xfrm>
            <a:off x="1371600" y="2125800"/>
            <a:ext cx="2743200" cy="14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Look and Fe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914400" y="2049480"/>
            <a:ext cx="263160" cy="457200"/>
            <a:chOff x="914400" y="2049480"/>
            <a:chExt cx="263160" cy="457200"/>
          </a:xfrm>
        </p:grpSpPr>
        <p:sp>
          <p:nvSpPr>
            <p:cNvPr id="152" name=""/>
            <p:cNvSpPr/>
            <p:nvPr/>
          </p:nvSpPr>
          <p:spPr>
            <a:xfrm>
              <a:off x="914400" y="2049480"/>
              <a:ext cx="75960" cy="7524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016640" y="2143800"/>
              <a:ext cx="75960" cy="7524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101600" y="2239200"/>
              <a:ext cx="75960" cy="7524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016640" y="2334600"/>
              <a:ext cx="75960" cy="7524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914400" y="2431440"/>
              <a:ext cx="75960" cy="7524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4952880" y="2049480"/>
            <a:ext cx="263160" cy="457200"/>
            <a:chOff x="4952880" y="2049480"/>
            <a:chExt cx="263160" cy="457200"/>
          </a:xfrm>
        </p:grpSpPr>
        <p:sp>
          <p:nvSpPr>
            <p:cNvPr id="158" name=""/>
            <p:cNvSpPr/>
            <p:nvPr/>
          </p:nvSpPr>
          <p:spPr>
            <a:xfrm>
              <a:off x="4952880" y="2049480"/>
              <a:ext cx="75960" cy="7524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055120" y="2143800"/>
              <a:ext cx="75960" cy="7524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140080" y="2239200"/>
              <a:ext cx="75960" cy="7524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055120" y="2334600"/>
              <a:ext cx="75960" cy="7524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952880" y="2431440"/>
              <a:ext cx="75960" cy="7524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5410080" y="2125800"/>
            <a:ext cx="2895840" cy="23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e the New Policy and Procedure Assessm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" descr="">
            <a:hlinkClick r:id="rId1"/>
          </p:cNvPr>
          <p:cNvPicPr/>
          <p:nvPr/>
        </p:nvPicPr>
        <p:blipFill>
          <a:blip r:embed="rId2"/>
          <a:srcRect l="57003" t="66005" r="8002" b="23335"/>
          <a:stretch/>
        </p:blipFill>
        <p:spPr>
          <a:xfrm>
            <a:off x="7315200" y="5867280"/>
            <a:ext cx="1752480" cy="40032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>
            <a:hlinkClick r:id="rId3" action="ppaction://hlinksldjump"/>
          </p:cNvPr>
          <p:cNvPicPr/>
          <p:nvPr/>
        </p:nvPicPr>
        <p:blipFill>
          <a:blip r:embed="rId4"/>
          <a:srcRect l="11999" t="57336" r="38004" b="35973"/>
          <a:stretch/>
        </p:blipFill>
        <p:spPr>
          <a:xfrm>
            <a:off x="228600" y="5867280"/>
            <a:ext cx="3809880" cy="382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5617F-07E8-411E-99A4-9EA6FE18B445}" type="slidenum">
              <a:t>12</a:t>
            </a:fld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95248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5407"/>
                </a:solidFill>
                <a:latin typeface="Verdana"/>
              </a:rPr>
              <a:t>FSA Assessments – Four Categories</a:t>
            </a:r>
            <a:endParaRPr b="1" lang="en-US" sz="3200" spc="-1" strike="noStrike">
              <a:solidFill>
                <a:srgbClr val="cc5407"/>
              </a:solidFill>
              <a:latin typeface="Verdana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80520" y="1295280"/>
            <a:ext cx="8154000" cy="4572000"/>
            <a:chOff x="380520" y="1295280"/>
            <a:chExt cx="8154000" cy="4572000"/>
          </a:xfrm>
        </p:grpSpPr>
        <p:graphicFrame>
          <p:nvGraphicFramePr>
            <p:cNvPr id="168" name=""/>
            <p:cNvGraphicFramePr/>
            <p:nvPr/>
          </p:nvGraphicFramePr>
          <p:xfrm>
            <a:off x="380880" y="1295280"/>
            <a:ext cx="8153640" cy="457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6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80880" y="1295280"/>
                      <a:ext cx="8153640" cy="457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0" name=""/>
            <p:cNvGrpSpPr/>
            <p:nvPr/>
          </p:nvGrpSpPr>
          <p:grpSpPr>
            <a:xfrm>
              <a:off x="380520" y="3299400"/>
              <a:ext cx="8154000" cy="2054520"/>
              <a:chOff x="380520" y="3299400"/>
              <a:chExt cx="8154000" cy="2054520"/>
            </a:xfrm>
          </p:grpSpPr>
          <p:pic>
            <p:nvPicPr>
              <p:cNvPr id="171" name="" descr=""/>
              <p:cNvPicPr/>
              <p:nvPr/>
            </p:nvPicPr>
            <p:blipFill>
              <a:blip r:embed="rId3"/>
              <a:srcRect l="23157" t="44006" r="10799" b="52013"/>
              <a:stretch/>
            </p:blipFill>
            <p:spPr>
              <a:xfrm>
                <a:off x="380880" y="4802400"/>
                <a:ext cx="8153640" cy="551520"/>
              </a:xfrm>
              <a:prstGeom prst="rect">
                <a:avLst/>
              </a:prstGeom>
              <a:ln w="9360">
                <a:solidFill>
                  <a:srgbClr val="ff6600"/>
                </a:solidFill>
                <a:miter/>
              </a:ln>
            </p:spPr>
          </p:pic>
          <p:sp>
            <p:nvSpPr>
              <p:cNvPr id="172" name=""/>
              <p:cNvSpPr/>
              <p:nvPr/>
            </p:nvSpPr>
            <p:spPr>
              <a:xfrm flipH="1">
                <a:off x="380520" y="3424320"/>
                <a:ext cx="1766520" cy="1377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7922880" y="3424320"/>
                <a:ext cx="611280" cy="1377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2147400" y="3299400"/>
                <a:ext cx="5775480" cy="187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72BB3-AA8B-4692-9338-D4A0DB47CBC0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FSA Assessments Chart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533520" y="1371600"/>
          <a:ext cx="7729560" cy="434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371600"/>
                    <a:ext cx="772956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"/>
          <p:cNvSpPr/>
          <p:nvPr/>
        </p:nvSpPr>
        <p:spPr>
          <a:xfrm>
            <a:off x="1600200" y="3200400"/>
            <a:ext cx="1295280" cy="457200"/>
          </a:xfrm>
          <a:prstGeom prst="ellipse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4B3F0-0887-44E6-9CBD-ACA8B8A58365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5335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FSA Assessments Chart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9958" t="24646" r="3959" b="20481"/>
          <a:stretch/>
        </p:blipFill>
        <p:spPr>
          <a:xfrm>
            <a:off x="703440" y="1219320"/>
            <a:ext cx="7678440" cy="459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6EDBA-C433-4FFA-9873-342487F43CAA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304920" y="1219320"/>
            <a:ext cx="8534160" cy="2286000"/>
          </a:xfrm>
          <a:prstGeom prst="horizontalScroll">
            <a:avLst>
              <a:gd name="adj" fmla="val 125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762120" y="16002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Aft>
                <a:spcPts val="224"/>
              </a:spcAft>
              <a:buClr>
                <a:srgbClr val="007aa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Return of Title IV Funds (R2T4) Errors, Incomplete, Late, Missing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Aft>
                <a:spcPts val="224"/>
              </a:spcAft>
              <a:buClr>
                <a:srgbClr val="007aa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Verification Incomplete, Missing, Error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Aft>
                <a:spcPts val="201"/>
              </a:spcAft>
              <a:buClr>
                <a:srgbClr val="007aa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itle IV Accounts Not Reconcile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533520"/>
            <a:ext cx="9372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Correcting and Preventing Find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50D70-9E44-4651-AB17-601929E06332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3200"/>
            </a:br>
            <a:endParaRPr b="1" lang="en-US" sz="24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04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turn of Title IV Funds (R2T4) Errors, Incomplete, Late, Miss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7604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76040" indent="32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aging Funds - Review R2T4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ess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76040" indent="32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licies and Procedures Assess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76040" indent="32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licies and Procedures At a Gl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76040" indent="32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ctivit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68580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FSA Assessments – Policies and Procedu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" descr="">
            <a:hlinkClick r:id="rId1"/>
          </p:cNvPr>
          <p:cNvPicPr/>
          <p:nvPr/>
        </p:nvPicPr>
        <p:blipFill>
          <a:blip r:embed="rId2"/>
          <a:srcRect l="57003" t="66005" r="8002" b="23335"/>
          <a:stretch/>
        </p:blipFill>
        <p:spPr>
          <a:xfrm>
            <a:off x="7315200" y="5867280"/>
            <a:ext cx="1752480" cy="40032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>
            <a:hlinkClick r:id="rId3" action="ppaction://hlinksldjump"/>
          </p:cNvPr>
          <p:cNvPicPr/>
          <p:nvPr/>
        </p:nvPicPr>
        <p:blipFill>
          <a:blip r:embed="rId4"/>
          <a:srcRect l="11999" t="57336" r="38004" b="35973"/>
          <a:stretch/>
        </p:blipFill>
        <p:spPr>
          <a:xfrm>
            <a:off x="228600" y="5867280"/>
            <a:ext cx="3809880" cy="38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070DE-B00B-4968-A115-49A364DA9814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Return of Title IV Fund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0" y="1295280"/>
          <a:ext cx="9144000" cy="556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95280"/>
                    <a:ext cx="9144000" cy="55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"/>
          <p:cNvSpPr/>
          <p:nvPr/>
        </p:nvSpPr>
        <p:spPr>
          <a:xfrm>
            <a:off x="5181480" y="4267080"/>
            <a:ext cx="1676520" cy="381240"/>
          </a:xfrm>
          <a:prstGeom prst="ellipse">
            <a:avLst/>
          </a:prstGeom>
          <a:noFill/>
          <a:ln w="316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943600" y="2514600"/>
            <a:ext cx="0" cy="1219320"/>
          </a:xfrm>
          <a:prstGeom prst="line">
            <a:avLst/>
          </a:prstGeom>
          <a:ln w="10152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53EEC-9CA6-4397-ADE2-46233F1E1600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Return of Title IV Funds</a:t>
            </a: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 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762120" y="1295280"/>
            <a:ext cx="7467480" cy="4572000"/>
            <a:chOff x="762120" y="1295280"/>
            <a:chExt cx="7467480" cy="4572000"/>
          </a:xfrm>
        </p:grpSpPr>
        <p:pic>
          <p:nvPicPr>
            <p:cNvPr id="198" name="" descr=""/>
            <p:cNvPicPr/>
            <p:nvPr/>
          </p:nvPicPr>
          <p:blipFill>
            <a:blip r:embed="rId1"/>
            <a:srcRect l="0" t="16002" r="3000" b="4001"/>
            <a:stretch/>
          </p:blipFill>
          <p:spPr>
            <a:xfrm>
              <a:off x="762120" y="1295280"/>
              <a:ext cx="746748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>
              <a:off x="5429160" y="2835000"/>
              <a:ext cx="1991160" cy="307800"/>
            </a:xfrm>
            <a:prstGeom prst="ellipse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E1BFA-E71F-4DA9-97E6-0F9239AA0A24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057400" y="3048120"/>
            <a:ext cx="5105520" cy="914400"/>
          </a:xfrm>
          <a:prstGeom prst="roundRect">
            <a:avLst>
              <a:gd name="adj" fmla="val 9722"/>
            </a:avLst>
          </a:prstGeom>
          <a:solidFill>
            <a:srgbClr val="b4d0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057400" y="1905120"/>
            <a:ext cx="5105520" cy="914400"/>
          </a:xfrm>
          <a:prstGeom prst="roundRect">
            <a:avLst>
              <a:gd name="adj" fmla="val 9722"/>
            </a:avLst>
          </a:prstGeom>
          <a:solidFill>
            <a:srgbClr val="006a9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057400" y="4191120"/>
            <a:ext cx="5105520" cy="1295280"/>
          </a:xfrm>
          <a:prstGeom prst="roundRect">
            <a:avLst>
              <a:gd name="adj" fmla="val 9722"/>
            </a:avLst>
          </a:prstGeom>
          <a:solidFill>
            <a:srgbClr val="f463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5318280" y="4264200"/>
            <a:ext cx="1648800" cy="802800"/>
            <a:chOff x="5318280" y="4264200"/>
            <a:chExt cx="1648800" cy="802800"/>
          </a:xfrm>
        </p:grpSpPr>
        <p:grpSp>
          <p:nvGrpSpPr>
            <p:cNvPr id="53" name=""/>
            <p:cNvGrpSpPr/>
            <p:nvPr/>
          </p:nvGrpSpPr>
          <p:grpSpPr>
            <a:xfrm>
              <a:off x="5318280" y="4264200"/>
              <a:ext cx="1085400" cy="228240"/>
              <a:chOff x="5318280" y="4264200"/>
              <a:chExt cx="1085400" cy="228240"/>
            </a:xfrm>
          </p:grpSpPr>
          <p:sp>
            <p:nvSpPr>
              <p:cNvPr id="54" name=""/>
              <p:cNvSpPr/>
              <p:nvPr/>
            </p:nvSpPr>
            <p:spPr>
              <a:xfrm>
                <a:off x="5318280" y="4264200"/>
                <a:ext cx="228600" cy="228240"/>
              </a:xfrm>
              <a:prstGeom prst="ellipse">
                <a:avLst/>
              </a:prstGeom>
              <a:solidFill>
                <a:srgbClr val="ffffff">
                  <a:alpha val="1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5603760" y="4264200"/>
                <a:ext cx="228600" cy="228240"/>
              </a:xfrm>
              <a:prstGeom prst="ellipse">
                <a:avLst/>
              </a:prstGeom>
              <a:solidFill>
                <a:srgbClr val="ffffff">
                  <a:alpha val="1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5889240" y="4264200"/>
                <a:ext cx="228600" cy="228240"/>
              </a:xfrm>
              <a:prstGeom prst="ellipse">
                <a:avLst/>
              </a:prstGeom>
              <a:solidFill>
                <a:srgbClr val="ffffff">
                  <a:alpha val="1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6175080" y="4264200"/>
                <a:ext cx="228600" cy="228240"/>
              </a:xfrm>
              <a:prstGeom prst="ellipse">
                <a:avLst/>
              </a:prstGeom>
              <a:solidFill>
                <a:srgbClr val="ffffff">
                  <a:alpha val="1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5626080" y="4551480"/>
              <a:ext cx="1085400" cy="228240"/>
              <a:chOff x="5626080" y="4551480"/>
              <a:chExt cx="1085400" cy="228240"/>
            </a:xfrm>
          </p:grpSpPr>
          <p:sp>
            <p:nvSpPr>
              <p:cNvPr id="59" name=""/>
              <p:cNvSpPr/>
              <p:nvPr/>
            </p:nvSpPr>
            <p:spPr>
              <a:xfrm>
                <a:off x="5626080" y="4551480"/>
                <a:ext cx="227880" cy="228240"/>
              </a:xfrm>
              <a:prstGeom prst="ellipse">
                <a:avLst/>
              </a:prstGeom>
              <a:solidFill>
                <a:srgbClr val="ffffff">
                  <a:alpha val="1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5911560" y="4551480"/>
                <a:ext cx="227880" cy="228240"/>
              </a:xfrm>
              <a:prstGeom prst="ellipse">
                <a:avLst/>
              </a:prstGeom>
              <a:solidFill>
                <a:srgbClr val="ffffff">
                  <a:alpha val="1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6197040" y="4551480"/>
                <a:ext cx="228600" cy="228240"/>
              </a:xfrm>
              <a:prstGeom prst="ellipse">
                <a:avLst/>
              </a:prstGeom>
              <a:solidFill>
                <a:srgbClr val="ffffff">
                  <a:alpha val="1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6482880" y="4551480"/>
                <a:ext cx="228600" cy="228240"/>
              </a:xfrm>
              <a:prstGeom prst="ellipse">
                <a:avLst/>
              </a:prstGeom>
              <a:solidFill>
                <a:srgbClr val="ffffff">
                  <a:alpha val="1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5881680" y="4838760"/>
              <a:ext cx="1085400" cy="228240"/>
              <a:chOff x="5881680" y="4838760"/>
              <a:chExt cx="1085400" cy="228240"/>
            </a:xfrm>
          </p:grpSpPr>
          <p:sp>
            <p:nvSpPr>
              <p:cNvPr id="64" name=""/>
              <p:cNvSpPr/>
              <p:nvPr/>
            </p:nvSpPr>
            <p:spPr>
              <a:xfrm>
                <a:off x="5881680" y="4838760"/>
                <a:ext cx="227880" cy="228240"/>
              </a:xfrm>
              <a:prstGeom prst="ellipse">
                <a:avLst/>
              </a:prstGeom>
              <a:solidFill>
                <a:srgbClr val="ffffff">
                  <a:alpha val="1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6167160" y="4838760"/>
                <a:ext cx="227880" cy="228240"/>
              </a:xfrm>
              <a:prstGeom prst="ellipse">
                <a:avLst/>
              </a:prstGeom>
              <a:solidFill>
                <a:srgbClr val="ffffff">
                  <a:alpha val="1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6452640" y="4838760"/>
                <a:ext cx="228600" cy="228240"/>
              </a:xfrm>
              <a:prstGeom prst="ellipse">
                <a:avLst/>
              </a:prstGeom>
              <a:solidFill>
                <a:srgbClr val="ffffff">
                  <a:alpha val="1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6738480" y="4838760"/>
                <a:ext cx="228600" cy="228240"/>
              </a:xfrm>
              <a:prstGeom prst="ellipse">
                <a:avLst/>
              </a:prstGeom>
              <a:solidFill>
                <a:srgbClr val="ffffff">
                  <a:alpha val="1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8" name=""/>
          <p:cNvGrpSpPr/>
          <p:nvPr/>
        </p:nvGrpSpPr>
        <p:grpSpPr>
          <a:xfrm>
            <a:off x="5318280" y="3102120"/>
            <a:ext cx="1648800" cy="802800"/>
            <a:chOff x="5318280" y="3102120"/>
            <a:chExt cx="1648800" cy="802800"/>
          </a:xfrm>
        </p:grpSpPr>
        <p:grpSp>
          <p:nvGrpSpPr>
            <p:cNvPr id="69" name=""/>
            <p:cNvGrpSpPr/>
            <p:nvPr/>
          </p:nvGrpSpPr>
          <p:grpSpPr>
            <a:xfrm>
              <a:off x="5318280" y="3102120"/>
              <a:ext cx="1085400" cy="228240"/>
              <a:chOff x="5318280" y="3102120"/>
              <a:chExt cx="1085400" cy="228240"/>
            </a:xfrm>
          </p:grpSpPr>
          <p:sp>
            <p:nvSpPr>
              <p:cNvPr id="70" name=""/>
              <p:cNvSpPr/>
              <p:nvPr/>
            </p:nvSpPr>
            <p:spPr>
              <a:xfrm>
                <a:off x="5318280" y="3102120"/>
                <a:ext cx="228600" cy="228240"/>
              </a:xfrm>
              <a:prstGeom prst="ellipse">
                <a:avLst/>
              </a:prstGeom>
              <a:solidFill>
                <a:srgbClr val="ffffff">
                  <a:alpha val="1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603760" y="3102120"/>
                <a:ext cx="228600" cy="228240"/>
              </a:xfrm>
              <a:prstGeom prst="ellipse">
                <a:avLst/>
              </a:prstGeom>
              <a:solidFill>
                <a:srgbClr val="ffffff">
                  <a:alpha val="1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5889240" y="3102120"/>
                <a:ext cx="228600" cy="228240"/>
              </a:xfrm>
              <a:prstGeom prst="ellipse">
                <a:avLst/>
              </a:prstGeom>
              <a:solidFill>
                <a:srgbClr val="ffffff">
                  <a:alpha val="1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175080" y="3102120"/>
                <a:ext cx="228600" cy="228240"/>
              </a:xfrm>
              <a:prstGeom prst="ellipse">
                <a:avLst/>
              </a:prstGeom>
              <a:solidFill>
                <a:srgbClr val="ffffff">
                  <a:alpha val="1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" name=""/>
            <p:cNvGrpSpPr/>
            <p:nvPr/>
          </p:nvGrpSpPr>
          <p:grpSpPr>
            <a:xfrm>
              <a:off x="5626080" y="3389400"/>
              <a:ext cx="1085400" cy="228240"/>
              <a:chOff x="5626080" y="3389400"/>
              <a:chExt cx="1085400" cy="228240"/>
            </a:xfrm>
          </p:grpSpPr>
          <p:sp>
            <p:nvSpPr>
              <p:cNvPr id="75" name=""/>
              <p:cNvSpPr/>
              <p:nvPr/>
            </p:nvSpPr>
            <p:spPr>
              <a:xfrm>
                <a:off x="5626080" y="3389400"/>
                <a:ext cx="227880" cy="228240"/>
              </a:xfrm>
              <a:prstGeom prst="ellipse">
                <a:avLst/>
              </a:prstGeom>
              <a:solidFill>
                <a:srgbClr val="ffffff">
                  <a:alpha val="1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5911560" y="3389400"/>
                <a:ext cx="227880" cy="228240"/>
              </a:xfrm>
              <a:prstGeom prst="ellipse">
                <a:avLst/>
              </a:prstGeom>
              <a:solidFill>
                <a:srgbClr val="ffffff">
                  <a:alpha val="1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6197040" y="3389400"/>
                <a:ext cx="228600" cy="228240"/>
              </a:xfrm>
              <a:prstGeom prst="ellipse">
                <a:avLst/>
              </a:prstGeom>
              <a:solidFill>
                <a:srgbClr val="ffffff">
                  <a:alpha val="1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6482880" y="3389400"/>
                <a:ext cx="228600" cy="228240"/>
              </a:xfrm>
              <a:prstGeom prst="ellipse">
                <a:avLst/>
              </a:prstGeom>
              <a:solidFill>
                <a:srgbClr val="ffffff">
                  <a:alpha val="1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" name=""/>
            <p:cNvGrpSpPr/>
            <p:nvPr/>
          </p:nvGrpSpPr>
          <p:grpSpPr>
            <a:xfrm>
              <a:off x="5881680" y="3676680"/>
              <a:ext cx="1085400" cy="228240"/>
              <a:chOff x="5881680" y="3676680"/>
              <a:chExt cx="1085400" cy="228240"/>
            </a:xfrm>
          </p:grpSpPr>
          <p:sp>
            <p:nvSpPr>
              <p:cNvPr id="80" name=""/>
              <p:cNvSpPr/>
              <p:nvPr/>
            </p:nvSpPr>
            <p:spPr>
              <a:xfrm>
                <a:off x="5881680" y="3676680"/>
                <a:ext cx="227880" cy="228240"/>
              </a:xfrm>
              <a:prstGeom prst="ellipse">
                <a:avLst/>
              </a:prstGeom>
              <a:solidFill>
                <a:srgbClr val="ffffff">
                  <a:alpha val="1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6167160" y="3676680"/>
                <a:ext cx="227880" cy="228240"/>
              </a:xfrm>
              <a:prstGeom prst="ellipse">
                <a:avLst/>
              </a:prstGeom>
              <a:solidFill>
                <a:srgbClr val="ffffff">
                  <a:alpha val="1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6452640" y="3676680"/>
                <a:ext cx="228600" cy="228240"/>
              </a:xfrm>
              <a:prstGeom prst="ellipse">
                <a:avLst/>
              </a:prstGeom>
              <a:solidFill>
                <a:srgbClr val="ffffff">
                  <a:alpha val="1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6738480" y="3676680"/>
                <a:ext cx="228600" cy="228240"/>
              </a:xfrm>
              <a:prstGeom prst="ellipse">
                <a:avLst/>
              </a:prstGeom>
              <a:solidFill>
                <a:srgbClr val="ffffff">
                  <a:alpha val="1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4" name=""/>
          <p:cNvGrpSpPr/>
          <p:nvPr/>
        </p:nvGrpSpPr>
        <p:grpSpPr>
          <a:xfrm>
            <a:off x="5318280" y="1941480"/>
            <a:ext cx="1648800" cy="802800"/>
            <a:chOff x="5318280" y="1941480"/>
            <a:chExt cx="1648800" cy="802800"/>
          </a:xfrm>
        </p:grpSpPr>
        <p:grpSp>
          <p:nvGrpSpPr>
            <p:cNvPr id="85" name=""/>
            <p:cNvGrpSpPr/>
            <p:nvPr/>
          </p:nvGrpSpPr>
          <p:grpSpPr>
            <a:xfrm>
              <a:off x="5318280" y="1941480"/>
              <a:ext cx="1085400" cy="228240"/>
              <a:chOff x="5318280" y="1941480"/>
              <a:chExt cx="1085400" cy="228240"/>
            </a:xfrm>
          </p:grpSpPr>
          <p:sp>
            <p:nvSpPr>
              <p:cNvPr id="86" name=""/>
              <p:cNvSpPr/>
              <p:nvPr/>
            </p:nvSpPr>
            <p:spPr>
              <a:xfrm>
                <a:off x="5318280" y="1941480"/>
                <a:ext cx="228600" cy="228240"/>
              </a:xfrm>
              <a:prstGeom prst="ellipse">
                <a:avLst/>
              </a:pr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5603760" y="1941480"/>
                <a:ext cx="228600" cy="228240"/>
              </a:xfrm>
              <a:prstGeom prst="ellipse">
                <a:avLst/>
              </a:pr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5889240" y="1941480"/>
                <a:ext cx="228600" cy="228240"/>
              </a:xfrm>
              <a:prstGeom prst="ellipse">
                <a:avLst/>
              </a:pr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6175080" y="1941480"/>
                <a:ext cx="228600" cy="228240"/>
              </a:xfrm>
              <a:prstGeom prst="ellipse">
                <a:avLst/>
              </a:pr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" name=""/>
            <p:cNvGrpSpPr/>
            <p:nvPr/>
          </p:nvGrpSpPr>
          <p:grpSpPr>
            <a:xfrm>
              <a:off x="5626080" y="2228760"/>
              <a:ext cx="1085400" cy="228240"/>
              <a:chOff x="5626080" y="2228760"/>
              <a:chExt cx="1085400" cy="228240"/>
            </a:xfrm>
          </p:grpSpPr>
          <p:sp>
            <p:nvSpPr>
              <p:cNvPr id="91" name=""/>
              <p:cNvSpPr/>
              <p:nvPr/>
            </p:nvSpPr>
            <p:spPr>
              <a:xfrm>
                <a:off x="5626080" y="2228760"/>
                <a:ext cx="227880" cy="228240"/>
              </a:xfrm>
              <a:prstGeom prst="ellipse">
                <a:avLst/>
              </a:pr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5911560" y="2228760"/>
                <a:ext cx="227880" cy="228240"/>
              </a:xfrm>
              <a:prstGeom prst="ellipse">
                <a:avLst/>
              </a:pr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6197040" y="2228760"/>
                <a:ext cx="228600" cy="228240"/>
              </a:xfrm>
              <a:prstGeom prst="ellipse">
                <a:avLst/>
              </a:pr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6482880" y="2228760"/>
                <a:ext cx="228600" cy="228240"/>
              </a:xfrm>
              <a:prstGeom prst="ellipse">
                <a:avLst/>
              </a:pr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" name=""/>
            <p:cNvGrpSpPr/>
            <p:nvPr/>
          </p:nvGrpSpPr>
          <p:grpSpPr>
            <a:xfrm>
              <a:off x="5881680" y="2516040"/>
              <a:ext cx="1085400" cy="228240"/>
              <a:chOff x="5881680" y="2516040"/>
              <a:chExt cx="1085400" cy="228240"/>
            </a:xfrm>
          </p:grpSpPr>
          <p:sp>
            <p:nvSpPr>
              <p:cNvPr id="96" name=""/>
              <p:cNvSpPr/>
              <p:nvPr/>
            </p:nvSpPr>
            <p:spPr>
              <a:xfrm>
                <a:off x="5881680" y="2516040"/>
                <a:ext cx="227880" cy="228240"/>
              </a:xfrm>
              <a:prstGeom prst="ellipse">
                <a:avLst/>
              </a:pr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6167160" y="2516040"/>
                <a:ext cx="227880" cy="228240"/>
              </a:xfrm>
              <a:prstGeom prst="ellipse">
                <a:avLst/>
              </a:pr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6452640" y="2516040"/>
                <a:ext cx="228600" cy="228240"/>
              </a:xfrm>
              <a:prstGeom prst="ellipse">
                <a:avLst/>
              </a:pr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6738480" y="2516040"/>
                <a:ext cx="228600" cy="228240"/>
              </a:xfrm>
              <a:prstGeom prst="ellipse">
                <a:avLst/>
              </a:pr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360" y="533160"/>
            <a:ext cx="8991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What are the FSA Assessments?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01" name=""/>
          <p:cNvSpPr/>
          <p:nvPr/>
        </p:nvSpPr>
        <p:spPr>
          <a:xfrm>
            <a:off x="2743200" y="213372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vent non-compli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2286000" y="2133720"/>
            <a:ext cx="263160" cy="457200"/>
            <a:chOff x="2286000" y="2133720"/>
            <a:chExt cx="263160" cy="457200"/>
          </a:xfrm>
        </p:grpSpPr>
        <p:sp>
          <p:nvSpPr>
            <p:cNvPr id="103" name=""/>
            <p:cNvSpPr/>
            <p:nvPr/>
          </p:nvSpPr>
          <p:spPr>
            <a:xfrm>
              <a:off x="2286000" y="2133720"/>
              <a:ext cx="75960" cy="7524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388240" y="2228040"/>
              <a:ext cx="75960" cy="7524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473200" y="2323440"/>
              <a:ext cx="75960" cy="7524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388240" y="2418840"/>
              <a:ext cx="75960" cy="7524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286000" y="2515680"/>
              <a:ext cx="75960" cy="7524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2743200" y="3124080"/>
            <a:ext cx="35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fy compliance iss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362320" y="3200400"/>
            <a:ext cx="263160" cy="457200"/>
            <a:chOff x="2362320" y="3200400"/>
            <a:chExt cx="263160" cy="457200"/>
          </a:xfrm>
        </p:grpSpPr>
        <p:sp>
          <p:nvSpPr>
            <p:cNvPr id="110" name=""/>
            <p:cNvSpPr/>
            <p:nvPr/>
          </p:nvSpPr>
          <p:spPr>
            <a:xfrm>
              <a:off x="2362320" y="3200400"/>
              <a:ext cx="75960" cy="7524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464560" y="3294720"/>
              <a:ext cx="75960" cy="7524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549520" y="3390120"/>
              <a:ext cx="75960" cy="7524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64560" y="3485520"/>
              <a:ext cx="75960" cy="7524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362320" y="3582360"/>
              <a:ext cx="75960" cy="7524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2362320" y="4572000"/>
            <a:ext cx="263160" cy="457200"/>
            <a:chOff x="2362320" y="4572000"/>
            <a:chExt cx="263160" cy="457200"/>
          </a:xfrm>
        </p:grpSpPr>
        <p:sp>
          <p:nvSpPr>
            <p:cNvPr id="116" name=""/>
            <p:cNvSpPr/>
            <p:nvPr/>
          </p:nvSpPr>
          <p:spPr>
            <a:xfrm>
              <a:off x="2362320" y="4572000"/>
              <a:ext cx="75960" cy="7524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464560" y="4666320"/>
              <a:ext cx="75960" cy="7524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549520" y="4761720"/>
              <a:ext cx="75960" cy="7524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464560" y="4857120"/>
              <a:ext cx="75960" cy="7524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362320" y="4953960"/>
              <a:ext cx="75960" cy="7524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2743200" y="42670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tablish Action Planning steps to correct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175248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ools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7EA49-303A-484E-AE06-1EDF9F6A0008}" type="slidenum">
              <a:t>2</a:t>
            </a:fld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609120"/>
            <a:ext cx="8839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Getting Started Developing Policies and Procedure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0" y="1447920"/>
            <a:ext cx="9144000" cy="4266720"/>
            <a:chOff x="0" y="1447920"/>
            <a:chExt cx="9144000" cy="4266720"/>
          </a:xfrm>
        </p:grpSpPr>
        <p:pic>
          <p:nvPicPr>
            <p:cNvPr id="202" name="" descr=""/>
            <p:cNvPicPr/>
            <p:nvPr/>
          </p:nvPicPr>
          <p:blipFill>
            <a:blip r:embed="rId1"/>
            <a:srcRect l="8999" t="26000" r="14002" b="4668"/>
            <a:stretch/>
          </p:blipFill>
          <p:spPr>
            <a:xfrm>
              <a:off x="0" y="1447920"/>
              <a:ext cx="9144000" cy="426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" name="" descr=""/>
            <p:cNvPicPr/>
            <p:nvPr/>
          </p:nvPicPr>
          <p:blipFill>
            <a:blip r:embed="rId2"/>
            <a:srcRect l="15957" t="48491" r="15957" b="29925"/>
            <a:stretch/>
          </p:blipFill>
          <p:spPr>
            <a:xfrm>
              <a:off x="762120" y="4254120"/>
              <a:ext cx="8381880" cy="14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685800" y="2615040"/>
              <a:ext cx="8229600" cy="546120"/>
            </a:xfrm>
            <a:prstGeom prst="ellipse">
              <a:avLst/>
            </a:prstGeom>
            <a:noFill/>
            <a:ln w="316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B7A0F-D68E-4F3F-AE68-5FB0680D330B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Getting Started with P &amp; P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380880" y="1066680"/>
            <a:ext cx="8381880" cy="4724280"/>
            <a:chOff x="380880" y="1066680"/>
            <a:chExt cx="8381880" cy="4724280"/>
          </a:xfrm>
        </p:grpSpPr>
        <p:pic>
          <p:nvPicPr>
            <p:cNvPr id="207" name="" descr=""/>
            <p:cNvPicPr/>
            <p:nvPr/>
          </p:nvPicPr>
          <p:blipFill>
            <a:blip r:embed="rId1"/>
            <a:srcRect l="3000" t="23335" r="12121" b="38323"/>
            <a:stretch/>
          </p:blipFill>
          <p:spPr>
            <a:xfrm>
              <a:off x="380880" y="1066680"/>
              <a:ext cx="8239680" cy="280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" descr=""/>
            <p:cNvPicPr/>
            <p:nvPr/>
          </p:nvPicPr>
          <p:blipFill>
            <a:blip r:embed="rId2"/>
            <a:srcRect l="4001" t="55339" r="11002" b="23335"/>
            <a:stretch/>
          </p:blipFill>
          <p:spPr>
            <a:xfrm>
              <a:off x="522720" y="3797280"/>
              <a:ext cx="8240040" cy="1993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A11BD-072C-49FD-ACA6-E79BA9B91CE6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P &amp; P at a Glance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228600" y="1143000"/>
            <a:ext cx="8458200" cy="4571640"/>
            <a:chOff x="228600" y="1143000"/>
            <a:chExt cx="8458200" cy="4571640"/>
          </a:xfrm>
        </p:grpSpPr>
        <p:pic>
          <p:nvPicPr>
            <p:cNvPr id="211" name="" descr=""/>
            <p:cNvPicPr/>
            <p:nvPr/>
          </p:nvPicPr>
          <p:blipFill>
            <a:blip r:embed="rId1"/>
            <a:srcRect l="8999" t="26000" r="14002" b="4668"/>
            <a:stretch/>
          </p:blipFill>
          <p:spPr>
            <a:xfrm>
              <a:off x="228600" y="1143000"/>
              <a:ext cx="8458200" cy="4518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" descr=""/>
            <p:cNvPicPr/>
            <p:nvPr/>
          </p:nvPicPr>
          <p:blipFill>
            <a:blip r:embed="rId2"/>
            <a:srcRect l="15957" t="48491" r="15957" b="29925"/>
            <a:stretch/>
          </p:blipFill>
          <p:spPr>
            <a:xfrm>
              <a:off x="933480" y="4166640"/>
              <a:ext cx="7752960" cy="154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3259440" y="3909240"/>
              <a:ext cx="3735360" cy="643320"/>
            </a:xfrm>
            <a:prstGeom prst="ellipse">
              <a:avLst/>
            </a:prstGeom>
            <a:noFill/>
            <a:ln w="316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A27DB-C216-4000-B700-57AEC1D3502D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P &amp; P At a Glance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rcRect l="7922" t="26000" r="6930" b="4668"/>
          <a:stretch/>
        </p:blipFill>
        <p:spPr>
          <a:xfrm>
            <a:off x="457200" y="1219320"/>
            <a:ext cx="8229600" cy="4593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D1E3A-E5D2-4C25-BC8C-9BD67661165E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762120" y="16002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Aft>
                <a:spcPts val="224"/>
              </a:spcAft>
              <a:buClr>
                <a:srgbClr val="007aa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Return of Title IV Funds (R2T4) Errors, Incomplete, Late, Missing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Aft>
                <a:spcPts val="224"/>
              </a:spcAft>
              <a:buClr>
                <a:srgbClr val="007aa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Verification Incomplete, Missing, Error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Aft>
                <a:spcPts val="201"/>
              </a:spcAft>
              <a:buClr>
                <a:srgbClr val="007aa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itle IV Accounts Not Reconcile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304920" y="3352680"/>
            <a:ext cx="8534160" cy="1676520"/>
          </a:xfrm>
          <a:prstGeom prst="horizontalScroll">
            <a:avLst>
              <a:gd name="adj" fmla="val 125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title"/>
          </p:nvPr>
        </p:nvSpPr>
        <p:spPr>
          <a:xfrm>
            <a:off x="-360" y="456840"/>
            <a:ext cx="9372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Correcting and Preventing Finding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12232-197E-4E71-83A7-9C25BC129DA6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FSA Assessments - Activities</a:t>
            </a:r>
            <a:r>
              <a:rPr b="1" lang="en-US" sz="3200" spc="-1" strike="noStrike">
                <a:solidFill>
                  <a:srgbClr val="cc5407"/>
                </a:solidFill>
                <a:latin typeface="Verdana"/>
              </a:rPr>
              <a:t>	</a:t>
            </a:r>
            <a:endParaRPr b="1" lang="en-US" sz="32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686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a9"/>
                </a:solidFill>
                <a:latin typeface="Verdana"/>
              </a:rPr>
              <a:t>Finding: 2 – Verification Incomple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view Verification Assessment -  Stud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licies and Proced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ctivity 4: Resolving Conflicting Da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ctivity 5: Professional Judg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1" name="" descr="">
            <a:hlinkClick r:id="rId1"/>
          </p:cNvPr>
          <p:cNvPicPr/>
          <p:nvPr/>
        </p:nvPicPr>
        <p:blipFill>
          <a:blip r:embed="rId2"/>
          <a:srcRect l="57003" t="66005" r="8002" b="23335"/>
          <a:stretch/>
        </p:blipFill>
        <p:spPr>
          <a:xfrm>
            <a:off x="7315200" y="5867280"/>
            <a:ext cx="1752480" cy="40032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>
            <a:hlinkClick r:id="rId3" action="ppaction://hlinksldjump"/>
          </p:cNvPr>
          <p:cNvPicPr/>
          <p:nvPr/>
        </p:nvPicPr>
        <p:blipFill>
          <a:blip r:embed="rId4"/>
          <a:srcRect l="11999" t="57336" r="38004" b="35973"/>
          <a:stretch/>
        </p:blipFill>
        <p:spPr>
          <a:xfrm>
            <a:off x="228600" y="5867280"/>
            <a:ext cx="3809880" cy="38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A2104-F6AF-4B18-AADA-9D86DDAB3339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FSA Assessments – Verification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609480" y="1066680"/>
            <a:ext cx="7772400" cy="4648320"/>
            <a:chOff x="609480" y="1066680"/>
            <a:chExt cx="7772400" cy="4648320"/>
          </a:xfrm>
        </p:grpSpPr>
        <p:graphicFrame>
          <p:nvGraphicFramePr>
            <p:cNvPr id="225" name=""/>
            <p:cNvGraphicFramePr/>
            <p:nvPr/>
          </p:nvGraphicFramePr>
          <p:xfrm>
            <a:off x="609480" y="1066680"/>
            <a:ext cx="7772400" cy="4648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2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09480" y="1066680"/>
                      <a:ext cx="7772400" cy="4648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7" name=""/>
            <p:cNvSpPr/>
            <p:nvPr/>
          </p:nvSpPr>
          <p:spPr>
            <a:xfrm>
              <a:off x="2098800" y="3907080"/>
              <a:ext cx="1360080" cy="322920"/>
            </a:xfrm>
            <a:prstGeom prst="ellipse">
              <a:avLst/>
            </a:prstGeom>
            <a:noFill/>
            <a:ln w="316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82000" y="2163960"/>
              <a:ext cx="0" cy="968400"/>
            </a:xfrm>
            <a:prstGeom prst="line">
              <a:avLst/>
            </a:prstGeom>
            <a:ln w="10152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BCCE0-0D98-4B80-9470-DA0E8F9CA913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-360" y="1523520"/>
            <a:ext cx="33526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Verification </a:t>
            </a:r>
            <a:br>
              <a:rPr sz="3600"/>
            </a:b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Activity 4 and </a:t>
            </a:r>
            <a:br>
              <a:rPr sz="3600"/>
            </a:b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Activity 5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2209680" y="685800"/>
            <a:ext cx="6400800" cy="5105520"/>
            <a:chOff x="2209680" y="685800"/>
            <a:chExt cx="6400800" cy="5105520"/>
          </a:xfrm>
        </p:grpSpPr>
        <p:pic>
          <p:nvPicPr>
            <p:cNvPr id="231" name="" descr=""/>
            <p:cNvPicPr/>
            <p:nvPr/>
          </p:nvPicPr>
          <p:blipFill>
            <a:blip r:embed="rId1"/>
            <a:srcRect l="26388" t="14322" r="18749" b="0"/>
            <a:stretch/>
          </p:blipFill>
          <p:spPr>
            <a:xfrm>
              <a:off x="3287520" y="685800"/>
              <a:ext cx="5322960" cy="510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/>
            <p:nvPr/>
          </p:nvSpPr>
          <p:spPr>
            <a:xfrm>
              <a:off x="2209680" y="3913920"/>
              <a:ext cx="942840" cy="0"/>
            </a:xfrm>
            <a:prstGeom prst="line">
              <a:avLst/>
            </a:prstGeom>
            <a:ln w="10152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971960" y="3857040"/>
              <a:ext cx="2425320" cy="170640"/>
            </a:xfrm>
            <a:prstGeom prst="ellipse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464960" y="3857040"/>
              <a:ext cx="1077840" cy="170640"/>
            </a:xfrm>
            <a:prstGeom prst="ellipse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1C9EC-D20C-4B4C-8290-217372F4D081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" name=""/>
          <p:cNvGrpSpPr/>
          <p:nvPr/>
        </p:nvGrpSpPr>
        <p:grpSpPr>
          <a:xfrm>
            <a:off x="762120" y="1371600"/>
            <a:ext cx="7391160" cy="4419720"/>
            <a:chOff x="762120" y="1371600"/>
            <a:chExt cx="7391160" cy="4419720"/>
          </a:xfrm>
        </p:grpSpPr>
        <p:pic>
          <p:nvPicPr>
            <p:cNvPr id="236" name="" descr=""/>
            <p:cNvPicPr/>
            <p:nvPr/>
          </p:nvPicPr>
          <p:blipFill>
            <a:blip r:embed="rId1"/>
            <a:srcRect l="26854" t="22951" r="12964" b="10452"/>
            <a:stretch/>
          </p:blipFill>
          <p:spPr>
            <a:xfrm>
              <a:off x="762120" y="1371600"/>
              <a:ext cx="7391160" cy="441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894960" y="2391480"/>
              <a:ext cx="732240" cy="0"/>
            </a:xfrm>
            <a:prstGeom prst="line">
              <a:avLst/>
            </a:prstGeom>
            <a:ln w="5724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894960" y="3479400"/>
              <a:ext cx="732240" cy="0"/>
            </a:xfrm>
            <a:prstGeom prst="line">
              <a:avLst/>
            </a:prstGeom>
            <a:ln w="5724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894960" y="4227480"/>
              <a:ext cx="732240" cy="0"/>
            </a:xfrm>
            <a:prstGeom prst="line">
              <a:avLst/>
            </a:prstGeom>
            <a:ln w="5724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94960" y="4907520"/>
              <a:ext cx="732240" cy="0"/>
            </a:xfrm>
            <a:prstGeom prst="line">
              <a:avLst/>
            </a:prstGeom>
            <a:ln w="5724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Verification Activity 4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C8A07-08CC-4393-8691-433772797307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" descr=""/>
          <p:cNvPicPr/>
          <p:nvPr/>
        </p:nvPicPr>
        <p:blipFill>
          <a:blip r:embed="rId1"/>
          <a:srcRect l="26854" t="24593" r="12964" b="34499"/>
          <a:stretch/>
        </p:blipFill>
        <p:spPr>
          <a:xfrm>
            <a:off x="304920" y="1752480"/>
            <a:ext cx="8458200" cy="380700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-360" y="609120"/>
            <a:ext cx="7162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Verification Activity 5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96C62-5CA2-4B7B-8E6E-93D1E91B98AE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Why use the FSA Assessments?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nsure Title IV compli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pare for an audi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pare for a program review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rrect deficiencies and eliminate repeat finding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or update policies and procedure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793BA-DF06-45F0-A4A0-5CB612AC93EF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" descr=""/>
          <p:cNvPicPr/>
          <p:nvPr/>
        </p:nvPicPr>
        <p:blipFill>
          <a:blip r:embed="rId1"/>
          <a:srcRect l="27819" t="26551" r="13929" b="14547"/>
          <a:stretch/>
        </p:blipFill>
        <p:spPr>
          <a:xfrm>
            <a:off x="380880" y="990720"/>
            <a:ext cx="8382240" cy="487656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Activity 5 continued…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75A12-8A9E-4A56-B3EB-376284642A0D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762120" y="16002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Aft>
                <a:spcPts val="224"/>
              </a:spcAft>
              <a:buClr>
                <a:srgbClr val="007aa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Return of Title IV Funds (R2T4) Errors, Incomplete, Late, Missing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Aft>
                <a:spcPts val="224"/>
              </a:spcAft>
              <a:buClr>
                <a:srgbClr val="007aa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Verification Incomplete, Missing, Error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Aft>
                <a:spcPts val="201"/>
              </a:spcAft>
              <a:buClr>
                <a:srgbClr val="007aa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itle IV Accounts Not Reconcile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80880" y="4800600"/>
            <a:ext cx="8534520" cy="1143000"/>
          </a:xfrm>
          <a:prstGeom prst="horizontalScroll">
            <a:avLst>
              <a:gd name="adj" fmla="val 125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title"/>
          </p:nvPr>
        </p:nvSpPr>
        <p:spPr>
          <a:xfrm>
            <a:off x="-360" y="456840"/>
            <a:ext cx="9372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Correcting and Preventing Finding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259DD-CC05-4DC1-B71C-58A641D6486C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51920" y="533160"/>
            <a:ext cx="8991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Reconciliation Worksheet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6858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a9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7aa9"/>
                </a:solidFill>
                <a:latin typeface="Verdana"/>
              </a:rPr>
              <a:t>Finding: 3 – Title IV Accounts Not Reconcil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lect Managing Funds – Fiscal 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lect Activity 1 – Reconciliation Workshee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view Year End and Monthly Workshee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1676520" cy="510228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>
            <a:hlinkClick r:id="rId2"/>
          </p:cNvPr>
          <p:cNvPicPr/>
          <p:nvPr/>
        </p:nvPicPr>
        <p:blipFill>
          <a:blip r:embed="rId3"/>
          <a:srcRect l="57003" t="66005" r="8002" b="23335"/>
          <a:stretch/>
        </p:blipFill>
        <p:spPr>
          <a:xfrm>
            <a:off x="7315200" y="5867280"/>
            <a:ext cx="1752480" cy="40032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>
            <a:hlinkClick r:id="rId4" action="ppaction://hlinksldjump"/>
          </p:cNvPr>
          <p:cNvPicPr/>
          <p:nvPr/>
        </p:nvPicPr>
        <p:blipFill>
          <a:blip r:embed="rId5"/>
          <a:srcRect l="11999" t="57336" r="38004" b="35973"/>
          <a:stretch/>
        </p:blipFill>
        <p:spPr>
          <a:xfrm>
            <a:off x="228600" y="5867280"/>
            <a:ext cx="3809880" cy="38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FF560-D443-432E-BE6F-6A5E730C402A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4" name=""/>
          <p:cNvGrpSpPr/>
          <p:nvPr/>
        </p:nvGrpSpPr>
        <p:grpSpPr>
          <a:xfrm>
            <a:off x="533520" y="1143000"/>
            <a:ext cx="8076960" cy="4572000"/>
            <a:chOff x="533520" y="1143000"/>
            <a:chExt cx="8076960" cy="4572000"/>
          </a:xfrm>
        </p:grpSpPr>
        <p:graphicFrame>
          <p:nvGraphicFramePr>
            <p:cNvPr id="255" name=""/>
            <p:cNvGraphicFramePr/>
            <p:nvPr/>
          </p:nvGraphicFramePr>
          <p:xfrm>
            <a:off x="533520" y="1143000"/>
            <a:ext cx="8076960" cy="457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5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33520" y="1143000"/>
                      <a:ext cx="8076960" cy="457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57" name=""/>
            <p:cNvSpPr/>
            <p:nvPr/>
          </p:nvSpPr>
          <p:spPr>
            <a:xfrm>
              <a:off x="5110200" y="3359880"/>
              <a:ext cx="1211400" cy="276840"/>
            </a:xfrm>
            <a:prstGeom prst="ellipse">
              <a:avLst/>
            </a:prstGeom>
            <a:noFill/>
            <a:ln w="316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716080" y="1905120"/>
              <a:ext cx="0" cy="1246680"/>
            </a:xfrm>
            <a:prstGeom prst="line">
              <a:avLst/>
            </a:prstGeom>
            <a:ln w="10152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Managing Funds – Fiscal Mgmt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88638-4C14-49D9-B0AF-30822366DD40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-360" y="761760"/>
            <a:ext cx="8839080" cy="41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Reconciliation &amp; Fiscal Mgmt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609480" y="1295280"/>
            <a:ext cx="7925040" cy="4496040"/>
            <a:chOff x="609480" y="1295280"/>
            <a:chExt cx="7925040" cy="4496040"/>
          </a:xfrm>
        </p:grpSpPr>
        <p:pic>
          <p:nvPicPr>
            <p:cNvPr id="262" name="" descr=""/>
            <p:cNvPicPr/>
            <p:nvPr/>
          </p:nvPicPr>
          <p:blipFill>
            <a:blip r:embed="rId1"/>
            <a:srcRect l="12964" t="17642" r="16669" b="0"/>
            <a:stretch/>
          </p:blipFill>
          <p:spPr>
            <a:xfrm>
              <a:off x="609480" y="1295280"/>
              <a:ext cx="7925040" cy="449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>
              <a:off x="4703760" y="2168640"/>
              <a:ext cx="3302280" cy="335160"/>
            </a:xfrm>
            <a:prstGeom prst="ellipse">
              <a:avLst/>
            </a:prstGeom>
            <a:noFill/>
            <a:ln w="316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DDE9B-DF40-465D-B202-9813B1B95AA0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Reconciliation Worksheet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533520" y="1295280"/>
            <a:ext cx="8153280" cy="4496040"/>
            <a:chOff x="533520" y="1295280"/>
            <a:chExt cx="8153280" cy="4496040"/>
          </a:xfrm>
        </p:grpSpPr>
        <p:pic>
          <p:nvPicPr>
            <p:cNvPr id="266" name="" descr=""/>
            <p:cNvPicPr/>
            <p:nvPr/>
          </p:nvPicPr>
          <p:blipFill>
            <a:blip r:embed="rId1"/>
            <a:srcRect l="28705" t="26230" r="20370" b="0"/>
            <a:stretch/>
          </p:blipFill>
          <p:spPr>
            <a:xfrm>
              <a:off x="533520" y="1295280"/>
              <a:ext cx="3865320" cy="449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" descr=""/>
            <p:cNvPicPr/>
            <p:nvPr/>
          </p:nvPicPr>
          <p:blipFill>
            <a:blip r:embed="rId2"/>
            <a:srcRect l="28475" t="26731" r="21528" b="2864"/>
            <a:stretch/>
          </p:blipFill>
          <p:spPr>
            <a:xfrm>
              <a:off x="4637880" y="1363320"/>
              <a:ext cx="4048920" cy="442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1376640" y="3543120"/>
              <a:ext cx="2319480" cy="204120"/>
            </a:xfrm>
            <a:prstGeom prst="ellipse">
              <a:avLst/>
            </a:prstGeom>
            <a:noFill/>
            <a:ln w="316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101920" y="2248920"/>
              <a:ext cx="3584520" cy="2452320"/>
            </a:xfrm>
            <a:prstGeom prst="rect">
              <a:avLst/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F1A38-D07B-4913-AC1E-C1974B36C66F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Fiscal year end worksheet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rcRect l="27779" t="24593" r="13890" b="18034"/>
          <a:stretch/>
        </p:blipFill>
        <p:spPr>
          <a:xfrm>
            <a:off x="304920" y="1295280"/>
            <a:ext cx="5181480" cy="319572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808080"/>
            </a:outerShdw>
          </a:effectLst>
        </p:spPr>
      </p:pic>
      <p:sp>
        <p:nvSpPr>
          <p:cNvPr id="272" name=""/>
          <p:cNvSpPr/>
          <p:nvPr/>
        </p:nvSpPr>
        <p:spPr>
          <a:xfrm>
            <a:off x="2176560" y="4251240"/>
            <a:ext cx="2374920" cy="320760"/>
          </a:xfrm>
          <a:prstGeom prst="ellipse">
            <a:avLst/>
          </a:prstGeom>
          <a:noFill/>
          <a:ln w="316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2"/>
          <a:srcRect l="25000" t="24823" r="22224" b="15274"/>
          <a:stretch/>
        </p:blipFill>
        <p:spPr>
          <a:xfrm>
            <a:off x="4743360" y="2209680"/>
            <a:ext cx="4400640" cy="349884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BAE87-8EC2-4726-892D-5F039F0D5FAC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2057400" y="4191120"/>
            <a:ext cx="4952880" cy="1218960"/>
          </a:xfrm>
          <a:prstGeom prst="roundRect">
            <a:avLst>
              <a:gd name="adj" fmla="val 9722"/>
            </a:avLst>
          </a:prstGeom>
          <a:solidFill>
            <a:srgbClr val="f463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057400" y="3048120"/>
            <a:ext cx="4952880" cy="914400"/>
          </a:xfrm>
          <a:prstGeom prst="roundRect">
            <a:avLst>
              <a:gd name="adj" fmla="val 9722"/>
            </a:avLst>
          </a:prstGeom>
          <a:solidFill>
            <a:srgbClr val="b4d0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057400" y="1897200"/>
            <a:ext cx="4952880" cy="914400"/>
          </a:xfrm>
          <a:prstGeom prst="roundRect">
            <a:avLst>
              <a:gd name="adj" fmla="val 9722"/>
            </a:avLst>
          </a:prstGeom>
          <a:solidFill>
            <a:srgbClr val="006a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Management Enhancement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895480" y="1981080"/>
            <a:ext cx="35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fy compliance iss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2362320" y="2049480"/>
            <a:ext cx="263160" cy="457200"/>
            <a:chOff x="2362320" y="2049480"/>
            <a:chExt cx="263160" cy="457200"/>
          </a:xfrm>
        </p:grpSpPr>
        <p:sp>
          <p:nvSpPr>
            <p:cNvPr id="280" name=""/>
            <p:cNvSpPr/>
            <p:nvPr/>
          </p:nvSpPr>
          <p:spPr>
            <a:xfrm>
              <a:off x="2362320" y="2049480"/>
              <a:ext cx="75960" cy="7524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464560" y="2143800"/>
              <a:ext cx="75960" cy="7524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549520" y="2239200"/>
              <a:ext cx="75960" cy="7524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464560" y="2334600"/>
              <a:ext cx="75960" cy="7524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362320" y="2431440"/>
              <a:ext cx="75960" cy="7524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5" name=""/>
          <p:cNvSpPr/>
          <p:nvPr/>
        </p:nvSpPr>
        <p:spPr>
          <a:xfrm>
            <a:off x="2895480" y="3124080"/>
            <a:ext cx="35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ssign the issue for corr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2362320" y="3200400"/>
            <a:ext cx="263160" cy="457200"/>
            <a:chOff x="2362320" y="3200400"/>
            <a:chExt cx="263160" cy="457200"/>
          </a:xfrm>
        </p:grpSpPr>
        <p:sp>
          <p:nvSpPr>
            <p:cNvPr id="287" name=""/>
            <p:cNvSpPr/>
            <p:nvPr/>
          </p:nvSpPr>
          <p:spPr>
            <a:xfrm>
              <a:off x="2362320" y="3200400"/>
              <a:ext cx="75960" cy="7524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464560" y="3294720"/>
              <a:ext cx="75960" cy="7524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549520" y="3390120"/>
              <a:ext cx="75960" cy="7524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464560" y="3485520"/>
              <a:ext cx="75960" cy="7524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362320" y="3582360"/>
              <a:ext cx="75960" cy="7524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2362320" y="4495680"/>
            <a:ext cx="263160" cy="457200"/>
            <a:chOff x="2362320" y="4495680"/>
            <a:chExt cx="263160" cy="457200"/>
          </a:xfrm>
        </p:grpSpPr>
        <p:sp>
          <p:nvSpPr>
            <p:cNvPr id="293" name=""/>
            <p:cNvSpPr/>
            <p:nvPr/>
          </p:nvSpPr>
          <p:spPr>
            <a:xfrm>
              <a:off x="2362320" y="4495680"/>
              <a:ext cx="75960" cy="7524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464560" y="4590000"/>
              <a:ext cx="75960" cy="7524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549520" y="4685400"/>
              <a:ext cx="75960" cy="7524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464560" y="4780800"/>
              <a:ext cx="75960" cy="7524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362320" y="4877640"/>
              <a:ext cx="75960" cy="7524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2895480" y="4343400"/>
            <a:ext cx="4114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ign a Corrective Action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0" y="1295280"/>
            <a:ext cx="2057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a9"/>
                </a:solidFill>
                <a:latin typeface="Arial Black"/>
              </a:rPr>
              <a:t>An Action Plan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" descr="">
            <a:hlinkClick r:id="rId1"/>
          </p:cNvPr>
          <p:cNvPicPr/>
          <p:nvPr/>
        </p:nvPicPr>
        <p:blipFill>
          <a:blip r:embed="rId2"/>
          <a:srcRect l="57003" t="66005" r="8002" b="23335"/>
          <a:stretch/>
        </p:blipFill>
        <p:spPr>
          <a:xfrm>
            <a:off x="7315200" y="5867280"/>
            <a:ext cx="1752480" cy="40032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>
            <a:hlinkClick r:id="rId3" action="ppaction://hlinksldjump"/>
          </p:cNvPr>
          <p:cNvPicPr/>
          <p:nvPr/>
        </p:nvPicPr>
        <p:blipFill>
          <a:blip r:embed="rId4"/>
          <a:srcRect l="11999" t="57336" r="38004" b="35973"/>
          <a:stretch/>
        </p:blipFill>
        <p:spPr>
          <a:xfrm>
            <a:off x="228600" y="5867280"/>
            <a:ext cx="3809880" cy="382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382A7-2EDB-4B58-978A-E5D234E3C737}" type="slidenum">
              <a:t>37</a:t>
            </a:fld>
          </a:p>
        </p:txBody>
      </p:sp>
    </p:spTree>
  </p:cSld>
  <p:transition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-360" y="533160"/>
            <a:ext cx="8991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Management Enhancement Worksheet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457200" y="1523880"/>
            <a:ext cx="8305920" cy="4318200"/>
            <a:chOff x="457200" y="1523880"/>
            <a:chExt cx="8305920" cy="4318200"/>
          </a:xfrm>
        </p:grpSpPr>
        <p:pic>
          <p:nvPicPr>
            <p:cNvPr id="304" name="" descr=""/>
            <p:cNvPicPr/>
            <p:nvPr/>
          </p:nvPicPr>
          <p:blipFill>
            <a:blip r:embed="rId1"/>
            <a:srcRect l="12964" t="18034" r="17591" b="0"/>
            <a:stretch/>
          </p:blipFill>
          <p:spPr>
            <a:xfrm>
              <a:off x="457200" y="1523880"/>
              <a:ext cx="8305920" cy="431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"/>
            <p:cNvSpPr/>
            <p:nvPr/>
          </p:nvSpPr>
          <p:spPr>
            <a:xfrm>
              <a:off x="6686640" y="2020320"/>
              <a:ext cx="1730160" cy="518040"/>
            </a:xfrm>
            <a:prstGeom prst="rect">
              <a:avLst/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080000" y="4611240"/>
              <a:ext cx="1038240" cy="0"/>
            </a:xfrm>
            <a:prstGeom prst="line">
              <a:avLst/>
            </a:prstGeom>
            <a:ln w="633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8C469-0CD2-411B-9517-BEE06C493C1E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Management Enhancement Worksheet continued…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990720" y="1523880"/>
            <a:ext cx="7543800" cy="4267080"/>
            <a:chOff x="990720" y="1523880"/>
            <a:chExt cx="7543800" cy="4267080"/>
          </a:xfrm>
        </p:grpSpPr>
        <p:pic>
          <p:nvPicPr>
            <p:cNvPr id="309" name="" descr=""/>
            <p:cNvPicPr/>
            <p:nvPr/>
          </p:nvPicPr>
          <p:blipFill>
            <a:blip r:embed="rId1"/>
            <a:srcRect l="28475" t="28256" r="20140" b="2864"/>
            <a:stretch/>
          </p:blipFill>
          <p:spPr>
            <a:xfrm>
              <a:off x="1180800" y="1523880"/>
              <a:ext cx="7090560" cy="341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0" name="" descr=""/>
            <p:cNvPicPr/>
            <p:nvPr/>
          </p:nvPicPr>
          <p:blipFill>
            <a:blip r:embed="rId2"/>
            <a:srcRect l="27084" t="60147" r="18437" b="26492"/>
            <a:stretch/>
          </p:blipFill>
          <p:spPr>
            <a:xfrm>
              <a:off x="990720" y="4937760"/>
              <a:ext cx="7543800" cy="85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35660-549D-4E4C-8F2E-6C46ED2B72DF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Standards for Participation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rogram Participation Agreemen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actors of financial responsibility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tandards of administrative capability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F5441-A81B-4250-90CD-3F74D30A608A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Effective Practice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novation – Effective Practic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Opportunity to review a successful practice reported by one of your colleagu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Opportunity to report a successful practice to the Departmen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3" name="" descr="">
            <a:hlinkClick r:id="rId1"/>
          </p:cNvPr>
          <p:cNvPicPr/>
          <p:nvPr/>
        </p:nvPicPr>
        <p:blipFill>
          <a:blip r:embed="rId2"/>
          <a:srcRect l="57003" t="66005" r="8002" b="23335"/>
          <a:stretch/>
        </p:blipFill>
        <p:spPr>
          <a:xfrm>
            <a:off x="7315200" y="5867280"/>
            <a:ext cx="1752480" cy="40032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>
            <a:hlinkClick r:id="rId3" action="ppaction://hlinksldjump"/>
          </p:cNvPr>
          <p:cNvPicPr/>
          <p:nvPr/>
        </p:nvPicPr>
        <p:blipFill>
          <a:blip r:embed="rId4"/>
          <a:srcRect l="11999" t="57336" r="38004" b="35973"/>
          <a:stretch/>
        </p:blipFill>
        <p:spPr>
          <a:xfrm>
            <a:off x="228600" y="5867280"/>
            <a:ext cx="3809880" cy="38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59D7E-56A1-4388-A00D-0F80E1DB55E0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83944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FSA Assessments: Innovation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533520" y="1143000"/>
            <a:ext cx="8001000" cy="4659480"/>
            <a:chOff x="533520" y="1143000"/>
            <a:chExt cx="8001000" cy="4659480"/>
          </a:xfrm>
        </p:grpSpPr>
        <p:pic>
          <p:nvPicPr>
            <p:cNvPr id="317" name="" descr=""/>
            <p:cNvPicPr/>
            <p:nvPr/>
          </p:nvPicPr>
          <p:blipFill>
            <a:blip r:embed="rId1"/>
            <a:srcRect l="13158" t="17696" r="17545" b="4660"/>
            <a:stretch/>
          </p:blipFill>
          <p:spPr>
            <a:xfrm>
              <a:off x="533520" y="1143000"/>
              <a:ext cx="8001000" cy="465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"/>
            <p:cNvSpPr/>
            <p:nvPr/>
          </p:nvSpPr>
          <p:spPr>
            <a:xfrm>
              <a:off x="7267320" y="1798200"/>
              <a:ext cx="0" cy="1032840"/>
            </a:xfrm>
            <a:prstGeom prst="line">
              <a:avLst/>
            </a:prstGeom>
            <a:ln w="10152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600960" y="3089880"/>
              <a:ext cx="1466640" cy="258120"/>
            </a:xfrm>
            <a:prstGeom prst="ellipse">
              <a:avLst/>
            </a:prstGeom>
            <a:noFill/>
            <a:ln w="316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B8284-C86A-4008-B001-301A27F5E4B3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Effective Practice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533520" y="1295280"/>
            <a:ext cx="7924320" cy="4419360"/>
            <a:chOff x="533520" y="1295280"/>
            <a:chExt cx="7924320" cy="4419360"/>
          </a:xfrm>
        </p:grpSpPr>
        <p:pic>
          <p:nvPicPr>
            <p:cNvPr id="322" name="" descr=""/>
            <p:cNvPicPr/>
            <p:nvPr/>
          </p:nvPicPr>
          <p:blipFill>
            <a:blip r:embed="rId1"/>
            <a:srcRect l="0" t="28671" r="0" b="0"/>
            <a:stretch/>
          </p:blipFill>
          <p:spPr>
            <a:xfrm>
              <a:off x="533520" y="1295280"/>
              <a:ext cx="6603840" cy="323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3" name="" descr=""/>
            <p:cNvPicPr/>
            <p:nvPr/>
          </p:nvPicPr>
          <p:blipFill>
            <a:blip r:embed="rId2"/>
            <a:srcRect l="21002" t="15334" r="5003" b="5998"/>
            <a:stretch/>
          </p:blipFill>
          <p:spPr>
            <a:xfrm>
              <a:off x="4165560" y="2576880"/>
              <a:ext cx="4292280" cy="313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4" name=""/>
            <p:cNvSpPr/>
            <p:nvPr/>
          </p:nvSpPr>
          <p:spPr>
            <a:xfrm>
              <a:off x="3439080" y="2748240"/>
              <a:ext cx="726480" cy="241920"/>
            </a:xfrm>
            <a:prstGeom prst="ellipse">
              <a:avLst/>
            </a:prstGeom>
            <a:noFill/>
            <a:ln w="316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C1C67-807E-4E8A-A8C4-E9F56008D6E3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urrent Effective Practice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rcRect l="0" t="20670" r="16000" b="9998"/>
          <a:stretch/>
        </p:blipFill>
        <p:spPr>
          <a:xfrm>
            <a:off x="0" y="1219320"/>
            <a:ext cx="9144000" cy="4529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2B296-FAE7-4C4A-8402-71560203BFDD}" type="slidenum">
              <a:t>43</a:t>
            </a:fld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13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Importance of Offices </a:t>
            </a:r>
            <a:br>
              <a:rPr sz="4000"/>
            </a:b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Working Together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0" y="2437920"/>
            <a:ext cx="91440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Times New Roman"/>
              </a:rPr>
              <a:t>“</a:t>
            </a: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Times New Roman"/>
              </a:rPr>
              <a:t>It’s a fact that people working as a team can achieve better results than individuals working alone.”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80173-2D3D-4BDA-976E-24CC3C0B0FA3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Summary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f we can find it – so can you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 the Assessments to fix problems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befo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he auditor or program reviewer finds i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am Approach to the assessments is critic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 the Management Enhancement as a corrective action plan and track progres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EBB96-29B9-4505-89A3-B45ADF4B94BA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Question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32" name=""/>
          <p:cNvSpPr/>
          <p:nvPr/>
        </p:nvSpPr>
        <p:spPr>
          <a:xfrm>
            <a:off x="1752480" y="1447920"/>
            <a:ext cx="5486400" cy="4572000"/>
          </a:xfrm>
          <a:prstGeom prst="roundRect">
            <a:avLst>
              <a:gd name="adj" fmla="val 4366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F7B09-EBC1-447B-9CC4-BC9F21C0227C}" type="slidenum">
              <a:t>46</a:t>
            </a:fld>
          </a:p>
        </p:txBody>
      </p:sp>
    </p:spTree>
  </p:cSld>
  <p:transition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Contact Information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752120" y="2514600"/>
            <a:ext cx="495324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3"/>
              </a:spcBef>
              <a:spcAft>
                <a:spcPts val="113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Julie Arthu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3"/>
              </a:spcBef>
              <a:spcAft>
                <a:spcPts val="113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hone: 206-615-223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3"/>
              </a:spcBef>
              <a:spcAft>
                <a:spcPts val="113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mail: julie.arthur@ed.gov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3"/>
              </a:spcBef>
              <a:spcAft>
                <a:spcPts val="113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ax: 206-615-2508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13"/>
              </a:spcBef>
              <a:spcAft>
                <a:spcPts val="113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3"/>
              </a:spcBef>
              <a:spcAft>
                <a:spcPts val="113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avid Bartlet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3"/>
              </a:spcBef>
              <a:spcAft>
                <a:spcPts val="113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hone: 816-268-043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3"/>
              </a:spcBef>
              <a:spcAft>
                <a:spcPts val="113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-mail: david.bartlett@ed.gov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3"/>
              </a:spcBef>
              <a:spcAft>
                <a:spcPts val="113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ax: 816-823-140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13"/>
              </a:spcBef>
              <a:spcAft>
                <a:spcPts val="113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13"/>
              </a:spcBef>
              <a:spcAft>
                <a:spcPts val="113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13"/>
              </a:spcBef>
              <a:spcAft>
                <a:spcPts val="113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"/>
          <p:cNvSpPr/>
          <p:nvPr/>
        </p:nvSpPr>
        <p:spPr>
          <a:xfrm>
            <a:off x="380880" y="1371600"/>
            <a:ext cx="78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e appreciate your feedback and comments. We can be reached a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0AA7A-6CCC-4462-AFA1-90D19F52A1F1}" type="slidenum">
              <a:t>47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Importance of Administrative Capability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dministrative capability: a standard for particip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34 C.F.R.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Times New Roman"/>
              </a:rPr>
              <a:t>§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668.16 “Standards of Administrative Capability”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rogram review and audit findings may indicate lack of administrative capability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66149-031E-44F7-AAF7-5183EC9DC842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Using Findings to Improve Compliance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120" y="1904760"/>
            <a:ext cx="81536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gram review and audit findings are good starting point for diagnos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view past findings and develop policies and procedures to prevent problems from recurr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eat findings indicate problems that have not been correct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E2112-0C54-4524-A687-3D1274D89116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Findings With Significant Liabilitie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Return of Title IV Fun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Returns not Ma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alculation Error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ade Lat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Verification Violation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3A23F-7425-45A1-AC37-00C6DE950C6F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-360" y="685440"/>
            <a:ext cx="8839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Findings With Significant Liabilitie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ccount Records Inadequate/not Reconciled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consistent Information in Student Fil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Lack of Administrative Capability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DF964-25C3-413A-8D27-F9D7C6A540E3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76680" y="456840"/>
            <a:ext cx="9372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Correcting and Preventing Finding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Aft>
                <a:spcPts val="224"/>
              </a:spcAft>
              <a:buClr>
                <a:srgbClr val="007aa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Return of Title IV Funds (R2T4) Errors, Incomplete, Late, Missing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Aft>
                <a:spcPts val="224"/>
              </a:spcAft>
              <a:buClr>
                <a:srgbClr val="007aa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Verification Incomplete, Missing, Error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Aft>
                <a:spcPts val="201"/>
              </a:spcAft>
              <a:buClr>
                <a:srgbClr val="007aa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itle IV Accounts Not Reconcile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54F3B-1C9C-41DD-A2EC-5C3D970436B2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1T18:31:25Z</dcterms:created>
  <dc:creator>andrew.jones</dc:creator>
  <dc:description/>
  <dc:language>en-US</dc:language>
  <cp:lastModifiedBy>yvette.payne</cp:lastModifiedBy>
  <dcterms:modified xsi:type="dcterms:W3CDTF">2007-12-05T18:11:44Z</dcterms:modified>
  <cp:revision>266</cp:revision>
  <dc:subject/>
  <dc:title>PowerPoint Presentation</dc:title>
</cp:coreProperties>
</file>