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60000" y="720360"/>
            <a:ext cx="479916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EA0EC4B-E856-40CE-A802-E5E1903A06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50880" y="4560480"/>
            <a:ext cx="6013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CEB7-8A92-4D08-ACCC-F0B38D7C8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37EB-78E8-4DDE-8494-CFBFC46B0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D8EF-1E56-416A-A451-76A278F69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4D194-BF01-4A86-945C-DE913F1A1C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3A0D-A63D-4ED3-9257-2EE326F8ED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1454-F86F-4D98-B65C-0950EC57E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8EF8E-9760-4161-B9D9-1055FE5DC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88EC-61A8-4205-A4DE-0460733E4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2E7F-4FA6-429E-AB74-478BFBE07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BA6E-23EF-4313-B515-0B0609EC7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5E29-E83C-4216-896D-63F9E4D16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4497-9E15-4A58-863F-50C1F06DC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E0AC-C68E-4899-A717-0F3A7B1C1826}" type="slidenum">
              <a:rPr b="1" lang="en-US" sz="2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hyperlink" Target="http://fsa4schools.ed.gov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4.png"/><Relationship Id="rId3" Type="http://schemas.openxmlformats.org/officeDocument/2006/relationships/slide" Target="slide16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fap.ed.gov/qahome/fsaassessment.html" TargetMode="External"/><Relationship Id="rId2" Type="http://schemas.openxmlformats.org/officeDocument/2006/relationships/image" Target="../media/image4.png"/><Relationship Id="rId3" Type="http://schemas.openxmlformats.org/officeDocument/2006/relationships/slide" Target="slide24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fap.ed.gov/qahome/fsaassessment.html" TargetMode="External"/><Relationship Id="rId2" Type="http://schemas.openxmlformats.org/officeDocument/2006/relationships/image" Target="../media/image4.png"/><Relationship Id="rId3" Type="http://schemas.openxmlformats.org/officeDocument/2006/relationships/slide" Target="slide31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ifap.ed.gov/qahome/fsaassessment.html" TargetMode="External"/><Relationship Id="rId3" Type="http://schemas.openxmlformats.org/officeDocument/2006/relationships/image" Target="../media/image4.png"/><Relationship Id="rId4" Type="http://schemas.openxmlformats.org/officeDocument/2006/relationships/slide" Target="slide37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fap.ed.gov/qahome/qaassessments/fiscalmanagement.html" TargetMode="External"/><Relationship Id="rId2" Type="http://schemas.openxmlformats.org/officeDocument/2006/relationships/image" Target="../media/image4.png"/><Relationship Id="rId3" Type="http://schemas.openxmlformats.org/officeDocument/2006/relationships/slide" Target="slide40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fap.ed.gov/qahome/fsaassessment.html" TargetMode="External"/><Relationship Id="rId2" Type="http://schemas.openxmlformats.org/officeDocument/2006/relationships/image" Target="../media/image4.png"/><Relationship Id="rId3" Type="http://schemas.openxmlformats.org/officeDocument/2006/relationships/slide" Target="slide44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13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FSA Assessment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An Opportunity to Improve Complia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lie Arth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vid Bartlet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28600" y="2209320"/>
            <a:ext cx="4952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FA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ifap.ed.gov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ere to find the Federal Student Aid Assess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25004" t="35337" r="45165" b="24879"/>
          <a:stretch/>
        </p:blipFill>
        <p:spPr>
          <a:xfrm>
            <a:off x="5181480" y="19051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191120" y="4419720"/>
            <a:ext cx="106668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033A-8F41-4742-AF72-E9D91ECBC1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733920" y="2971800"/>
          <a:ext cx="40384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971800"/>
                    <a:ext cx="40384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 txBox="1"/>
          <p:nvPr/>
        </p:nvSpPr>
        <p:spPr>
          <a:xfrm>
            <a:off x="837720" y="1294920"/>
            <a:ext cx="723924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chool Port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http://FSA4schools.ed.go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ere to find the Federal Student Aid Assess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495680"/>
            <a:ext cx="106668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rcRect l="57003" t="66005" r="8002" b="23335"/>
          <a:stretch/>
        </p:blipFill>
        <p:spPr>
          <a:xfrm>
            <a:off x="7315200" y="5867280"/>
            <a:ext cx="1752480" cy="4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181D-179E-4D9E-8A9D-D8D8B604A94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800600" y="1897200"/>
            <a:ext cx="3657600" cy="3360600"/>
          </a:xfrm>
          <a:prstGeom prst="roundRect">
            <a:avLst>
              <a:gd name="adj" fmla="val 4722"/>
            </a:avLst>
          </a:prstGeom>
          <a:solidFill>
            <a:srgbClr val="f46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1897200"/>
            <a:ext cx="3657600" cy="3360600"/>
          </a:xfrm>
          <a:prstGeom prst="roundRect">
            <a:avLst>
              <a:gd name="adj" fmla="val 4722"/>
            </a:avLst>
          </a:prstGeom>
          <a:solidFill>
            <a:srgbClr val="b4d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Redesign of the Assessment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2125800"/>
            <a:ext cx="27432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Look and F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14400" y="2049480"/>
            <a:ext cx="263160" cy="457200"/>
            <a:chOff x="914400" y="2049480"/>
            <a:chExt cx="263160" cy="457200"/>
          </a:xfrm>
        </p:grpSpPr>
        <p:sp>
          <p:nvSpPr>
            <p:cNvPr id="152" name=""/>
            <p:cNvSpPr/>
            <p:nvPr/>
          </p:nvSpPr>
          <p:spPr>
            <a:xfrm>
              <a:off x="914400" y="20494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16640" y="21438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01600" y="22392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16640" y="23346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14400" y="24314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952880" y="2049480"/>
            <a:ext cx="263160" cy="457200"/>
            <a:chOff x="4952880" y="2049480"/>
            <a:chExt cx="263160" cy="457200"/>
          </a:xfrm>
        </p:grpSpPr>
        <p:sp>
          <p:nvSpPr>
            <p:cNvPr id="158" name=""/>
            <p:cNvSpPr/>
            <p:nvPr/>
          </p:nvSpPr>
          <p:spPr>
            <a:xfrm>
              <a:off x="4952880" y="20494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55120" y="21438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40080" y="22392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55120" y="23346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52880" y="24314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410080" y="2125800"/>
            <a:ext cx="28958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the New Policy and Procedure Assess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/>
          </p:cNvPr>
          <p:cNvPicPr/>
          <p:nvPr/>
        </p:nvPicPr>
        <p:blipFill>
          <a:blip r:embed="rId2"/>
          <a:srcRect l="57003" t="66005" r="8002" b="23335"/>
          <a:stretch/>
        </p:blipFill>
        <p:spPr>
          <a:xfrm>
            <a:off x="7315200" y="5867280"/>
            <a:ext cx="1752480" cy="400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3" action="ppaction://hlinksldjump"/>
          </p:cNvPr>
          <p:cNvPicPr/>
          <p:nvPr/>
        </p:nvPicPr>
        <p:blipFill>
          <a:blip r:embed="rId4"/>
          <a:srcRect l="11999" t="57336" r="38004" b="35973"/>
          <a:stretch/>
        </p:blipFill>
        <p:spPr>
          <a:xfrm>
            <a:off x="228600" y="5867280"/>
            <a:ext cx="3809880" cy="38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8E63-31E5-4B72-A616-6A9E81682977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9524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SA Assessments – Four Categori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0520" y="1295280"/>
            <a:ext cx="8154000" cy="4572000"/>
            <a:chOff x="380520" y="1295280"/>
            <a:chExt cx="8154000" cy="4572000"/>
          </a:xfrm>
        </p:grpSpPr>
        <p:graphicFrame>
          <p:nvGraphicFramePr>
            <p:cNvPr id="168" name=""/>
            <p:cNvGraphicFramePr/>
            <p:nvPr/>
          </p:nvGraphicFramePr>
          <p:xfrm>
            <a:off x="380880" y="1295280"/>
            <a:ext cx="8153640" cy="457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1295280"/>
                      <a:ext cx="8153640" cy="45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0" name=""/>
            <p:cNvGrpSpPr/>
            <p:nvPr/>
          </p:nvGrpSpPr>
          <p:grpSpPr>
            <a:xfrm>
              <a:off x="380520" y="3299400"/>
              <a:ext cx="8154000" cy="2054520"/>
              <a:chOff x="380520" y="3299400"/>
              <a:chExt cx="8154000" cy="2054520"/>
            </a:xfrm>
          </p:grpSpPr>
          <p:pic>
            <p:nvPicPr>
              <p:cNvPr id="171" name="" descr=""/>
              <p:cNvPicPr/>
              <p:nvPr/>
            </p:nvPicPr>
            <p:blipFill>
              <a:blip r:embed="rId3"/>
              <a:srcRect l="23157" t="44006" r="10799" b="52013"/>
              <a:stretch/>
            </p:blipFill>
            <p:spPr>
              <a:xfrm>
                <a:off x="380880" y="4802400"/>
                <a:ext cx="8153640" cy="551520"/>
              </a:xfrm>
              <a:prstGeom prst="rect">
                <a:avLst/>
              </a:prstGeom>
              <a:ln w="9360">
                <a:solidFill>
                  <a:srgbClr val="ff6600"/>
                </a:solidFill>
                <a:miter/>
              </a:ln>
            </p:spPr>
          </p:pic>
          <p:sp>
            <p:nvSpPr>
              <p:cNvPr id="172" name=""/>
              <p:cNvSpPr/>
              <p:nvPr/>
            </p:nvSpPr>
            <p:spPr>
              <a:xfrm flipH="1">
                <a:off x="380520" y="3424320"/>
                <a:ext cx="1766520" cy="137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922880" y="3424320"/>
                <a:ext cx="611280" cy="137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47400" y="3299400"/>
                <a:ext cx="5775480" cy="187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3E0F-EDDC-4E75-81EB-1E76C0BF61C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A Assessments Char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33520" y="1371600"/>
          <a:ext cx="77295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77295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600200" y="3200400"/>
            <a:ext cx="1295280" cy="45720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3CCD-36ED-43E6-B674-6960B808999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A Assessments Char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9958" t="24646" r="3959" b="20481"/>
          <a:stretch/>
        </p:blipFill>
        <p:spPr>
          <a:xfrm>
            <a:off x="703440" y="1219320"/>
            <a:ext cx="7678440" cy="45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2980-7232-454F-9E24-1F0D0E8F1B3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1219320"/>
            <a:ext cx="8534160" cy="228600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Aft>
                <a:spcPts val="224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turn of Title IV Funds (R2T4) Errors, Incomplete, Late, Miss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224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rification Incomplete, Missing, Err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201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itle IV Accounts Not Reconcil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33520"/>
            <a:ext cx="9372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rrecting and Preventing 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6224-92D6-4422-A7AA-B5B78133D9F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200"/>
            </a:br>
            <a:endParaRPr b="1" lang="en-US" sz="2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of Title IV Funds (R2T4) Errors, Incomplete, Late, Mis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040" indent="32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ing Funds - Review R2T4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040" indent="32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ies and Procedures Assess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040" indent="32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ies and Procedures At a G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040" indent="32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858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A Assessments – Policies and Proced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/>
          </p:cNvPr>
          <p:cNvPicPr/>
          <p:nvPr/>
        </p:nvPicPr>
        <p:blipFill>
          <a:blip r:embed="rId2"/>
          <a:srcRect l="57003" t="66005" r="8002" b="23335"/>
          <a:stretch/>
        </p:blipFill>
        <p:spPr>
          <a:xfrm>
            <a:off x="7315200" y="5867280"/>
            <a:ext cx="1752480" cy="400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3" action="ppaction://hlinksldjump"/>
          </p:cNvPr>
          <p:cNvPicPr/>
          <p:nvPr/>
        </p:nvPicPr>
        <p:blipFill>
          <a:blip r:embed="rId4"/>
          <a:srcRect l="11999" t="57336" r="38004" b="35973"/>
          <a:stretch/>
        </p:blipFill>
        <p:spPr>
          <a:xfrm>
            <a:off x="228600" y="5867280"/>
            <a:ext cx="380988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C93B-249C-4A7A-9169-18E8A12F180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turn of Title IV Fund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295280"/>
          <a:ext cx="91440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5181480" y="4267080"/>
            <a:ext cx="1676520" cy="38124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2514600"/>
            <a:ext cx="0" cy="121932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B4FD-BFA5-438C-A7F0-E6AECFD7717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turn of Title IV Fund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62120" y="1295280"/>
            <a:ext cx="7467480" cy="4572000"/>
            <a:chOff x="762120" y="1295280"/>
            <a:chExt cx="7467480" cy="457200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rcRect l="0" t="16002" r="3000" b="4001"/>
            <a:stretch/>
          </p:blipFill>
          <p:spPr>
            <a:xfrm>
              <a:off x="762120" y="1295280"/>
              <a:ext cx="74674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429160" y="2835000"/>
              <a:ext cx="1991160" cy="30780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96CB-E954-41B0-B75A-0B17754EE2D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57400" y="3048120"/>
            <a:ext cx="5105520" cy="914400"/>
          </a:xfrm>
          <a:prstGeom prst="roundRect">
            <a:avLst>
              <a:gd name="adj" fmla="val 9722"/>
            </a:avLst>
          </a:prstGeom>
          <a:solidFill>
            <a:srgbClr val="b4d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905120"/>
            <a:ext cx="5105520" cy="914400"/>
          </a:xfrm>
          <a:prstGeom prst="roundRect">
            <a:avLst>
              <a:gd name="adj" fmla="val 9722"/>
            </a:avLst>
          </a:prstGeom>
          <a:solidFill>
            <a:srgbClr val="006a9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4191120"/>
            <a:ext cx="5105520" cy="1295280"/>
          </a:xfrm>
          <a:prstGeom prst="roundRect">
            <a:avLst>
              <a:gd name="adj" fmla="val 9722"/>
            </a:avLst>
          </a:prstGeom>
          <a:solidFill>
            <a:srgbClr val="f46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318280" y="4264200"/>
            <a:ext cx="1648800" cy="802800"/>
            <a:chOff x="5318280" y="4264200"/>
            <a:chExt cx="1648800" cy="802800"/>
          </a:xfrm>
        </p:grpSpPr>
        <p:grpSp>
          <p:nvGrpSpPr>
            <p:cNvPr id="53" name=""/>
            <p:cNvGrpSpPr/>
            <p:nvPr/>
          </p:nvGrpSpPr>
          <p:grpSpPr>
            <a:xfrm>
              <a:off x="5318280" y="4264200"/>
              <a:ext cx="1085400" cy="228240"/>
              <a:chOff x="5318280" y="4264200"/>
              <a:chExt cx="1085400" cy="228240"/>
            </a:xfrm>
          </p:grpSpPr>
          <p:sp>
            <p:nvSpPr>
              <p:cNvPr id="54" name=""/>
              <p:cNvSpPr/>
              <p:nvPr/>
            </p:nvSpPr>
            <p:spPr>
              <a:xfrm>
                <a:off x="5318280" y="426420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603760" y="426420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889240" y="426420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175080" y="426420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5626080" y="4551480"/>
              <a:ext cx="1085400" cy="228240"/>
              <a:chOff x="5626080" y="4551480"/>
              <a:chExt cx="1085400" cy="228240"/>
            </a:xfrm>
          </p:grpSpPr>
          <p:sp>
            <p:nvSpPr>
              <p:cNvPr id="59" name=""/>
              <p:cNvSpPr/>
              <p:nvPr/>
            </p:nvSpPr>
            <p:spPr>
              <a:xfrm>
                <a:off x="5626080" y="455148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11560" y="455148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197040" y="455148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482880" y="455148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881680" y="4838760"/>
              <a:ext cx="1085400" cy="228240"/>
              <a:chOff x="5881680" y="4838760"/>
              <a:chExt cx="1085400" cy="228240"/>
            </a:xfrm>
          </p:grpSpPr>
          <p:sp>
            <p:nvSpPr>
              <p:cNvPr id="64" name=""/>
              <p:cNvSpPr/>
              <p:nvPr/>
            </p:nvSpPr>
            <p:spPr>
              <a:xfrm>
                <a:off x="5881680" y="483876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167160" y="483876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452640" y="483876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738480" y="483876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" name=""/>
          <p:cNvGrpSpPr/>
          <p:nvPr/>
        </p:nvGrpSpPr>
        <p:grpSpPr>
          <a:xfrm>
            <a:off x="5318280" y="3102120"/>
            <a:ext cx="1648800" cy="802800"/>
            <a:chOff x="5318280" y="3102120"/>
            <a:chExt cx="1648800" cy="802800"/>
          </a:xfrm>
        </p:grpSpPr>
        <p:grpSp>
          <p:nvGrpSpPr>
            <p:cNvPr id="69" name=""/>
            <p:cNvGrpSpPr/>
            <p:nvPr/>
          </p:nvGrpSpPr>
          <p:grpSpPr>
            <a:xfrm>
              <a:off x="5318280" y="3102120"/>
              <a:ext cx="1085400" cy="228240"/>
              <a:chOff x="5318280" y="3102120"/>
              <a:chExt cx="1085400" cy="228240"/>
            </a:xfrm>
          </p:grpSpPr>
          <p:sp>
            <p:nvSpPr>
              <p:cNvPr id="70" name=""/>
              <p:cNvSpPr/>
              <p:nvPr/>
            </p:nvSpPr>
            <p:spPr>
              <a:xfrm>
                <a:off x="5318280" y="310212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603760" y="310212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889240" y="310212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175080" y="310212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5626080" y="3389400"/>
              <a:ext cx="1085400" cy="228240"/>
              <a:chOff x="5626080" y="3389400"/>
              <a:chExt cx="1085400" cy="228240"/>
            </a:xfrm>
          </p:grpSpPr>
          <p:sp>
            <p:nvSpPr>
              <p:cNvPr id="75" name=""/>
              <p:cNvSpPr/>
              <p:nvPr/>
            </p:nvSpPr>
            <p:spPr>
              <a:xfrm>
                <a:off x="5626080" y="338940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911560" y="338940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197040" y="338940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482880" y="338940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881680" y="3676680"/>
              <a:ext cx="1085400" cy="228240"/>
              <a:chOff x="5881680" y="3676680"/>
              <a:chExt cx="1085400" cy="228240"/>
            </a:xfrm>
          </p:grpSpPr>
          <p:sp>
            <p:nvSpPr>
              <p:cNvPr id="80" name=""/>
              <p:cNvSpPr/>
              <p:nvPr/>
            </p:nvSpPr>
            <p:spPr>
              <a:xfrm>
                <a:off x="5881680" y="367668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167160" y="367668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452640" y="367668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38480" y="367668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5318280" y="1941480"/>
            <a:ext cx="1648800" cy="802800"/>
            <a:chOff x="5318280" y="1941480"/>
            <a:chExt cx="1648800" cy="802800"/>
          </a:xfrm>
        </p:grpSpPr>
        <p:grpSp>
          <p:nvGrpSpPr>
            <p:cNvPr id="85" name=""/>
            <p:cNvGrpSpPr/>
            <p:nvPr/>
          </p:nvGrpSpPr>
          <p:grpSpPr>
            <a:xfrm>
              <a:off x="5318280" y="1941480"/>
              <a:ext cx="1085400" cy="228240"/>
              <a:chOff x="5318280" y="1941480"/>
              <a:chExt cx="1085400" cy="228240"/>
            </a:xfrm>
          </p:grpSpPr>
          <p:sp>
            <p:nvSpPr>
              <p:cNvPr id="86" name=""/>
              <p:cNvSpPr/>
              <p:nvPr/>
            </p:nvSpPr>
            <p:spPr>
              <a:xfrm>
                <a:off x="5318280" y="194148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603760" y="194148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889240" y="194148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75080" y="194148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5626080" y="2228760"/>
              <a:ext cx="1085400" cy="228240"/>
              <a:chOff x="5626080" y="2228760"/>
              <a:chExt cx="1085400" cy="228240"/>
            </a:xfrm>
          </p:grpSpPr>
          <p:sp>
            <p:nvSpPr>
              <p:cNvPr id="91" name=""/>
              <p:cNvSpPr/>
              <p:nvPr/>
            </p:nvSpPr>
            <p:spPr>
              <a:xfrm>
                <a:off x="5626080" y="2228760"/>
                <a:ext cx="22788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911560" y="2228760"/>
                <a:ext cx="22788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197040" y="222876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82880" y="222876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5881680" y="2516040"/>
              <a:ext cx="1085400" cy="228240"/>
              <a:chOff x="5881680" y="2516040"/>
              <a:chExt cx="1085400" cy="228240"/>
            </a:xfrm>
          </p:grpSpPr>
          <p:sp>
            <p:nvSpPr>
              <p:cNvPr id="96" name=""/>
              <p:cNvSpPr/>
              <p:nvPr/>
            </p:nvSpPr>
            <p:spPr>
              <a:xfrm>
                <a:off x="5881680" y="2516040"/>
                <a:ext cx="22788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167160" y="2516040"/>
                <a:ext cx="22788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452640" y="251604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38480" y="251604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91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are the FSA Assessments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21337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 non-compl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0" y="2133720"/>
            <a:ext cx="263160" cy="457200"/>
            <a:chOff x="2286000" y="2133720"/>
            <a:chExt cx="263160" cy="457200"/>
          </a:xfrm>
        </p:grpSpPr>
        <p:sp>
          <p:nvSpPr>
            <p:cNvPr id="103" name=""/>
            <p:cNvSpPr/>
            <p:nvPr/>
          </p:nvSpPr>
          <p:spPr>
            <a:xfrm>
              <a:off x="2286000" y="21337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88240" y="22280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73200" y="23234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88240" y="24188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6000" y="25156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743200" y="31240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compliance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362320" y="3200400"/>
            <a:ext cx="263160" cy="457200"/>
            <a:chOff x="2362320" y="3200400"/>
            <a:chExt cx="263160" cy="457200"/>
          </a:xfrm>
        </p:grpSpPr>
        <p:sp>
          <p:nvSpPr>
            <p:cNvPr id="110" name=""/>
            <p:cNvSpPr/>
            <p:nvPr/>
          </p:nvSpPr>
          <p:spPr>
            <a:xfrm>
              <a:off x="2362320" y="32004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64560" y="32947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49520" y="33901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64560" y="34855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62320" y="358236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362320" y="4572000"/>
            <a:ext cx="263160" cy="457200"/>
            <a:chOff x="2362320" y="4572000"/>
            <a:chExt cx="263160" cy="457200"/>
          </a:xfrm>
        </p:grpSpPr>
        <p:sp>
          <p:nvSpPr>
            <p:cNvPr id="116" name=""/>
            <p:cNvSpPr/>
            <p:nvPr/>
          </p:nvSpPr>
          <p:spPr>
            <a:xfrm>
              <a:off x="2362320" y="45720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64560" y="46663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49520" y="47617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64560" y="48571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62320" y="495396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743200" y="4267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blish Action Planning steps to correc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752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ool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220E-0602-451B-9004-DC0C34D5E02B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etting Started Developing Policies and Procedur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0" y="1447920"/>
            <a:ext cx="9144000" cy="4266720"/>
            <a:chOff x="0" y="1447920"/>
            <a:chExt cx="9144000" cy="426672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rcRect l="8999" t="26000" r="14002" b="4668"/>
            <a:stretch/>
          </p:blipFill>
          <p:spPr>
            <a:xfrm>
              <a:off x="0" y="1447920"/>
              <a:ext cx="9144000" cy="426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"/>
            <a:srcRect l="15957" t="48491" r="15957" b="29925"/>
            <a:stretch/>
          </p:blipFill>
          <p:spPr>
            <a:xfrm>
              <a:off x="762120" y="4254120"/>
              <a:ext cx="8381880" cy="14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85800" y="2615040"/>
              <a:ext cx="8229600" cy="546120"/>
            </a:xfrm>
            <a:prstGeom prst="ellipse">
              <a:avLst/>
            </a:prstGeom>
            <a:noFill/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69F7-3A81-447D-8245-F6875BA09BF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etting Started with P &amp; P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0880" y="1066680"/>
            <a:ext cx="8381880" cy="4724280"/>
            <a:chOff x="380880" y="1066680"/>
            <a:chExt cx="8381880" cy="472428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rcRect l="3000" t="23335" r="12121" b="38323"/>
            <a:stretch/>
          </p:blipFill>
          <p:spPr>
            <a:xfrm>
              <a:off x="380880" y="1066680"/>
              <a:ext cx="823968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"/>
            <a:srcRect l="4001" t="55339" r="11002" b="23335"/>
            <a:stretch/>
          </p:blipFill>
          <p:spPr>
            <a:xfrm>
              <a:off x="522720" y="3797280"/>
              <a:ext cx="8240040" cy="19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A9F1-7A49-4127-A684-64F20A2A13A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 &amp; P at a Glanc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28600" y="1143000"/>
            <a:ext cx="8458200" cy="4571640"/>
            <a:chOff x="228600" y="1143000"/>
            <a:chExt cx="8458200" cy="457164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rcRect l="8999" t="26000" r="14002" b="4668"/>
            <a:stretch/>
          </p:blipFill>
          <p:spPr>
            <a:xfrm>
              <a:off x="228600" y="1143000"/>
              <a:ext cx="8458200" cy="451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2"/>
            <a:srcRect l="15957" t="48491" r="15957" b="29925"/>
            <a:stretch/>
          </p:blipFill>
          <p:spPr>
            <a:xfrm>
              <a:off x="933480" y="4166640"/>
              <a:ext cx="775296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259440" y="3909240"/>
              <a:ext cx="3735360" cy="643320"/>
            </a:xfrm>
            <a:prstGeom prst="ellipse">
              <a:avLst/>
            </a:prstGeom>
            <a:noFill/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6CFA9-ED54-471A-B591-A89309574FE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 &amp; P At a Glanc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7922" t="26000" r="6930" b="4668"/>
          <a:stretch/>
        </p:blipFill>
        <p:spPr>
          <a:xfrm>
            <a:off x="457200" y="1219320"/>
            <a:ext cx="8229600" cy="45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CB8C-2AED-497D-8A71-8960F33AB53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Aft>
                <a:spcPts val="224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turn of Title IV Funds (R2T4) Errors, Incomplete, Late, Miss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224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rification Incomplete, Missing, Err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201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itle IV Accounts Not Reconcil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3352680"/>
            <a:ext cx="8534160" cy="167652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rrecting and Preventing Finding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FAA2-1DA0-4ED8-B21F-C6B549D51F6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A Assessments - Activities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Finding: 2 – Verification Incomple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Verification Assessment - 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vity 4: Resolving Conflicting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vity 5: Professional Judg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" descr="">
            <a:hlinkClick r:id="rId1"/>
          </p:cNvPr>
          <p:cNvPicPr/>
          <p:nvPr/>
        </p:nvPicPr>
        <p:blipFill>
          <a:blip r:embed="rId2"/>
          <a:srcRect l="57003" t="66005" r="8002" b="23335"/>
          <a:stretch/>
        </p:blipFill>
        <p:spPr>
          <a:xfrm>
            <a:off x="7315200" y="5867280"/>
            <a:ext cx="1752480" cy="4003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>
            <a:hlinkClick r:id="rId3" action="ppaction://hlinksldjump"/>
          </p:cNvPr>
          <p:cNvPicPr/>
          <p:nvPr/>
        </p:nvPicPr>
        <p:blipFill>
          <a:blip r:embed="rId4"/>
          <a:srcRect l="11999" t="57336" r="38004" b="35973"/>
          <a:stretch/>
        </p:blipFill>
        <p:spPr>
          <a:xfrm>
            <a:off x="228600" y="5867280"/>
            <a:ext cx="380988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5328-38D9-4CC6-A459-AC456879B21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A Assessments – Verific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09480" y="1066680"/>
            <a:ext cx="7772400" cy="4648320"/>
            <a:chOff x="609480" y="1066680"/>
            <a:chExt cx="7772400" cy="4648320"/>
          </a:xfrm>
        </p:grpSpPr>
        <p:graphicFrame>
          <p:nvGraphicFramePr>
            <p:cNvPr id="225" name=""/>
            <p:cNvGraphicFramePr/>
            <p:nvPr/>
          </p:nvGraphicFramePr>
          <p:xfrm>
            <a:off x="609480" y="1066680"/>
            <a:ext cx="7772400" cy="464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066680"/>
                      <a:ext cx="7772400" cy="464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7" name=""/>
            <p:cNvSpPr/>
            <p:nvPr/>
          </p:nvSpPr>
          <p:spPr>
            <a:xfrm>
              <a:off x="2098800" y="3907080"/>
              <a:ext cx="1360080" cy="322920"/>
            </a:xfrm>
            <a:prstGeom prst="ellipse">
              <a:avLst/>
            </a:prstGeom>
            <a:noFill/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82000" y="2163960"/>
              <a:ext cx="0" cy="96840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949F-F55A-47D1-B0A4-01F28B23CCF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3352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ctivity 4 and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ctivity 5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09680" y="685800"/>
            <a:ext cx="6400800" cy="5105520"/>
            <a:chOff x="2209680" y="685800"/>
            <a:chExt cx="6400800" cy="510552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rcRect l="26388" t="14322" r="18749" b="0"/>
            <a:stretch/>
          </p:blipFill>
          <p:spPr>
            <a:xfrm>
              <a:off x="3287520" y="685800"/>
              <a:ext cx="532296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2209680" y="3913920"/>
              <a:ext cx="942840" cy="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71960" y="3857040"/>
              <a:ext cx="2425320" cy="17064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64960" y="3857040"/>
              <a:ext cx="1077840" cy="17064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7B7A0-7632-4247-B513-0403CE6E94F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762120" y="1371600"/>
            <a:ext cx="7391160" cy="4419720"/>
            <a:chOff x="762120" y="1371600"/>
            <a:chExt cx="7391160" cy="441972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rcRect l="26854" t="22951" r="12964" b="10452"/>
            <a:stretch/>
          </p:blipFill>
          <p:spPr>
            <a:xfrm>
              <a:off x="762120" y="1371600"/>
              <a:ext cx="739116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894960" y="2391480"/>
              <a:ext cx="732240" cy="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94960" y="3479400"/>
              <a:ext cx="732240" cy="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94960" y="4227480"/>
              <a:ext cx="732240" cy="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94960" y="4907520"/>
              <a:ext cx="732240" cy="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Activity 4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CDEB-122D-4250-8011-1D8E7070A31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rcRect l="26854" t="24593" r="12964" b="34499"/>
          <a:stretch/>
        </p:blipFill>
        <p:spPr>
          <a:xfrm>
            <a:off x="304920" y="1752480"/>
            <a:ext cx="8458200" cy="3807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Activity 5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3A9C-5B6E-478D-83E5-5CF5B03D8E2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y use the FSA Assessments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Title IV compli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an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a program re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rrect deficiencies and eliminate repeat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or update policies and proce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656D-0137-47C7-81E9-46709280A6B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rcRect l="27819" t="26551" r="13929" b="14547"/>
          <a:stretch/>
        </p:blipFill>
        <p:spPr>
          <a:xfrm>
            <a:off x="380880" y="990720"/>
            <a:ext cx="8382240" cy="48765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ctivity 5 continued…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AACD-9EFB-4C6A-BDA0-6B33C45A688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Aft>
                <a:spcPts val="224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turn of Title IV Funds (R2T4) Errors, Incomplete, Late, Miss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224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rification Incomplete, Missing, Err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201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itle IV Accounts Not Reconcil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4800600"/>
            <a:ext cx="8534520" cy="114300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rrecting and Preventing Finding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EBD8-2A4E-41E7-BD32-C9A5760090F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conciliation Workshee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Finding: 3 – Title IV Accounts Not Reconcil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Managing Funds – Fiscal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Activity 1 – Reconciliation Workshe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Year End and Monthly Workshe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1676520" cy="5102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rId2"/>
          </p:cNvPr>
          <p:cNvPicPr/>
          <p:nvPr/>
        </p:nvPicPr>
        <p:blipFill>
          <a:blip r:embed="rId3"/>
          <a:srcRect l="57003" t="66005" r="8002" b="23335"/>
          <a:stretch/>
        </p:blipFill>
        <p:spPr>
          <a:xfrm>
            <a:off x="7315200" y="5867280"/>
            <a:ext cx="1752480" cy="400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4" action="ppaction://hlinksldjump"/>
          </p:cNvPr>
          <p:cNvPicPr/>
          <p:nvPr/>
        </p:nvPicPr>
        <p:blipFill>
          <a:blip r:embed="rId5"/>
          <a:srcRect l="11999" t="57336" r="38004" b="35973"/>
          <a:stretch/>
        </p:blipFill>
        <p:spPr>
          <a:xfrm>
            <a:off x="228600" y="5867280"/>
            <a:ext cx="380988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20CD-8769-460F-AE5F-482D7A2F7F9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533520" y="1143000"/>
            <a:ext cx="8076960" cy="4572000"/>
            <a:chOff x="533520" y="1143000"/>
            <a:chExt cx="8076960" cy="4572000"/>
          </a:xfrm>
        </p:grpSpPr>
        <p:graphicFrame>
          <p:nvGraphicFramePr>
            <p:cNvPr id="255" name=""/>
            <p:cNvGraphicFramePr/>
            <p:nvPr/>
          </p:nvGraphicFramePr>
          <p:xfrm>
            <a:off x="533520" y="1143000"/>
            <a:ext cx="8076960" cy="457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143000"/>
                      <a:ext cx="8076960" cy="45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7" name=""/>
            <p:cNvSpPr/>
            <p:nvPr/>
          </p:nvSpPr>
          <p:spPr>
            <a:xfrm>
              <a:off x="5110200" y="3359880"/>
              <a:ext cx="1211400" cy="276840"/>
            </a:xfrm>
            <a:prstGeom prst="ellipse">
              <a:avLst/>
            </a:prstGeom>
            <a:noFill/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16080" y="1905120"/>
              <a:ext cx="0" cy="1246680"/>
            </a:xfrm>
            <a:prstGeom prst="line">
              <a:avLst/>
            </a:prstGeom>
            <a:ln w="1015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anaging Funds – Fiscal Mgm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E423-CAF0-417F-B537-C02E58D6F9E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839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conciliation &amp; Fiscal Mgm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09480" y="1295280"/>
            <a:ext cx="7925040" cy="4496040"/>
            <a:chOff x="609480" y="1295280"/>
            <a:chExt cx="7925040" cy="449604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rcRect l="12964" t="17642" r="16669" b="0"/>
            <a:stretch/>
          </p:blipFill>
          <p:spPr>
            <a:xfrm>
              <a:off x="609480" y="1295280"/>
              <a:ext cx="792504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703760" y="2168640"/>
              <a:ext cx="3302280" cy="335160"/>
            </a:xfrm>
            <a:prstGeom prst="ellipse">
              <a:avLst/>
            </a:prstGeom>
            <a:noFill/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296E-A899-4AB0-8364-F1BEB88F17C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conciliation Workshee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295280"/>
            <a:ext cx="8153280" cy="4496040"/>
            <a:chOff x="533520" y="1295280"/>
            <a:chExt cx="8153280" cy="4496040"/>
          </a:xfrm>
        </p:grpSpPr>
        <p:pic>
          <p:nvPicPr>
            <p:cNvPr id="266" name="" descr=""/>
            <p:cNvPicPr/>
            <p:nvPr/>
          </p:nvPicPr>
          <p:blipFill>
            <a:blip r:embed="rId1"/>
            <a:srcRect l="28705" t="26230" r="20370" b="0"/>
            <a:stretch/>
          </p:blipFill>
          <p:spPr>
            <a:xfrm>
              <a:off x="533520" y="1295280"/>
              <a:ext cx="3865320" cy="449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2"/>
            <a:srcRect l="28475" t="26731" r="21528" b="2864"/>
            <a:stretch/>
          </p:blipFill>
          <p:spPr>
            <a:xfrm>
              <a:off x="4637880" y="1363320"/>
              <a:ext cx="4048920" cy="44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376640" y="3543120"/>
              <a:ext cx="2319480" cy="204120"/>
            </a:xfrm>
            <a:prstGeom prst="ellipse">
              <a:avLst/>
            </a:prstGeom>
            <a:noFill/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01920" y="2248920"/>
              <a:ext cx="3584520" cy="24523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6CFB-11CC-44E5-A704-6E775CC1405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scal year end workshee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27779" t="24593" r="13890" b="18034"/>
          <a:stretch/>
        </p:blipFill>
        <p:spPr>
          <a:xfrm>
            <a:off x="304920" y="1295280"/>
            <a:ext cx="5181480" cy="31957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272" name=""/>
          <p:cNvSpPr/>
          <p:nvPr/>
        </p:nvSpPr>
        <p:spPr>
          <a:xfrm>
            <a:off x="2176560" y="4251240"/>
            <a:ext cx="2374920" cy="32076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rcRect l="25000" t="24823" r="22224" b="15274"/>
          <a:stretch/>
        </p:blipFill>
        <p:spPr>
          <a:xfrm>
            <a:off x="4743360" y="2209680"/>
            <a:ext cx="4400640" cy="34988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78A2-4F7F-4D16-AF3A-58C3B047982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057400" y="4191120"/>
            <a:ext cx="4952880" cy="1218960"/>
          </a:xfrm>
          <a:prstGeom prst="roundRect">
            <a:avLst>
              <a:gd name="adj" fmla="val 9722"/>
            </a:avLst>
          </a:prstGeom>
          <a:solidFill>
            <a:srgbClr val="f46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3048120"/>
            <a:ext cx="4952880" cy="914400"/>
          </a:xfrm>
          <a:prstGeom prst="roundRect">
            <a:avLst>
              <a:gd name="adj" fmla="val 9722"/>
            </a:avLst>
          </a:prstGeom>
          <a:solidFill>
            <a:srgbClr val="b4d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1897200"/>
            <a:ext cx="4952880" cy="914400"/>
          </a:xfrm>
          <a:prstGeom prst="roundRect">
            <a:avLst>
              <a:gd name="adj" fmla="val 9722"/>
            </a:avLst>
          </a:prstGeom>
          <a:solidFill>
            <a:srgbClr val="006a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anagement Enhancem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19810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compliance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362320" y="2049480"/>
            <a:ext cx="263160" cy="457200"/>
            <a:chOff x="2362320" y="2049480"/>
            <a:chExt cx="263160" cy="457200"/>
          </a:xfrm>
        </p:grpSpPr>
        <p:sp>
          <p:nvSpPr>
            <p:cNvPr id="280" name=""/>
            <p:cNvSpPr/>
            <p:nvPr/>
          </p:nvSpPr>
          <p:spPr>
            <a:xfrm>
              <a:off x="2362320" y="20494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64560" y="21438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49520" y="22392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64560" y="23346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62320" y="24314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895480" y="31240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 the issue for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362320" y="3200400"/>
            <a:ext cx="263160" cy="457200"/>
            <a:chOff x="2362320" y="3200400"/>
            <a:chExt cx="263160" cy="457200"/>
          </a:xfrm>
        </p:grpSpPr>
        <p:sp>
          <p:nvSpPr>
            <p:cNvPr id="287" name=""/>
            <p:cNvSpPr/>
            <p:nvPr/>
          </p:nvSpPr>
          <p:spPr>
            <a:xfrm>
              <a:off x="2362320" y="32004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64560" y="32947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49520" y="33901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464560" y="34855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62320" y="358236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362320" y="4495680"/>
            <a:ext cx="263160" cy="457200"/>
            <a:chOff x="2362320" y="4495680"/>
            <a:chExt cx="263160" cy="457200"/>
          </a:xfrm>
        </p:grpSpPr>
        <p:sp>
          <p:nvSpPr>
            <p:cNvPr id="293" name=""/>
            <p:cNvSpPr/>
            <p:nvPr/>
          </p:nvSpPr>
          <p:spPr>
            <a:xfrm>
              <a:off x="2362320" y="44956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64560" y="45900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9520" y="46854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64560" y="47808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62320" y="48776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895480" y="4343400"/>
            <a:ext cx="4114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a Corrective Actio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2952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a9"/>
                </a:solidFill>
                <a:latin typeface="Arial Black"/>
              </a:rPr>
              <a:t>An Action Pla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>
            <a:hlinkClick r:id="rId1"/>
          </p:cNvPr>
          <p:cNvPicPr/>
          <p:nvPr/>
        </p:nvPicPr>
        <p:blipFill>
          <a:blip r:embed="rId2"/>
          <a:srcRect l="57003" t="66005" r="8002" b="23335"/>
          <a:stretch/>
        </p:blipFill>
        <p:spPr>
          <a:xfrm>
            <a:off x="7315200" y="5867280"/>
            <a:ext cx="1752480" cy="400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>
            <a:hlinkClick r:id="rId3" action="ppaction://hlinksldjump"/>
          </p:cNvPr>
          <p:cNvPicPr/>
          <p:nvPr/>
        </p:nvPicPr>
        <p:blipFill>
          <a:blip r:embed="rId4"/>
          <a:srcRect l="11999" t="57336" r="38004" b="35973"/>
          <a:stretch/>
        </p:blipFill>
        <p:spPr>
          <a:xfrm>
            <a:off x="228600" y="5867280"/>
            <a:ext cx="3809880" cy="38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B29A-F7B9-4EC7-936E-BF4060D389CC}" type="slidenum">
              <a:t>37</a:t>
            </a:fld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91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anagement Enhancement Workshee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57200" y="1523880"/>
            <a:ext cx="8305920" cy="4318200"/>
            <a:chOff x="457200" y="1523880"/>
            <a:chExt cx="8305920" cy="431820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rcRect l="12964" t="18034" r="17591" b="0"/>
            <a:stretch/>
          </p:blipFill>
          <p:spPr>
            <a:xfrm>
              <a:off x="457200" y="1523880"/>
              <a:ext cx="8305920" cy="431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6686640" y="2020320"/>
              <a:ext cx="1730160" cy="5180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80000" y="4611240"/>
              <a:ext cx="1038240" cy="0"/>
            </a:xfrm>
            <a:prstGeom prst="line">
              <a:avLst/>
            </a:prstGeom>
            <a:ln w="63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5E46-27FA-4A36-B3C3-B5213CDBC44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anagement Enhancement Worksheet continued…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990720" y="1523880"/>
            <a:ext cx="7543800" cy="4267080"/>
            <a:chOff x="990720" y="1523880"/>
            <a:chExt cx="7543800" cy="4267080"/>
          </a:xfrm>
        </p:grpSpPr>
        <p:pic>
          <p:nvPicPr>
            <p:cNvPr id="309" name="" descr=""/>
            <p:cNvPicPr/>
            <p:nvPr/>
          </p:nvPicPr>
          <p:blipFill>
            <a:blip r:embed="rId1"/>
            <a:srcRect l="28475" t="28256" r="20140" b="2864"/>
            <a:stretch/>
          </p:blipFill>
          <p:spPr>
            <a:xfrm>
              <a:off x="1180800" y="1523880"/>
              <a:ext cx="7090560" cy="341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2"/>
            <a:srcRect l="27084" t="60147" r="18437" b="26492"/>
            <a:stretch/>
          </p:blipFill>
          <p:spPr>
            <a:xfrm>
              <a:off x="990720" y="4937760"/>
              <a:ext cx="7543800" cy="85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86AE-0118-4190-AE07-B03B8ACC4C0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andards for Particip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 Participation Agre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ctors of financial responsibi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andards of administrative capabi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5011-8E02-4BBF-8C2B-6722EA94FE6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ffective Practi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novation – Effective Practic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pportunity to review a successful practice reported by one of your colleag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pportunity to report a successful practice to the Depart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" descr="">
            <a:hlinkClick r:id="rId1"/>
          </p:cNvPr>
          <p:cNvPicPr/>
          <p:nvPr/>
        </p:nvPicPr>
        <p:blipFill>
          <a:blip r:embed="rId2"/>
          <a:srcRect l="57003" t="66005" r="8002" b="23335"/>
          <a:stretch/>
        </p:blipFill>
        <p:spPr>
          <a:xfrm>
            <a:off x="7315200" y="5867280"/>
            <a:ext cx="1752480" cy="4003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>
            <a:hlinkClick r:id="rId3" action="ppaction://hlinksldjump"/>
          </p:cNvPr>
          <p:cNvPicPr/>
          <p:nvPr/>
        </p:nvPicPr>
        <p:blipFill>
          <a:blip r:embed="rId4"/>
          <a:srcRect l="11999" t="57336" r="38004" b="35973"/>
          <a:stretch/>
        </p:blipFill>
        <p:spPr>
          <a:xfrm>
            <a:off x="228600" y="5867280"/>
            <a:ext cx="380988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3A2E-50FA-4831-B7FB-C1E9357B6E3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A Assessments: Innov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33520" y="1143000"/>
            <a:ext cx="8001000" cy="4659480"/>
            <a:chOff x="533520" y="1143000"/>
            <a:chExt cx="8001000" cy="4659480"/>
          </a:xfrm>
        </p:grpSpPr>
        <p:pic>
          <p:nvPicPr>
            <p:cNvPr id="317" name="" descr=""/>
            <p:cNvPicPr/>
            <p:nvPr/>
          </p:nvPicPr>
          <p:blipFill>
            <a:blip r:embed="rId1"/>
            <a:srcRect l="13158" t="17696" r="17545" b="4660"/>
            <a:stretch/>
          </p:blipFill>
          <p:spPr>
            <a:xfrm>
              <a:off x="533520" y="1143000"/>
              <a:ext cx="8001000" cy="46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267320" y="1798200"/>
              <a:ext cx="0" cy="1032840"/>
            </a:xfrm>
            <a:prstGeom prst="line">
              <a:avLst/>
            </a:prstGeom>
            <a:ln w="1015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00960" y="3089880"/>
              <a:ext cx="1466640" cy="258120"/>
            </a:xfrm>
            <a:prstGeom prst="ellipse">
              <a:avLst/>
            </a:prstGeom>
            <a:noFill/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659E0-3E78-4D95-8688-5569AFC2DFB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ffective Practi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33520" y="1295280"/>
            <a:ext cx="7924320" cy="4419360"/>
            <a:chOff x="533520" y="1295280"/>
            <a:chExt cx="7924320" cy="4419360"/>
          </a:xfrm>
        </p:grpSpPr>
        <p:pic>
          <p:nvPicPr>
            <p:cNvPr id="322" name="" descr=""/>
            <p:cNvPicPr/>
            <p:nvPr/>
          </p:nvPicPr>
          <p:blipFill>
            <a:blip r:embed="rId1"/>
            <a:srcRect l="0" t="28671" r="0" b="0"/>
            <a:stretch/>
          </p:blipFill>
          <p:spPr>
            <a:xfrm>
              <a:off x="533520" y="1295280"/>
              <a:ext cx="6603840" cy="323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2"/>
            <a:srcRect l="21002" t="15334" r="5003" b="5998"/>
            <a:stretch/>
          </p:blipFill>
          <p:spPr>
            <a:xfrm>
              <a:off x="4165560" y="2576880"/>
              <a:ext cx="4292280" cy="31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439080" y="2748240"/>
              <a:ext cx="726480" cy="241920"/>
            </a:xfrm>
            <a:prstGeom prst="ellipse">
              <a:avLst/>
            </a:prstGeom>
            <a:noFill/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9D67-D8A5-478E-9B82-28FBD9C6084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urrent Effective Practic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rcRect l="0" t="20670" r="16000" b="9998"/>
          <a:stretch/>
        </p:blipFill>
        <p:spPr>
          <a:xfrm>
            <a:off x="0" y="1219320"/>
            <a:ext cx="9144000" cy="452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CFF5-D430-4D04-9801-A366923ECF9D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mportance of Offices 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orking Togethe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Times New Roman"/>
              </a:rPr>
              <a:t>It’s a fact that people working as a team can achieve better results than individuals working alone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28BF8-3FED-4308-AE37-8A43B128C75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mmar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we can find it – so can yo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the Assessments to fix problem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auditor or program reviewer finds 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am Approach to the assessments is critic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the Management Enhancement as a corrective action plan and track progr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28D9-3DE2-480F-B6E9-B2E96781509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Ques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1752480" y="1447920"/>
            <a:ext cx="5486400" cy="4572000"/>
          </a:xfrm>
          <a:prstGeom prst="roundRect">
            <a:avLst>
              <a:gd name="adj" fmla="val 4366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AA83-8D10-4BC1-B60A-4E1F3B32CEE5}" type="slidenum">
              <a:t>46</a:t>
            </a:fld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52120" y="2514600"/>
            <a:ext cx="4953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ulie Arth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one: 206-615-223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ail: julie.arthur@ed.go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x: 206-615-250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Bartlet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one: 816-268-04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-mail: david.bartlett@ed.go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x: 816-823-140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380880" y="13716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DB0A-CAE9-47BF-A768-705FE4470876}" type="slidenum">
              <a:t>47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mportance of Administrative Capabilit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dministrative capability: a standard for particip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34 C.F.R.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§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668.16 “Standards of Administrative Capability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 review and audit findings may indicate lack of administrative capabi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6249-754C-4389-8DF7-EDEB6467201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Using Findings to Improve Complianc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 review and audit findings are good starting point for diagno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past findings and develop policies and procedures to prevent problems from recur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eat findings indicate problems that have not been correc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7E95-5582-429A-AA50-F41EBDF13E2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ndings With Significant Liabiliti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turn of Title IV Fu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turns not Ma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lculation Err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de L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rification Viol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E403-3B12-4DBE-8E3F-FA547A0F521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ndings With Significant Liabiliti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ount Records Inadequate/not Reconcil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onsistent Information in Student Fi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ack of Administrative Capabi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F6A4-3DE4-4197-B62A-4EFCB15F143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76680" y="45684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rrecting and Preventing Finding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Aft>
                <a:spcPts val="224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turn of Title IV Funds (R2T4) Errors, Incomplete, Late, Miss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224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rification Incomplete, Missing, Err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201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itle IV Accounts Not Reconcil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B3DF-E1FB-46EF-A662-80C25845079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11:44Z</dcterms:modified>
  <cp:revision>266</cp:revision>
  <dc:subject/>
  <dc:title>PowerPoint Presentation</dc:title>
</cp:coreProperties>
</file>