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7499F-1411-492D-AE35-B739D50F5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ded to ensure that a school produces a check that a student may pick up at a specified loca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es where schools held credit balances longer than 14 days waiting for students to make a disbursement selec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is solely responsible for making timely credit balance payments – may not depend or rely on stu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otes use of electronic funds transf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icy or enforcement of policy may not delay the disbursement of title IV f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school opens or establishes process for opening bank accounts, for the most part codified the guidance in GEN-05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nk account is a checking, savings account or account that underlies a stored-value card.  Account must be insured by the FDIC or National Credit Union Share Insurance F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ims against the account can only be made after getting the student’s permission or to correct an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ost for the initial card issu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nient access means branch office or ATM on campus, on school-owned facilities, or immediately adjacent to camp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36F-D250-4848-A9F3-29E05A28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549-73BB-471C-8BC4-5279781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694-5CE6-4CE9-9FCF-A18FE5D2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7C9-5224-45B3-8183-0B744870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3B6-987A-4526-92F9-EC0287D0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11F-8C7B-4552-9A95-BDEABC7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C29-83A4-49AE-B8CA-21BA161B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C19-53AB-4CA7-A8E2-058558BD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EDD-FEF2-45E0-8816-755CBD6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642-A22F-4AE8-9278-4987236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94C-E644-412D-8C5A-FB11A2A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FA2-2A00-4E39-93F6-36412A5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A4D-EC65-4FC3-913D-0AE4303B167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Michelle.Belton@ed.gov" TargetMode="External"/><Relationship Id="rId2" Type="http://schemas.openxmlformats.org/officeDocument/2006/relationships/hyperlink" Target="mailto:brian.kerrigan@ed.go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1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l Provisions Regulations Pack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chelle Belt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ian Kerrig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ll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d calculation from Pell Grant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larified definition of full-time student for correspondenc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461-3159-4787-812F-2E2541131E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alf-time student &amp; Three-quarter 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definitions in the Pell Grant program regulations were moved to the General Provisions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184-993D-4C80-AB5D-40DF79644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“definition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study for direct  assessme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equal in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ly comple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of aid when recipient does not begin cl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827-D488-477D-9DB5-B354831BE6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rect Assessment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applies to Direct Assessme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se of study with predefined objectives determined by student &amp; prof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regular and substantive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E3B-BF9B-4EDA-BE5D-850662559A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reatment of Aid when recipient does not begin class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olidated Return to Title IV requirements in General Provi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return Title IV funds used to pay a student’s expenses within 30 days of discovering a student has failed to attend cla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restricted from disbursing funds to any student who they know will not be starting classes (i.e., a student who has been expell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DC5-594F-479B-850D-A807A18372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reatment of Aid when recipient does not begin class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ey Points (continu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not required to return funds that are disbursed directly to a student in a study abroad program or who is attending a foreign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 notify lenders to issue a final demand notice to thes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4C6-B831-49AB-AE88-2427A7C3C6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ith standard terms or terms that are substantially eq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ith terms that are not substantially eq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s w/o terms or clock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ort default rate exem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used abs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w/i 180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after 180 days or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33A-B171-48DB-B9A7-BF053A13C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standard terms or terms that are substantially equ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with terms that are not substantially equal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s and Perkin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 and D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½ the credit hours and ½ the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s w/o terms or clock hour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½ the (credit or clock) hours and ½ the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CCF-F942-4CAD-B63B-503DD52A4C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cohort default rate exemption appli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loan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used absences count i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 does not exceed the lesser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ing agency policy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gency policy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B40-83DF-44CD-8140-20D84EF29F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lvl="1" marL="505080" indent="-194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w/i 180 day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ay in the sam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after 180 days or transfer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ulate new payment periods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main in the same payment period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enrollmen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similar coursewor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equal payment periods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or no changes in charges, &amp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s are accepted in new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32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F98-00B6-4847-942D-945CD1186C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otiated Rule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Register Notice - Aug. 18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onal hea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keley, CA             - Sep. 19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cago, IL                - Oct. 5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lando, FL                - Nov. 2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hington, DC          - Nov. 9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DBA-9BD4-42EA-BA48-4F5C45DA1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period for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ith standard terms or terms substantially equal, with no term less than 9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 hours or credit hours w/o standard terms and w/o terms that are substantially equal with no term less than 9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ing one program and immediately starting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151-E547-4B97-949B-C05DD4C42E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nimum Period for a Lo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 with standard terms or terms substantially equal, with no term less than 9 week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lock hours or credit hours w/o standard terms and w/o terms that are substantially equal with no less than 9 week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lesser 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length of the progr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or the remaining portion of the program)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669-A32D-4C0A-A1A0-4E018C9B4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nimum Period for a Lo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ransfer student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remaining portion of the program or academic ye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The student can get the remaining balance of the annual lo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ompleting one program and immediately starting anothe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remainder of the academic ye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The student can get the remaining balance of the annual loan limit at the loan level of the new progra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3D2-DD61-49FB-9EBF-7D6233FFF5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year prog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s with standard terms or terms substantially equal, with no term less than 9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 with non-standard terms that are not substantially equal or each term is not at least 9 weeks or credit hours w/o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 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C8F-75C6-4E45-A44B-7E13B91220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 Progre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standard terms or terms substantially equal, with no term less than 9 week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student progresses when the academic year calendar period elap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204-EA82-43B1-B6EC-9373B848E0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 Progre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non-standard terms that are not substantially equal or each term is not at least 9 weeks or credit hours w/o term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student progresses at the later 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week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cours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2ED-3C30-4A7D-8C75-9FE4D2C121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 Progre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lock hour program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student progresses at the later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week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clock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65E-95D5-4D77-AE23-1E1C43845B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rmation not needed for PWD of grant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WD of grant funds asap but no later than 45 days after the institution determines the student withdr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WD of loan funds asap but no later than 180 days after the institution determines the student withdr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payment period that ends later (see next sl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981-A926-4B60-A7A2-B511722E32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non-standard terms that are not substantially equal in length—if the payment period is used for calculation and the student gets:  1) grants and/or a Perkins (where the payment period is the term), and 2) an FFEL or DL (where the payment period is ½ the hours and ½ the weeks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se the payment period that ends later,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ttribute funds to the payment period that ends l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AE2-88C8-45E9-8365-7177D8C136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ademic Year is 24 credit hours &amp; 30 wee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: 1 = 10 wks, 2 = 6 wks, 3 = 14 wk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FEL (DL) PP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FFEL (DL) PP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 weeks                               15 wee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D at day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weeks               6 weeks                      14 week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t PP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Grant PP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Grant PP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erkins)           (Perkins)             (Perki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6668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6176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429000"/>
            <a:ext cx="2590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621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5268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02920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77320" y="419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429000"/>
            <a:ext cx="76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429000"/>
            <a:ext cx="11430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429000"/>
            <a:ext cx="457200" cy="6094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76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971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953-6BE6-4CFC-81AE-8B9DAFEE19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3329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 (continued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negotiating committees were establish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Prov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Competitiveness &amp; National SMART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otiations from December - Ju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0A6-767B-498B-9313-25522311D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D was at day 50 (which is in both the FFEL/DL PP1 and the Grant/Perkins PP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student got an FFEL and a P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/DL PP1             = 15 weeks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/Perkins PP1     = 10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the payment period that ends later* and us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CA4-932E-4553-B99E-BE45518E24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P 1 = 10/30 X $4,310 =  $1,43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P 2 =   6/30 X $4,310 =  $   862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P 3 = 14/30 X $4,310 =  $2,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e the portion of Pell from the Pell PP 2 to be included as Aid That Could Have Been Disbursed (as if Pell was disbursed for the FFEL PP 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ttribution for 5 wks of Pell from PP 2 is: 5/6 X $862* = $718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4F4-813D-4FCE-8D0A-EF51051492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Title IV Aid disbursed or could have been disbursed for R2T4 calcul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 PP 1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= $1,7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PP 1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= $1,437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ion from Pell PP 2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= $   7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                              $3,9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6D1-4505-49A7-ADE1-54609F1A7A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 Pell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Formula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hours for full-time per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least 30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2 semesters or trimesters (fall through spring) or 3 quarters (fall, winter, spring) with no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2 semesters or trimesters or 3 quarters that have periodic starts (e.g., monthly), where students are not in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9DF-1F12-453D-A447-359333D229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 Pell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/o terms and clock hour programs (Formula 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Pell x the lesser o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ur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ek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ek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D0B-DBA7-45A9-9AB2-0C98560873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 Pell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spondence programs w/o terms (Formula 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-time amt x the lesser o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ur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ek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ek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D77-3E3E-4877-A8AC-443A9EA8D7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n ACG/S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Formula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hours for full-time per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least 30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2 semesters or trimesters (fall through spring) or 3 quarters (fall, winter, spring) with no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2 semesters or trimesters or 3 quarters that have periodic starts (e.g., monthly), where students are not in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4B1-8DEB-44FE-84AD-3EDD6F8BBC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n ACG/S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/o terms and clock hour programs (Formula 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award x the lesser o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ur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ek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ek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AD9-6934-4194-BD91-A06D8391EB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ing a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 prior-year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ing unclaimed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cancellation notice and confirmation of a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 c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4BE-E32F-4E6B-BEF4-8DB3374516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ssuing a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d on date mailed or date student no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21 days to pick up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21 days, school must mail check, initiate EFT or return the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49C-5F55-47E9-AEDB-E689567610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2880" y="1371600"/>
            <a:ext cx="85107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reach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8, 2007 NPR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ed the proposed regulatory language agreed to by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2 public comments received by end of comment period (September 7, 200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rules:  November 1,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date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y 1, 200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85E-69C1-48CF-AB4C-CB3EAA7B9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have a policy requiring students to have bank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udent does not have or want an account, school must disburse funds in another 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opens an account or actively assists student, certain conditions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204-ABDA-413A-AB66-DACE4974BDE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obtain student’s written consent to open the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 student of terms and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make any claims against the funds in the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ost to student for opening account or receiving debit or stored-value 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7B4-3E50-49CA-8708-18127B0956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that student has convenient access to branch office or ATM, no fees for cash withdraw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not limit use of the card to certain vend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market or portray card as a credit 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BF8-659C-4888-8028-78A147DA262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inor prior-year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ount increases to not more than $2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need to get student’s permission for tuition and fees or room and 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current year funds to cover prior-year charges of more than $2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5F4-5C70-458E-9EED-42428896AE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 period extended from 120 to 180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ate disbursements after 180 da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F80-41DE-4893-AC4B-33CC15BB40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turning unclaimed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cashed check must be returned no later than 240 days after check issu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heck or EFT is returned, can make additional attempts to re-disbu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mpts must be made no later than 45 days after EFT or check is retur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fund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scheat to th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AC2-A23F-4970-8020-395C15D22E6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an notice and confi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obtains affirmative confirmation, current loan notice procedures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confirm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notify student not earlier than 30 but no later than 7 days after crediting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give student 30 days to cancel loan or loan dis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33A-0507-4977-8C13-F782AE9206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an notice and confi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irmative confirmation is a process where a school obtains written confirmation of the types and amounts of title IV loans the student wants for an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obtained before loan funds are disbur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signed award letters, web-based process for accepting aw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5D0-FB8D-44D6-963A-07B4433DF0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ss C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ny title IV funds received from ED that are deposited or transferred into a federal account as a result of an award cancellation, adjustment, or re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the 1% tolerance option is reta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may trigger cash monitoring or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858-4459-46D7-8711-A5A1F969BF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Michelle.Belton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(202) 502-78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rian.Kerrigan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 (202) 219-705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 Number                  (202) 502-787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67B-D293-4C6D-888B-7B4C6DB32A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or professional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quarter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B2A-8973-4D88-A315-12876B2FC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ve bachelor’s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requires professional licen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of examples, including J.D., D.V.M., D.D.S., Pharm. 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7FB-3DC6-42FE-8ECE-E42DEECD6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duate or professional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key poi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/Prof students cannot receive undergraduate level aid and graduate level aid at sam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can change a student’s status from “undergraduate” to “graduate or professional” once a student has completed at least 3 years at undergraduate le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8A4-9163-4B63-B8AD-784A45EEC7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dergraduat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rkins, FFEL, and DL programs, any student who takes courses at or below the baccalaureate level is an undergrad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, ACG, SMART, and FSEOG a student is only an undergraduate if she is pursuing her first bachelor’s degree or be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3CF-D994-468F-BC48-5D82A993F9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dergraduate student (cont’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, a student who has a bachelor’s and is studying to earn a state-required teaching certification could be an undergrad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three years of a dual degree program students are undergradu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four years of a program lasting longer than five years that leads to a bachelor’s degre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BE2-6133-4A5C-B53D-3249C45F4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09:43Z</dcterms:modified>
  <cp:revision>339</cp:revision>
  <dc:subject/>
  <dc:title>PowerPoint Presentation</dc:title>
</cp:coreProperties>
</file>