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C6274-2038-41CA-91A7-678AD1355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ded to ensure that a school produces a check that a student may pick up at a specified loca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ses where schools held credit balances longer than 14 days waiting for students to make a disbursement selec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is solely responsible for making timely credit balance payments – may not depend or rely on stu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motes use of electronic funds transf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icy or enforcement of policy may not delay the disbursement of title IV f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school opens or establishes process for opening bank accounts, for the most part codified the guidance in GEN-05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nk account is a checking, savings account or account that underlies a stored-value card.  Account must be insured by the FDIC or National Credit Union Share Insurance Fu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ims against the account can only be made after getting the student’s permission or to correct an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ost for the initial card issu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nient access means branch office or ATM on campus, on school-owned facilities, or immediately adjacent to camp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DF5-7038-49CB-B0DE-7E52DB1B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11F-26A2-46C3-8A63-CE93004E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46F-61B1-4E49-854F-D130FF93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10F-7295-46B7-B479-6A299EA4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F5D-DD60-4EE2-83B0-7B65188E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AD8-9742-4F61-95BD-C1EF64E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E62-CA89-4149-9D26-47A9D757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8B7-F6C8-4480-882A-5951AE3C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602-E92A-48BD-8CC1-47F40676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697-E570-4D38-BB3B-4B091AF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D2E-4C62-4AE7-93EA-1EA5A90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D70-2931-4253-B842-90B8BEE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45C-6216-4105-8D6B-658C8DFBF88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Michelle.Belton@ed.gov" TargetMode="External"/><Relationship Id="rId2" Type="http://schemas.openxmlformats.org/officeDocument/2006/relationships/hyperlink" Target="mailto:brian.kerrigan@ed.go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 1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ral Provisions Regulations Packag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chelle Belt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rian Kerrig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ll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d calculation from Pell Grant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larified definition of full-time student for correspondenc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AFB-604E-4126-858A-3AA0633693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alf-time student &amp; Three-quarter 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definitions in the Pell Grant program regulations were moved to the General Provisions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A9F-57C7-4987-B07B-C000BCC9E0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“definition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study for direct  assessme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equal in 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ly comple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of aid when recipient does not begin cla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33F-338F-430F-89C3-92EFBDCA48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Direct Assessment Program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applies to Direct Assessment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se of study with predefined objectives determined by student &amp; prof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regular and substantive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71D-0F60-4A40-8C77-61B277CEA6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reatment of Aid when recipient does not begin class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olidated Return to Title IV requirements in General Provi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return Title IV funds used to pay a student’s expenses within 30 days of discovering a student has failed to attend cla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restricted from disbursing funds to any student who they know will not be starting classes (i.e., a student who has been expell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CDD-7216-4E0B-A4D2-7F4D8ADBDF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reatment of Aid when recipient does not begin class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Key Points (continu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not required to return funds that are disbursed directly to a student in a study abroad program or who is attending a foreign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 notify lenders to issue a final demand notice to thes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063-BEA7-4B74-A663-4DA631202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ith standard terms or terms that are substantially eq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ith terms that are not substantially eq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s w/o terms or clock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ort default rate exem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used abs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w/i 180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after 180 days or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AE7-3244-4FA8-B218-C55CE8948E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standard terms or terms that are substantially equ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with terms that are not substantially equal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s and Perkin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 and D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½ the credit hours and ½ the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s w/o terms or clock hour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½ the (credit or clock) hours and ½ the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AAD-0450-4C28-B911-056A302F69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cohort default rate exemption appli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loan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used absences count i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 does not exceed the lesser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ing agency policy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gency policy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CA7-F825-458E-B84E-8198B4B4F1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yment Perio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lvl="1" marL="505080" indent="-194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w/i 180 day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tay in the sam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-194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try after 180 days or transfer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ulate new payment periods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main in the same payment period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enrollmen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similar coursework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equal payment periods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or no changes in charges, &amp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-1551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s are accepted in new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8792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772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05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32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F5C-5E8E-4B01-8666-22BF792BE4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otiated Rule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Register Notice - Aug. 18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onal hea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keley, CA             - Sep. 19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cago, IL                - Oct. 5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lando, FL                - Nov. 2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hington, DC          - Nov. 9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624-E2E1-40A4-9957-BD5BE01060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period for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ith standard terms or terms substantially equal, with no term less than 9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 hours or credit hours w/o standard terms and w/o terms that are substantially equal with no term less than 9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ing one program and immediately starting ano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3B4-0B93-4F09-B9BD-989F8AF95F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nimum Period for a Lo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 with standard terms or terms substantially equal, with no term less than 9 week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lock hours or credit hours w/o standard terms and w/o terms that are substantially equal with no less than 9 week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lesser 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length of the progra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or the remaining portion of the program)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F12-C820-4954-9071-C6696318EE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inimum Period for a Lo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transfer student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remaining portion of the program or academic ye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The student can get the remaining balance of the annual lo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ompleting one program and immediately starting anothe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’s the remainder of the academic ye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The student can get the remaining balance of the annual loan limit at the loan level of the new progra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C6E-4E4A-4254-AE07-7C96B15E07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year prog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s with standard terms or terms substantially equal, with no term less than 9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 with non-standard terms that are not substantially equal or each term is not at least 9 weeks or credit hours w/o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 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3CF-1F93-4499-8A6F-64AB385171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 Progre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standard terms or terms substantially equal, with no term less than 9 week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student progresses when the academic year calendar period elap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333-1D1F-4D53-8591-458DC84B76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 Progre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non-standard terms that are not substantially equal or each term is not at least 9 weeks or credit hours w/o term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student progresses at the later 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week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course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0E4-AA8D-4DAA-8B61-74FE76A82C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cademic Year Progress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lock hour program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student progresses at the later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week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mpletion of the clock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3EA-C46D-4548-9EFD-416E8967B1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rmation not needed for PWD of grant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WD of grant funds asap but no later than 45 days after the institution determines the student withdr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WD of loan funds asap but no later than 180 days after the institution determines the student withdr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payment period that ends later (see next sl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05F-876F-48E8-A9C1-443AA9395D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credit hour programs with non-standard terms that are not substantially equal in length—if the payment period is used for calculation and the student gets:  1) grants and/or a Perkins (where the payment period is the term), and 2) an FFEL or DL (where the payment period is ½ the hours and ½ the weeks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se the payment period that ends later,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ttribute funds to the payment period that ends l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C74-A1FC-4CD3-ACEE-5BA99869D4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ademic Year is 24 credit hours &amp; 30 wee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s: 1 = 10 wks, 2 = 6 wks, 3 = 14 wk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FEL (DL) PP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FFEL (DL) PP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 weeks                               15 wee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D at day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weeks               6 weeks                      14 week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t PP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Grant PP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Grant PP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erkins)           (Perkins)             (Perki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6668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6176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429000"/>
            <a:ext cx="2590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621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5268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029200" y="4495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77320" y="4190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429000"/>
            <a:ext cx="76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429000"/>
            <a:ext cx="11430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429000"/>
            <a:ext cx="457200" cy="6094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76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971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305-024A-48B5-B9BC-4D69FF0EB0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3329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story (continued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negotiating committees were establish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Prov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ademic Competitiveness &amp; National SMART Gr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otiations from December - Ju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26B-1206-480F-9F26-8D78A8AE9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D was at day 50 (which is in both the FFEL/DL PP1 and the Grant/Perkins PP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 student got an FFEL and a P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/DL PP1             = 15 weeks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nt/Perkins PP1     = 10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the payment period that ends later* and us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0C6-5AE9-4E33-8C69-DB8CFE399C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P 1 = 10/30 X $4,310 =  $1,43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P 2 =   6/30 X $4,310 =  $   862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P 3 = 14/30 X $4,310 =  $2,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e the portion of Pell from the Pell PP 2 to be included as Aid That Could Have Been Disbursed (as if Pell was disbursed for the FFEL PP 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ttribution for 5 wks of Pell from PP 2 is: 5/6 X $862* = $718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FAE-1D74-4177-83C1-CC488AB279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2T4 Chang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Title IV Aid disbursed or could have been disbursed for R2T4 calcul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FEL PP 1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= $1,7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PP 1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= $1,437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ion from Pell PP 2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= $   7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                              $3,9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509-80ED-4159-8262-EBBE7CE8C9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 Pell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Formula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hours for full-time per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least 30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2 semesters or trimesters (fall through spring) or 3 quarters (fall, winter, spring) with no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2 semesters or trimesters or 3 quarters that have periodic starts (e.g., monthly), where students are not in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6EB-5F99-480B-B3FC-EC1B439360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 Pell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/o terms and clock hour programs (Formula 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Pell x the lesser o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ur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ek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ek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908-FF26-42C9-911A-4F9CBA5460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 Pell Gra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spondence programs w/o terms (Formula 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-time amt x the lesser o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ur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ek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ek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BDB-E526-4A1E-A031-AEFB8291E0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n ACG/S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Formula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 hours for full-time per te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least 30 wee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2 semesters or trimesters (fall through spring) or 3 quarters (fall, winter, spring) with no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2 semesters or trimesters or 3 quarters that have periodic starts (e.g., monthly), where students are not in overlapping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2B4-4B3D-4FC0-BA4E-1FB7AA3A2A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lculation of an ACG/SMAR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dit hour w/o terms and clock hour programs (Formula 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award x the lesser o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ur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eks in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eks in the academic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B01-6D59-4513-ACD0-C7A4678910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h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ing a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 prior-year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ing unclaimed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cancellation notice and confirmation of a lo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 c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69F-961E-4385-93E8-B9462E1AEB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ssuing a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d on date mailed or date student no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has 21 days to pick up ch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21 days, school must mail check, initiate EFT or return the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42F-06B4-4FF2-B9A8-CD4EF72041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2880" y="1371600"/>
            <a:ext cx="85107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reach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gust 8, 2007 NPR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ed the proposed regulatory language agreed to by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2 public comments received by end of comment period (September 7, 200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rules:  November 1,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date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ly 1, 200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6C4-72E0-409D-BCDD-394E12EB59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have a policy requiring students to have bank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udent does not have or want an account, school must disburse funds in another 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opens an account or actively assists student, certain conditions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AB6-BF8D-49EE-9CBA-02DC770AF34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obtain student’s written consent to open the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 student of terms and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make any claims against the funds in the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ost to student for opening account or receiving debit or stored-value 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CFD-5404-4350-A705-91899C9458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ectronic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that student has convenient access to branch office or ATM, no fees for cash withdraw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may not limit use of the card to certain vend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market or portray card as a credit 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A9F-1FA1-4745-990F-9047C148E9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inor prior-year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ount increases to not more than $2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need to get student’s permission for tuition and fees or room and 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current year funds to cover prior-year charges of more than $2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B7B-C3A1-4928-A5E5-A070766ED8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disbursement period extended from 120 to 180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ate disbursements after 180 da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D34-4EC2-4006-863C-2D48397D7B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turning unclaimed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cashed check must be returned no later than 240 days after check issu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check or EFT is returned, can make additional attempts to re-disbu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mpts must be made no later than 45 days after EFT or check is retur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fund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scheat to th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A57-55AF-48A9-A462-282CF11580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an notice and confi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obtains affirmative confirmation, current loan notice procedures app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confirm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notify student not earlier than 30 but no later than 7 days after crediting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give student 30 days to cancel loan or loan dis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C6A-E144-450D-9E1A-7F28213A3BC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an notice and confi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irmative confirmation is a process where a school obtains written confirmation of the types and amounts of title IV loans the student wants for an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obtained before loan funds are disbur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signed award letters, web-based process for accepting aw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23F-86B8-4F11-BFFE-42C8A604D2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ash Managemen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ss C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ny title IV funds received from ED that are deposited or transferred into a federal account as a result of an award cancellation, adjustment, or re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the 1% tolerance option is reta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ing may trigger cash monitoring or 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05B-A051-4F3D-AAD5-35456C14C0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Michelle.Belton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(202) 502-782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Brian.Kerrigan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 (202) 219-705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 Number                  (202) 502-787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E6B-B8A9-4E76-A620-116CF30A90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Provisions Packa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te or professional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graduat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quarter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-tim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170-CCDE-426F-9D77-40B83D71DF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fessional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ve bachelor’s deg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requires professional licen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of examples, including J.D., D.V.M., D.D.S., Pharm. 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F50-BC7A-4EBE-A1B7-AE6758D89B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duate or professional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key poi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/Prof students cannot receive undergraduate level aid and graduate level aid at sam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can change a student’s status from “undergraduate” to “graduate or professional” once a student has completed at least 3 years at undergraduate le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FDD-57E9-4DBD-9BF1-7B616BCEF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dergraduate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rkins, FFEL, and DL programs, any student who takes courses at or below the baccalaureate level is an undergrad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, ACG, SMART, and FSEOG a student is only an undergraduate if she is pursuing her first bachelor’s degree or be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10A-AA85-4526-94D8-CAAB8F253B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General Definition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dergraduate student (cont’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Pell, a student who has a bachelor’s and is studying to earn a state-required teaching certification could be an undergrad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three years of a dual degree program students are undergradu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four years of a program lasting longer than five years that leads to a bachelor’s degre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71A-3FE9-428E-89BF-BFD826F7F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09:43Z</dcterms:modified>
  <cp:revision>339</cp:revision>
  <dc:subject/>
  <dc:title>PowerPoint Presentation</dc:title>
</cp:coreProperties>
</file>