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07A1F-A50D-4A00-89BA-DD363F34E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B8548-BB75-4EF8-9CB8-3DE2068E7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5F57D-DA13-445B-9A4A-C9F5BDB67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C2AAE-0F61-462B-BAE1-06E14CE6A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12EA3-4DAD-4DF5-AB50-07142A873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EBCCB-E067-4784-8ACE-A4ECC9A31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C73C-E33C-4535-AD0A-49B10ED59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BE6FE-85DB-46B1-A2B3-577F8FDE8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900F1-1BFA-46F2-BC59-4E0690C51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A29A7-979E-44B0-BC43-18240C468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68E3E-9A88-4E4B-A448-01D165494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48A63-02D2-471F-A817-989E88B85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C7A4-5943-4924-96FD-C80B40B21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11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819520"/>
            <a:ext cx="838188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The FSA Students Portal—Preview the Upcoming Release and Help Shape its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6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24BD1-9E08-4A78-8F32-99630BB851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SA Students Portal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the FSA Students Portal (now liv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d around the student’s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nformation, publications, and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Enhancements (1Q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F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onlin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information, publications, and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Capabilities – We need your hel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6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A381-776A-4413-A763-6978B56EA7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uture Capabilities – We need your help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s to Spanish versions of extern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s’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-up windows/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self-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6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78A5F-1FC1-4527-BDC5-9B6286DD23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nceptual Student View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22223" b="10589"/>
          <a:stretch/>
        </p:blipFill>
        <p:spPr>
          <a:xfrm>
            <a:off x="990720" y="1600200"/>
            <a:ext cx="7010280" cy="4343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60440" y="3119400"/>
            <a:ext cx="4368960" cy="2824200"/>
          </a:xfrm>
          <a:prstGeom prst="rect">
            <a:avLst/>
          </a:prstGeom>
          <a:solidFill>
            <a:srgbClr val="54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33600" y="3228840"/>
            <a:ext cx="1943280" cy="2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3366"/>
                </a:solidFill>
                <a:latin typeface="Arial"/>
              </a:rPr>
              <a:t>Welcome back Jane Smi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76440" y="3564000"/>
            <a:ext cx="1816200" cy="21510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87480" y="3632040"/>
            <a:ext cx="1101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3366"/>
                </a:solidFill>
                <a:uFillTx/>
                <a:latin typeface="Arial"/>
              </a:rPr>
              <a:t>Your Headli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75800" y="3927600"/>
            <a:ext cx="122220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FSA News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National News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84600" y="4422600"/>
            <a:ext cx="1816200" cy="1292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95040" y="4489560"/>
            <a:ext cx="1822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3366"/>
                </a:solidFill>
                <a:uFillTx/>
                <a:latin typeface="Arial"/>
              </a:rPr>
              <a:t>Your App/Loan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82160" y="4826160"/>
            <a:ext cx="827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Loan #1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Loan #2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Loan #3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584600" y="3564000"/>
            <a:ext cx="1816200" cy="685800"/>
            <a:chOff x="4584600" y="3564000"/>
            <a:chExt cx="1816200" cy="685800"/>
          </a:xfrm>
        </p:grpSpPr>
        <p:sp>
          <p:nvSpPr>
            <p:cNvPr id="104" name=""/>
            <p:cNvSpPr/>
            <p:nvPr/>
          </p:nvSpPr>
          <p:spPr>
            <a:xfrm>
              <a:off x="4584600" y="3564000"/>
              <a:ext cx="1816200" cy="6858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86160" y="3623040"/>
              <a:ext cx="5396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3366"/>
                  </a:solidFill>
                  <a:uFillTx/>
                  <a:latin typeface="Arial"/>
                </a:rPr>
                <a:t>Aler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80360" y="3865320"/>
              <a:ext cx="149832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Loan # is in default…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629400" y="4187880"/>
            <a:ext cx="1231920" cy="17413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76640" y="4287960"/>
            <a:ext cx="896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3366"/>
                </a:solidFill>
                <a:uFillTx/>
                <a:latin typeface="Arial"/>
              </a:rPr>
              <a:t>Self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69080" y="4624560"/>
            <a:ext cx="965160" cy="109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91400" y="4707000"/>
            <a:ext cx="9554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How do I consolidate my Loans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01600" y="5935680"/>
            <a:ext cx="674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6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0DC84-2517-4C1B-9A3F-C0EEA962C4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1800" y="456840"/>
            <a:ext cx="59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ntinual Improvemen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do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could we improve the Port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ease share your Portal best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act us with further questions or suggestions 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a.portals@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6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339C4-09F6-4C52-B85B-A8FA916E5C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5:28:11Z</dcterms:modified>
  <cp:revision>2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