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948EC-94AC-4AE6-83E8-EEC0E9D50B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8920" y="720720"/>
            <a:ext cx="4800600" cy="3600360"/>
          </a:xfrm>
          <a:prstGeom prst="rect">
            <a:avLst/>
          </a:prstGeom>
          <a:ln w="0">
            <a:noFill/>
          </a:ln>
        </p:spPr>
      </p:sp>
      <p:sp>
        <p:nvSpPr>
          <p:cNvPr id="1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892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are clarifying in regulation that in order to qualify for cancellation a Perkins Loan borrower  must be providing services exclusively and directly to high-risk children from low-income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lection costs imposed on defaulted borrower in the Perkins Loan Program must be “reasonable,” however, that term is not defined in regulation. Borrowers often complain that collection costs assessed on a defaulted loan are excessive, sometimes amounting to as much as 30-40% of the outstanding balance.  34 CFR §682.410 of the FFEL Program regulations define “reasonable” collection costs as those costs charged to the borrower that are the lesser of the amount the borrower would be charged under the formula in 34 CFR §30.60 or the amount the borrower would be charged for the cost of collection if the loan were held by the Depar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rent Perkins Loan Program regulations do not provide for the mandatory assignment of defaulted loans.  NSLDS and FISAP data show a large dollar volume in outstanding Perkins Loans that have been in default for five years or more.  Effective collection on these defaulted loans by the Department, using tools not available to schools, could be realized if schools were required to assign the loans that are not currently receiving payments to the Department. We will be discussing this issue in tandem with the requirement in the HEA that the Department reallocate money collected on such defaulted loa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66840" y="716040"/>
            <a:ext cx="4782960" cy="3587760"/>
          </a:xfrm>
          <a:prstGeom prst="rect">
            <a:avLst/>
          </a:prstGeom>
          <a:ln w="0">
            <a:noFill/>
          </a:ln>
        </p:spPr>
      </p:sp>
      <p:sp>
        <p:nvSpPr>
          <p:cNvPr id="112"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 a long line of bills enacted to extend the HEA is the Second Higher Education Extension Act of 2007.  This was passed back in late July to extend the HEA through October 31, 2007.   Tick, tick, time is running out.  Look for another extension in the absence of a House reauthorization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n the next bullet, the Senate has got a HEA reauthorization bill out there which passed the Senate on July 24 by a vote of 95-0.  See attached sheet for Perkins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has yet to introduce its version of re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and as we’ll go over next in some detail, the Congress passed a significant piece of legislation affecting student financial aid when it passed their budget reconciliation bills or the College Cost Reduction and Access Act of 2007.  It was Senator Enzi’s, ranking minority member of the Senate Higher Ed Committee, strong hope that the Congress take up reauthorization as well as budget reconciliation.  As we know, that did not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right now like we will not see reauthorization thi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lawmakers considered H.R. 3625, legislation to permanently extend the Higher Education Relief Opportunities for Students (HEROES) Act of 2003. The legislation would make permanent the waiver authority of the Secretary of Education with respect to student financial assistance during a war or other military operation or national emergency, and it addresses the unique situations that active duty military personnel and other affected individuals may face in connection with their enrollment in postsecondary institutions and their Federal student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9E33-EE3A-4773-86CD-14C1E4F97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F607E-2586-4EEB-B22F-4EA5AD9D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08F1E-E40E-4A61-B1AA-ADA2815E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55864-1C91-4811-9EB3-2D61EDEAF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D14E-74DF-472B-B169-BCDB02894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41C92-2BC6-45B8-B573-89F0B192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846B-2750-4EFF-A983-F97D4F85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80C5-4DD2-4578-8E0A-3472A3F4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7998-EBFB-4DBB-BED2-51A8ECD7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4610-7262-4DD2-9BF9-193C04D8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EEF8-8127-47B6-9118-47CBC469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27A0-E373-4D9A-9259-9255CC8C4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01E2-82E8-4EC0-AA38-1C24CE27F56A}"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Dan.Madzelan@ed.gov" TargetMode="External"/><Relationship Id="rId2" Type="http://schemas.openxmlformats.org/officeDocument/2006/relationships/hyperlink" Target="mailto:Gail.McLarnon@ed.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8</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133360"/>
            <a:ext cx="6400800" cy="24382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s Going Forwar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Madzel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Postsecondary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533520"/>
            <a:ext cx="81626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ions Calendar -</a:t>
            </a:r>
            <a:r>
              <a:rPr b="1" lang="en-US" sz="4000" spc="-1" strike="noStrike">
                <a:solidFill>
                  <a:srgbClr val="cc5407"/>
                </a:solidFill>
                <a:latin typeface="Verdana"/>
              </a:rPr>
              <a:t> LOANS</a:t>
            </a:r>
            <a:endParaRPr b="1" lang="en-US" sz="4000" spc="-1" strike="noStrike">
              <a:solidFill>
                <a:srgbClr val="cc5407"/>
              </a:solidFill>
              <a:latin typeface="Verdana"/>
            </a:endParaRPr>
          </a:p>
        </p:txBody>
      </p:sp>
      <p:sp>
        <p:nvSpPr>
          <p:cNvPr id="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June 12,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dline for Comment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ugust 13,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 comments receiv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ules:  November 1,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date:  July 1, 2008 with possible early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F206A9-0F10-4E6A-AC5D-BA1E4B3DA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83772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2006-07 Negotiated Rulemaking</a:t>
            </a:r>
            <a:endParaRPr b="1" lang="en-US" sz="3600" spc="-1" strike="noStrike">
              <a:solidFill>
                <a:srgbClr val="cc5407"/>
              </a:solidFill>
              <a:latin typeface="Verdana"/>
            </a:endParaRPr>
          </a:p>
        </p:txBody>
      </p:sp>
      <p:sp>
        <p:nvSpPr>
          <p:cNvPr id="72" name="PlaceHolder 2"/>
          <p:cNvSpPr>
            <a:spLocks noGrp="1"/>
          </p:cNvSpPr>
          <p:nvPr>
            <p:ph/>
          </p:nvPr>
        </p:nvSpPr>
        <p:spPr>
          <a:xfrm>
            <a:off x="1066320" y="2361960"/>
            <a:ext cx="807732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OANS NPRM—</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No Consensus” on NPRM</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Reflects What ED Heard and Internal Deliberations of Secretary’s Loan Task Force</a:t>
            </a:r>
            <a:endParaRPr b="0" lang="en-US" sz="36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4807117-56F9-4F52-9F81-5EC9B068B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6468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4"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 Thef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trance Counseling for PLUS borrow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ximum Length of Loan Period</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62AEF35-EE39-424E-A970-5C476DCCE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6" name="PlaceHolder 2"/>
          <p:cNvSpPr>
            <a:spLocks noGrp="1"/>
          </p:cNvSpPr>
          <p:nvPr>
            <p:ph/>
          </p:nvPr>
        </p:nvSpPr>
        <p:spPr>
          <a:xfrm>
            <a:off x="609120" y="213336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Issues (co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requency of Capitalization for Consolidation Loan Borrow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ation of Deferment Eligibility by One Loan Hold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D8C0417-3818-437F-B785-D597BBDD3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64680"/>
            <a:ext cx="807732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8" name="PlaceHolder 2"/>
          <p:cNvSpPr>
            <a:spLocks noGrp="1"/>
          </p:cNvSpPr>
          <p:nvPr>
            <p:ph/>
          </p:nvPr>
        </p:nvSpPr>
        <p:spPr>
          <a:xfrm>
            <a:off x="609120" y="167616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 (co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Lender Trustee Relationship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ferred Lend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hibited Induce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9148FCA-F496-4B80-923F-F5C773D066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egotiated Rulemaking </a:t>
            </a:r>
            <a:br>
              <a:rPr sz="4000"/>
            </a:b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Loan Issues</a:t>
            </a:r>
            <a:endParaRPr b="1" lang="en-US" sz="4000" spc="-1" strike="noStrike">
              <a:solidFill>
                <a:srgbClr val="cc5407"/>
              </a:solidFill>
              <a:latin typeface="Verdana"/>
            </a:endParaRPr>
          </a:p>
        </p:txBody>
      </p:sp>
      <p:sp>
        <p:nvSpPr>
          <p:cNvPr id="80" name="PlaceHolder 2"/>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Perkins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of True &amp; Exact Photocopy of a Death Certific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spective Discharge for Total and Permanent Disabilit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15B8837-BA4C-4BBD-8A48-A2F866585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64680"/>
            <a:ext cx="716292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8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erkins Issu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ndardize NSLDS Reporting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tention of Disbursement Records &amp; Certification of E-signatures for Assigned MP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382A250-A810-497C-9BD2-45D2F95415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17680"/>
            <a:ext cx="6705720" cy="13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84" name="PlaceHolder 2"/>
          <p:cNvSpPr>
            <a:spLocks noGrp="1"/>
          </p:cNvSpPr>
          <p:nvPr>
            <p:ph/>
          </p:nvPr>
        </p:nvSpPr>
        <p:spPr>
          <a:xfrm>
            <a:off x="762120" y="1766520"/>
            <a:ext cx="8153280" cy="38689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Committee Agend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kins Loan Issu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y eligibility requirements for Child &amp; Family Service Agency Cancel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reasonable” Collection Cost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 Assignment of Defaulted Perkins 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73D7E6-860C-474C-8C7C-7E913CB1A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33520"/>
            <a:ext cx="8458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86" name="PlaceHolder 2"/>
          <p:cNvSpPr>
            <a:spLocks noGrp="1"/>
          </p:cNvSpPr>
          <p:nvPr>
            <p:ph/>
          </p:nvPr>
        </p:nvSpPr>
        <p:spPr>
          <a:xfrm>
            <a:off x="632880" y="1447920"/>
            <a:ext cx="8510760" cy="4611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ing committee reached consens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published August 8, 2007 reflected the consensus language agreed to by committe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were received by end of comment period on September 7,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November 1,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July 1, 2008 with possible early implemen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0720246-806B-499B-A852-00DB1B94CA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egotiated Rulemaking</a:t>
            </a:r>
            <a:br>
              <a:rPr sz="4000"/>
            </a:b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General Provisions</a:t>
            </a:r>
            <a:endParaRPr b="1" lang="en-US" sz="4000" spc="-1" strike="noStrike">
              <a:solidFill>
                <a:srgbClr val="cc5407"/>
              </a:solidFill>
              <a:latin typeface="Verdana"/>
            </a:endParaRPr>
          </a:p>
        </p:txBody>
      </p:sp>
      <p:sp>
        <p:nvSpPr>
          <p:cNvPr id="88" name="PlaceHolder 2"/>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lated Cash Management Provision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very of Unclaimed Title IV Fun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 Disbursements of Title IV Fun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Late Disbursement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87246F-E557-4538-9633-FDB2A107B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304920" y="1828800"/>
            <a:ext cx="820872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Updat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Rulemak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Lo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Provision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Iss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Iss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p:txBody>
      </p:sp>
      <p:graphicFrame>
        <p:nvGraphicFramePr>
          <p:cNvPr id="53" name=""/>
          <p:cNvGraphicFramePr/>
          <p:nvPr/>
        </p:nvGraphicFramePr>
        <p:xfrm>
          <a:off x="7238880" y="0"/>
          <a:ext cx="1905120" cy="1676520"/>
        </p:xfrm>
        <a:graphic>
          <a:graphicData uri="http://schemas.openxmlformats.org/presentationml/2006/ole">
            <p:oleObj r:id="rId1" spid="">
              <p:embed/>
              <p:pic>
                <p:nvPicPr>
                  <p:cNvPr id="54" name="" descr=""/>
                  <p:cNvPicPr/>
                  <p:nvPr/>
                </p:nvPicPr>
                <p:blipFill>
                  <a:blip r:embed="rId2"/>
                  <a:stretch/>
                </p:blipFill>
                <p:spPr>
                  <a:xfrm>
                    <a:off x="7238880" y="0"/>
                    <a:ext cx="1905120" cy="1676520"/>
                  </a:xfrm>
                  <a:prstGeom prst="rect">
                    <a:avLst/>
                  </a:prstGeom>
                  <a:ln w="0">
                    <a:noFill/>
                  </a:ln>
                </p:spPr>
              </p:pic>
            </p:oleObj>
          </a:graphicData>
        </a:graphic>
      </p:graphicFrame>
      <p:sp>
        <p:nvSpPr>
          <p:cNvPr id="4" name="PlaceHolder 3"/>
          <p:cNvSpPr>
            <a:spLocks noGrp="1"/>
          </p:cNvSpPr>
          <p:nvPr>
            <p:ph type="sldNum" idx="3"/>
          </p:nvPr>
        </p:nvSpPr>
        <p:spPr/>
        <p:txBody>
          <a:bodyPr/>
          <a:p>
            <a:fld id="{2EEE464B-EAAB-4352-8D0D-1D5FD6AD7E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80880"/>
            <a:ext cx="8637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90" name="PlaceHolder 2"/>
          <p:cNvSpPr>
            <a:spLocks noGrp="1"/>
          </p:cNvSpPr>
          <p:nvPr>
            <p:ph/>
          </p:nvPr>
        </p:nvSpPr>
        <p:spPr>
          <a:xfrm>
            <a:off x="228240" y="2057400"/>
            <a:ext cx="8510760" cy="4379760"/>
          </a:xfrm>
          <a:prstGeom prst="rect">
            <a:avLst/>
          </a:prstGeom>
          <a:noFill/>
          <a:ln w="0">
            <a:noFill/>
          </a:ln>
        </p:spPr>
        <p:txBody>
          <a:bodyPr lIns="90000" rIns="90000" tIns="46800" bIns="46800" anchor="t">
            <a:normAutofit/>
          </a:bodyPr>
          <a:p>
            <a:pPr marL="609480" indent="-60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lated Cash Management Provisions:</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nor Prior Year Charges</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Cancellation Notice &amp; Affirmative Confirmation of a Loan</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cess Cash</a:t>
            </a:r>
            <a:endParaRPr b="0" lang="en-US" sz="3600" spc="-1" strike="noStrike">
              <a:solidFill>
                <a:srgbClr val="000000"/>
              </a:solidFill>
              <a:latin typeface="Verdana"/>
            </a:endParaRPr>
          </a:p>
          <a:p>
            <a:pPr marL="609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609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A17E6D8-368A-4F5C-8503-F759E8776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80880"/>
            <a:ext cx="8637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92" name="PlaceHolder 2"/>
          <p:cNvSpPr>
            <a:spLocks noGrp="1"/>
          </p:cNvSpPr>
          <p:nvPr>
            <p:ph/>
          </p:nvPr>
        </p:nvSpPr>
        <p:spPr>
          <a:xfrm>
            <a:off x="228240" y="1905120"/>
            <a:ext cx="8434440" cy="4114800"/>
          </a:xfrm>
          <a:prstGeom prst="rect">
            <a:avLst/>
          </a:prstGeom>
          <a:noFill/>
          <a:ln w="0">
            <a:noFill/>
          </a:ln>
        </p:spPr>
        <p:txBody>
          <a:bodyPr lIns="90000" rIns="90000" tIns="46800" bIns="46800" anchor="t">
            <a:normAutofit/>
          </a:bodyPr>
          <a:p>
            <a:pPr marL="609480" indent="-609480">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Related Provisions:</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um Period for Certifying a Loan</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 of Title IV Loan Funds if a Student Does Not Begin Attendance</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Disbursement for Perkins Loans</a:t>
            </a:r>
            <a:endParaRPr b="0" lang="en-US" sz="3200" spc="-1" strike="noStrike">
              <a:solidFill>
                <a:srgbClr val="000000"/>
              </a:solidFill>
              <a:latin typeface="Verdana"/>
            </a:endParaRPr>
          </a:p>
          <a:p>
            <a:pPr marL="60948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FBCB72-7DBA-4DCF-A6F2-8AA1DE342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5868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lternative Loans</a:t>
            </a:r>
            <a:endParaRPr b="1" lang="en-US" sz="3200" spc="-1" strike="noStrike">
              <a:solidFill>
                <a:srgbClr val="cc5407"/>
              </a:solidFill>
              <a:latin typeface="Verdana"/>
            </a:endParaRPr>
          </a:p>
        </p:txBody>
      </p:sp>
      <p:sp>
        <p:nvSpPr>
          <p:cNvPr id="94" name="PlaceHolder 2"/>
          <p:cNvSpPr>
            <a:spLocks noGrp="1"/>
          </p:cNvSpPr>
          <p:nvPr>
            <p:ph/>
          </p:nvPr>
        </p:nvSpPr>
        <p:spPr>
          <a:xfrm>
            <a:off x="762120" y="1828800"/>
            <a:ext cx="81532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ve loans must be included as “estimated financial assistance”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is a condition for the lo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matter where loan proceeds are sent or  whether school certified enroll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replace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k about it like an outside scholarshi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4F86764-616C-47F5-9C97-1C55895AB9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653760"/>
            <a:ext cx="883944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SLDS Access</a:t>
            </a:r>
            <a:endParaRPr b="1" lang="en-US" sz="3200" spc="-1" strike="noStrike">
              <a:solidFill>
                <a:srgbClr val="cc5407"/>
              </a:solidFill>
              <a:latin typeface="Verdana"/>
            </a:endParaRPr>
          </a:p>
        </p:txBody>
      </p:sp>
      <p:sp>
        <p:nvSpPr>
          <p:cNvPr id="96"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access to the National Student Loan Data System (NSLDS) was suspended for some Title IV student aid program participants on April 17</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privacy is protected and that access to NSLDS is used only for authorized purposes </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4912920" y="1371240"/>
            <a:ext cx="4002120" cy="4343400"/>
          </a:xfrm>
          <a:prstGeom prst="rect">
            <a:avLst/>
          </a:prstGeom>
          <a:noFill/>
          <a:ln w="0">
            <a:noFill/>
          </a:ln>
        </p:spPr>
        <p:txBody>
          <a:bodyPr lIns="90000" rIns="90000" tIns="46800" bIns="46800" anchor="t">
            <a:normAutofit fontScale="99000"/>
          </a:bodyPr>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search now requires SSN, Name, and DOB</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bility for schools to add new user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uaranty agency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 lender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grant agency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nder ELT access still on hold</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3BA16F74-BED7-4B28-BF1B-CCD1D1CD39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142640"/>
            <a:ext cx="7924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ent Letters &amp; Announcements</a:t>
            </a:r>
            <a:endParaRPr b="1" lang="en-US" sz="4000" spc="-1" strike="noStrike">
              <a:solidFill>
                <a:srgbClr val="cc5407"/>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00" name="PlaceHolder 2"/>
          <p:cNvSpPr>
            <a:spLocks noGrp="1"/>
          </p:cNvSpPr>
          <p:nvPr>
            <p:ph/>
          </p:nvPr>
        </p:nvSpPr>
        <p:spPr>
          <a:xfrm>
            <a:off x="761760" y="1523880"/>
            <a:ext cx="8001000" cy="5029200"/>
          </a:xfrm>
          <a:prstGeom prst="rect">
            <a:avLst/>
          </a:prstGeom>
          <a:noFill/>
          <a:ln w="0">
            <a:noFill/>
          </a:ln>
        </p:spPr>
        <p:txBody>
          <a:bodyPr lIns="90000" rIns="90000" tIns="46800" bIns="46800" anchor="t">
            <a:normAutofit/>
          </a:bodyPr>
          <a:p>
            <a:pPr marL="3430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r Colleague Lette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07-03  Consolidation Loan Process Issu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Prohibited Inducement Guidance (9/14/2007)</a:t>
            </a:r>
            <a:endParaRPr b="0" lang="en-US" sz="32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Secretary Spellings wrote to all institutions and lenders urging them to assure students and parents that we have their best interests at heart in providing competitive student loan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D8184FDF-47C6-4F74-8AF1-511F57905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2"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fontScale="99000"/>
          </a:bodyPr>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You can reach us at:</a:t>
            </a:r>
            <a:endParaRPr b="0" lang="en-US" sz="2800" spc="-1" strike="noStrike">
              <a:solidFill>
                <a:srgbClr val="000000"/>
              </a:solidFill>
              <a:latin typeface="Verdana"/>
            </a:endParaRPr>
          </a:p>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Madzelan</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a:t>
            </a:r>
            <a:r>
              <a:rPr b="0" lang="en-US" sz="2800" spc="-1" strike="noStrike">
                <a:solidFill>
                  <a:srgbClr val="000000"/>
                </a:solidFill>
                <a:latin typeface="Verdana"/>
              </a:rPr>
              <a:t>	</a:t>
            </a:r>
            <a:r>
              <a:rPr b="0" lang="en-US" sz="2800" spc="-1" strike="noStrike">
                <a:solidFill>
                  <a:srgbClr val="000000"/>
                </a:solidFill>
                <a:latin typeface="Verdana"/>
              </a:rPr>
              <a:t>202-502-7816</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Dan.Madzelan@ed.gov</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4</a:t>
            </a:r>
            <a:endParaRPr b="0" lang="en-US" sz="2800" spc="-1" strike="noStrike">
              <a:solidFill>
                <a:srgbClr val="000000"/>
              </a:solidFill>
              <a:latin typeface="Verdana"/>
            </a:endParaRPr>
          </a:p>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219-7048</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2"/>
              </a:rPr>
              <a:t>Gail.McLarnon@ed.gov</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4</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58FD868-FE44-424E-90C5-60DF531080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1851120" y="852480"/>
            <a:ext cx="5387760" cy="5219640"/>
          </a:xfrm>
          <a:prstGeom prst="rect">
            <a:avLst/>
          </a:prstGeom>
          <a:ln w="0">
            <a:noFill/>
          </a:ln>
        </p:spPr>
      </p:pic>
      <p:sp>
        <p:nvSpPr>
          <p:cNvPr id="56"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9AE583E9-5D1E-430C-AE57-41F1D4B59D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457200"/>
            <a:ext cx="863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egislative Update</a:t>
            </a:r>
            <a:endParaRPr b="1" lang="en-US" sz="3600" spc="-1" strike="noStrike">
              <a:solidFill>
                <a:srgbClr val="cc5407"/>
              </a:solidFill>
              <a:latin typeface="Verdana"/>
            </a:endParaRPr>
          </a:p>
        </p:txBody>
      </p:sp>
      <p:sp>
        <p:nvSpPr>
          <p:cNvPr id="58" name="PlaceHolder 2"/>
          <p:cNvSpPr>
            <a:spLocks noGrp="1"/>
          </p:cNvSpPr>
          <p:nvPr>
            <p:ph/>
          </p:nvPr>
        </p:nvSpPr>
        <p:spPr>
          <a:xfrm>
            <a:off x="762120" y="12952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ducation Reconciliation Act of 2005 (P.L. 109-171)</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Higher Education Extension Act of 2007 (P.L. 110-109)</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unshine” Legislation </a:t>
            </a:r>
            <a:endParaRPr b="0" lang="en-US" sz="2600" spc="-1" strike="noStrike">
              <a:solidFill>
                <a:srgbClr val="000000"/>
              </a:solidFill>
              <a:latin typeface="Verdana"/>
            </a:endParaRPr>
          </a:p>
          <a:p>
            <a:pPr lvl="1" marL="720720" indent="-27720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R. 890, S. 486, S. 1262</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nate Reauthorization Bill – S. 1642</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use Reauthorization Bill – H.R. 4137</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OES (P.L. 110-93)</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ge Cost Reduction and Access Act (P.L. 110-84)</a:t>
            </a:r>
            <a:endParaRPr b="0" lang="en-US" sz="2600" spc="-1" strike="noStrike">
              <a:solidFill>
                <a:srgbClr val="000000"/>
              </a:solidFill>
              <a:latin typeface="Verdana"/>
            </a:endParaRPr>
          </a:p>
          <a:p>
            <a:pPr marL="33264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3264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EDC0C5CD-0CF8-457D-99CA-70524D50A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 Benefits for Students</a:t>
            </a:r>
            <a:endParaRPr b="1" lang="en-US" sz="3600" spc="-1" strike="noStrike">
              <a:solidFill>
                <a:srgbClr val="cc5407"/>
              </a:solidFill>
              <a:latin typeface="Verdana"/>
            </a:endParaRPr>
          </a:p>
        </p:txBody>
      </p:sp>
      <p:sp>
        <p:nvSpPr>
          <p:cNvPr id="6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wer Interest Rat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Income Based Repay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anded Loan Forgiven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Deferments:</a:t>
            </a:r>
            <a:endParaRPr b="0" lang="en-US" sz="36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a:t>
            </a:r>
            <a:endParaRPr b="0" lang="en-US" sz="32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800F0B0-8392-4CD7-9A3A-E5BB22924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 Offsets</a:t>
            </a:r>
            <a:endParaRPr b="1" lang="en-US" sz="3600" spc="-1" strike="noStrike">
              <a:solidFill>
                <a:srgbClr val="cc5407"/>
              </a:solidFill>
              <a:latin typeface="Verdana"/>
            </a:endParaRPr>
          </a:p>
        </p:txBody>
      </p:sp>
      <p:sp>
        <p:nvSpPr>
          <p:cNvPr id="62" name="PlaceHolder 2"/>
          <p:cNvSpPr>
            <a:spLocks noGrp="1"/>
          </p:cNvSpPr>
          <p:nvPr>
            <p:ph/>
          </p:nvPr>
        </p:nvSpPr>
        <p:spPr>
          <a:xfrm>
            <a:off x="457200" y="1294920"/>
            <a:ext cx="8153280" cy="43434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al Performer Statu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urance</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ee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Allowance Payments</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y Agencie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Retention Allowance</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 Maintenance Fees</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Auction for PLUS (Parent)</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1996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3F56F33-2CA4-42D2-8CA4-411F10EEB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1851120" y="852480"/>
            <a:ext cx="5387760" cy="5219640"/>
          </a:xfrm>
          <a:prstGeom prst="rect">
            <a:avLst/>
          </a:prstGeom>
          <a:ln w="0">
            <a:noFill/>
          </a:ln>
        </p:spPr>
      </p:pic>
      <p:sp>
        <p:nvSpPr>
          <p:cNvPr id="64"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07 </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C9700E4A-11A7-430E-A116-4191FDAE9E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04560"/>
            <a:ext cx="863748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 </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66" name="PlaceHolder 2"/>
          <p:cNvSpPr>
            <a:spLocks noGrp="1"/>
          </p:cNvSpPr>
          <p:nvPr>
            <p:ph/>
          </p:nvPr>
        </p:nvSpPr>
        <p:spPr>
          <a:xfrm>
            <a:off x="609480" y="1980720"/>
            <a:ext cx="7772400" cy="449604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8-2009 &amp; subsequent award yea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Register notic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ed on August 18, 2006</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onal hearing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rkeley, C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ptember 19</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cago, IL</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ctober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lando, FL</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ovember 2</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hington, D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ovember 9</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14AFE1D-9346-42FF-B509-F1A21B635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81043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68"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committees were established:</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rovis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ompetitiveness &amp; National SMART Gra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3B4776A-742F-4D8E-A125-B9640A56B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8:22Z</dcterms:modified>
  <cp:revision>14</cp:revision>
  <dc:subject/>
  <dc:title>Session #</dc:title>
</cp:coreProperties>
</file>