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835B-27AC-4044-9E32-FE98CF340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2120" y="363996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37D7-C98D-4447-ADB8-316F55978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4028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D250-9B4C-4C04-8CBD-8A1438B9C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1900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7552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212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1900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7552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C32D-EBCB-478D-A861-ECB229C61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3FA7-3824-44CD-90DF-11EFEA279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8FBE-4F5D-4693-9B85-D9E317A3B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572B-0D2D-4427-9BBB-9CF0B9D5A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E064-3950-41A7-AD5F-7E4B443BB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280" y="533520"/>
            <a:ext cx="88394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1C46-17C7-47C3-8226-1EE0C9019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A90B-0238-4EFF-AAEF-54A68AC4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4028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DC60-7735-4834-960A-8E1050C0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34E6-E84B-4760-BB2E-25220432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ckdrop2007" descr=""/>
          <p:cNvPicPr/>
          <p:nvPr/>
        </p:nvPicPr>
        <p:blipFill>
          <a:blip r:embed="rId2"/>
          <a:stretch/>
        </p:blipFill>
        <p:spPr>
          <a:xfrm>
            <a:off x="0" y="-63360"/>
            <a:ext cx="9144000" cy="6984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17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753D7-FF21-471F-92C5-819C59E6461D}" type="slidenum">
              <a:rPr b="1" lang="en-US" sz="2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ed.gov/admins/lead/safety/campus.html" TargetMode="External"/><Relationship Id="rId2" Type="http://schemas.openxmlformats.org/officeDocument/2006/relationships/hyperlink" Target="http://www.ed.gov/admins/lead/safety/campus.html" TargetMode="External"/><Relationship Id="rId3" Type="http://schemas.openxmlformats.org/officeDocument/2006/relationships/hyperlink" Target="http://www.ed.gov/admins/lead/safety/campus.html" TargetMode="External"/><Relationship Id="rId4" Type="http://schemas.openxmlformats.org/officeDocument/2006/relationships/hyperlink" Target="http://www.ed.gov/admins/lead/safety/campus.html" TargetMode="External"/><Relationship Id="rId5" Type="http://schemas.openxmlformats.org/officeDocument/2006/relationships/hyperlink" Target="http://www.ed.gov/admins/lead/safety/campus.html" TargetMode="External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mailto:martina.fernandez-rosario@ed.gov" TargetMode="External"/><Relationship Id="rId2" Type="http://schemas.openxmlformats.org/officeDocument/2006/relationships/hyperlink" Target="mailto:martina.fernandez-rosario@ed.gov" TargetMode="External"/><Relationship Id="rId3" Type="http://schemas.openxmlformats.org/officeDocument/2006/relationships/hyperlink" Target="mailto:william.swift@ed.go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1752480"/>
            <a:ext cx="85341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op Audit and Program Review Findings and How to</a:t>
            </a: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 Avoid Th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4191120"/>
            <a:ext cx="73152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Martina Fernandez-Rosa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illiam (Bill) Swif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838080"/>
            <a:ext cx="8001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a9"/>
                </a:solidFill>
                <a:latin typeface="Verdana"/>
              </a:rPr>
              <a:t>Session 7 – San Die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Entrance/Exit Counseling Deficiencies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ek support from lenders/GAs or ED (Direct Loan Schools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xit counseling material must be mailed to students who did not participate in person within 30 days of learning they did not complete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ertified mail not required but materials proving information was sent is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BF2A-BCBB-4DC8-AF60-179A6388B95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Enrollment Reporting (SSCR)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Use of third-party servic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nsure transmittal of NSLDS roster is synchronized with delivery of school file to servic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ailure to return submittal file within 30 days results in an overdue letter - School responsible for timely response to NSLDS for 3rd-party service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nrollment Reporting documen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knowledgement/Error File is adequate proo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tain record of file for audit purpo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4CA8-75D7-4729-B8C8-644AFFFB728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Enrollment Reporting (SSCR)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91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Use proper status code: A, D, F, G, H, L, W, X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raduated student reported as G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L or 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Graduated effective date- date student completed course requirements,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not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date diploma/degree present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Summer Break–do not report students who intend to return in fall as W (withdraw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udent who fails to return must be reported as W within 60 days of fall term start (effective date is last date of attendan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FF5E-42B1-436C-9278-EA3179EF799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1066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Repeat Finding-Failure to Take </a:t>
            </a:r>
            <a:br>
              <a:rPr sz="4000"/>
            </a:b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orrective Action </a:t>
            </a:r>
            <a:br>
              <a:rPr sz="4000"/>
            </a:b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dicates Lack of Administrative Capa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rrective Action Plan (CAP) should have indicated corrective steps tak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hat procedures are in place to ensure CAP is carried out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852A-4ED6-4F5E-B1E0-094BAAA69DF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Auditor’s Opinion Cited in Audi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ttesta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reas of concern in financial stat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reas of concern in compliance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or A-133 schools, opinion could be on anything the auditor is review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ot limited to Title IV issu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A912-7E46-4920-916F-AABA3B9AAD1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Student Credit Balance Deficiencies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762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redit balance must be eliminated within 14 days after balance occurred  34 CFR 668.164(e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f before 1st day of classes of payment period, 14 days from start of payment perio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D rules cover only 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Title IV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redit balan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redit balances that result from retroactive withdrawals are still subject to ru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65F5-7100-48D7-ABBF-67FA9388DFE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Verification Violation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Verification requirements are well know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rrors generally the result of an oversigh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Verification regulations are specific as to what untaxed income must be verifi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S benefits, IRA/Keogh deductions, foreign income exclusion, EIC, interest on tax-free bon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B95B-1A34-4B1A-A3A3-B60731A8195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Pell Grant Over/Under Paymen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Generally the result of improper determination of enrollment statu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Example:  Student was full-time in fall drops to half-time in spring, but receives a full-time disbursement for the spring ter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624B-D62C-49A8-9CE6-2B7801A468C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Other Audit Findings-High Dollar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Loan Discharges Paid due to Closed Additional Location                                            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FISAP Reporting Errors          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90/10 Requirement Not Met – For Profit Schools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FFEL Not Prorated                        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Overaward – Financial Need Exceeded                       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SAP Requirement Not Me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Audit Report Not Submitted – Closed School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3A53-1606-4992-8E35-30C714D3598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udit – Finding Incorrec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960" y="13716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auditor which regulation or law has been violated/discuss a reasonable resol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697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79"/>
                </a:solidFill>
                <a:latin typeface="Verdana"/>
              </a:rPr>
              <a:t>Indicate in CAP reasons why the exception is erroneo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ecessary for audit resolution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ite regulation or law in support of your asser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xplain in detail why the exception is incorr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FF56-E93F-4B33-90BF-39BCFFC47E3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22860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External Review Proces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09560" y="16002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udits (Annual &amp; OIG)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rogram Reviews (ED &amp;GA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"/>
              </a:spcBef>
              <a:spcAft>
                <a:spcPts val="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Purpose of External Review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nsure Institutions Properly Administer Title IV Pro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ulfill Oversight Responsibilities for Title IV Pro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3F49-8AA6-49C4-A3B9-0C130877F1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5407"/>
                </a:solidFill>
                <a:latin typeface="Verdana"/>
              </a:rPr>
              <a:t>Program Review: Most Common Findings</a:t>
            </a:r>
            <a:endParaRPr b="1" lang="en-US" sz="3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8915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erification Violation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ate Refund or Incorrect R2T4 Calcul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udent Credit Balance Deficien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Lack of Administrative Cap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consistent/Missing Information in Student Fi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ount Records Inadequate or Not Reconcil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Leave of Absence Deficiencies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Improper Disbursement-PELL Disbursed Before Midpoi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dependent Student Status Not Documen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ot Meeting Campus Crime Clery Act Requir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F9D8-0332-4FE7-99EE-433D919248F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5407"/>
                </a:solidFill>
                <a:latin typeface="Verdana"/>
              </a:rPr>
              <a:t>Inconsistent Information-Student’s File</a:t>
            </a:r>
            <a:endParaRPr b="1" lang="en-US" sz="3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solve all conflicting information prior to disbursing aid 34 CFR 668.16(f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quired to view all subsequent ISIR transac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iscrepant tax data – School must know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ether person was required to fi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rrect filing stat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dividual may not be claimed as an exemption by more than one pers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7B49-6076-4940-B046-06FE66E7117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533520" y="144792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7"/>
              </a:spcBef>
              <a:spcAft>
                <a:spcPts val="187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$0 Income is Not Automatically Considered Conflicting Inform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87"/>
              </a:spcBef>
              <a:spcAft>
                <a:spcPts val="187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Required to be Aware of Conflicting Information in Other Campus Office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x. Student Indicates has HS Diploma on FAFSA, but Admissions Form Shows No HS Diplo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87"/>
              </a:spcBef>
              <a:spcAft>
                <a:spcPts val="187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If School Collects W-2s, tax Schedules, Tax Returns for those not Selected for Verification, etc., it is Responsible for all Inform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87"/>
              </a:spcBef>
              <a:spcAft>
                <a:spcPts val="18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5407"/>
                </a:solidFill>
                <a:latin typeface="Verdana"/>
              </a:rPr>
              <a:t>Inconsistent Information-Student’s File</a:t>
            </a:r>
            <a:endParaRPr b="1" lang="en-US" sz="3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3D8F-2CE9-4F7E-B4E8-41563842C28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Account Records Inadequate or Not Reconciled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21333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ain all Student Eligibility docu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ain financial records that reflect all program transa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ccount for the receipt and expenditures of all Title IV fun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oncile Monthly GAPS, General Ledgers, COD, NSLDS, Bank Stat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3E54-1632-4367-90FE-579D51DB444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  <a:ea typeface="Arial"/>
              </a:rPr>
              <a:t>Leave of Absence Deficiencie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pproved LOA [668.22(d)] not treated as withdrawa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chool must have “formal” polic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ritten and Publiciz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tudents must provide reason: written, signed, and dated reques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C764-FF56-424B-A774-2C3EFC04E50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  <a:ea typeface="Arial"/>
              </a:rPr>
              <a:t>Improper Disbursement-PELL Disbursed Before Midpoin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chools may not Disburse More Than 50% of Annual Award Prior to Student Completing 50% of the Academic Yea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chool must have Written Procedures to Ensure Students are being paid the correct PELL Award in each Pay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76A4-36A0-4A3D-B779-CFE8E830DDC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Independent Student Status </a:t>
            </a: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Not Documented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chool must document reason for Dependency Overri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se by Case that is based on Unusual Circumsta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xamples that are Not Unusu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arents refusing to pay or unwilling to provide verification documen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arents not claiming student for I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udent Demonstrates Self Sufficiency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6A3F-6787-4D59-A2BC-85F3A017A81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Not Meeting Campus Crime </a:t>
            </a: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lery Act Requirement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ll Schools Required to Provide Annual Campus Security Report to Students and Employees (3 Most Recent Year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tistics from Campus Security Authority or Local Police Age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ludes: Occurrences On Campus, In or On Non-Campus Property, or Public Proper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4D27-F4DB-4442-B322-182157EA253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ampus Crime Clery Act Resource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35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ampus Security Handbook &amp; Other Information: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8"/>
              </a:spcBef>
              <a:spcAft>
                <a:spcPts val="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www.ed.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  <a:hlinkClick r:id="rId2"/>
              </a:rPr>
              <a:t>gov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  <a:hlinkClick r:id="rId3"/>
              </a:rPr>
              <a:t>/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  <a:hlinkClick r:id="rId4"/>
              </a:rPr>
              <a:t>admins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  <a:hlinkClick r:id="rId5"/>
              </a:rPr>
              <a:t>/lead/safety/campus.htm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235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egulations: 34 CFR Section 668.46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155B-A1F4-4EC2-997F-C490F47BBC5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Other PR Findings-High Dollar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994040"/>
            <a:ext cx="81532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Ineligible Program/ Location -Approval Requirements Not M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Loan Discharge Paid (CL, FC, Refund)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Ability to Benefit Viola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SAP Policy Not Adequately Developed or Monitor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F28E-7C6C-416B-9C64-5A305AFE198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udit Findings: Most Comm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ate Refund/Returns to Title IV Accou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correct Return of Title IV Funds Calcul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ntrance/Exit Counseling Deficienci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nrollment Report (SSCR) Iss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peat Finding-Failure to take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 Opinion Cited in Aud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udent Credit Balance Deficienci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erification Viol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ell over/under Pay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A698-924B-4C06-A8F7-76CC66F548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  <a:ea typeface="Arial"/>
              </a:rPr>
              <a:t>Ineligible Program/Location -Approval Requirements Not Met</a:t>
            </a:r>
            <a:r>
              <a:rPr b="0" lang="en-US" sz="3200" spc="-1" strike="noStrike">
                <a:solidFill>
                  <a:srgbClr val="cc5407"/>
                </a:solidFill>
                <a:latin typeface="Verdana"/>
                <a:ea typeface="Arial"/>
              </a:rPr>
              <a:t> 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7"/>
              </a:spcBef>
              <a:spcAft>
                <a:spcPts val="187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hanges that Require Written ED Approval (Notify-10 Calendar Day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87"/>
              </a:spcBef>
              <a:spcAft>
                <a:spcPts val="187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ccrediting Agenc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87"/>
              </a:spcBef>
              <a:spcAft>
                <a:spcPts val="187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tate Authorizing Agenc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87"/>
              </a:spcBef>
              <a:spcAft>
                <a:spcPts val="187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Institutional Stru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87"/>
              </a:spcBef>
              <a:spcAft>
                <a:spcPts val="187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Non-degree programs outside scop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87"/>
              </a:spcBef>
              <a:spcAft>
                <a:spcPts val="187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rom Clock to Credi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87"/>
              </a:spcBef>
              <a:spcAft>
                <a:spcPts val="187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dditional Location-Offers &gt; 50% and Required to App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A44C-83D8-43F7-A2ED-59B5E58E86C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  <a:ea typeface="Arial"/>
              </a:rPr>
              <a:t>Ineligible Program/Location -Approval Requirements Not Me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hanges that Require Only Notification (Notify-10 Calendar Day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4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Officials &amp; Directo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ird Party Servic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422F-807E-49D9-81E3-2A648FBBE12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  <a:ea typeface="Arial"/>
              </a:rPr>
              <a:t>Loan Discharge Paid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osed School (Main or Additional Locatio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udents Enrolled Within 90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alse Certifi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rged Signatures, AT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fu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ischarges Paid Become Lia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6DC2-B746-4285-A80E-8BBA50B304B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  <a:ea typeface="Arial"/>
              </a:rPr>
              <a:t>Ability to Benefit Violation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3"/>
              </a:spcBef>
              <a:spcAft>
                <a:spcPts val="213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ust Properly Document Student Fil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13"/>
              </a:spcBef>
              <a:spcAft>
                <a:spcPts val="213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ests Must be Administered by Independent Approved Test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13"/>
              </a:spcBef>
              <a:spcAft>
                <a:spcPts val="213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ests Cannot be Altered or Scored Incorrectl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  <a:ea typeface="Times New Roman"/>
              </a:rPr>
              <a:t>Test Results in Student File Must Match Those from the Independent Approved Testing Agenc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2787-251B-4649-99A7-59BF7D5DAC8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  <a:ea typeface="Arial"/>
              </a:rPr>
              <a:t>SAP Policy Not Adequately </a:t>
            </a: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  <a:ea typeface="Arial"/>
              </a:rPr>
              <a:t>Developed or Monitored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stablish, Publish, and Apply Satisfactory Academic Progress Polic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forms with Accreditor’s Polic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ame or Stricter than Non Title IV Student SAP Polic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sistently Apply to all Stud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etermine Prior to Disbursing Ai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E73E-8A32-4C47-B160-48287FBFA41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PR -Finding Incorrec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sk program reviewer which law or regulation has been violated/ discuss a reasonable sol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697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79"/>
                </a:solidFill>
                <a:latin typeface="Verdana"/>
              </a:rPr>
              <a:t>Indicate in Program Review Response why finding is erroneo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697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79"/>
                </a:solidFill>
                <a:latin typeface="Verdana"/>
              </a:rPr>
              <a:t>Final Program Review Determination will inform school of ED’s decision – Appeal Righ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9E8B-F4C6-4D37-A20A-9B18FBDA177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2280" y="914400"/>
            <a:ext cx="6477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Happy Fall Season!!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We appreciate your feedback &amp; com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3657600"/>
            <a:ext cx="89917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rtina Fernandez-Rosario (415)-486-56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martina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Verdana"/>
                <a:hlinkClick r:id="rId2"/>
              </a:rPr>
              <a:t>.fernandez-rosario@ed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illiam (Bill) Swift (646) 428-375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Verdana"/>
                <a:hlinkClick r:id="rId3"/>
              </a:rPr>
              <a:t>william.swift@ed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umpkins" descr=""/>
          <p:cNvPicPr/>
          <p:nvPr/>
        </p:nvPicPr>
        <p:blipFill>
          <a:blip r:embed="rId4"/>
          <a:stretch/>
        </p:blipFill>
        <p:spPr>
          <a:xfrm>
            <a:off x="6400800" y="762120"/>
            <a:ext cx="2743200" cy="244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30B0-443E-4EFD-BB57-96A9DF35B0B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5407"/>
                </a:solidFill>
                <a:latin typeface="Verdana"/>
              </a:rPr>
              <a:t>Late Refund/Returns to Title IV Account</a:t>
            </a:r>
            <a:endParaRPr b="1" lang="en-US" sz="3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ximum timeframe for institution to return unearned funds is 45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pplies to program funds and lend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4 CFR 668.22(j) changed from 30 days per HER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imeliness generally determined by examination of institutional ledg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Have funds been restored to program account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7EB1-CD8C-4FDB-AEC9-3740416CEA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Late Refund/Returns - Consequences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chool may Fail Financial Respons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nancial Respons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chool must meet Refund Reserve Standards in 34 CFR 668.17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Satisfy the requirements for a public institution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Located in a state with a tuition recovery fund and be contributing to that fund;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Makes returns in a timely manner – majority of schools meet this requir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89C6-92E4-41A4-A2FC-25A414D1DE4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Late Refund/Returns - Consequences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pliance thresholds for making timely retur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t in compliance w\Refund Reserve Requirement if in an audit or program review student sample, untimely returns made for 5% or more of stud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ample includes only students for whom school was required to make a retur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o violation if school is cited for one or two students or less than 5% of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495B-8236-44B6-B116-4BD207F034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Late Refund/Returns</a:t>
            </a:r>
            <a:r>
              <a:rPr b="1" lang="en-US" sz="3400" spc="-1" strike="noStrike">
                <a:solidFill>
                  <a:srgbClr val="cc5407"/>
                </a:solidFill>
                <a:latin typeface="Verdana"/>
              </a:rPr>
              <a:t> - Consequences</a:t>
            </a:r>
            <a:endParaRPr b="1" lang="en-US" sz="34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rrevocable letter of credit (LOC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d if school fails 5% compliance threshold and is not a public school or in a state with a tuition recovery fu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C is 25% of unearned Title IV funds school was required to return in latest fiscal yea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F1F8-6F9E-43E3-BAFA-3E797ED6173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Late Refund/Returns - Consequences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0020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f LOC is Required &amp; School Agrees with Finding–Submit LO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f School Disagrees may Delay Submission of LOC if School Submits Documentati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9200" indent="-16200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howing timely retur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19200" indent="-16200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howing the failure was beyond the school’s control 34 CFR 668.173(e)(2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43120" indent="-10980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ust be submitted within timeframe for LOC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43120" indent="-10980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f Denied, School is given new LOC due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E1EE-6209-4FA2-A082-7A35E02BB2C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R2T4 Calculation Not Performed/Documented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y no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ash Flow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ck of Administrative Capa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o Acceptable Justific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ious Consequences including Potential Inspector General Criminal Investig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2596-2690-4938-957F-0336B67F2A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andrew.jones</dc:creator>
  <dc:description/>
  <dc:language>en-US</dc:language>
  <cp:lastModifiedBy>yvette.payne</cp:lastModifiedBy>
  <dcterms:modified xsi:type="dcterms:W3CDTF">2007-12-05T18:07:56Z</dcterms:modified>
  <cp:revision>215</cp:revision>
  <dc:subject/>
  <dc:title>PowerPoint Presentation</dc:title>
</cp:coreProperties>
</file>