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BE2-26FA-49BF-A380-762E6950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1D3-5B12-4A91-B5D4-7E9D8624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E52-CD05-49D4-AC36-D5E4081C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487-4BB3-4593-BFDF-5637EB53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89C-ADDE-438E-AB86-669BB27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FDD-1FE4-48DB-850F-1B210B0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E65-FB99-4F7C-A034-A432BAF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377-ACEB-4567-83D3-A506FAA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86C-28F6-4918-8FC3-C530EAB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C30-E14A-471E-BF96-4CA9554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C35-BA50-471E-B3D6-518D77D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A70-9258-46C6-A8C5-E419260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4360-1B78-476F-AD21-155076B23995}" type="slidenum">
              <a:rPr b="1" lang="en-US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d.gov/admins/lead/safety/campus.html" TargetMode="External"/><Relationship Id="rId2" Type="http://schemas.openxmlformats.org/officeDocument/2006/relationships/hyperlink" Target="http://www.ed.gov/admins/lead/safety/campus.html" TargetMode="External"/><Relationship Id="rId3" Type="http://schemas.openxmlformats.org/officeDocument/2006/relationships/hyperlink" Target="http://www.ed.gov/admins/lead/safety/campus.html" TargetMode="External"/><Relationship Id="rId4" Type="http://schemas.openxmlformats.org/officeDocument/2006/relationships/hyperlink" Target="http://www.ed.gov/admins/lead/safety/campus.html" TargetMode="External"/><Relationship Id="rId5" Type="http://schemas.openxmlformats.org/officeDocument/2006/relationships/hyperlink" Target="http://www.ed.gov/admins/lead/safety/campus.html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martina.fernandez-rosario@ed.gov" TargetMode="External"/><Relationship Id="rId2" Type="http://schemas.openxmlformats.org/officeDocument/2006/relationships/hyperlink" Target="mailto:martina.fernandez-rosario@ed.gov" TargetMode="External"/><Relationship Id="rId3" Type="http://schemas.openxmlformats.org/officeDocument/2006/relationships/hyperlink" Target="mailto:william.swift@ed.go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752480"/>
            <a:ext cx="853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p Audit and Program Review Findings and How to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Avoid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rtina Fernandez-Ros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illiam (Bill) Swi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8380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a9"/>
                </a:solidFill>
                <a:latin typeface="Verdana"/>
              </a:rPr>
              <a:t>Session 7 – San D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ntrance/Exit Counseling Deficienc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ek support from lenders/GAs or ED (Direct Loan School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it counseling material must be mailed to students who did not participate in person within 30 days of learning they did not complet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ertified mail not required but materials proving information was sent i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C86-BD4D-492F-8273-AB015FD253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Reporting (SSCR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 of third-party serv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sure transmittal of NSLDS roster is synchronized with delivery of school file to servi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ilure to return submittal file within 30 days results in an overdue letter - School responsible for timely response to NSLDS for 3rd-party servic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rollment Reporting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knowledgement/Error File is adequate pro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tain record of file for audit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2C0-BBA1-4357-933C-2E21B4F95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Reporting (SSCR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se proper status code: A, D, F, G, H, L, W,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duated student reported as 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L or 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duated effective date- date student completed course requirements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date diploma/degree presen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mmer Break–do not report students who intend to return in fall as W (withdraw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who fails to return must be reported as W within 60 days of fall term start (effective date is last date of attend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402-1E5F-499D-892D-8418380D49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eat Finding-Failure to Take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rrective Action 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cates Lack of Administrative Cap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rrective Action Plan (CAP) should have indicated corrective steps t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procedures are in place to ensure CAP is carried ou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388-4364-412A-9532-104678703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test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eas of concern in financial stat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eas of concern in compliance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 A-133 schools, opinion could be on anything the auditor is review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 limited to Title IV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5B7-8FAF-40F6-BF19-AE0B320A30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tudent Credit Balance Deficienc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balance must be eliminated within 14 days after balance occurred  34 CFR 668.164(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f before 1st day of classes of payment period, 14 days from start of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 rules cover only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itle 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bal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balances that result from retroactive withdrawals are still subject to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818-4535-4AB7-AA75-BA1CBACD4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erification Vio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rification requirements are well kn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rrors generally the result of an over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rification regulations are specific as to what untaxed income must be verif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S benefits, IRA/Keogh deductions, foreign income exclusion, EIC, interest on tax-free b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657-3780-435B-BCBA-B14777A9A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Grant Over/Under 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enerally the result of improper determination of enrollment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:  Student was full-time in fall drops to half-time in spring, but receives a full-time disbursement for the spring ter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3B4-1F4A-49CC-B10C-3D4134DCE2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Audit Findings-High Dolla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Loan Discharges Paid due to Closed Additional Location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FISAP Reporting Errors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90/10 Requirement Not Met – For Profit Schools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FFEL Not Prorated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Overaward – Financial Need Exceeded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SAP Requirement Not M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udit Report Not Submitted – Closed Schoo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128-1954-4FDD-B0E6-039C21D413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dit – Finding Incorrec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auditor which regulation or law has been violated/discuss a reasonable re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697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Verdana"/>
              </a:rPr>
              <a:t>Indicate in CAP reasons why the exception is erron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cessary for audit resolu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ite regulation or law in support of your asse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plain in detail why the exception is incorr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318-CBB7-42A7-8C6C-93C06A78D7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2860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ternal Review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956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dits (Annual &amp; OIG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gram Reviews (ED &amp;G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urpose of External Re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sure Institutions Properly Administer Title IV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ulfill Oversight Responsibilities for Title IV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83B-7836-4ED8-9DF5-A84C90E12C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Program Review: Most Common Findings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fication Viol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te Refund or Incorrect R2T4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ack of Administrative Cap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onsistent/Missing Information in Student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ount Records Inadequate or Not Reconci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eave of Absence Deficiencies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mproper Disbursement-PELL Disbursed Before Mid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pendent Student Status Not Docume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Meeting Campus Crime Clery Act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52D-D62E-41F3-ABED-3089F0E0EF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Inconsistent Information-Student’s File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olve all conflicting information prior to disbursing aid 34 CFR 668.16(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ired to view all subsequent ISIR transac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crepant tax data – School must kno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ether person was required to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 filing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ividual may not be claimed as an exemption by more than one p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4C0-9123-41DC-906C-5F4BA498CD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$0 Income is Not Automatically Considered Conflicting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quired to be Aware of Conflicting Information in Other Campus Offic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. Student Indicates has HS Diploma on FAFSA, but Admissions Form Shows No HS Diplo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f School Collects W-2s, tax Schedules, Tax Returns for those not Selected for Verification, etc., it is Responsible for all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Inconsistent Information-Student’s File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2BE-7137-42C8-84E9-61227E3E87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count Records Inadequate or Not Reconcil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ain all Student Eligibility doc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ain financial records that reflect all program trans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ount for the receipt and expenditures of all Title IV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ncile Monthly GAPS, General Ledgers, COD, NSLDS, Bank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6D2-2043-48A3-B58A-F8D4FA975A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Leave of Absence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pproved LOA [668.22(d)] not treated as withdraw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hool must have “formal”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ritten and Public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udents must provide reason: written, signed, and dated reque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F20-2712-4142-AA5B-2F26272CC1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Improper Disbursement-PELL Disbursed Before Midpoi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ools may not Disburse More Than 50% of Annual Award Prior to Student Completing 50% of the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ool must have Written Procedures to Ensure Students are being paid the correct PELL Award in each Pay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935-D9B6-4B5B-884D-7443B991D3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Status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 Document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 must document reason for Dependency Overr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e by Case that is based on Unusual Circumsta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ples that are Not Unus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ents refusing to pay or unwilling to provide verification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ents not claiming student for 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udent Demonstrates Self Sufficienc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9B5-6140-4904-AA8D-C9C8690BA1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 Meeting Campus Crim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ery Act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l Schools Required to Provide Annual Campus Security Report to Students and Employees (3 Most Recent Yea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istics from Campus Security Authority or Local Police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ludes: Occurrences On Campus, In or On Non-Campus Property, or Public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50D-BF2D-4EDB-B2AE-021446B74F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mpus Crime Clery Act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35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mpus Security Handbook &amp; Other Information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ed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gov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4"/>
              </a:rPr>
              <a:t>admins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5"/>
              </a:rPr>
              <a:t>/lead/safety/campus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235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s: 34 CFR Section 668.4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BBC-522A-419D-B8AA-8496D4E373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PR Findings-High Doll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94040"/>
            <a:ext cx="81532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eligible Program/ Location -Approval Requirements Not M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Loan Discharge Paid (CL, FC, Refund)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bility to Benefit Viol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AP Policy Not Adequately Developed or Monito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D16-3A2B-4EC4-A7B2-C670DAFFE2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dit Findings: Most Comm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te Refund/Returns to Title IV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orrect Return of Title IV Funds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trance/Exit Counseling Deficienc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rollment Report (SSCR)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eat Finding-Failure to take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 Opinion Cited in Au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Credit Balance Deficienc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 over/under Pay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A77-149B-4FAB-B2B0-0F8419CD2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Ineligible Program/Location -Approval Requirements Not Met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  <a:ea typeface="Arial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hanges that Require Written ED Approval (Notify-10 Calendar Day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crediting Ag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te Authorizing Ag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stitutional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n-degree programs outside sco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rom Clock to Cred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ditional Location-Offers &gt; 50% and Required to App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59E-CBC1-4472-AD4D-CAC644FD09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Ineligible Program/Location -Approval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s that Require Only Notification (Notify-10 Calendar Day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fficials &amp; Dir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Party Serv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57F-BE63-4DDE-A334-FF3FC1C5FB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Loan Discharge P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d School (Main or Additional Loc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udents Enrolled Within 90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lse C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ged Signatures, AT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charges Paid Become Li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E60-3C99-4596-B85B-70714377E5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Ability to Benefit Vio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st Properly Document Student Fi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ests Must be Administered by Independent Approved Tes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ests Cannot be Altered or Scored Incorrectl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Test Results in Student File Must Match Those from the Independent Approved Testing Agen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9EC-313A-4883-9C65-FA661121DD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SAP Policy Not Adequately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Developed or Monitor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, Publish, and Apply Satisfactory Academic Progress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orms with Accreditor’s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me or Stricter than Non Title IV Student SAP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istently Apply to all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termine Prior to Disbursing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FA3-0D92-4880-A708-4C3CD12304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 -Finding Incorrec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k program reviewer which law or regulation has been violated/ discuss a reasonable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697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Verdana"/>
              </a:rPr>
              <a:t>Indicate in Program Review Response why finding is erron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697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Verdana"/>
              </a:rPr>
              <a:t>Final Program Review Determination will inform school of ED’s decision – Appeal R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2A2-AB7E-4E6A-B504-CF1F63BC9F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914400"/>
            <a:ext cx="647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appy Fall Season!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e appreciate your feedback &amp;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6576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tina Fernandez-Rosario (415)-486-56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martina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.fernandez-rosario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lliam (Bill) Swift (646) 428-37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william.swift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umpkins" descr=""/>
          <p:cNvPicPr/>
          <p:nvPr/>
        </p:nvPicPr>
        <p:blipFill>
          <a:blip r:embed="rId4"/>
          <a:stretch/>
        </p:blipFill>
        <p:spPr>
          <a:xfrm>
            <a:off x="6400800" y="762120"/>
            <a:ext cx="2743200" cy="24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0B2-6892-4C8C-87DC-0BEAC47F25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Late Refund/Returns to Title IV Account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ximum timeframe for institution to return unearned funds is 45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plies to program funds and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4 CFR 668.22(j) changed from 30 days per HER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imeliness generally determined by examination of institutional led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ve funds been restored to program accou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2A1-4618-4B72-BB0D-1313899D4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 - Consequen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 may Fail Financial Respo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Respo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 must meet Refund Reserve Standards in 34 CFR 668.1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tisfy the requirements for a public institutio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ocated in a state with a tuition recovery fund and be contributing to that fund;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akes returns in a timely manner – majority of schools meet this requi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B08-7999-4E5A-AB5E-D04BFA9C0B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 - Consequen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liance thresholds for making timely retu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t in compliance w\Refund Reserve Requirement if in an audit or program review student sample, untimely returns made for 5% or more of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mple includes only students for whom school was required to make a re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violation if school is cited for one or two students or less than 5% of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E28-E6F2-4BE6-9C92-D472ACF660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</a:t>
            </a: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 - Consequences</a:t>
            </a:r>
            <a:endParaRPr b="1" lang="en-US" sz="3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rrevocable letter of credit (LO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d if school fails 5% compliance threshold and is not a public school or in a state with a tuition recovery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C is 25% of unearned Title IV funds school was required to return in latest fiscal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CCC-4B92-488D-891F-3F6B62B18F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 - Consequen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f LOC is Required &amp; School Agrees with Finding–Submit L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f School Disagrees may Delay Submission of LOC if School Submits Docu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9200" indent="-1620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ing timely retu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9200" indent="-1620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ing the failure was beyond the school’s control 34 CFR 668.173(e)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43120" indent="-1098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be submitted within timeframe for L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43120" indent="-1098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Denied, School is given new LOC due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EDF-EB6F-42D2-BB54-42EBE7C013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Calculation Not Performed/Document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y no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sh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ck of Administrative Cap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 Acceptable Jus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ious Consequences including Potential Inspector General Criminal Investig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A5B-1F25-4255-B0E7-A0F624608C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07:56Z</dcterms:modified>
  <cp:revision>215</cp:revision>
  <dc:subject/>
  <dc:title>PowerPoint Presentation</dc:title>
</cp:coreProperties>
</file>