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49D3-C9A1-4D63-892F-A81A7AF92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AC28-F2B4-4172-A8BF-137C2D0A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DE5F-5C4E-4E25-AB6C-1C161979D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900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55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900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55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CEF3-0818-4B90-AD23-8024809A8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EE99-CC85-4036-9779-5720CD2A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F9B2-CD14-4342-AFFF-784A5CB9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81B1-42E3-45EB-B922-40A7A369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81B4-674D-424A-8B4F-73B80486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8394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DBA0-0CBC-4573-A716-7DD3FDA9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A150-A568-4114-B083-A4D5F85F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50BE-B451-4548-9693-9FDEE675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C6F1-6B7C-4660-B8CD-C80443EB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C065-4943-4A68-AE57-A2469ECD8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d.gov/admins/finaid/about/ac-" TargetMode="Externa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295280" y="10663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w Era of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5407"/>
                </a:solidFill>
                <a:latin typeface="Arial"/>
              </a:rPr>
              <a:t>Diane Auer J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5407"/>
                </a:solidFill>
                <a:latin typeface="Arial"/>
              </a:rPr>
              <a:t>Assistant Secretary for Postsecondary Edu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5407"/>
                </a:solidFill>
                <a:latin typeface="Arial"/>
              </a:rPr>
              <a:t>U.S. Department of Edu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-22896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ational SMART Gran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624960" y="1600200"/>
            <a:ext cx="753696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igibility: Pell Grant Elig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nrolled Full-Time &amp; U.S. Citiz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rd and 4th year college student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nrolled i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aking progress towar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 degree in STEM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itical Needs Foreign Language; GPA 3.0 or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ward Siz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$4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06 -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$195,544,735 awarded to 60,976 stu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itional SMART Majors ad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rollment requirements clar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001000" y="609480"/>
            <a:ext cx="968400" cy="938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1371600"/>
            <a:ext cx="6172200" cy="0"/>
          </a:xfrm>
          <a:prstGeom prst="line">
            <a:avLst/>
          </a:prstGeom>
          <a:ln w="41400">
            <a:solidFill>
              <a:srgbClr val="007a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4275-77A1-4E8E-B7AA-D7944C9CA2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1295640" y="0"/>
            <a:ext cx="8305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  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Institutional Aid</a:t>
            </a:r>
            <a:br>
              <a:rPr sz="6000"/>
            </a:b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2604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1676520"/>
            <a:ext cx="624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28600" y="990720"/>
          <a:ext cx="8381880" cy="52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38188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8001000" y="609480"/>
            <a:ext cx="968400" cy="938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1143000"/>
            <a:ext cx="4876920" cy="0"/>
          </a:xfrm>
          <a:prstGeom prst="line">
            <a:avLst/>
          </a:prstGeom>
          <a:ln w="41400">
            <a:solidFill>
              <a:srgbClr val="007a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200" y="1523880"/>
            <a:ext cx="173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$ thous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EF7C-66C4-4854-9B0D-B0EB0A9BB9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1295640" y="0"/>
            <a:ext cx="8305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  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tate Aid</a:t>
            </a:r>
            <a:br>
              <a:rPr sz="6000"/>
            </a:b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22604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676520"/>
            <a:ext cx="624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28600" y="990720"/>
          <a:ext cx="8381880" cy="52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38188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8001000" y="609480"/>
            <a:ext cx="968400" cy="9381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1143000"/>
            <a:ext cx="4876920" cy="0"/>
          </a:xfrm>
          <a:prstGeom prst="line">
            <a:avLst/>
          </a:prstGeom>
          <a:ln w="41400">
            <a:solidFill>
              <a:srgbClr val="007a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3200" y="1523880"/>
            <a:ext cx="173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$ thous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811C-BB3F-4B64-A4C4-C3D57C4DB4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33520" y="1523880"/>
          <a:ext cx="8229600" cy="43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3880"/>
                    <a:ext cx="8229600" cy="43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91440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5407"/>
                </a:solidFill>
                <a:latin typeface="Verdana"/>
              </a:rPr>
              <a:t>Federal Student Loan 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5407"/>
                </a:solidFill>
                <a:latin typeface="Verdana"/>
              </a:rPr>
              <a:t>(FFEL &amp; Direct Loa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44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 m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4B3B-A90F-48E3-83BF-56823E3F8F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83772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Average Federal Student Loan Debt </a:t>
            </a:r>
            <a:br>
              <a:rPr sz="3200"/>
            </a:br>
            <a:br>
              <a:rPr sz="2400"/>
            </a:br>
            <a:r>
              <a:rPr b="0" lang="en-US" sz="2400" spc="-1" strike="noStrike">
                <a:solidFill>
                  <a:srgbClr val="cc5407"/>
                </a:solidFill>
                <a:latin typeface="Verdana"/>
              </a:rPr>
              <a:t>Undergraduate students with a 4-Year Degree </a:t>
            </a:r>
            <a:br>
              <a:rPr sz="2400"/>
            </a:br>
            <a:r>
              <a:rPr b="0" lang="en-US" sz="2400" spc="-1" strike="noStrike">
                <a:solidFill>
                  <a:srgbClr val="cc5407"/>
                </a:solidFill>
                <a:latin typeface="Verdana"/>
              </a:rPr>
              <a:t>(Percent of students borrowing)</a:t>
            </a:r>
            <a:endParaRPr b="1" lang="en-US" sz="24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2120" y="1371600"/>
          <a:ext cx="815328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371600"/>
                    <a:ext cx="81532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80880" y="1981080"/>
          <a:ext cx="8153640" cy="423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981080"/>
                    <a:ext cx="815364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7058160" y="251460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57960" y="281952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57760" y="350532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81600" y="434340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143000"/>
            <a:ext cx="8153280" cy="0"/>
          </a:xfrm>
          <a:prstGeom prst="line">
            <a:avLst/>
          </a:prstGeom>
          <a:ln w="41400">
            <a:solidFill>
              <a:srgbClr val="007a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BFE4-267E-4E3D-B35B-7C0C5463AF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Average Federal Student Loan Debt </a:t>
            </a:r>
            <a:br>
              <a:rPr sz="3200"/>
            </a:br>
            <a:br>
              <a:rPr sz="2400"/>
            </a:b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300320" y="1066680"/>
          <a:ext cx="7229160" cy="518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0320" y="1066680"/>
                    <a:ext cx="722916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0" y="1143000"/>
            <a:ext cx="8153280" cy="0"/>
          </a:xfrm>
          <a:prstGeom prst="line">
            <a:avLst/>
          </a:prstGeom>
          <a:ln w="41400">
            <a:solidFill>
              <a:srgbClr val="007a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08800" y="2362320"/>
            <a:ext cx="113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nth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y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$2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66600" y="2286000"/>
            <a:ext cx="113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nth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y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$4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90920" y="33526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7696080" y="21333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590C-D0D8-4AF3-AC64-4FF8CFEB55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tudent Loa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ord/Unsubsidized Stafford/PL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rect Loans/FF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etition yields better borrower 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vate Lo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ll gap above Federal Student Loan lim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ould not displace grant aid or Federal lo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ke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pt. of Education - Interagency Grou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mbudsma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77-557-2575 (borrowers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2-377-3800 (Financial aid professional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001000" y="609480"/>
            <a:ext cx="968400" cy="938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1219320"/>
            <a:ext cx="4343400" cy="0"/>
          </a:xfrm>
          <a:prstGeom prst="line">
            <a:avLst/>
          </a:prstGeom>
          <a:ln w="41400">
            <a:solidFill>
              <a:srgbClr val="007a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FBBE-34B8-42D8-8CBF-034401D03B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esenter Name(s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9144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28600" y="1295280"/>
          <a:ext cx="860904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95280"/>
                    <a:ext cx="86090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380880" y="1143000"/>
            <a:ext cx="857268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" rIns="2160" tIns="1080" bIns="1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90   1991    1992     1993    1994     1995    1996    1997   1998    1999    2000    2001    2002    2003   2004    2005   2006 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48720" y="3886200"/>
            <a:ext cx="533160" cy="83808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99"/>
              </a:gs>
            </a:gsLst>
            <a:lin ang="54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6640" rIns="26640" tIns="13320" bIns="13320" anchor="ctr">
            <a:noAutofit/>
          </a:bodyPr>
          <a:p>
            <a:pPr algn="ctr"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4.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4840" y="527040"/>
            <a:ext cx="688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5407"/>
                </a:solidFill>
                <a:latin typeface="Verdana"/>
              </a:rPr>
              <a:t>National Student Loan Cohort Default</a:t>
            </a:r>
            <a:r>
              <a:rPr b="1" lang="en-US" sz="2400" spc="-1" strike="noStrike">
                <a:solidFill>
                  <a:srgbClr val="cc5407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5407"/>
                </a:solidFill>
                <a:latin typeface="Verdana"/>
              </a:rPr>
              <a:t>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6218000">
            <a:off x="-429480" y="355428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rcen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990720"/>
            <a:ext cx="7543800" cy="0"/>
          </a:xfrm>
          <a:prstGeom prst="line">
            <a:avLst/>
          </a:prstGeom>
          <a:ln w="41400">
            <a:solidFill>
              <a:srgbClr val="007a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28800" y="838080"/>
            <a:ext cx="5388120" cy="5220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ipped from the Headlines</a:t>
            </a:r>
            <a:br>
              <a:rPr sz="4000"/>
            </a:b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3280680" y="2057400"/>
            <a:ext cx="558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nders Misusing Stud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per Searches Raise Privacy F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2080" y="3171960"/>
            <a:ext cx="558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2828"/>
                </a:solidFill>
                <a:latin typeface="Arial"/>
              </a:rPr>
              <a:t>Swimming With Student Loan Sha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3809880"/>
            <a:ext cx="824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2424"/>
                </a:solidFill>
                <a:latin typeface="Arial"/>
              </a:rPr>
              <a:t>University named in report detailing student loan ab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59760" y="5410080"/>
            <a:ext cx="52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les proposed to curb loan ab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02760" y="4572000"/>
            <a:ext cx="74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anel Finds Wide Abuse in Student Loan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295280"/>
            <a:ext cx="7848720" cy="0"/>
          </a:xfrm>
          <a:prstGeom prst="line">
            <a:avLst/>
          </a:prstGeom>
          <a:ln w="41400">
            <a:solidFill>
              <a:srgbClr val="007a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E13E-727B-4199-9AE0-D65D381C59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mplianc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1523880"/>
            <a:ext cx="8610480" cy="33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Dear Colleague Lett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Negotiated Rulemaking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Began in 200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ublication of Final Rul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Nov. 1, 2007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001000" y="609480"/>
            <a:ext cx="968400" cy="9381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1447920"/>
            <a:ext cx="3352680" cy="0"/>
          </a:xfrm>
          <a:prstGeom prst="line">
            <a:avLst/>
          </a:prstGeom>
          <a:ln w="41400">
            <a:solidFill>
              <a:srgbClr val="007a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0BBE-D4F9-4A39-91FF-13A748DFB8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5407"/>
                </a:solidFill>
                <a:latin typeface="Verdana"/>
              </a:rPr>
              <a:t>Restoring Confidence</a:t>
            </a:r>
            <a:br>
              <a:rPr sz="6000"/>
            </a:b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1384200" y="1981080"/>
            <a:ext cx="584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ederal Student Aid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orrower Benefits/Ch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anspa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ancial Aid Administ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FEL Lenders and Guarantee Ag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partment of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175600" y="533520"/>
            <a:ext cx="968400" cy="938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447920"/>
            <a:ext cx="6705720" cy="0"/>
          </a:xfrm>
          <a:prstGeom prst="line">
            <a:avLst/>
          </a:prstGeom>
          <a:ln w="41400">
            <a:solidFill>
              <a:srgbClr val="007a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7FEE-8020-40A8-885C-7EFA36792E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9144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9080" y="457200"/>
            <a:ext cx="8245800" cy="14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13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5407"/>
                </a:solidFill>
                <a:latin typeface="Verdana"/>
              </a:rPr>
              <a:t>College Cost Reduction &amp; Access Ac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13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5407"/>
                </a:solidFill>
                <a:uFillTx/>
                <a:latin typeface="Verdana"/>
              </a:rPr>
              <a:t> </a:t>
            </a:r>
            <a:r>
              <a:rPr b="0" lang="en-US" sz="2400" spc="-1" strike="noStrike" u="sng">
                <a:solidFill>
                  <a:srgbClr val="cc5407"/>
                </a:solidFill>
                <a:uFillTx/>
                <a:latin typeface="Verdana"/>
              </a:rPr>
              <a:t>Changes Affecting FFEL Lenders and Guaranty Ag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22860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2136600"/>
            <a:ext cx="8534160" cy="33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784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ffective October 1, 2007 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40644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FEL guaranty agency retention percentage from 23% to 16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40644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FEL lender special allowance payments (SAP) by 55 basis points (40 for non-profit lender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40644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 account maintenance fee from .10% to .06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ed lender loan fee from .50% to 1.0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iminated Exceptional Performer Designation for FFEL lenders, servicers, and guaranty agenc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77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143000"/>
            <a:ext cx="8915400" cy="0"/>
          </a:xfrm>
          <a:prstGeom prst="line">
            <a:avLst/>
          </a:prstGeom>
          <a:ln w="41400">
            <a:solidFill>
              <a:srgbClr val="007a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9144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1371600"/>
            <a:ext cx="845820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Pell Gr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ACH Grants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an Forgiveness for Public Service Employees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US Auction Pi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ge Access Challenge Gr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2280" y="533520"/>
            <a:ext cx="74685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llege Cost Reduction &amp; Access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219320"/>
            <a:ext cx="8381880" cy="0"/>
          </a:xfrm>
          <a:prstGeom prst="line">
            <a:avLst/>
          </a:prstGeom>
          <a:ln w="41400">
            <a:solidFill>
              <a:srgbClr val="007a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001000" y="1371600"/>
            <a:ext cx="968400" cy="9381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29360" y="5391000"/>
            <a:ext cx="35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* - Requires negotiated rulema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9144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2280" y="533520"/>
            <a:ext cx="746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llege Cost Reduction &amp; Access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1447920"/>
            <a:ext cx="746748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egotiated Rulema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gional Hearing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1/2 (LA); 11/14 (DC); 11/29 (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minations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vember 29,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arget Dat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6360" indent="-406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: Publication (6/1/08) and Implementation (7/1/08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6360" indent="-406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 PACKAGE: Publication (11/1/08) and Implementation (7/1/0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143000"/>
            <a:ext cx="8381880" cy="0"/>
          </a:xfrm>
          <a:prstGeom prst="line">
            <a:avLst/>
          </a:prstGeom>
          <a:ln w="41400">
            <a:solidFill>
              <a:srgbClr val="007a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924680" y="1295280"/>
            <a:ext cx="96840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9144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2286000"/>
            <a:ext cx="5867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5407"/>
                </a:solidFill>
                <a:latin typeface="Verdana"/>
              </a:rPr>
              <a:t>HE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5407"/>
                </a:solidFill>
                <a:latin typeface="Verdana"/>
              </a:rPr>
              <a:t>Reauthorizat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9144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2280" y="2590920"/>
            <a:ext cx="58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5407"/>
                </a:solidFill>
                <a:latin typeface="Verdana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257800" y="609480"/>
            <a:ext cx="3429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5407"/>
                </a:solidFill>
                <a:latin typeface="Verdana"/>
              </a:rPr>
              <a:t>College Attendance Rates</a:t>
            </a:r>
            <a:br>
              <a:rPr sz="6000"/>
            </a:b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2819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990720" y="1295280"/>
          <a:ext cx="6858000" cy="44960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95280"/>
                    <a:ext cx="68580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0" y="1219320"/>
            <a:ext cx="8077320" cy="0"/>
          </a:xfrm>
          <a:prstGeom prst="line">
            <a:avLst/>
          </a:prstGeom>
          <a:ln w="41400">
            <a:solidFill>
              <a:srgbClr val="007a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8175600" y="533520"/>
            <a:ext cx="968400" cy="93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A6AB-ACDC-44A7-B0B7-1CE96E2529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055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5407"/>
                </a:solidFill>
                <a:latin typeface="Verdana"/>
              </a:rPr>
              <a:t>College Prices</a:t>
            </a:r>
            <a:br>
              <a:rPr sz="6000"/>
            </a:b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2604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3623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09480" y="1600200"/>
          <a:ext cx="7848720" cy="3679920"/>
        </p:xfrm>
        <a:graphic>
          <a:graphicData uri="http://schemas.openxmlformats.org/drawingml/2006/table">
            <a:tbl>
              <a:tblPr/>
              <a:tblGrid>
                <a:gridCol w="1487520"/>
                <a:gridCol w="1487520"/>
                <a:gridCol w="1403280"/>
                <a:gridCol w="1157400"/>
                <a:gridCol w="1101600"/>
                <a:gridCol w="1211400"/>
              </a:tblGrid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itu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spcAft>
                          <a:spcPts val="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spcAft>
                          <a:spcPts val="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spcAft>
                          <a:spcPts val="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96-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spcAft>
                          <a:spcPts val="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verag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spcAft>
                          <a:spcPts val="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spcAft>
                          <a:spcPts val="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6-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spcAft>
                          <a:spcPts val="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rease over past 10 years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spcAft>
                          <a:spcPts val="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rease 2005/6 to 2006/7, 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spcAft>
                          <a:spcPts val="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rease in 2005/6 to 2006/7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2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8"/>
                        </a:spcBef>
                        <a:spcAft>
                          <a:spcPts val="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year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7,1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,8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2,7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3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6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8"/>
                        </a:spcBef>
                        <a:spcAft>
                          <a:spcPts val="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year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v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2,9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,3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2,2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30,3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2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6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113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1676520" y="38862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4800600"/>
            <a:ext cx="61722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25146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26668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8862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3962520"/>
            <a:ext cx="609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F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18920" y="4902120"/>
            <a:ext cx="53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F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66000" y="5486400"/>
            <a:ext cx="33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 (tuition); F (fees); R (room); B (bo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175600" y="533520"/>
            <a:ext cx="968400" cy="938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1371600"/>
            <a:ext cx="4495680" cy="0"/>
          </a:xfrm>
          <a:prstGeom prst="line">
            <a:avLst/>
          </a:prstGeom>
          <a:ln w="41400">
            <a:solidFill>
              <a:srgbClr val="007a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1480" y="5410080"/>
            <a:ext cx="152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:  College 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0B21-17E4-43CF-B05F-EB4F47E6A7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055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5407"/>
                </a:solidFill>
                <a:latin typeface="Verdana"/>
              </a:rPr>
              <a:t>Helping Students Make</a:t>
            </a:r>
            <a:br>
              <a:rPr sz="4400"/>
            </a:br>
            <a:r>
              <a:rPr b="1" lang="en-US" sz="4400" spc="-1" strike="noStrike">
                <a:solidFill>
                  <a:srgbClr val="cc5407"/>
                </a:solidFill>
                <a:latin typeface="Verdana"/>
              </a:rPr>
              <a:t>Informed Choices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2604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23623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175600" y="533520"/>
            <a:ext cx="968400" cy="938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2133720"/>
            <a:ext cx="8077320" cy="0"/>
          </a:xfrm>
          <a:prstGeom prst="line">
            <a:avLst/>
          </a:prstGeom>
          <a:ln w="41400">
            <a:solidFill>
              <a:srgbClr val="007a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2286000"/>
            <a:ext cx="8534520" cy="30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FSA4Ca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ge Navig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PSE Student Achievement and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itutional Performance Pilot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AC&amp;U, ASCU, &amp; NASULG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949F-A337-43C7-BF68-E8C9D8240B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5407"/>
                </a:solidFill>
                <a:latin typeface="Verdana"/>
              </a:rPr>
              <a:t>Federal Student Aid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914400"/>
          <a:ext cx="7620120" cy="521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14400"/>
                    <a:ext cx="7620120" cy="52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7887240" y="548640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 Esti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CCBD-E15A-480C-A3B4-8B1704F0CC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ell Grant </a:t>
            </a:r>
            <a:br>
              <a:rPr sz="4000"/>
            </a:b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aximum Awards</a:t>
            </a:r>
            <a:br>
              <a:rPr sz="3200"/>
            </a:b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905120"/>
            <a:ext cx="7010280" cy="53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2000-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Fiscal Yea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Award Yea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Authorize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Appropri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000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2000-01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$4,800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$3,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001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2001-02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$5,100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$3,7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002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2002-03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$5,400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$4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003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2003-04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$5,800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$4,0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004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2004-05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$5,800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$4,0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005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2005-06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$5,800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$4,0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006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2006-07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$5,800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$4,0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007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2007-08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$5,800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$4,3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008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2008-09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--------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+ $4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2009-10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--------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+ $4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010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2010-11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--------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+ $6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011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2011-12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--------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+ $6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012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2012-13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--------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+1,0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001000" y="609480"/>
            <a:ext cx="968400" cy="938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1752480"/>
            <a:ext cx="5334120" cy="0"/>
          </a:xfrm>
          <a:prstGeom prst="line">
            <a:avLst/>
          </a:prstGeom>
          <a:ln w="41400">
            <a:solidFill>
              <a:srgbClr val="007a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7556-CE6D-4D27-B395-D1B0557218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Academic Competitiveness Grants</a:t>
            </a:r>
            <a:br>
              <a:rPr sz="3600"/>
            </a:b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1295280"/>
            <a:ext cx="9010800" cy="53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ll Grant Eligible Enrolled Full-Time &amp; U.S. Citiz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igorous Secondary School Program of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ognized State-submitted programs;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urses similar to State Scholars Initiative; 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AP Courses with test score of 3 or better;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IB Courses with test score of 4 or be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ward Siz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$750/$1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6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$233,038,410 awarded to 299,089 stu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99"/>
                </a:solidFill>
                <a:uFillTx/>
                <a:latin typeface="Verdana"/>
              </a:rPr>
              <a:t>http://www.ed.gov/admins/finaid/about/ac-smart/state-programs06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http://www.ed.gov/admins/finaid/about/ac-</a:t>
            </a:r>
            <a:r>
              <a:rPr b="0" lang="en-US" sz="1400" spc="-1" strike="noStrike" u="sng">
                <a:solidFill>
                  <a:srgbClr val="000099"/>
                </a:solidFill>
                <a:uFillTx/>
                <a:latin typeface="Verdana"/>
              </a:rPr>
              <a:t>smart/2007/state-programs-07.htm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153280" y="609480"/>
            <a:ext cx="816120" cy="790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1295280"/>
            <a:ext cx="7848720" cy="0"/>
          </a:xfrm>
          <a:prstGeom prst="line">
            <a:avLst/>
          </a:prstGeom>
          <a:ln w="41400">
            <a:solidFill>
              <a:srgbClr val="007a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C1DB-089F-4814-A371-906071978A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Academic Competitiveness Grants</a:t>
            </a:r>
            <a:br>
              <a:rPr sz="6000"/>
            </a:b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1219320"/>
            <a:ext cx="8915400" cy="40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novative Strategies to Identify Eligible Studen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Verdana"/>
              </a:rPr>
              <a:t>Institutions and states can establish a branded core curriculum for college admiss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20840" indent="-4064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xample:  The University of California’s A-G coursework requirements for Admissions are well-known by high schools students throughout the State and constitute an ACG-approved course of stud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Verdana"/>
              </a:rPr>
              <a:t>The state can certify AC Grant eligibility by sending to postsecondary institutions reports listing eligible stud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20840" indent="-4064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xample:  Students in the State of Florida who have completed the ACG-approved curriculum are eligible to receive the Bright Futures Scholarship.  Florida sends universities the names of Bright Futures recipients.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Verdana"/>
              </a:rPr>
              <a:t>Institutions can reach out to all Pell Grant recipients, not just students who self-identify as eligib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20840" indent="-4064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xample:  Brigham Young University, Idaho, contacted all students who self-certified on their FAFSA as well as other students who appeared to be potentially eligible based on a review of transcripts and financial aid record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219320"/>
            <a:ext cx="8001000" cy="0"/>
          </a:xfrm>
          <a:prstGeom prst="line">
            <a:avLst/>
          </a:prstGeom>
          <a:ln w="41400">
            <a:solidFill>
              <a:srgbClr val="007a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305920" y="533520"/>
            <a:ext cx="838080" cy="81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27BC-ED60-4267-A6A0-76A867524B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yvette.payne</cp:lastModifiedBy>
  <dcterms:modified xsi:type="dcterms:W3CDTF">2007-12-05T17:54:20Z</dcterms:modified>
  <cp:revision>293</cp:revision>
  <dc:subject/>
  <dc:title>PowerPoint Presentation</dc:title>
</cp:coreProperties>
</file>