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419-07ED-4E08-AA77-45226780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403-36DF-4DA6-9E28-5A0C116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DDA-3A20-4817-B07D-3A8AD4AE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AB7-77F4-4A37-A802-D87C953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45E-D1D5-47AD-B380-4E94382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1D1-E986-412E-9C3E-2F2EDD3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F9C-9EF9-4185-97AD-82D930D4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906-BFC1-4D88-977A-D2116428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6DF-2C95-4C4A-8567-9DB5842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88A-FC47-424A-9142-6DD852A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5BA-E0F1-4D23-ACA8-E9E0C0F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561-03F9-43D5-AD16-BE87108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D7C8-27BB-48BC-B4F9-27C631ACE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.gov/admins/finaid/about/ac-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Era of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Diane Auer J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Assistant Secretary for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SMART Gra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24960" y="1600200"/>
            <a:ext cx="7536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igibility: Pell Grant Elig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rolled Full-Time &amp; U.S. Citi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rd and 4th year college stude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nrolled 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king progress tow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degree in STEM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al Needs Foreign Language; GPA 3.0 or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rd Siz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6 -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$195,544,735 awarded to 60,976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SMART Majors ad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rollment requirements cla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371600"/>
            <a:ext cx="61722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D0C-6782-49AB-A9B4-652F942F8D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id</a:t>
            </a:r>
            <a:br>
              <a:rPr sz="6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765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90720"/>
          <a:ext cx="83818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143000"/>
            <a:ext cx="48769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200" y="1523880"/>
            <a:ext cx="173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$ thous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CEB-2C26-4341-BEFB-5101B15C9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te Aid</a:t>
            </a:r>
            <a:br>
              <a:rPr sz="6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765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990720"/>
          <a:ext cx="83818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143000"/>
            <a:ext cx="48769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200" y="1523880"/>
            <a:ext cx="173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$ thous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276-BEE2-46E6-9851-C298BEC825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1523880"/>
          <a:ext cx="822960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9144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Federal Student Loan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(FFEL &amp; Direct 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 m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337-32F6-48F3-B55F-00F8E4F9C0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verage Federal Student Loan Debt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cc5407"/>
                </a:solidFill>
                <a:latin typeface="Verdana"/>
              </a:rPr>
              <a:t>Undergraduate students with a 4-Year Degree </a:t>
            </a:r>
            <a:br>
              <a:rPr sz="2400"/>
            </a:br>
            <a:r>
              <a:rPr b="0" lang="en-US" sz="2400" spc="-1" strike="noStrike">
                <a:solidFill>
                  <a:srgbClr val="cc5407"/>
                </a:solidFill>
                <a:latin typeface="Verdana"/>
              </a:rPr>
              <a:t>(Percent of students borrowing)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8153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8153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0880" y="1981080"/>
          <a:ext cx="815364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81080"/>
                    <a:ext cx="815364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058160" y="25146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7960" y="28195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7760" y="35053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81600" y="43434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81532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8F7-45FB-44CE-8DB1-02DFAD5B5B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verage Federal Student Loan Debt </a:t>
            </a:r>
            <a:br>
              <a:rPr sz="3200"/>
            </a:br>
            <a:br>
              <a:rPr sz="24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00320" y="1066680"/>
          <a:ext cx="722916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1066680"/>
                    <a:ext cx="7229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1143000"/>
            <a:ext cx="81532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8800" y="236232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6600" y="228600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4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352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6080" y="2133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935-6730-4D10-ACA2-A0B655520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Loa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ord/Unsubsidized Stafford/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Loans/FF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etition yields better borrower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Lo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l gap above Federal Student Loan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 not displace grant aid or Federal lo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t. of Education - Interagency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budsm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77-557-2575 (borrower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-377-3800 (Financial aid professiona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219320"/>
            <a:ext cx="43434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D26-9520-443D-A295-88825773E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enter Name(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295280"/>
          <a:ext cx="86090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09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1143000"/>
            <a:ext cx="85726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90   1991    1992     1993    1994     1995    1996    1997   1998    1999    2000    2001    2002    2003   2004    2005   2006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3886200"/>
            <a:ext cx="533160" cy="8380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ctr">
            <a:noAutofit/>
          </a:bodyPr>
          <a:p>
            <a:pPr algn="ctr"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4840" y="527040"/>
            <a:ext cx="68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National Student Loan Cohort Default</a:t>
            </a:r>
            <a:r>
              <a:rPr b="1" lang="en-US" sz="2400" spc="-1" strike="noStrike">
                <a:solidFill>
                  <a:srgbClr val="cc540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8000">
            <a:off x="-429480" y="3554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90720"/>
            <a:ext cx="75438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8800" y="838080"/>
            <a:ext cx="5388120" cy="522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ipped from the Headlines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280680" y="2057400"/>
            <a:ext cx="55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ers Misusing Stud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Searches Raise Privacy F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080" y="317196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2828"/>
                </a:solidFill>
                <a:latin typeface="Arial"/>
              </a:rPr>
              <a:t>Swimming With Student Loan Sh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0988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24"/>
                </a:solidFill>
                <a:latin typeface="Arial"/>
              </a:rPr>
              <a:t>University named in report detailing student loan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9760" y="54100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proposed to curb loan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2760" y="45720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nel Finds Wide Abuse in Student Loa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7848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74C-0CCA-4E12-9158-EA3AAE7D2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pli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861048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Began in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ublication of Final Ru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Nov. 1, 200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447920"/>
            <a:ext cx="33526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FF2-F5B8-4460-AC65-3C8E24C9E7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Restoring Confidence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1981080"/>
            <a:ext cx="584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Benefits/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id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FEL Lenders and Guarantee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447920"/>
            <a:ext cx="6705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3ED-7D3D-45DE-B1DD-13573B5D21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080" y="457200"/>
            <a:ext cx="8245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5407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5407"/>
                </a:solidFill>
                <a:uFillTx/>
                <a:latin typeface="Verdana"/>
              </a:rPr>
              <a:t>Changes Affecting FFEL Lenders and Guarant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2860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136600"/>
            <a:ext cx="8534160" cy="33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 October 1, 2007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FEL guaranty agency retention percentage from 23% to 16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FEL lender special allowance payments (SAP) by 55 basis points (40 for non-profit lend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 account maintenance fee from .10% to .06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lender loan fee from .50% to 1.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ted Exceptional Performer Designation for FFEL lenders, servicers, and guaranty agenc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43000"/>
            <a:ext cx="89154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371600"/>
            <a:ext cx="84582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Pell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 Forgiveness for Public Service Employe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Auction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2280" y="533520"/>
            <a:ext cx="7468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19320"/>
            <a:ext cx="83818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137160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9360" y="539100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 - Requires negotiated rule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280" y="533520"/>
            <a:ext cx="74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gional Hearing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/2 (LA); 11/14 (DC); 11/29 (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mination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mber 29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get Da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40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: Publication (6/1/08) and Implementation (7/1/08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40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 PACKAGE: Publication (11/1/08) and Implementation (7/1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83818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924680" y="1295280"/>
            <a:ext cx="968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286000"/>
            <a:ext cx="5867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HE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Reauthoriz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5909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College Attendance Rates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1295280"/>
          <a:ext cx="6858000" cy="449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219320"/>
            <a:ext cx="80773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0C0-95AE-4321-B534-68B03DAD0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College Prices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600200"/>
          <a:ext cx="7848720" cy="3679920"/>
        </p:xfrm>
        <a:graphic>
          <a:graphicData uri="http://schemas.openxmlformats.org/drawingml/2006/table">
            <a:tbl>
              <a:tblPr/>
              <a:tblGrid>
                <a:gridCol w="1487520"/>
                <a:gridCol w="1487520"/>
                <a:gridCol w="1403280"/>
                <a:gridCol w="1157400"/>
                <a:gridCol w="1101600"/>
                <a:gridCol w="12114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-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over past 10 years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2005/6 to 2006/7,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in 2005/6 to 2006/7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ear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7,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ear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,3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2,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0,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676520" y="3886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800600"/>
            <a:ext cx="617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514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886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96252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F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8920" y="490212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F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66000" y="548640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(tuition); F (fees); R (room); B (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371600"/>
            <a:ext cx="44956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1480" y="5410080"/>
            <a:ext cx="152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 College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B8C-C851-4C1C-BE19-38602435B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Helping Students Make</a:t>
            </a:r>
            <a:br>
              <a:rPr sz="4400"/>
            </a:b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Informed Choice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133720"/>
            <a:ext cx="80773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0"/>
            <a:ext cx="853452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FSA4C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Nav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PSE Student Achievement and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Performance Pilo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AC&amp;U, ASCU, &amp; NASUL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2C2-033A-4EC0-92E2-029BDB346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7620120" cy="52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6201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887240" y="54864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Est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092-36B2-42FD-AA68-F027AACCD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ll Grant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Awards</a:t>
            </a:r>
            <a:br>
              <a:rPr sz="32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701028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2000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scal Ye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ward Ye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uthoriz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ppropri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0-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4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3,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1-0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1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3,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2-0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4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3-0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4-0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5-06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6-0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7-08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8-09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9-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0-1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6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1-1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6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2-1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1,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752480"/>
            <a:ext cx="53341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8AD-F6FE-4EBC-931E-C77966288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ness Grants</a:t>
            </a:r>
            <a:br>
              <a:rPr sz="36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295280"/>
            <a:ext cx="901080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Grant Eligible Enrolled Full-Time &amp; U.S. Citi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orous Secondary School Program of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gnized State-submitted programs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rses similar to State Scholars Initiative;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 Courses with test score of 3 or better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IB Courses with test score of 4 or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rd Siz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$750/$1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233,038,410 awarded to 299,089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</a:rPr>
              <a:t>http://www.ed.gov/admins/finaid/about/ac-smart/state-programs06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ed.gov/admins/finaid/about/ac-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</a:rPr>
              <a:t>smart/2007/state-programs-07.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153280" y="609480"/>
            <a:ext cx="816120" cy="790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295280"/>
            <a:ext cx="7848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4F3-DA28-4EF7-B5C2-AC90FE2A0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ness Grants</a:t>
            </a:r>
            <a:br>
              <a:rPr sz="60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219320"/>
            <a:ext cx="89154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novative Strategies to Identify Eligible Stud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Institutions and states can establish a branded core curriculum for college admis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The University of California’s A-G coursework requirements for Admissions are well-known by high schools students throughout the State and constitute an ACG-approved course of stud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The state can certify AC Grant eligibility by sending to postsecondary institutions reports listing eligible stud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Students in the State of Florida who have completed the ACG-approved curriculum are eligible to receive the Bright Futures Scholarship.  Florida sends universities the names of Bright Futures recipients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Institutions can reach out to all Pell Grant recipients, not just students who self-identify as elig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Brigham Young University, Idaho, contacted all students who self-certified on their FAFSA as well as other students who appeared to be potentially eligible based on a review of transcripts and financial aid rec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19320"/>
            <a:ext cx="80010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05920" y="533520"/>
            <a:ext cx="838080" cy="81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759-E878-4418-8EF4-26CA6CD84B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7:54:20Z</dcterms:modified>
  <cp:revision>293</cp:revision>
  <dc:subject/>
  <dc:title>PowerPoint Presentation</dc:title>
</cp:coreProperties>
</file>